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1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295-8A41-4E06-92E6-247699A2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DAF-924A-4578-B745-53F7AF08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C30-AC95-4DAE-9B55-BD7A1F89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143-E179-4BB1-9549-7D7F8A55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CAA-0E75-4F28-83D5-123F7D6B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7C3-D0AE-4201-BF12-6F9AA5F5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E22-3B2E-4E72-983F-1986EA45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C7A-84B5-4A34-AB09-B377E2DD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FA9-C4A8-4457-B312-BCF0C069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348-E273-4F44-A4E9-9060B62D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541-6051-4B1F-88B0-7C8893B6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B75-48F8-43E8-A6C7-A4A81682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Microsoft Jheng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Microsoft JhengHe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Microsoft JhengHe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Microsoft JhengHe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Microsoft JhengHe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2B12-9C44-4A51-85A1-148185935782}" type="slidenum">
              <a:rPr b="0" lang="es-ES" sz="1400" spc="-1" strike="noStrike">
                <a:solidFill>
                  <a:srgbClr val="000000"/>
                </a:solidFill>
                <a:latin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hyperlink" Target="http://bp0.blogger.com/_LgAuUjwmXl0/RwPpmHxbHHI/AAAAAAAABSg/rehDFygNNuY/s1600-h/bypass.jpg" TargetMode="External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ayequipo.infonegocios.tv/res/image/Logo_2008_10_24_CardonOff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planetaenfuego.net/imagenes/2005/09/logo_mercado_libre.jpg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nfokioscos.com.ar/wp-content/gallery/infokioscos/arcor_logo.jpg" TargetMode="External"/><Relationship Id="rId6" Type="http://schemas.openxmlformats.org/officeDocument/2006/relationships/image" Target="../media/image28.jpeg"/><Relationship Id="rId7" Type="http://schemas.openxmlformats.org/officeDocument/2006/relationships/hyperlink" Target="http://sommelierdecafe.com/wp-content/uploads/2009/06/havanna-logo.gif" TargetMode="External"/><Relationship Id="rId8" Type="http://schemas.openxmlformats.org/officeDocument/2006/relationships/image" Target="../media/image29.jpeg"/><Relationship Id="rId9" Type="http://schemas.openxmlformats.org/officeDocument/2006/relationships/hyperlink" Target="http://www.abogados.com.ar/wp-content/uploads/2008/06/logo-techint.thumbnail.png" TargetMode="External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35.jpeg"/><Relationship Id="rId16" Type="http://schemas.openxmlformats.org/officeDocument/2006/relationships/image" Target="../media/image36.jpeg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ewolf@progenargentina.net" TargetMode="External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66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es-MX" sz="2800" spc="-1" strike="noStrike">
                <a:solidFill>
                  <a:srgbClr val="000000"/>
                </a:solidFill>
                <a:latin typeface="Arial Unicode MS"/>
              </a:rPr>
              <a:t>EMPRENDER</a:t>
            </a: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 es una </a:t>
            </a:r>
            <a:r>
              <a:rPr b="1" lang="es-MX" sz="2800" spc="-1" strike="noStrike">
                <a:solidFill>
                  <a:srgbClr val="000000"/>
                </a:solidFill>
                <a:latin typeface="Arial Unicode MS"/>
              </a:rPr>
              <a:t>MAGIA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difícil de explicar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 Los que emprendemos,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sabemos que esa magia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existe cuando </a:t>
            </a:r>
            <a:r>
              <a:rPr b="1" lang="es-MX" sz="2800" spc="-1" strike="noStrike">
                <a:solidFill>
                  <a:srgbClr val="000000"/>
                </a:solidFill>
                <a:latin typeface="Arial Unicode MS"/>
              </a:rPr>
              <a:t>FRACASAMOS</a:t>
            </a: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,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aprendiendo en el intento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 y cuando reincidimos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para lograr el </a:t>
            </a:r>
            <a:r>
              <a:rPr b="1" lang="es-MX" sz="2800" spc="-1" strike="noStrike">
                <a:solidFill>
                  <a:srgbClr val="000000"/>
                </a:solidFill>
                <a:latin typeface="Arial Unicode MS"/>
              </a:rPr>
              <a:t>ÉXITO</a:t>
            </a: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2" name=""/>
          <p:cNvSpPr/>
          <p:nvPr/>
        </p:nvSpPr>
        <p:spPr>
          <a:xfrm>
            <a:off x="5532120" y="5927760"/>
            <a:ext cx="351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Unicode MS"/>
              </a:rPr>
              <a:t>Esteban Wolf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Unicode MS"/>
              </a:rPr>
              <a:t>CEO &amp; Founder  Droguería PROGEN S.A.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Unicode MS"/>
              </a:rPr>
              <a:t>Board Member – Fundación Endeavor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3640" cy="2205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2952720" cy="2276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2417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276720" y="2276640"/>
            <a:ext cx="3023640" cy="2232000"/>
            <a:chOff x="3276720" y="2276640"/>
            <a:chExt cx="3023640" cy="2232000"/>
          </a:xfrm>
        </p:grpSpPr>
        <p:pic>
          <p:nvPicPr>
            <p:cNvPr id="141" name="" descr=""/>
            <p:cNvPicPr/>
            <p:nvPr/>
          </p:nvPicPr>
          <p:blipFill>
            <a:blip r:embed="rId4"/>
            <a:stretch/>
          </p:blipFill>
          <p:spPr>
            <a:xfrm>
              <a:off x="4931280" y="2276640"/>
              <a:ext cx="136908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3276720" y="2276640"/>
              <a:ext cx="157752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284280" y="2276640"/>
              <a:ext cx="14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Microsoft JhengHei"/>
                </a:rPr>
                <a:t>BY  PASS</a:t>
              </a:r>
              <a:endParaRPr b="0" lang="en-US" sz="24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6372360" y="2276640"/>
            <a:ext cx="277164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0" y="2205000"/>
            <a:ext cx="3269880" cy="2324160"/>
            <a:chOff x="0" y="2205000"/>
            <a:chExt cx="3269880" cy="2324160"/>
          </a:xfrm>
        </p:grpSpPr>
        <p:pic>
          <p:nvPicPr>
            <p:cNvPr id="146" name="" descr=""/>
            <p:cNvPicPr/>
            <p:nvPr/>
          </p:nvPicPr>
          <p:blipFill>
            <a:blip r:embed="rId8"/>
            <a:stretch/>
          </p:blipFill>
          <p:spPr>
            <a:xfrm>
              <a:off x="0" y="2264040"/>
              <a:ext cx="3203640" cy="22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619720" y="22050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Microsoft JhengHei"/>
                </a:rPr>
                <a:t>STENT</a:t>
              </a:r>
              <a:endParaRPr b="0" lang="en-US" sz="12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0" y="4602240"/>
            <a:ext cx="3132000" cy="2255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3203640" y="4581360"/>
            <a:ext cx="3168720" cy="2276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6443640" y="4581360"/>
            <a:ext cx="2700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413000"/>
            <a:ext cx="2700360" cy="763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Ver imagen en tamaño comple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6000" y="2716200"/>
            <a:ext cx="1358640" cy="1022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Ver imagen en tamaño complet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787480"/>
            <a:ext cx="1440000" cy="1001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Ver imagen en tamaño complet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4437000"/>
            <a:ext cx="857160" cy="100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Ver imagen en tamaño completo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132000" y="4221000"/>
            <a:ext cx="1351080" cy="1440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Ver imagen en tamaño completo"/>
          <p:cNvPicPr/>
          <p:nvPr/>
        </p:nvPicPr>
        <p:blipFill>
          <a:blip r:embed="rId11"/>
          <a:stretch/>
        </p:blipFill>
        <p:spPr>
          <a:xfrm>
            <a:off x="6877080" y="4508640"/>
            <a:ext cx="1728720" cy="946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4000" y="333360"/>
            <a:ext cx="8496000" cy="574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Microsoft JhengHei"/>
              </a:rPr>
              <a:t>E INVENTAMOS Y DESARROLLAMOS COMPAÑIAS</a:t>
            </a:r>
            <a:endParaRPr b="0" lang="en-US" sz="2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6167520"/>
            <a:ext cx="8496000" cy="574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Microsoft JhengHei"/>
              </a:rPr>
              <a:t>SIENDO LIDERES EN LA ARGENTINA Y EL MUNDO</a:t>
            </a:r>
            <a:endParaRPr b="0" lang="en-US" sz="2600" spc="-1" strike="noStrike">
              <a:solidFill>
                <a:srgbClr val="000000"/>
              </a:solidFill>
              <a:latin typeface="Microsoft JhengHei"/>
            </a:endParaRPr>
          </a:p>
        </p:txBody>
      </p:sp>
      <p:pic>
        <p:nvPicPr>
          <p:cNvPr id="159" name="" descr="Ver imagen en tamaño completo"/>
          <p:cNvPicPr/>
          <p:nvPr/>
        </p:nvPicPr>
        <p:blipFill>
          <a:blip r:embed="rId12"/>
          <a:stretch/>
        </p:blipFill>
        <p:spPr>
          <a:xfrm>
            <a:off x="3276720" y="1413000"/>
            <a:ext cx="2447640" cy="717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Ver imagen en tamaño completo"/>
          <p:cNvPicPr/>
          <p:nvPr/>
        </p:nvPicPr>
        <p:blipFill>
          <a:blip r:embed="rId13"/>
          <a:stretch/>
        </p:blipFill>
        <p:spPr>
          <a:xfrm>
            <a:off x="826920" y="1413000"/>
            <a:ext cx="1513080" cy="722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Ver imagen en tamaño completo"/>
          <p:cNvPicPr/>
          <p:nvPr/>
        </p:nvPicPr>
        <p:blipFill>
          <a:blip r:embed="rId14"/>
          <a:stretch/>
        </p:blipFill>
        <p:spPr>
          <a:xfrm>
            <a:off x="3059280" y="2776680"/>
            <a:ext cx="1511280" cy="939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Ver imagen en tamaño completo"/>
          <p:cNvPicPr/>
          <p:nvPr/>
        </p:nvPicPr>
        <p:blipFill>
          <a:blip r:embed="rId15"/>
          <a:stretch/>
        </p:blipFill>
        <p:spPr>
          <a:xfrm>
            <a:off x="900000" y="4503600"/>
            <a:ext cx="1295640" cy="941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Ver imagen en tamaño completo"/>
          <p:cNvPicPr/>
          <p:nvPr/>
        </p:nvPicPr>
        <p:blipFill>
          <a:blip r:embed="rId16"/>
          <a:stretch/>
        </p:blipFill>
        <p:spPr>
          <a:xfrm>
            <a:off x="611280" y="2852640"/>
            <a:ext cx="1727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1727280" cy="18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ffffff"/>
                </a:solidFill>
                <a:latin typeface="Microsoft JhengHei"/>
              </a:rPr>
              <a:t>3 R</a:t>
            </a:r>
            <a:endParaRPr b="0" lang="en-US" sz="60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189000"/>
            <a:ext cx="8640720" cy="64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333360"/>
            <a:ext cx="8496000" cy="863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Microsoft JhengHei"/>
              </a:rPr>
              <a:t>UN EMPRENDEDOR EXITOSO </a:t>
            </a:r>
            <a:br>
              <a:rPr sz="2600"/>
            </a:br>
            <a:r>
              <a:rPr b="1" lang="es-AR" sz="2600" spc="-1" strike="noStrike">
                <a:solidFill>
                  <a:srgbClr val="ffffff"/>
                </a:solidFill>
                <a:latin typeface="Microsoft JhengHei"/>
              </a:rPr>
              <a:t>DEBE TENER 3 CONDICIONES</a:t>
            </a:r>
            <a:endParaRPr b="0" lang="en-US" sz="2600" spc="-1" strike="noStrike">
              <a:solidFill>
                <a:srgbClr val="000000"/>
              </a:solidFill>
              <a:latin typeface="Microsoft JhengHe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87640" y="1844640"/>
            <a:ext cx="4753080" cy="1227240"/>
            <a:chOff x="2987640" y="1844640"/>
            <a:chExt cx="4753080" cy="1227240"/>
          </a:xfrm>
        </p:grpSpPr>
        <p:sp>
          <p:nvSpPr>
            <p:cNvPr id="168" name=""/>
            <p:cNvSpPr/>
            <p:nvPr/>
          </p:nvSpPr>
          <p:spPr>
            <a:xfrm flipV="1">
              <a:off x="2987640" y="2136600"/>
              <a:ext cx="1224000" cy="9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79840" y="1844640"/>
              <a:ext cx="3260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808080"/>
                  </a:solidFill>
                  <a:latin typeface="Microsoft JhengHei"/>
                </a:rPr>
                <a:t>RIQUEZA PERSONAL</a:t>
              </a:r>
              <a:endParaRPr b="0" lang="en-US" sz="20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987640" y="3357720"/>
            <a:ext cx="4753080" cy="398880"/>
            <a:chOff x="2987640" y="3357720"/>
            <a:chExt cx="4753080" cy="398880"/>
          </a:xfrm>
        </p:grpSpPr>
        <p:sp>
          <p:nvSpPr>
            <p:cNvPr id="171" name=""/>
            <p:cNvSpPr/>
            <p:nvPr/>
          </p:nvSpPr>
          <p:spPr>
            <a:xfrm>
              <a:off x="4479840" y="3357720"/>
              <a:ext cx="3260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808080"/>
                  </a:solidFill>
                  <a:latin typeface="Microsoft JhengHei"/>
                </a:rPr>
                <a:t>RIQUEZA ESTADO</a:t>
              </a:r>
              <a:endParaRPr b="0" lang="en-US" sz="20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987640" y="3520800"/>
              <a:ext cx="136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916360" y="4149720"/>
            <a:ext cx="4824360" cy="1046520"/>
            <a:chOff x="2916360" y="4149720"/>
            <a:chExt cx="4824360" cy="1046520"/>
          </a:xfrm>
        </p:grpSpPr>
        <p:sp>
          <p:nvSpPr>
            <p:cNvPr id="174" name=""/>
            <p:cNvSpPr/>
            <p:nvPr/>
          </p:nvSpPr>
          <p:spPr>
            <a:xfrm>
              <a:off x="4479840" y="4797360"/>
              <a:ext cx="3260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808080"/>
                  </a:solidFill>
                  <a:latin typeface="Microsoft JhengHei"/>
                </a:rPr>
                <a:t>RIQUEZA SOCIEDAD 2</a:t>
              </a:r>
              <a:endParaRPr b="0" lang="en-US" sz="20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16360" y="4149720"/>
              <a:ext cx="122400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24000" y="333360"/>
            <a:ext cx="8496000" cy="863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Microsoft JhengHei"/>
              </a:rPr>
              <a:t>UN “EMPRENDEDOR”EXITOSO </a:t>
            </a:r>
            <a:br>
              <a:rPr sz="2600"/>
            </a:br>
            <a:r>
              <a:rPr b="1" lang="es-AR" sz="2600" spc="-1" strike="noStrike">
                <a:solidFill>
                  <a:srgbClr val="ffffff"/>
                </a:solidFill>
                <a:latin typeface="Microsoft JhengHei"/>
              </a:rPr>
              <a:t>DEBE TENER 3 CONDICIONES</a:t>
            </a:r>
            <a:endParaRPr b="0" lang="en-US" sz="26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828720" y="0"/>
            <a:ext cx="12384000" cy="7000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-1332000" y="5661000"/>
            <a:ext cx="12169800" cy="936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Microsoft JhengHei"/>
              </a:rPr>
              <a:t>MI MEJOR EMPRENDIMIENTO!!  </a:t>
            </a: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Microsoft JhengHei"/>
              </a:rPr>
              <a:t>EL FUTURO DE LA ARGENTINA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4000" y="765000"/>
            <a:ext cx="8496000" cy="57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Microsoft JhengHei"/>
              </a:rPr>
              <a:t>LOS INVITO A EMPRENDER</a:t>
            </a:r>
            <a:endParaRPr b="0" lang="en-US" sz="2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2276640"/>
            <a:ext cx="8496000" cy="1079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Microsoft JhengHei"/>
              </a:rPr>
              <a:t>LOS INVITOS A SER DIFERENTES</a:t>
            </a:r>
            <a:br>
              <a:rPr sz="2600"/>
            </a:br>
            <a:r>
              <a:rPr b="1" lang="es-AR" sz="2600" spc="-1" strike="noStrike">
                <a:solidFill>
                  <a:srgbClr val="ffffff"/>
                </a:solidFill>
                <a:latin typeface="Microsoft JhengHei"/>
              </a:rPr>
              <a:t>A CREAR LA DIFERENCIA</a:t>
            </a:r>
            <a:endParaRPr b="0" lang="en-US" sz="2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189000"/>
            <a:ext cx="8640720" cy="64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4294080"/>
            <a:ext cx="8496000" cy="1079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Microsoft JhengHei"/>
              </a:rPr>
              <a:t>LOS INVITOS A SER DIFERENTES</a:t>
            </a:r>
            <a:br>
              <a:rPr sz="2600"/>
            </a:br>
            <a:r>
              <a:rPr b="1" lang="es-AR" sz="2600" spc="-1" strike="noStrike">
                <a:solidFill>
                  <a:srgbClr val="ffffff"/>
                </a:solidFill>
                <a:latin typeface="Microsoft JhengHei"/>
              </a:rPr>
              <a:t>A CREAR LA DIFERENCIA</a:t>
            </a:r>
            <a:endParaRPr b="0" lang="en-US" sz="26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447840" y="42372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765000"/>
            <a:ext cx="84978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icrosoft JhengHei"/>
              </a:rPr>
              <a:t>Argentina</a:t>
            </a:r>
            <a:endParaRPr b="0" lang="en-US" sz="3600" spc="-1" strike="noStrike">
              <a:solidFill>
                <a:srgbClr val="000000"/>
              </a:solidFill>
              <a:latin typeface="Microsoft JhengHe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crosoft JhengHei"/>
              </a:rPr>
              <a:t>necesita mas </a:t>
            </a:r>
            <a:r>
              <a:rPr b="1" lang="es-ES" sz="3600" spc="-1" strike="noStrike">
                <a:solidFill>
                  <a:srgbClr val="000000"/>
                </a:solidFill>
                <a:latin typeface="Microsoft JhengHei"/>
              </a:rPr>
              <a:t>Emprendedores</a:t>
            </a:r>
            <a:r>
              <a:rPr b="0" lang="es-ES" sz="3000" spc="-1" strike="noStrike">
                <a:solidFill>
                  <a:srgbClr val="000000"/>
                </a:solidFill>
                <a:latin typeface="Microsoft JhengHe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Microsoft JhengHe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Microsoft JhengHe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Microsoft JhengHei"/>
              </a:rPr>
              <a:t>que generen mas fuentes de trabajo </a:t>
            </a:r>
            <a:endParaRPr b="0" lang="en-US" sz="3000" spc="-1" strike="noStrike">
              <a:solidFill>
                <a:srgbClr val="000000"/>
              </a:solidFill>
              <a:latin typeface="Microsoft JhengHe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Microsoft JhengHei"/>
              </a:rPr>
              <a:t>que se conviertan en,</a:t>
            </a:r>
            <a:endParaRPr b="0" lang="en-US" sz="3000" spc="-1" strike="noStrike">
              <a:solidFill>
                <a:srgbClr val="000000"/>
              </a:solidFill>
              <a:latin typeface="Microsoft JhengHe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Microsoft JhengHe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Microsoft JhengHe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crosoft JhengHei"/>
              </a:rPr>
              <a:t>Una </a:t>
            </a:r>
            <a:r>
              <a:rPr b="1" lang="es-ES" sz="3200" spc="-1" strike="noStrike">
                <a:solidFill>
                  <a:srgbClr val="000000"/>
                </a:solidFill>
                <a:latin typeface="Microsoft JhengHei"/>
              </a:rPr>
              <a:t>nueva generación</a:t>
            </a:r>
            <a:r>
              <a:rPr b="1" lang="es-ES" sz="3000" spc="-1" strike="noStrike">
                <a:solidFill>
                  <a:srgbClr val="000000"/>
                </a:solidFill>
                <a:latin typeface="Microsoft JhengHei"/>
              </a:rPr>
              <a:t> </a:t>
            </a:r>
            <a:r>
              <a:rPr b="1" lang="es-AR" sz="4000" spc="-1" strike="noStrike">
                <a:solidFill>
                  <a:srgbClr val="000000"/>
                </a:solidFill>
                <a:latin typeface="Microsoft JhengHei"/>
              </a:rPr>
              <a:t>Empresarios</a:t>
            </a:r>
            <a:endParaRPr b="0" lang="en-US" sz="4000" spc="-1" strike="noStrike">
              <a:solidFill>
                <a:srgbClr val="000000"/>
              </a:solidFill>
              <a:latin typeface="Microsoft JhengHe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crosoft JhengHei"/>
              </a:rPr>
              <a:t>exitosos para todos!.</a:t>
            </a:r>
            <a:endParaRPr b="0" lang="en-US" sz="30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5"/>
          <p:cNvSpPr/>
          <p:nvPr/>
        </p:nvSpPr>
        <p:spPr>
          <a:xfrm>
            <a:off x="1258920" y="907920"/>
            <a:ext cx="6624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vantGarde Md BT"/>
              </a:rPr>
              <a:t>Esteban Wolf 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9999"/>
                </a:solidFill>
                <a:uFillTx/>
                <a:latin typeface="AvantGarde Md BT"/>
                <a:hlinkClick r:id="rId1"/>
              </a:rPr>
              <a:t>ewolf@progenargentina.net</a:t>
            </a:r>
            <a:r>
              <a:rPr b="1" lang="es-MX" sz="3200" spc="-1" strike="noStrike">
                <a:solidFill>
                  <a:srgbClr val="000000"/>
                </a:solidFill>
                <a:latin typeface="AvantGarde Md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86" name=""/>
          <p:cNvSpPr/>
          <p:nvPr/>
        </p:nvSpPr>
        <p:spPr>
          <a:xfrm>
            <a:off x="6447960" y="5464080"/>
            <a:ext cx="222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Microsoft JhengHei"/>
              </a:rPr>
              <a:t>Gracias!!</a:t>
            </a:r>
            <a:endParaRPr b="0" lang="en-US" sz="4000" spc="-1" strike="noStrike">
              <a:solidFill>
                <a:srgbClr val="000000"/>
              </a:solidFill>
              <a:latin typeface="Microsoft JhengHei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843280" y="4076640"/>
            <a:ext cx="342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Unicode MS"/>
              </a:rPr>
              <a:t>Esteban Wolf</a:t>
            </a:r>
            <a:endParaRPr b="0" lang="en-US" sz="2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89000"/>
            <a:ext cx="8640720" cy="64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197000"/>
            <a:ext cx="8208720" cy="40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icrosoft JhengHei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Microsoft JhengHei"/>
              </a:rPr>
              <a:t>Familia de Clase Media BAJA </a:t>
            </a:r>
            <a:endParaRPr b="0" lang="en-US" sz="24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icrosoft JhengHei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Microsoft JhengHei"/>
              </a:rPr>
              <a:t>Hijo de una Maestra y un Pésimo Comerciante</a:t>
            </a:r>
            <a:endParaRPr b="0" lang="en-US" sz="24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icrosoft JhengHei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Microsoft JhengHei"/>
              </a:rPr>
              <a:t>Familia Tradicional </a:t>
            </a:r>
            <a:endParaRPr b="0" lang="en-US" sz="24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Microsoft JhengHei"/>
              </a:rPr>
              <a:t>  </a:t>
            </a:r>
            <a:r>
              <a:rPr b="1" lang="es-AR" sz="2000" spc="-1" strike="noStrike">
                <a:solidFill>
                  <a:srgbClr val="000000"/>
                </a:solidFill>
                <a:latin typeface="Microsoft JhengHei"/>
              </a:rPr>
              <a:t>ABOGADOS – MEDICOS – CONTADOR-LICENCIADO</a:t>
            </a:r>
            <a:endParaRPr b="0" lang="en-US" sz="20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Microsoft JhengHei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Microsoft JhengHei"/>
              </a:rPr>
              <a:t>Tengo un MASTER EN CADETERIA</a:t>
            </a:r>
            <a:endParaRPr b="0" lang="en-US" sz="20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Microsoft JhengHei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Microsoft JhengHei"/>
              </a:rPr>
              <a:t>Doctor HONORIS CAUSA en OVEJAS NEGRAS</a:t>
            </a:r>
            <a:endParaRPr b="0" lang="en-US" sz="20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4724280"/>
            <a:ext cx="84960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Unicode MS"/>
              </a:rPr>
              <a:t>YO SOY FRACASADO SERIAL</a:t>
            </a:r>
            <a:endParaRPr b="0" lang="en-US" sz="30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5950080"/>
            <a:ext cx="8496000" cy="50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Unicode MS"/>
              </a:rPr>
              <a:t>EMPRENDEDOR SERIAL</a:t>
            </a:r>
            <a:endParaRPr b="0" lang="en-US" sz="30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572000" y="537372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6360" y="4724280"/>
            <a:ext cx="2087280" cy="1366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35640" y="4221000"/>
            <a:ext cx="1355760" cy="223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phone3g"/>
          <p:cNvPicPr/>
          <p:nvPr/>
        </p:nvPicPr>
        <p:blipFill>
          <a:blip r:embed="rId3"/>
          <a:stretch/>
        </p:blipFill>
        <p:spPr>
          <a:xfrm>
            <a:off x="6804000" y="4221000"/>
            <a:ext cx="2016000" cy="2421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867280" y="404640"/>
            <a:ext cx="2738520" cy="146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867280" y="2205000"/>
            <a:ext cx="28083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0" y="4869000"/>
            <a:ext cx="2843280" cy="1152360"/>
            <a:chOff x="0" y="4869000"/>
            <a:chExt cx="2843280" cy="1152360"/>
          </a:xfrm>
        </p:grpSpPr>
        <p:sp>
          <p:nvSpPr>
            <p:cNvPr id="55" name=""/>
            <p:cNvSpPr/>
            <p:nvPr/>
          </p:nvSpPr>
          <p:spPr>
            <a:xfrm>
              <a:off x="0" y="5013360"/>
              <a:ext cx="2843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Microsoft JhengHei"/>
                </a:rPr>
                <a:t>CONSULTOR EN </a:t>
              </a:r>
              <a:endParaRPr b="0" lang="en-US" sz="1400" spc="-1" strike="noStrike">
                <a:solidFill>
                  <a:srgbClr val="000000"/>
                </a:solidFill>
                <a:latin typeface="Microsoft JhengHe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Microsoft JhengHei"/>
                </a:rPr>
                <a:t>DESARROLLO </a:t>
              </a:r>
              <a:endParaRPr b="0" lang="en-US" sz="1400" spc="-1" strike="noStrike">
                <a:solidFill>
                  <a:srgbClr val="000000"/>
                </a:solidFill>
                <a:latin typeface="Microsoft JhengHe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Microsoft JhengHei"/>
                </a:rPr>
                <a:t>Y MANTENIMIENTO DE HARDWARE</a:t>
              </a:r>
              <a:r>
                <a:rPr b="0" lang="es-AR" sz="1400" spc="-1" strike="noStrike">
                  <a:solidFill>
                    <a:srgbClr val="000000"/>
                  </a:solidFill>
                  <a:latin typeface="Microsoft JhengHe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9280" y="4869000"/>
              <a:ext cx="244800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79280" y="404640"/>
            <a:ext cx="5113440" cy="3240360"/>
            <a:chOff x="179280" y="404640"/>
            <a:chExt cx="5113440" cy="3240360"/>
          </a:xfrm>
        </p:grpSpPr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179280" y="404640"/>
              <a:ext cx="1668600" cy="32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1979640" y="476280"/>
              <a:ext cx="3313080" cy="309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900000" y="1197000"/>
            <a:ext cx="23050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260280"/>
            <a:ext cx="8496000" cy="57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Microsoft JhengHei"/>
              </a:rPr>
              <a:t>PROGEN – 2003 a HOY</a:t>
            </a:r>
            <a:endParaRPr b="0" lang="en-US" sz="2600" spc="-1" strike="noStrike">
              <a:solidFill>
                <a:srgbClr val="000000"/>
              </a:solidFill>
              <a:latin typeface="Microsoft JhengHei"/>
            </a:endParaRPr>
          </a:p>
        </p:txBody>
      </p:sp>
      <p:pic>
        <p:nvPicPr>
          <p:cNvPr id="62" name="Picture 8" descr="Logo Progen NUEVO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79640" y="1125360"/>
            <a:ext cx="4968720" cy="105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85080" cy="153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67080" y="2584440"/>
            <a:ext cx="61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CREAMOS LA PRIMER DROGUERIA DE SERVICIOS DE 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MEDICAMENTOS GENERICOS DE LA ARGENTINA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5" name=""/>
          <p:cNvSpPr/>
          <p:nvPr/>
        </p:nvSpPr>
        <p:spPr>
          <a:xfrm>
            <a:off x="1053360" y="3724200"/>
            <a:ext cx="72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FACILITAMOS EL ACCESO A LA SALUD A TODA LA POBLACION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A TRAVES DE LOS MEDICAMENTOS GENERICOS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84720" y="2276640"/>
            <a:ext cx="4408560" cy="20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067280" y="44280"/>
            <a:ext cx="4752720" cy="2143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49120" y="189000"/>
            <a:ext cx="3746520" cy="652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203640" y="620640"/>
            <a:ext cx="5940360" cy="623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Logo Progen NUEVO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2268360" y="5084640"/>
            <a:ext cx="1872000" cy="592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84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71280" y="1197000"/>
            <a:ext cx="5364360" cy="4753080"/>
            <a:chOff x="71280" y="1197000"/>
            <a:chExt cx="5364360" cy="4753080"/>
          </a:xfrm>
        </p:grpSpPr>
        <p:graphicFrame>
          <p:nvGraphicFramePr>
            <p:cNvPr id="73" name=""/>
            <p:cNvGraphicFramePr/>
            <p:nvPr/>
          </p:nvGraphicFramePr>
          <p:xfrm>
            <a:off x="71280" y="1197000"/>
            <a:ext cx="5364360" cy="4753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280" y="1197000"/>
                      <a:ext cx="5364360" cy="475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1528920" y="4866120"/>
              <a:ext cx="589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Microsoft JhengHei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67480" y="4866120"/>
              <a:ext cx="589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Microsoft JhengHei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81560" y="4866120"/>
              <a:ext cx="589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Microsoft JhengHei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92840" y="4866120"/>
              <a:ext cx="589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Microsoft JhengHei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63080" y="4866120"/>
              <a:ext cx="589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Microsoft JhengHei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31160" y="4866120"/>
              <a:ext cx="589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Microsoft JhengHei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4280" y="2174760"/>
              <a:ext cx="1569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Microsoft JhengHei"/>
                </a:rPr>
                <a:t>$120.000.000,-</a:t>
              </a:r>
              <a:endParaRPr b="0" lang="en-US" sz="16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2120" y="2667600"/>
              <a:ext cx="15066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Microsoft JhengHei"/>
                </a:rPr>
                <a:t>$ 33.000.000,-</a:t>
              </a:r>
              <a:endParaRPr b="0" lang="en-US" sz="16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6000" y="3086640"/>
              <a:ext cx="12171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Microsoft JhengHei"/>
                </a:rPr>
                <a:t>$7.400.000</a:t>
              </a:r>
              <a:endParaRPr b="0" lang="en-US" sz="16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6000" y="3554280"/>
              <a:ext cx="12171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Microsoft JhengHei"/>
                </a:rPr>
                <a:t>$4.230.000</a:t>
              </a:r>
              <a:endParaRPr b="0" lang="en-US" sz="16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6000" y="4086360"/>
              <a:ext cx="12171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Microsoft JhengHei"/>
                </a:rPr>
                <a:t>$1.900.000</a:t>
              </a:r>
              <a:endParaRPr b="0" lang="en-US" sz="16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8600" y="4554360"/>
              <a:ext cx="1046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Microsoft JhengHei"/>
                </a:rPr>
                <a:t>$233.000</a:t>
              </a:r>
              <a:endParaRPr b="0" lang="en-US" sz="16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</p:grpSp>
      <p:pic>
        <p:nvPicPr>
          <p:cNvPr id="87" name="Picture 8" descr="Logo Progen NUEVO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79280" y="6093000"/>
            <a:ext cx="2448000" cy="518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81320" y="1411200"/>
            <a:ext cx="294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CRECIMOS A UN RITMO  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DEL 200% AL AÑO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1490760"/>
            <a:ext cx="216000" cy="21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0" name=""/>
          <p:cNvSpPr/>
          <p:nvPr/>
        </p:nvSpPr>
        <p:spPr>
          <a:xfrm>
            <a:off x="5900040" y="2276640"/>
            <a:ext cx="20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160 EMPLEADOS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1" name=""/>
          <p:cNvSpPr/>
          <p:nvPr/>
        </p:nvSpPr>
        <p:spPr>
          <a:xfrm>
            <a:off x="5591160" y="2355840"/>
            <a:ext cx="216000" cy="2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3079800"/>
            <a:ext cx="30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Microsoft JhengHei"/>
              </a:rPr>
              <a:t>QUEREMOS GANAR EL 20%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Microsoft JhengHei"/>
              </a:rPr>
              <a:t>DEL MERCADO TOTAL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3133800"/>
            <a:ext cx="216000" cy="2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395280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PROYECTAMOS FACTURAR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EL 2011 $70MM Y VAMOS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A CERRAR UN AÑO ANTES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MINMO $120MM DE FACTURACION ANUAL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4032360"/>
            <a:ext cx="216000" cy="21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60280"/>
            <a:ext cx="8496000" cy="57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Microsoft JhengHei"/>
              </a:rPr>
              <a:t>UN POCO DE NUMEROS DE 36K A 70MM </a:t>
            </a:r>
            <a:endParaRPr b="0" lang="en-US" sz="2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7" name=""/>
          <p:cNvSpPr/>
          <p:nvPr/>
        </p:nvSpPr>
        <p:spPr>
          <a:xfrm>
            <a:off x="5916960" y="5524560"/>
            <a:ext cx="30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2011 VAMOS A COMPRAR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UNA COMPAÑIA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8" name=""/>
          <p:cNvSpPr/>
          <p:nvPr/>
        </p:nvSpPr>
        <p:spPr>
          <a:xfrm>
            <a:off x="5580000" y="5603760"/>
            <a:ext cx="216000" cy="2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9" name=""/>
          <p:cNvSpPr/>
          <p:nvPr/>
        </p:nvSpPr>
        <p:spPr>
          <a:xfrm>
            <a:off x="4297320" y="5302080"/>
            <a:ext cx="704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241776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1" name=""/>
          <p:cNvSpPr/>
          <p:nvPr/>
        </p:nvSpPr>
        <p:spPr>
          <a:xfrm>
            <a:off x="409320" y="51292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Microsoft JhengHei"/>
              </a:rPr>
              <a:t>$233K</a:t>
            </a:r>
            <a:endParaRPr b="0" lang="en-US" sz="2400" spc="-1" strike="noStrike">
              <a:solidFill>
                <a:srgbClr val="000000"/>
              </a:solidFill>
              <a:latin typeface="Microsoft JhengHei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547640" y="1557000"/>
            <a:ext cx="6120000" cy="3311640"/>
            <a:chOff x="1547640" y="1557000"/>
            <a:chExt cx="6120000" cy="3311640"/>
          </a:xfrm>
        </p:grpSpPr>
        <p:sp>
          <p:nvSpPr>
            <p:cNvPr id="103" name=""/>
            <p:cNvSpPr/>
            <p:nvPr/>
          </p:nvSpPr>
          <p:spPr>
            <a:xfrm flipV="1">
              <a:off x="1547640" y="4292280"/>
              <a:ext cx="720720" cy="576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8360" y="4292640"/>
              <a:ext cx="2876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556000" y="4005360"/>
              <a:ext cx="5047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60720" y="4005360"/>
              <a:ext cx="2872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348000" y="3717360"/>
              <a:ext cx="504720" cy="2876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52720" y="3716280"/>
              <a:ext cx="2876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140360" y="3429000"/>
              <a:ext cx="5047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45080" y="3429000"/>
              <a:ext cx="2872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932360" y="3141720"/>
              <a:ext cx="5047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435640" y="2997000"/>
              <a:ext cx="792000" cy="144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227640" y="1557000"/>
              <a:ext cx="1440000" cy="14396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84560" y="5492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Microsoft JhengHei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2924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342576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392904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450540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84140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0" name=""/>
          <p:cNvSpPr/>
          <p:nvPr/>
        </p:nvSpPr>
        <p:spPr>
          <a:xfrm>
            <a:off x="1827360" y="5445000"/>
            <a:ext cx="67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Microsoft JhengHei"/>
              </a:rPr>
              <a:t>DE 6 EMPLEADOS CON FACTURACION ANUAL DE $233.000,-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65160" y="476280"/>
            <a:ext cx="8112960" cy="964440"/>
            <a:chOff x="965160" y="476280"/>
            <a:chExt cx="8112960" cy="964440"/>
          </a:xfrm>
        </p:grpSpPr>
        <p:sp>
          <p:nvSpPr>
            <p:cNvPr id="122" name=""/>
            <p:cNvSpPr/>
            <p:nvPr/>
          </p:nvSpPr>
          <p:spPr>
            <a:xfrm>
              <a:off x="7756920" y="9810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808000"/>
                  </a:solidFill>
                  <a:latin typeface="Microsoft JhengHei"/>
                </a:rPr>
                <a:t>2010</a:t>
              </a:r>
              <a:endParaRPr b="0" lang="en-US" sz="24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16000" y="476280"/>
              <a:ext cx="16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808000"/>
                  </a:solidFill>
                  <a:latin typeface="Microsoft JhengHei"/>
                </a:rPr>
                <a:t>$102MM</a:t>
              </a:r>
              <a:endParaRPr b="0" lang="en-US" sz="28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65160" y="907920"/>
              <a:ext cx="647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Microsoft JhengHei"/>
                </a:rPr>
                <a:t>A 160 EMPLEADOS CON FACT ANUAL DE </a:t>
              </a:r>
              <a:r>
                <a:rPr b="1" lang="es-AR" sz="2000" spc="-1" strike="noStrike">
                  <a:solidFill>
                    <a:srgbClr val="000000"/>
                  </a:solidFill>
                  <a:latin typeface="Microsoft JhengHei"/>
                </a:rPr>
                <a:t>$102.000.000,-</a:t>
              </a:r>
              <a:endParaRPr b="0" lang="en-US" sz="2000" spc="-1" strike="noStrike">
                <a:solidFill>
                  <a:srgbClr val="000000"/>
                </a:solidFill>
                <a:latin typeface="Microsoft JhengHei"/>
              </a:endParaRPr>
            </a:p>
          </p:txBody>
        </p:sp>
      </p:grpSp>
      <p:pic>
        <p:nvPicPr>
          <p:cNvPr id="125" name="Picture 8" descr="Logo Progen NUEVO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101520"/>
            <a:ext cx="2448000" cy="519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7240" y="2832120"/>
            <a:ext cx="85338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Microsoft JhengHei"/>
              </a:rPr>
              <a:t>POR QUE NO EMPRENDER EN ARGENTINA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333360"/>
            <a:ext cx="8496000" cy="57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Microsoft JhengHei"/>
              </a:rPr>
              <a:t>LAS COSAS NO VAN A CAMBIAR!!</a:t>
            </a:r>
            <a:endParaRPr b="0" lang="en-US" sz="2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89000"/>
            <a:ext cx="8640720" cy="64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9" name=""/>
          <p:cNvSpPr/>
          <p:nvPr/>
        </p:nvSpPr>
        <p:spPr>
          <a:xfrm>
            <a:off x="3851280" y="5587920"/>
            <a:ext cx="475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Microsoft JhengHei"/>
              </a:rPr>
              <a:t>REDOBLAR LA APUESTA </a:t>
            </a:r>
            <a:br>
              <a:rPr sz="2800"/>
            </a:br>
            <a:r>
              <a:rPr b="1" lang="es-AR" sz="2800" spc="-1" strike="noStrike">
                <a:solidFill>
                  <a:srgbClr val="000000"/>
                </a:solidFill>
                <a:latin typeface="Microsoft JhengHei"/>
              </a:rPr>
              <a:t>NO TEMER AL FRACASO!!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573360"/>
            <a:ext cx="604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Microsoft JhengHei"/>
              </a:rPr>
              <a:t>…</a:t>
            </a:r>
            <a:r>
              <a:rPr b="1" lang="es-AR" sz="2800" spc="-1" strike="noStrike">
                <a:solidFill>
                  <a:srgbClr val="000000"/>
                </a:solidFill>
                <a:latin typeface="Microsoft JhengHei"/>
              </a:rPr>
              <a:t>ES IMPORTANTE SABER QUE </a:t>
            </a:r>
            <a:br>
              <a:rPr sz="2800"/>
            </a:br>
            <a:r>
              <a:rPr b="1" lang="es-AR" sz="2800" spc="-1" strike="noStrike">
                <a:solidFill>
                  <a:srgbClr val="000000"/>
                </a:solidFill>
                <a:latin typeface="Microsoft JhengHei"/>
              </a:rPr>
              <a:t>LAS COSAS </a:t>
            </a:r>
            <a:br>
              <a:rPr sz="2800"/>
            </a:br>
            <a:r>
              <a:rPr b="1" lang="es-AR" sz="2800" spc="-1" strike="noStrike">
                <a:solidFill>
                  <a:srgbClr val="000000"/>
                </a:solidFill>
                <a:latin typeface="Microsoft JhengHei"/>
              </a:rPr>
              <a:t>“NO” VAN A CAMBIAR…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1" name=""/>
          <p:cNvSpPr/>
          <p:nvPr/>
        </p:nvSpPr>
        <p:spPr>
          <a:xfrm>
            <a:off x="393480" y="1125360"/>
            <a:ext cx="67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A ARGENTINA VIVE EN CRISIS!!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58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I VOY A ESPERAR EL CONTEXTO FAVORABLE ENTONCES NO VOY A EMPRENDER NUNCA </a:t>
            </a:r>
            <a:endParaRPr b="0" lang="en-US" sz="24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89000"/>
            <a:ext cx="8640720" cy="64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4" name=""/>
          <p:cNvSpPr/>
          <p:nvPr/>
        </p:nvSpPr>
        <p:spPr>
          <a:xfrm>
            <a:off x="108000" y="342900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Microsoft JhengHei"/>
              </a:rPr>
              <a:t>Los Argentinos </a:t>
            </a:r>
            <a:r>
              <a:rPr b="1" lang="es-AR" sz="3200" spc="-1" strike="noStrike">
                <a:solidFill>
                  <a:srgbClr val="000000"/>
                </a:solidFill>
                <a:latin typeface="Microsoft JhengHei"/>
              </a:rPr>
              <a:t>INNOVAMOS</a:t>
            </a:r>
            <a:r>
              <a:rPr b="0" lang="es-AR" sz="2800" spc="-1" strike="noStrike">
                <a:solidFill>
                  <a:srgbClr val="000000"/>
                </a:solidFill>
                <a:latin typeface="Microsoft JhengHei"/>
              </a:rPr>
              <a:t> E </a:t>
            </a:r>
            <a:r>
              <a:rPr b="1" lang="es-AR" sz="3200" spc="-1" strike="noStrike">
                <a:solidFill>
                  <a:srgbClr val="000000"/>
                </a:solidFill>
                <a:latin typeface="Microsoft JhengHei"/>
              </a:rPr>
              <a:t>INVENTAMOS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333360"/>
            <a:ext cx="8496000" cy="57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Microsoft JhengHei"/>
              </a:rPr>
              <a:t>O LA ARGENTINA EMPRENDEDORA</a:t>
            </a:r>
            <a:endParaRPr b="0" lang="en-US" sz="2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6" name=""/>
          <p:cNvSpPr/>
          <p:nvPr/>
        </p:nvSpPr>
        <p:spPr>
          <a:xfrm>
            <a:off x="492480" y="1711440"/>
            <a:ext cx="81939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Microsoft JhengHei"/>
              </a:rPr>
              <a:t>LOS ARGENTINOS SOMOS </a:t>
            </a:r>
            <a:r>
              <a:rPr b="1" lang="es-AR" sz="3200" spc="-1" strike="noStrike">
                <a:solidFill>
                  <a:srgbClr val="000000"/>
                </a:solidFill>
                <a:latin typeface="Microsoft JhengHei"/>
              </a:rPr>
              <a:t>EMPRENDEDORES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21:46:46Z</dcterms:created>
  <dc:creator>ewolf</dc:creator>
  <dc:description/>
  <dc:language>en-US</dc:language>
  <cp:lastModifiedBy>ewolf</cp:lastModifiedBy>
  <dcterms:modified xsi:type="dcterms:W3CDTF">2010-09-09T10:56:42Z</dcterms:modified>
  <cp:revision>56</cp:revision>
  <dc:subject/>
  <dc:title>Diapositiva 1</dc:title>
</cp:coreProperties>
</file>