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2465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24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09520" y="-360"/>
            <a:ext cx="2914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9532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96400" y="4686120"/>
            <a:ext cx="493092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37224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09520" y="9372240"/>
            <a:ext cx="2914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6D41-544B-4EC8-9245-E48B00516EB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96400" y="4686120"/>
            <a:ext cx="493092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egunta 1: ¿ hay relación entre desarrollo económico y desarrollo financiero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egunta 2: ¿ cual es la naturaleza de esa relació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 ¿ el desarrollo financiero es la consecuencia del desarrollo económico o la condición que lo favore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 ¿ es un factor indispensable o se puede prescindir del mism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96400" y="4686120"/>
            <a:ext cx="493092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egunta 1: ¿ hay relación entre desarrollo económico y desarrollo financiero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egunta 2: ¿ cual es la naturaleza de esa relació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 ¿ el desarrollo financiero es la consecuencia del desarrollo económico o la condición que lo favore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 ¿ es un factor indispensable o se puede prescindir del mism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D4DB-35B2-4423-9C15-193C0CB3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4CC2-EC0B-44BF-8699-D9BA9E07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787E-8960-417B-A356-49CBBA61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C17E-BDB2-4C9E-B07B-D20907F4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14EF-BCD9-4FB2-9B46-4678F3BD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6EDC-9249-48BD-901D-93B0FFFC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3908-C319-4CCD-B14F-91E73A5F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63D1-59CF-48EE-9C3D-87647969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E01E-F13D-4F25-99EF-BCD90FE2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922B-E61F-4357-8642-CFB35324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43BC-D013-4117-AF34-8842B16F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63C4-F868-4FE7-A5D7-BC876D34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B6EA-6911-472B-80E5-F4F77C632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886200" y="6064200"/>
          <a:ext cx="1143000" cy="64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6064200"/>
                    <a:ext cx="114300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El financiamiento del desarrollo:</a:t>
            </a: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la perspectiva de los ban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io Vic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sid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sociación de Bancos de la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Junio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124080" y="4800600"/>
          <a:ext cx="2362320" cy="13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4800600"/>
                    <a:ext cx="236232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0" y="3445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7° Congreso de 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ngreso Profesional de Ciencias Económ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 la Ciudad Autónoma de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6095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12828" t="0" r="17580" b="0"/>
          <a:stretch/>
        </p:blipFill>
        <p:spPr>
          <a:xfrm>
            <a:off x="1295280" y="2057400"/>
            <a:ext cx="5856480" cy="4184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33520" y="103032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Aft>
                <a:spcPts val="25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cimiento escaso y volátil: causa y consecuencia de la falta de inver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838080"/>
            <a:ext cx="7925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720" y="231840"/>
            <a:ext cx="8278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l crecimiento económico: problema crón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12828" t="0" r="12828" b="0"/>
          <a:stretch/>
        </p:blipFill>
        <p:spPr>
          <a:xfrm>
            <a:off x="1295280" y="2057400"/>
            <a:ext cx="6248520" cy="418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4F63-1EEA-47B6-B388-62A0D77F59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480" y="990720"/>
            <a:ext cx="7925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6360" y="231480"/>
            <a:ext cx="8278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falta de financiamiento: otra faceta del mismo probl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1066680"/>
            <a:ext cx="87627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 Argentina la falta de ahorro privado de los argentinos no es el principal limitante para crec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sequilibrios macroeconómicos crónicos + escasez de capital institucional 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gran parte del ahorro de los argentinos se ha canalizado tradicionalmente a inversiones no productivas o en el exter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n ahorro no hay financiamiento o es escaso y costoso, de disponibilidad poco predecible y muy limitado para financiar la inver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n un marco macroeconómico predecible e instituciones sólidas, no hay ahorro de largo plazo y la inversión queda limitada a proyectos que se repagan rápidamente, financiados con recursos propios o con los que el Estado pueda disponer con ese f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n contar con los recursos del ahorro nacional, el desarrollo de los mercados financieros locales es también limita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D4D1-FCBB-47D2-9F98-C0540F92F2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mediación bancaria en Argent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03032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25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scaso nivel de bancarización de la Argentina refleja la situ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838080"/>
            <a:ext cx="7925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9005" t="9547" r="19005" b="19095"/>
          <a:stretch/>
        </p:blipFill>
        <p:spPr>
          <a:xfrm>
            <a:off x="990720" y="1676520"/>
            <a:ext cx="7046640" cy="40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2CB9-1DDF-4C72-8D04-6A7AB74BD1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907920"/>
            <a:ext cx="7925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278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rgentina tiene hoy una gran oportun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219320"/>
            <a:ext cx="815328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economía argentina está en pleno proceso de recuperación con una gran oportunidad por delant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720" indent="-45720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economía mundial es favorabl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720" indent="-45720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ha progresado en el saneamiento de las cuentas públicas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720" indent="-45720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an quedado claros los costos de la inflación, el endeudamiento ilimitado y las soluciones facilis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 más importante para superar los problemas financieros que plantea el aumento de la inversión se resuelve en el plano macroeconóm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economía ordenada y en crecimiento es también la condición para que se desarrolle el sistema financiero y su contribución al desarroll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E597-8B78-4665-A7D0-759BAA7D18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ituación de la ban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10303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Aft>
                <a:spcPts val="25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to los depósitos como los préstamos bancarios muestran señales evidentes de recuperación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838080"/>
            <a:ext cx="7925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1381" t="0" r="26132" b="0"/>
          <a:stretch/>
        </p:blipFill>
        <p:spPr>
          <a:xfrm>
            <a:off x="228600" y="1860480"/>
            <a:ext cx="4267080" cy="4043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rcRect l="14254" t="0" r="16629" b="0"/>
          <a:stretch/>
        </p:blipFill>
        <p:spPr>
          <a:xfrm>
            <a:off x="4495680" y="1905120"/>
            <a:ext cx="4648320" cy="404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6A13-D599-4E27-B5EE-15EFFAF3F6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09480" y="838080"/>
            <a:ext cx="7925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05084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..en un contexto de fuerte disminución de los costos del crédito en todas las línea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20430" t="0" r="21381" b="0"/>
          <a:stretch/>
        </p:blipFill>
        <p:spPr>
          <a:xfrm>
            <a:off x="4343400" y="2131920"/>
            <a:ext cx="4724280" cy="4040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20430" t="0" r="21381" b="0"/>
          <a:stretch/>
        </p:blipFill>
        <p:spPr>
          <a:xfrm>
            <a:off x="0" y="2098800"/>
            <a:ext cx="4495680" cy="3844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" y="22860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ituación de la ban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B3B3-B680-4EE3-AB75-EFEFBCE922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838080"/>
            <a:ext cx="7925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203480"/>
            <a:ext cx="84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y mejora de la solv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11878" t="0" r="14254" b="0"/>
          <a:stretch/>
        </p:blipFill>
        <p:spPr>
          <a:xfrm>
            <a:off x="4495680" y="1600200"/>
            <a:ext cx="4419720" cy="3603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rcRect l="19005" t="0" r="21381" b="0"/>
          <a:stretch/>
        </p:blipFill>
        <p:spPr>
          <a:xfrm>
            <a:off x="152280" y="2457360"/>
            <a:ext cx="4343400" cy="3625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2860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ituación de la ban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44D5-2EE3-4BB2-9596-3F02CE16F9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tores que sustentan la recuper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1308240"/>
            <a:ext cx="739116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206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aneamiento de las finanzas públicas y reducción de la deuda públic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206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Bajo endeudamiento de familias y empres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206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rcado financiero fuertemente competitiv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206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rco regulatorio pro-crédito al sector priv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206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gresivo agotamiento de la autofinanci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206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asas de interés muy por debajo de los niveles histór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838080"/>
            <a:ext cx="7925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D903-A730-4039-93C2-3B5F8B5937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1490760"/>
            <a:ext cx="6705720" cy="26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I. Desarrollo económico y desarrollo financi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II. La situación en Argen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. 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57BD-B113-4520-B762-B07E22EE37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990720"/>
            <a:ext cx="8153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ondición básica de cualquier estrategia de desarrollo en el plano financiero pasa por consolidar la estabilidad y la disciplina fiscal en un marco que promueva la inver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plano más específico, el desafío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838080"/>
            <a:ext cx="7925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3049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umen y Conclusio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2575080"/>
            <a:ext cx="8381880" cy="35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Aft>
                <a:spcPts val="187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olidar una perspectiva de inflación en constante disminución y/o impulsar la utilización de unidades de cuenta aptas para extender el plazo de las operaciones financier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Aft>
                <a:spcPts val="187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cilitar el ahorro institucional (i.e. AFJPs) y la participación de inversores institucionales en el financiamiento de la inver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Aft>
                <a:spcPts val="187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mpulsar el desarrollo del mercado de capitales 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Aft>
                <a:spcPts val="187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mpulsar la bancarización de las transacciones como forma de incentivar la canalización del ahorro a través de los mercados loc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9C72-AF13-4D96-B50F-C20EC92FE6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1490760"/>
            <a:ext cx="6705720" cy="26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 Desarrollo económico y desarrollo financi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. La situación en Argen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. Resumen y 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596C-1423-44AD-92D4-6E08A662EA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149076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 Desarrollo económico y desarrollo financi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B4FB-D498-4EEC-B02C-9DBDD1FFB4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Experiencia Internac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838080"/>
            <a:ext cx="7925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14400" y="1905120"/>
          <a:ext cx="7010280" cy="297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010280" cy="29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609480" y="85104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8655"/>
                </a:solidFill>
                <a:latin typeface="Arial"/>
              </a:rPr>
              <a:t>DESARROLLO FINANCIERO POR GRUPO DE INGRESO EN EL MUN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8655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288655"/>
                </a:solidFill>
                <a:latin typeface="Arial"/>
              </a:rPr>
              <a:t>AÑOS NOV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Proporción del PI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5029200"/>
            <a:ext cx="7162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LucidaSans-Italic"/>
              </a:rPr>
              <a:t>Nota</a:t>
            </a:r>
            <a:r>
              <a:rPr b="0" lang="es-ES" sz="1400" spc="-1" strike="noStrike">
                <a:solidFill>
                  <a:srgbClr val="000000"/>
                </a:solidFill>
                <a:latin typeface="LucidaSans"/>
              </a:rPr>
              <a:t>: Promedio simple para los grupos de ingreso definidos por el Banco Mund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LucidaSans-Italic"/>
              </a:rPr>
              <a:t>Fuente</a:t>
            </a:r>
            <a:r>
              <a:rPr b="0" lang="es-ES" sz="1400" spc="-1" strike="noStrike">
                <a:solidFill>
                  <a:srgbClr val="000000"/>
                </a:solidFill>
                <a:latin typeface="LucidaSans"/>
              </a:rPr>
              <a:t>: Demirgüç-Kunt y Levine (1999), en “Desencadenar el Crédito: Como ampliar y estabilizar la banca”, BI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459F-3790-4ED9-A41A-36F11BE099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Experiencia Internac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838080"/>
            <a:ext cx="7925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85104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8655"/>
                </a:solidFill>
                <a:latin typeface="Arial"/>
              </a:rPr>
              <a:t>CREDITO BANCARIO E INGRESO PER CAPITA EN EL MUN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8655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288655"/>
                </a:solidFill>
                <a:latin typeface="Arial"/>
              </a:rPr>
              <a:t>AÑO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425920"/>
            <a:ext cx="716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LucidaSans-Italic"/>
              </a:rPr>
              <a:t>Fuente</a:t>
            </a:r>
            <a:r>
              <a:rPr b="0" lang="es-ES" sz="1400" spc="-1" strike="noStrike">
                <a:solidFill>
                  <a:srgbClr val="000000"/>
                </a:solidFill>
                <a:latin typeface="LucidaSans"/>
              </a:rPr>
              <a:t>: Escrivá, José Luis (2006): “El Proceso de Bancarización en España” Informe ABA en proceso de public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1511280"/>
            <a:ext cx="5791320" cy="395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23C9-545A-4803-8C58-17A49C44A5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ituación en América Lat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838080"/>
            <a:ext cx="7925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83808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UNDIZACIÓN BANCARIA Y DESARROLLO ECONÓMICO EN AMÉRICA LATINA Y EL CARIB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ÑOS NOV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668920"/>
            <a:ext cx="8305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EgyptienneF-Italic"/>
              </a:rPr>
              <a:t>Nota</a:t>
            </a:r>
            <a:r>
              <a:rPr b="0" lang="es-ES" sz="1400" spc="-1" strike="noStrike">
                <a:solidFill>
                  <a:srgbClr val="000000"/>
                </a:solidFill>
                <a:latin typeface="EgyptienneF-Roman"/>
              </a:rPr>
              <a:t>: Crédito promedio al sector privado como porcentaje del PIB y PIB per cápita promedio durante los años noventa. La línea de tendencia es cuadrá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EgyptienneF-Italic"/>
              </a:rPr>
              <a:t>Fuente</a:t>
            </a:r>
            <a:r>
              <a:rPr b="0" lang="es-ES" sz="1400" spc="-1" strike="noStrike">
                <a:solidFill>
                  <a:srgbClr val="000000"/>
                </a:solidFill>
                <a:latin typeface="EgyptienneF-Roman"/>
              </a:rPr>
              <a:t>: Basado en datos del FMI y el Banco Mund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257800" cy="4162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rot="10200000">
            <a:off x="5447880" y="4533480"/>
            <a:ext cx="609840" cy="381240"/>
          </a:xfrm>
          <a:prstGeom prst="rightArrow">
            <a:avLst>
              <a:gd name="adj1" fmla="val 55981"/>
              <a:gd name="adj2" fmla="val 7743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62160" y="4483080"/>
            <a:ext cx="1983600" cy="307080"/>
          </a:xfrm>
          <a:prstGeom prst="rect">
            <a:avLst/>
          </a:prstGeom>
          <a:solidFill>
            <a:srgbClr val="e5f3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gentina 90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1400000">
            <a:off x="5168160" y="4876920"/>
            <a:ext cx="609480" cy="380880"/>
          </a:xfrm>
          <a:prstGeom prst="rightArrow">
            <a:avLst>
              <a:gd name="adj1" fmla="val 55981"/>
              <a:gd name="adj2" fmla="val 7746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76680" y="4952880"/>
            <a:ext cx="2032560" cy="307080"/>
          </a:xfrm>
          <a:prstGeom prst="rect">
            <a:avLst/>
          </a:prstGeom>
          <a:solidFill>
            <a:srgbClr val="e5f3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gentina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200000">
            <a:off x="5130720" y="3803760"/>
            <a:ext cx="609840" cy="380880"/>
          </a:xfrm>
          <a:prstGeom prst="rightArrow">
            <a:avLst>
              <a:gd name="adj1" fmla="val 55981"/>
              <a:gd name="adj2" fmla="val 7750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34560" y="3759120"/>
            <a:ext cx="1191240" cy="307080"/>
          </a:xfrm>
          <a:prstGeom prst="rect">
            <a:avLst/>
          </a:prstGeom>
          <a:solidFill>
            <a:srgbClr val="e5f3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0200000">
            <a:off x="5105160" y="4140360"/>
            <a:ext cx="609480" cy="380880"/>
          </a:xfrm>
          <a:prstGeom prst="rightArrow">
            <a:avLst>
              <a:gd name="adj1" fmla="val 55981"/>
              <a:gd name="adj2" fmla="val 7746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09000" y="4108320"/>
            <a:ext cx="1252080" cy="307080"/>
          </a:xfrm>
          <a:prstGeom prst="rect">
            <a:avLst/>
          </a:prstGeom>
          <a:solidFill>
            <a:srgbClr val="e5f3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AAFE-EBCF-488E-BCB4-E43DFBE8A1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838080"/>
            <a:ext cx="7925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versión, Ahorro y Sistema Financi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6000" y="836640"/>
            <a:ext cx="8893080" cy="50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sistema financiero adecuadamente organizado amplía las posibilidades de acceder al ahorro a quienes invierten y las oportunidades de inversión a quienes ahorr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icando las alternativas de inversión se aumenta el ahorro y mejora la asignación de los recursos productivos, creando más riqueza y posibilitando que más individuos accedan a esa rique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sistema financiero integral está conformado por un conjunto de instituciones que actúan complementariamente pa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72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rrollar instrumentos financi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72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rrollar ámbitos institucionales y medios de pago que facilitan las trans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72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rrollar mecanismos que diversifican el riesgo econó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72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ir y diseminar información para asignar eficazmente los 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yor organización e institucionalización del sistema financiero, mayor contribución al crecimiento y al desarrollo económ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8123-2627-4131-95CD-227C9CE420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l Caso Chile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838080"/>
            <a:ext cx="8686800" cy="26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ilidad macroeconómica + desarrollo ordenado e integral del sistema financiero = crecimiento sostenido de la econom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ma del sistema de pensiones + fortaleza del sistema bancario + unidad de cuenta predecible = amplia disponibilidad de financiamiento a largo plaz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írculo virtuoso: crecimiento sostenido y estable 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ás inversión y desarrollo de mercados financieros  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ás contribución del sistema financiero al desarrollo económ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762120"/>
            <a:ext cx="7925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16629" t="0" r="14254" b="0"/>
          <a:stretch/>
        </p:blipFill>
        <p:spPr>
          <a:xfrm>
            <a:off x="4648320" y="3252960"/>
            <a:ext cx="4267080" cy="3071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3794040"/>
            <a:ext cx="4343400" cy="2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últimos 15 años, la inversión nunca bajó del 23% del PBI alcanzando un promedio de 25,5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BI per cápita actual de Chile supera el de Argentina y Brasi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2776-87DD-4E24-A044-58B4575FF5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490760"/>
            <a:ext cx="6705720" cy="18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I. Desarrollo económico y desarrollo financi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. La situación en Argen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4F91-6094-45BB-A0F7-40447B5F9B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20:23:52Z</dcterms:created>
  <dc:creator>Damian Wilson</dc:creator>
  <dc:description/>
  <dc:language>en-US</dc:language>
  <cp:lastModifiedBy>Mario Vicens</cp:lastModifiedBy>
  <cp:lastPrinted>2006-05-15T13:58:06Z</cp:lastPrinted>
  <dcterms:modified xsi:type="dcterms:W3CDTF">2006-06-28T15:57:15Z</dcterms:modified>
  <cp:revision>254</cp:revision>
  <dc:subject/>
  <dc:title>Situación y Perspectivas del Sistema Financiero Argentino</dc:title>
</cp:coreProperties>
</file>