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1B31-2991-4BC1-84AE-2AAAB140D4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D43D0-5AFE-4F3D-B341-7E66651D55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3819C-22C7-416C-912E-6DB8EE83C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F87C4-450A-42D4-B60A-BA8918C1E9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2A55D-3A99-4F1C-ACED-339EBD3DA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14E564-4AB1-46C3-B64E-D509EB278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69C41-669F-4385-8CA4-15B11381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9C2413-058A-4F9A-A5F5-3DA2675B3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3381F-DDA1-44D4-A7E3-84068F572E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E9117-F92A-4D7F-9374-5DA59FFFC6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FA4A5-61ED-4EC2-8644-1F83B7D02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EF5E-78C6-4600-A4A8-CC608157A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E3C49-31D8-407F-A0A1-8802D8FD0D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6F02EB-8C74-472C-9FEE-D1FF56314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1A107-365A-4AAE-A610-0EEAC8119A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3D4C81-0A51-4E62-9A83-8B767164B9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38716-3C68-48B8-ABCB-4F5A7926AC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8F6C4-A56B-4029-883A-5087D3BF9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137DD-856F-4F62-BCFE-2202E23F7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4E303-42C1-4F37-AEAF-9CAE17492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5CBBF-10FC-4652-8EC9-E18BCB1B1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B6FCD-03B7-4D0D-A814-4372AA3FA1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4A827-9F67-4176-8D3B-03C2D2189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D6DBB-F903-44FE-9596-8AA74A2E0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cc3300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cc3300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D82C6-BBB7-4245-9F19-489C75279FB9}" type="slidenum">
              <a:rPr b="0" lang="es-E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040" y="1523520"/>
            <a:ext cx="76230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4DF69-9B3E-4B91-8177-F344EFFDA13F}" type="slidenum">
              <a:rPr b="0" lang="es-ES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71400" algn="ctr">
              <a:spcBef>
                <a:spcPts val="550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3" marL="1023840" algn="ctr">
              <a:spcBef>
                <a:spcPts val="499"/>
              </a:spcBef>
              <a:buClr>
                <a:srgbClr val="cc3300"/>
              </a:buClr>
              <a:buSzPct val="70000"/>
              <a:buFont typeface="Wingdings" charset="2"/>
              <a:buChar char="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341360" algn="ctr">
              <a:spcBef>
                <a:spcPts val="499"/>
              </a:spcBef>
              <a:buClr>
                <a:srgbClr val="ff9900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3413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34136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331640" y="2420640"/>
            <a:ext cx="7623000" cy="14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Problemas del comercio internacional.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La OMC y el futuro de la ronda de Doha.</a:t>
            </a:r>
            <a:br>
              <a:rPr sz="2600"/>
            </a:br>
            <a:r>
              <a:rPr b="0" lang="en-US" sz="2600" spc="-1" strike="noStrike">
                <a:solidFill>
                  <a:srgbClr val="ffffff"/>
                </a:solidFill>
                <a:latin typeface="Garamond"/>
              </a:rPr>
              <a:t>Oferta y demanda mundial de bienes y servicios</a:t>
            </a: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1403280" y="4076640"/>
            <a:ext cx="7129440" cy="211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00"/>
                </a:solidFill>
                <a:latin typeface="Arial"/>
              </a:rPr>
              <a:t>¿Cumplimiento de fechas, reducción de sustancia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Arial"/>
              </a:rPr>
              <a:t>Diana Tussi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2268360" y="1628640"/>
          <a:ext cx="5381640" cy="666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1628640"/>
                    <a:ext cx="5381640" cy="66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Garamond"/>
              </a:rPr>
              <a:t>Hitos del proceso negociador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III Conferencia Ministerial de la OMC en Seattle (Estados Unidos) en 1999, que tenía por propósito lanzar la “Ronda del Milenio”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Los hechos del 11 de septiembre de 2001  relegaron la prioridad de los temas económicos y de cooperación en la agenda internacional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IV Conferencia Ministerial en Quatar (Doha) en noviembre de 2001, con el Programa de Doha para el Desarrollo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600" spc="-1" strike="noStrike">
                <a:solidFill>
                  <a:srgbClr val="ffffff"/>
                </a:solidFill>
                <a:latin typeface="Arial"/>
              </a:rPr>
              <a:t>Colapso de la Cumbre Ministerial de Cancún en 2003 trajo aparejada una nueva desilusión respecto al compromiso de concretar la iniciativa de Doha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400" spc="-1" strike="noStrike">
                <a:solidFill>
                  <a:srgbClr val="ffff00"/>
                </a:solidFill>
                <a:latin typeface="Garamond"/>
              </a:rPr>
              <a:t>Países en desarrollo</a:t>
            </a:r>
            <a:br>
              <a:rPr sz="3400"/>
            </a:br>
            <a:r>
              <a:rPr b="1" lang="en-GB" sz="3000" spc="-1" strike="noStrike">
                <a:solidFill>
                  <a:srgbClr val="ffffff"/>
                </a:solidFill>
                <a:latin typeface="Garamond"/>
              </a:rPr>
              <a:t>Su m</a:t>
            </a:r>
            <a:r>
              <a:rPr b="1" lang="en-GB" sz="2600" spc="-1" strike="noStrike">
                <a:solidFill>
                  <a:srgbClr val="ffffff"/>
                </a:solidFill>
                <a:latin typeface="Garamond"/>
              </a:rPr>
              <a:t>embresía en las coaliciones más fuertes de Doha</a:t>
            </a:r>
            <a:br>
              <a:rPr sz="3000"/>
            </a:br>
            <a:endParaRPr b="0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611280" y="1484280"/>
            <a:ext cx="7848360" cy="46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NAMA y agricultura: posiciones contrapuestas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NAMA 11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 (Argentina, Brasil, Egipto, Filipinas, India,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ndonesia, Namibia, Sudáfrica y Venezuela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a resaltado en materia de bienes industriales que las demandas de la Unión Europea en esta área y en Servicios no guardan un nivel de ambición equivalente con lo que está dispuesta a ofrecer en acceso a mercados en Agricultura. Su demanda en NAMA requeriría que los países en desarrollo reduzcan sus tarifas en un 75%, muy lejos de la oferta del 39% de corte que propone la UE en Agricultur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00"/>
                </a:solidFill>
                <a:latin typeface="Arial"/>
              </a:rPr>
              <a:t>Párrafo 24: las dos caras de la moneda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claración Ministerial adoptada el 18 de diciembre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de 2005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649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(…) encomendamos a nuestros negociadores que aseguren que haya un nivel de ambición en el acceso a los mercados para la agricultura y NAMA comparablemente elevado. Esta ambición ha de alcanzarse de una manera equilibrada y proporcionada, compatible con el principio de trato especial y diferenciado”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NAMA y agricultura: posiciones contrapuestas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00"/>
                </a:solidFill>
                <a:latin typeface="Arial"/>
              </a:rPr>
              <a:t>Propuesta Argentina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: Notas W/68 y GEN/14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716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ff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órmulas de cort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ff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lexibilidades y productos sensible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ff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aranceles máximos. Relación entre aranceles consolidados y aplicados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571680" indent="-571680">
              <a:spcBef>
                <a:spcPts val="751"/>
              </a:spcBef>
              <a:buClr>
                <a:srgbClr val="ff9900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mplificación arancelaria.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Garamond"/>
              </a:rPr>
              <a:t>NAMA y agricultura: posiciones contrapuestas</a:t>
            </a:r>
            <a:endParaRPr b="0" lang="en-US" sz="34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200" spc="-1" strike="noStrike">
                <a:solidFill>
                  <a:srgbClr val="ffffff"/>
                </a:solidFill>
                <a:latin typeface="Garamond"/>
              </a:rPr>
              <a:t>Las fechas establecidas en Hong Kong</a:t>
            </a:r>
            <a:endParaRPr b="0" lang="en-US" sz="4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Completar el programa de trabajo de Doha y concluir la Ronda a principios de 2007, es decir con dos años de atraso respecto del calendario inicial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Arial"/>
              </a:rPr>
              <a:t>Establecer </a:t>
            </a:r>
            <a:r>
              <a:rPr b="0" lang="es-ES_tradnl" sz="2100" spc="-1" strike="noStrike">
                <a:solidFill>
                  <a:srgbClr val="ffffff"/>
                </a:solidFill>
                <a:latin typeface="Arial"/>
              </a:rPr>
              <a:t>las modalidades de negociación para Agricultura, NAMA y Servicios a más tardar el 30 de abril de 2006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524"/>
              </a:spcBef>
              <a:buClr>
                <a:srgbClr val="ff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Arial"/>
              </a:rPr>
              <a:t>Presentar proyectos de listas globales de concesiones al 31 de julio de 2006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00"/>
                </a:solidFill>
                <a:latin typeface="Arial"/>
              </a:rPr>
              <a:t>Iniciativa del Director General de la OMC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s-ES_tradnl" sz="2100" spc="-1" strike="noStrike">
                <a:solidFill>
                  <a:srgbClr val="ffffff"/>
                </a:solidFill>
                <a:latin typeface="Arial"/>
              </a:rPr>
              <a:t>Fines de junio como fecha final para coordinar ambiciones entre NAMA y agricultura (párrafo 24)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DIANA TUSSIE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 algn="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ffffff"/>
                </a:solidFill>
                <a:latin typeface="Arial"/>
              </a:rPr>
              <a:t>dtussie@flacso.org.ar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6-14T16:33:55Z</dcterms:created>
  <dc:creator>laura</dc:creator>
  <dc:description/>
  <dc:language>en-US</dc:language>
  <cp:lastModifiedBy>laura</cp:lastModifiedBy>
  <dcterms:modified xsi:type="dcterms:W3CDTF">2006-06-26T23:33:21Z</dcterms:modified>
  <cp:revision>39</cp:revision>
  <dc:subject/>
  <dc:title>Diapositiva 1</dc:title>
</cp:coreProperties>
</file>