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435-0D69-4BB3-8DF6-0B9B04AF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460-6E2F-4E88-A05B-37F816B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AF9-AB71-4D56-BBB0-601C472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70E-8098-42A8-8A58-1249B31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771-D614-4BED-9C86-F1AD18F6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C95-C56D-4F0A-92C8-E8C74804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47E-7DA0-490B-A6D5-3A0706D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40E-48F8-431B-8D10-27282C1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20A-8557-4882-941B-C45EF5C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17B-2EAB-415D-A613-FF9A140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982-A01A-4681-B4BB-E7BC281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0F5-35B9-4EC6-BEED-C0BF57E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6936-1BBC-4D19-ACCD-D844AC9A7C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8280" y="241200"/>
            <a:ext cx="916956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9000" y="765000"/>
            <a:ext cx="821232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1240" y="744480"/>
            <a:ext cx="903924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80" y="385920"/>
            <a:ext cx="9300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6520" y="642960"/>
            <a:ext cx="88916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0" y="1147680"/>
            <a:ext cx="869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0" y="1197000"/>
            <a:ext cx="95569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6200" y="2397240"/>
            <a:ext cx="355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0480" y="2397240"/>
            <a:ext cx="118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6320" y="239724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38920" y="239724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2354400"/>
            <a:ext cx="355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6200" y="2612880"/>
            <a:ext cx="355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9040" y="235440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9040" y="261288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6320" y="235440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6320" y="261288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38920" y="235440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38920" y="261288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16200" y="2570040"/>
            <a:ext cx="355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70480" y="2570040"/>
            <a:ext cx="118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6320" y="257004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329076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7240" y="329076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48400" y="329076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32800" y="329076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6200" y="329076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6200" y="371808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7240" y="371808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48400" y="371808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32800" y="371808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7240" y="329076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32800" y="329076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16200" y="372276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7240" y="372276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48400" y="372276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32800" y="372276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6200" y="455760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7240" y="455760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48400" y="455760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32800" y="455760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16200" y="4508640"/>
            <a:ext cx="355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7240" y="450864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8400" y="4508640"/>
            <a:ext cx="11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32800" y="4508640"/>
            <a:ext cx="1182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47720" y="280980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48800" y="280980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7720" y="349884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48800" y="349884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47720" y="418788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48800" y="418788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47720" y="487692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48800" y="4876920"/>
            <a:ext cx="0" cy="260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39600" y="206280"/>
            <a:ext cx="9911880" cy="6326280"/>
            <a:chOff x="-39600" y="206280"/>
            <a:chExt cx="9911880" cy="6326280"/>
          </a:xfrm>
        </p:grpSpPr>
        <p:sp>
          <p:nvSpPr>
            <p:cNvPr id="95" name=""/>
            <p:cNvSpPr/>
            <p:nvPr/>
          </p:nvSpPr>
          <p:spPr>
            <a:xfrm>
              <a:off x="-39600" y="206280"/>
              <a:ext cx="991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00"/>
                  </a:solidFill>
                  <a:latin typeface="Arial"/>
                </a:rPr>
                <a:t>CRECIMIENTO DE LOS SALARIOS MED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00"/>
                  </a:solidFill>
                  <a:latin typeface="Arial"/>
                </a:rPr>
                <a:t>EN EL SECTOR PRIVADO FORMAL</a:t>
              </a:r>
              <a:r>
                <a:rPr b="1" lang="es-MX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s-MX" sz="1300" spc="-1" strike="noStrike">
                  <a:solidFill>
                    <a:srgbClr val="003300"/>
                  </a:solidFill>
                  <a:latin typeface="Arial"/>
                </a:rPr>
                <a:t>(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6960" y="6237360"/>
              <a:ext cx="746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ente: SEL Consultores con base en el Sistema Integrado de Jubilaciones y Pen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250920" y="1052640"/>
            <a:ext cx="9434160" cy="5065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052640"/>
                      <a:ext cx="9434160" cy="506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1024200" y="6041880"/>
              <a:ext cx="20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</a:rPr>
                <a:t>(1) Incluye SAC deveng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4:17:53Z</dcterms:created>
  <dc:creator>Administrador</dc:creator>
  <dc:description/>
  <dc:language>en-US</dc:language>
  <cp:lastModifiedBy>Administrador</cp:lastModifiedBy>
  <dcterms:modified xsi:type="dcterms:W3CDTF">2006-06-13T19:45:42Z</dcterms:modified>
  <cp:revision>11</cp:revision>
  <dc:subject/>
  <dc:title>Diapositiva 1</dc:title>
</cp:coreProperties>
</file>