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6FED-D9E8-464E-978D-0DF248FA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4BAB-4FED-4104-864C-C26D91A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AFCD-9621-4C4A-9B39-77F8D44E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C26B-6601-4006-B3E1-08691455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063A-07C7-47A2-8DBA-D9BCC9B6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E22-D01B-4EB3-9EAD-0155EC7E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E13B-7714-4B98-8823-E99CEC76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8C91-EAE4-4BF6-95E4-E2E97AE8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BDF-BBF1-44C6-8418-F71DCD1A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F2F0-8EAD-44F6-A0EE-52EC08D5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A75-B053-4ADD-AA30-2C8F2F5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BA85-8C59-4B44-A2B9-7AB5BC08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6147-A95D-4B93-BEA4-1B83774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E6BA-0815-4C98-ABE6-CD9284B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8A7A-57D2-4828-8F9E-45F69DC1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0FB-8D54-4D29-978B-12BFEFB0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AD7A-7D0F-49AE-8646-143F4F1B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B471-EAA8-40AE-9CD5-33B5C87F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9B7F-B20E-4A8A-A862-01C8FB9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5E42-0033-4ADB-BC74-3A4A128A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2E95-399F-4B01-8E91-A6E1671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59DE-77AA-48E5-ADF4-55BFB71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A9B8-833E-4020-BC70-B3B6230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A770-623E-4FD6-A2DD-21C7A60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9E3F-589E-458E-8029-5392B4C0E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e4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6e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6e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a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6e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a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a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af3f2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af3f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e4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b6e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b6e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b6e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b6e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af3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2B1-45BA-43F7-9C18-E67259B1A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af3f2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81579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80"/>
                </a:solidFill>
                <a:latin typeface="Tahoma"/>
              </a:rPr>
              <a:t>Consejo Profesional de </a:t>
            </a:r>
            <a:br>
              <a:rPr sz="2400"/>
            </a:br>
            <a:r>
              <a:rPr b="1" lang="es-ES" sz="2400" spc="-1" strike="noStrike">
                <a:solidFill>
                  <a:srgbClr val="008080"/>
                </a:solidFill>
                <a:latin typeface="Tahoma"/>
              </a:rPr>
              <a:t>Ciencias Económica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8080"/>
                </a:solidFill>
                <a:latin typeface="Tahoma"/>
              </a:rPr>
              <a:t>7º Congreso de Economía</a:t>
            </a:r>
            <a:br>
              <a:rPr sz="2400"/>
            </a:br>
            <a:br>
              <a:rPr sz="3200"/>
            </a:br>
            <a:r>
              <a:rPr b="1" lang="es-ES" sz="2600" spc="-1" strike="noStrike">
                <a:solidFill>
                  <a:srgbClr val="333399"/>
                </a:solidFill>
                <a:latin typeface="Tahoma"/>
              </a:rPr>
              <a:t>“Las inversiones necesarias y </a:t>
            </a:r>
            <a:br>
              <a:rPr sz="2600"/>
            </a:br>
            <a:r>
              <a:rPr b="1" lang="es-ES" sz="2600" spc="-1" strike="noStrike">
                <a:solidFill>
                  <a:srgbClr val="333399"/>
                </a:solidFill>
                <a:latin typeface="Tahoma"/>
              </a:rPr>
              <a:t>el financiamiento del desarrollo”</a:t>
            </a:r>
            <a:br>
              <a:rPr sz="2600"/>
            </a:b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Lic. Ricardo Delgado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12360" y="4869000"/>
            <a:ext cx="777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28 de Junio de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59280" y="5877000"/>
            <a:ext cx="3287520" cy="73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333360"/>
            <a:ext cx="7920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suficiente desarrollo de tecnologí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8675640" cy="539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333360"/>
            <a:ext cx="7920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mportaciones de Bienes d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915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0"/>
            <a:ext cx="7993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gunos hechos es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341360"/>
            <a:ext cx="84247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Estabilidad macroeconómica</a:t>
            </a:r>
            <a:r>
              <a:rPr b="1" lang="es-AR" sz="2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AR" sz="2200" spc="-1" strike="noStrike">
                <a:solidFill>
                  <a:srgbClr val="333399"/>
                </a:solidFill>
                <a:latin typeface="Tahoma"/>
              </a:rPr>
              <a:t>Entorno de credibilidad y repu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Incentivos a la invers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Capital humano y acceso a tecnología avan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Apertura exter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AR" sz="2200" spc="-1" strike="noStrike">
                <a:solidFill>
                  <a:srgbClr val="333399"/>
                </a:solidFill>
                <a:latin typeface="Tahoma"/>
              </a:rPr>
              <a:t>Acceso a financi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81579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80"/>
                </a:solidFill>
                <a:latin typeface="Tahoma"/>
              </a:rPr>
              <a:t>Consejo Profesional de </a:t>
            </a:r>
            <a:br>
              <a:rPr sz="2400"/>
            </a:br>
            <a:r>
              <a:rPr b="1" lang="es-ES" sz="2400" spc="-1" strike="noStrike">
                <a:solidFill>
                  <a:srgbClr val="008080"/>
                </a:solidFill>
                <a:latin typeface="Tahoma"/>
              </a:rPr>
              <a:t>Ciencias Económica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8080"/>
                </a:solidFill>
                <a:latin typeface="Tahoma"/>
              </a:rPr>
              <a:t>7º Congreso de Economía</a:t>
            </a:r>
            <a:br>
              <a:rPr sz="2400"/>
            </a:br>
            <a:br>
              <a:rPr sz="3200"/>
            </a:br>
            <a:r>
              <a:rPr b="1" lang="es-ES" sz="2600" spc="-1" strike="noStrike">
                <a:solidFill>
                  <a:srgbClr val="333399"/>
                </a:solidFill>
                <a:latin typeface="Tahoma"/>
              </a:rPr>
              <a:t>“Las inversiones necesarias y </a:t>
            </a:r>
            <a:br>
              <a:rPr sz="2600"/>
            </a:br>
            <a:r>
              <a:rPr b="1" lang="es-ES" sz="2600" spc="-1" strike="noStrike">
                <a:solidFill>
                  <a:srgbClr val="333399"/>
                </a:solidFill>
                <a:latin typeface="Tahoma"/>
              </a:rPr>
              <a:t>el financiamiento del desarrollo”</a:t>
            </a:r>
            <a:br>
              <a:rPr sz="2600"/>
            </a:b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Lic. Ricardo Delgado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12360" y="4869000"/>
            <a:ext cx="777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28 de Junio de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59280" y="5877000"/>
            <a:ext cx="3287520" cy="73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33360"/>
            <a:ext cx="7920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532720" y="525600"/>
            <a:ext cx="289080" cy="268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125360"/>
            <a:ext cx="8713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Inversión, clave para sostener el cr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Acumulación e inspiració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Cerrar las brechas de produ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333399"/>
                </a:solidFill>
                <a:latin typeface="Tahoma"/>
              </a:rPr>
              <a:t>Algunos hechos esti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0"/>
            <a:ext cx="79214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tabilidad del crecimiento 1991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096920"/>
            <a:ext cx="8364600" cy="5205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0"/>
            <a:ext cx="67690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ué nivel de inversión es neces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8748720" cy="544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459640" y="2205000"/>
            <a:ext cx="6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96360" y="2852640"/>
            <a:ext cx="6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2720" y="3429000"/>
            <a:ext cx="6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l ahorro nacional tiene sus lím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1231920"/>
            <a:ext cx="8148600" cy="507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ánto ahorran otras econ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46080" y="1065240"/>
            <a:ext cx="9237600" cy="574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La productividad como </a:t>
            </a:r>
            <a:r>
              <a:rPr b="1" i="1" lang="es-ES" sz="2800" spc="-1" strike="noStrike">
                <a:solidFill>
                  <a:srgbClr val="333399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16000" y="2171880"/>
            <a:ext cx="8748720" cy="298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a educación como ventaj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7480" y="993600"/>
            <a:ext cx="9237600" cy="574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br>
              <a:rPr sz="500"/>
            </a:b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907920"/>
            <a:ext cx="8569080" cy="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05000"/>
            <a:ext cx="755640" cy="792360"/>
          </a:xfrm>
          <a:prstGeom prst="rect">
            <a:avLst/>
          </a:prstGeom>
          <a:solidFill>
            <a:srgbClr val="b6e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16000"/>
            <a:ext cx="7777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459640" y="457200"/>
            <a:ext cx="362160" cy="336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333360"/>
            <a:ext cx="7920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rgentina atrae poca inversión extranj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1940040"/>
            <a:ext cx="712944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9:21:21Z</dcterms:created>
  <dc:creator>rgaya</dc:creator>
  <dc:description/>
  <dc:language>en-US</dc:language>
  <cp:lastModifiedBy>ralvarez</cp:lastModifiedBy>
  <dcterms:modified xsi:type="dcterms:W3CDTF">2006-06-28T15:26:22Z</dcterms:modified>
  <cp:revision>571</cp:revision>
  <dc:subject/>
  <dc:title>Diapositiva 1</dc:title>
</cp:coreProperties>
</file>