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45E-948F-415F-94B5-1272E195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B43-EBB7-42A8-8B16-4B07B8C7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0DB-F605-4149-BAD3-09F5273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F3C-F63E-48A4-938F-A2B62266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C3C-BA23-44BD-800B-7E925ED4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38C-8608-4031-BA98-D9D1DC1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015-A0B0-4D5F-98AE-93C0401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D01-1729-48F6-A1D0-C6AE3AA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7C9-ACDC-474E-8619-6DF13933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FB3-DFD7-47DA-85ED-EAF9948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54E-76B8-47AA-86C2-5F985F8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84B-B358-4821-AE3D-53F3FC8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684-AAE5-4A46-8884-AD067463793D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8100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El gran desafí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Cambiar una distribución desigual de oportunidades</a:t>
            </a:r>
            <a:r>
              <a:rPr b="0" lang="es-AR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 Narrow"/>
              </a:rPr>
              <a:t>Presentación Liliana De Ri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29 de juni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49360"/>
            <a:ext cx="9144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En el último cuarto del siglo X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se registra un persistente deterioro distributivo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El coeficiente de Gini creció un 45% entre 1974 y 2003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En 1974 el 30% de los hogares más pobres recibía 15% del ingreso tot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En 2003, </a:t>
            </a:r>
            <a:r>
              <a:rPr b="1" lang="es-AR" sz="3000" spc="-1" strike="noStrike" u="sng">
                <a:solidFill>
                  <a:srgbClr val="ffffff"/>
                </a:solidFill>
                <a:uFillTx/>
                <a:latin typeface="Arial Narrow"/>
              </a:rPr>
              <a:t>sólo un 8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5656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79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Distribución del ingreso familiar, 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circa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 1970 (%)</a:t>
            </a:r>
            <a:r>
              <a:rPr b="1" lang="es-A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64393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uente: Beccaria, Luis. Mimeo PNUD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1785960"/>
            <a:ext cx="8028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889280"/>
            <a:ext cx="8496000" cy="31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biLevel thresh="50000"/>
            <a:lum bright="-2000"/>
          </a:blip>
          <a:stretch/>
        </p:blipFill>
        <p:spPr>
          <a:xfrm>
            <a:off x="324000" y="1496880"/>
            <a:ext cx="8532720" cy="3587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371600"/>
            <a:ext cx="3564000" cy="503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stribución del ingreso y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496560"/>
            <a:ext cx="45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Informe de Desarrollo Humano Argentina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1452600"/>
            <a:ext cx="72741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ffff"/>
                </a:solidFill>
                <a:latin typeface="Arial Narrow"/>
              </a:rPr>
              <a:t>Relación de ingreso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ffff"/>
                </a:solidFill>
                <a:latin typeface="Arial Narrow"/>
              </a:rPr>
              <a:t>10° decil / 1° dec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3468600"/>
            <a:ext cx="60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998  ________  26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5  ________  32,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6496560"/>
            <a:ext cx="45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conométrica en base a datos INDEC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147680"/>
            <a:ext cx="7921440" cy="525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6000" y="952560"/>
            <a:ext cx="8820000" cy="5487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 Narrow"/>
              </a:rPr>
              <a:t>Coeficiente de Gini del Ingreso Familiar per capita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 Narrow"/>
              </a:rPr>
              <a:t>1° semestre 2004 – 1° semestr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5480" y="1328760"/>
            <a:ext cx="8209080" cy="507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9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ogares según escala de ingresos total familia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de aglomerados urban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gundo semestre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64360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INDEC, Encuesta Permanente de Hog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1357200"/>
            <a:ext cx="82296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35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desigualdad social se combina con la desigualdad territorial de oportunidades de larga data en 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Argentina sigue siendo “un país mal unid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38520" y="6549120"/>
            <a:ext cx="45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Informe de Desarrollo Humano Argentina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5736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484280"/>
            <a:ext cx="871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alores más bajos del Índice de Desarroll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yores tasas de desigualdad de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yor concentración de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yor incidencia de la pobreza entre jóvenes y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nor tasa de actividad d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nor tasa de 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n las provincias del Norte encontr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300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asa de mortalidad matern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21 por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5300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,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Producto Bruto Geográfico (PB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5300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elación entre el empleo privado y el públic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1,2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212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Las personas sumidas debajo de la línea de pobrez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llegaron a ser 57,5% en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En 2005 son el 33,8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La línea de indigencia pasó del 27,5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 12,2% en ese lap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Hace 30 años eran el 8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INDEC, EPH II semestre d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341360"/>
            <a:ext cx="7559640" cy="46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5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volución de la pobreza y la indigencia (en %). Serie EPH puntual y continua. Total de aglomerados urbanos. (PERSONAS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998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413000"/>
            <a:ext cx="8064360" cy="482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volución de la pobreza y la indigencia en el Gran Buenos Air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% de la población (PERSONAS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988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7240" cy="479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535040"/>
            <a:ext cx="8424720" cy="489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497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cidencia del Plan Jefas/Jefes en la pobreza y la indigencia. PERSONAS (%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003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1484280"/>
            <a:ext cx="7993080" cy="475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cidencia de pobreza e indigencia en el total urbano EPH y por región estadístic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gundo semestre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742160" cy="481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763640"/>
            <a:ext cx="914400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El desempleo, el subempleo y el empleo precario redundaron en el aumento de la pobreza y la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El aumento de la desigualdad en el acceso a las ocupaciones y las brechas salariales están en la raíz de la creciente concentración de los ingresos famili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4960" y="1114560"/>
            <a:ext cx="8213760" cy="50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9120" y="1041480"/>
            <a:ext cx="8229600" cy="5119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6160" y="119160"/>
            <a:ext cx="899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volución del desempleo. Total de aglomerados urban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998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Elaboración propia en base a datos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08200" y="919080"/>
            <a:ext cx="6048360" cy="553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620720" y="1023840"/>
            <a:ext cx="12745800" cy="5834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6160" y="-100080"/>
            <a:ext cx="899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pacto del Plan Jefas y Jefes de Hogar sobre la tasa de desocupación Total 28 aglomerados urb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65235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nte: INDEC, en base a EPH continua 2003-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3:51:34Z</dcterms:created>
  <dc:creator>Flia</dc:creator>
  <dc:description/>
  <dc:language>en-US</dc:language>
  <cp:lastModifiedBy>JORGE</cp:lastModifiedBy>
  <dcterms:modified xsi:type="dcterms:W3CDTF">2006-06-28T22:24:42Z</dcterms:modified>
  <cp:revision>14</cp:revision>
  <dc:subject/>
  <dc:title>Diapositiva 1</dc:title>
</cp:coreProperties>
</file>