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21A-50A0-479D-B71F-D750E6A3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F89-0745-42B6-B112-4DBDE009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BBD-CC01-4FF7-B5E8-D633AFDE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2F9-92AD-4222-9BBA-C41CC05B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2484-F983-4322-85CE-27C0EF17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0A37-4742-4C4F-BB9B-4E570B05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58AA-4ABD-4BCD-958A-F7BE6F22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5347-1560-40DF-A578-D4A8521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3641-38F1-4B5F-A28C-887F6D4E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859E-C42E-4A26-90B8-CBE5F6DF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FEF9-FFA8-4584-92DB-72FD131C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670-8961-41C2-9AB6-0B44B985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BD1B-1093-4EFC-B54E-8B84B01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C478-2B95-4E03-9E59-5734D945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2E60-8E27-4BF1-A2A0-527368F7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7CA1-1091-4E3D-B4AF-EB79ACAF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904F-22A6-4CA6-A490-0B1C9745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117-167D-4583-A654-3EAE1342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06A-5F64-4E4F-BE04-AB518ACF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D35-7A35-4BB6-B364-40A017AD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FD9-F07B-467A-AB46-0C0F27BA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09B-30C0-497C-985C-97443B1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E40-5E44-4BA6-B107-2145552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32E-F572-44E0-B452-16441A5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4BFE-F3E0-4C5B-8C02-777618023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C96F-A81D-48A4-A706-156970161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160" y="19224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ff"/>
                </a:solidFill>
                <a:latin typeface="Verdana"/>
              </a:rPr>
              <a:t>El Patrón de Inserción Internacional de Argentina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9144000" cy="4648320"/>
          </a:xfrm>
          <a:prstGeom prst="rect">
            <a:avLst/>
          </a:prstGeom>
          <a:solidFill>
            <a:srgbClr val="1a3f5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ff"/>
                </a:solidFill>
                <a:latin typeface="Verdana"/>
              </a:rPr>
              <a:t>Lic. Marcela Crist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ff"/>
                </a:solidFill>
                <a:latin typeface="Verdana"/>
              </a:rPr>
              <a:t>Economista Sen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ff"/>
                </a:solidFill>
                <a:latin typeface="Verdana"/>
              </a:rPr>
              <a:t>F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ff"/>
                </a:solidFill>
                <a:latin typeface="Verdana"/>
              </a:rPr>
              <a:t>VII Congreso de Economía – CP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ffff"/>
                </a:solidFill>
                <a:latin typeface="Verdana"/>
              </a:rPr>
              <a:t>“</a:t>
            </a:r>
            <a:r>
              <a:rPr b="1" lang="es-AR" sz="2200" spc="-1" strike="noStrike">
                <a:solidFill>
                  <a:srgbClr val="ccffff"/>
                </a:solidFill>
                <a:latin typeface="Verdana"/>
              </a:rPr>
              <a:t>Argentina: Camino al bicentenario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ffff"/>
                </a:solidFill>
                <a:latin typeface="Verdana"/>
              </a:rPr>
              <a:t>Los desafíos de una nueva oportunidad histórica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ccffff"/>
                </a:solidFill>
                <a:latin typeface="Verdana"/>
              </a:rPr>
              <a:t>Junio 200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Pérdida de Competitividad Agroindustria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851040"/>
            <a:ext cx="883908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Reducción del Componente Tecnológico en las Exportaciones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6320" y="905040"/>
            <a:ext cx="853416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 y Brasil: Evolución de la productividad labora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-2971800" y="914400"/>
          <a:ext cx="12877920" cy="609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971800" y="914400"/>
                    <a:ext cx="12877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Inversión en CyT con escaso impacto en la TFP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Desempleo de Recursos Productivos – Mano de obra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444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798480"/>
            <a:ext cx="8915400" cy="6059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Desempleo de Recursos Productivos - Capita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Stock de Capita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320" y="868320"/>
            <a:ext cx="88390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PBI per Capita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5345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Economía Agroexportadora de Industrialización Intermedia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-76320" y="1295280"/>
          <a:ext cx="922032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295280"/>
                    <a:ext cx="9220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28600" y="1143000"/>
          <a:ext cx="8991720" cy="5791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143000"/>
                    <a:ext cx="8991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5200" y="685800"/>
            <a:ext cx="7283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Exportaciones Ne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7952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Estructura Productiva Actua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728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Estructura Exportadora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-914400" y="1066680"/>
          <a:ext cx="9982080" cy="5648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1066680"/>
                    <a:ext cx="998208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Diversificación MOI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76320" y="668160"/>
            <a:ext cx="922032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Destinos y Origenes en el Comercio Exterior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990720"/>
            <a:ext cx="7239240" cy="703800"/>
          </a:xfrm>
          <a:prstGeom prst="rect">
            <a:avLst/>
          </a:prstGeom>
          <a:solidFill>
            <a:srgbClr val="003366"/>
          </a:solidFill>
          <a:ln w="57240">
            <a:solidFill>
              <a:srgbClr val="ccffff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RINCIPALES DESTINOS DE EXPORT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(% del Total Export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2286000"/>
          <a:ext cx="8915400" cy="363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0"/>
                    <a:ext cx="891540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Destinos y Origenes en el Comercio Exterior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990720"/>
            <a:ext cx="7239240" cy="703800"/>
          </a:xfrm>
          <a:prstGeom prst="rect">
            <a:avLst/>
          </a:prstGeom>
          <a:solidFill>
            <a:srgbClr val="003366"/>
          </a:solidFill>
          <a:ln w="57240">
            <a:solidFill>
              <a:srgbClr val="ccffff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RINCIPALES ORIGENES DE IMPORT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(% del Total Import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2305080"/>
          <a:ext cx="8991360" cy="34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305080"/>
                    <a:ext cx="899136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Nuevos Pobres Estructurales? 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79848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8080"/>
            <a:ext cx="9144000" cy="6010560"/>
          </a:xfrm>
          <a:prstGeom prst="rect">
            <a:avLst/>
          </a:prstGeom>
          <a:gradFill rotWithShape="0">
            <a:gsLst>
              <a:gs pos="0">
                <a:srgbClr val="8583e3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ff"/>
                </a:solidFill>
                <a:latin typeface="Verdana"/>
              </a:rPr>
              <a:t>Argentina: Políticas para el Desarrollo.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003320"/>
            <a:ext cx="7620120" cy="5731560"/>
          </a:xfrm>
          <a:prstGeom prst="rect">
            <a:avLst/>
          </a:prstGeom>
          <a:solidFill>
            <a:srgbClr val="003366"/>
          </a:solidFill>
          <a:ln w="57240">
            <a:solidFill>
              <a:srgbClr val="ccffff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Actualmente, pobre desempeño de políticas microeconómicas en marco macroeconómico orden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l buen diseño de las políticas microeconómicas es esencial para 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La base económica del desarrollo es el aumento de la productiv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La movilización, fortalecimiento, acumulación de todos los recursos productivos bajo políticas públicas propicias genera aumento del bienes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7:27:43Z</dcterms:created>
  <dc:creator>Graciela Araujo Zambrano</dc:creator>
  <dc:description/>
  <dc:language>en-US</dc:language>
  <cp:lastModifiedBy>Fiel</cp:lastModifiedBy>
  <dcterms:modified xsi:type="dcterms:W3CDTF">2006-06-27T14:25:28Z</dcterms:modified>
  <cp:revision>9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91033</vt:lpwstr>
  </property>
</Properties>
</file>