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move the slide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5003B9-5FEF-47EB-B5D0-FB9F0338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F69EF2-8426-4A64-A367-ED80D129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0067F7-1456-4999-A359-9DB6326B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8732-E3BE-466C-BE64-AB251A320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9BF1-5248-4350-BB7E-F62B5F96E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250A-BBCF-4F69-91AC-C44A9E3B9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7219-0112-4060-B114-3E20AD75A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63EE-814B-41C3-934B-83A0D39C1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5F40-92B6-4FA6-8CB5-947D50D8AB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009C-5961-4AF2-80EC-D40CC8A407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3F4-9979-4A10-BCDD-895D73D46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A11E-0996-4014-AE11-30CD77AF95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D24-2C08-4E98-9B37-269E99ACB5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EA2-AC4F-4058-BC16-757FDA719B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963-AB69-459B-8E6F-AA9788D1E4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25D-FA7B-4404-A220-321412A823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CF5-D020-43C8-9388-42EB6B1F6D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10F-A06B-41C0-9817-37376C8255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8D0-B130-404F-BBC2-268299E4B9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9EE-F08B-437D-851E-B2A3E81D4E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AE4-4BF3-47A3-B8EC-723C3FA982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22A-4DED-46ED-B24C-1CA16E306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733A-4798-43C8-88D3-53408F4AB7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6B2-309F-4D84-87A3-DB5E7AE3C2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A0C9-D928-4717-8DAC-980E765166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ED208-5B6B-4861-B738-6D0F6F6B34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EB522-C924-4118-9DD6-343DC2A5A4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ED142-C986-4C2F-AFC5-E0FBD23AC7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C58B7-4686-4709-8D46-70BF2C3746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C0C1C-7BFD-4EFD-90E1-BC36D43BD9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A7B01-9846-4F47-8481-3741C717C9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729B-F745-4421-8765-904DC908A6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DC72B-BF62-4F94-9926-62B0F0EFE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D0F0-8125-4A47-974A-FC77838142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B671-6E7F-400C-8F64-6146B8FF6C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B4D81-E005-447A-80A7-FD72FB1326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6F3E-3BFE-4FC5-9561-4A419CC4C8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098D9-7919-4421-92C8-0765E28701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8FFD6-E2BF-48D6-B914-309B44B51B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C4641-FE3F-47E4-97E0-1ED67A52FA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7DF2B-86E6-4537-8C92-32218E2B61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82CFB2-9294-45D7-82A0-53E4626871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33151-2914-4678-B588-046D0D397B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6E85B-952B-40CC-9D41-1E8C6268A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5284-127C-40A1-83A7-59EA81E9DD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521BB-A70D-4B71-812F-82F751D618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722E3-B2C4-4A2F-8E75-01154A12B8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8063D-E9FF-443D-BA7E-B6DC4BDF6D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355BB-4D7C-43E4-B49F-4331487729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BF337-DA61-4D6A-847A-634C6FBF4A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2D4E-E093-4D02-98BC-502C9B3AB1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AEE2-1BEF-476F-BD80-42983159B0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2580-C6F8-45A9-9DE2-4B5902FE3F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9596-E0E6-403E-B85A-7673A944AD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1565-8E79-43F2-92DB-584CC02C9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A2A1-CF04-423F-A4EE-0F501CC1E0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76280" y="347760"/>
            <a:ext cx="844848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2FEE-822D-49B9-9136-6ECFDE2B4E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EF64-E20A-429F-B5E1-60820A4EF1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8DB3-70DC-4AD5-99C0-799D8361DA1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876F-D7C2-4CBE-99E1-A16A7C1640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722160" y="3835080"/>
            <a:ext cx="788832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7C51-1370-4D15-8149-25E3EE1623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64600" y="144576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2216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64600" y="3835080"/>
            <a:ext cx="384948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9021-C2AD-49EA-AB67-679D9E142F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76280" y="343440"/>
            <a:ext cx="84484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216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8940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56640" y="144576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72216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8940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56640" y="3835080"/>
            <a:ext cx="2539800" cy="21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5BBE-92D4-4935-902E-C1096121D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hyperlink" Target="http://www.hexacta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4344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3B8-C5EB-40FD-932A-25B63B983866}" type="slidenum">
              <a:rPr b="1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0" descr="isoLogoHx"/>
          <p:cNvPicPr/>
          <p:nvPr/>
        </p:nvPicPr>
        <p:blipFill>
          <a:blip r:embed="rId3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991040"/>
            <a:ext cx="9144000" cy="186696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9144000" cy="5922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 flipH="1">
            <a:off x="0" y="569880"/>
            <a:ext cx="179280" cy="62881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79280" y="592200"/>
            <a:ext cx="8964720" cy="0"/>
          </a:xfrm>
          <a:prstGeom prst="line">
            <a:avLst/>
          </a:prstGeom>
          <a:ln w="9360">
            <a:solidFill>
              <a:srgbClr val="0077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1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4" descr="logoHx"/>
          <p:cNvPicPr/>
          <p:nvPr/>
        </p:nvPicPr>
        <p:blipFill>
          <a:blip r:embed="rId2"/>
          <a:stretch/>
        </p:blipFill>
        <p:spPr>
          <a:xfrm>
            <a:off x="6543720" y="5621400"/>
            <a:ext cx="1947960" cy="43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logosTransparentes.gif"/>
          <p:cNvPicPr/>
          <p:nvPr/>
        </p:nvPicPr>
        <p:blipFill>
          <a:blip r:embed="rId3"/>
          <a:stretch/>
        </p:blipFill>
        <p:spPr>
          <a:xfrm>
            <a:off x="380880" y="5546880"/>
            <a:ext cx="4343400" cy="77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717480" y="2517840"/>
            <a:ext cx="34927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isoLogoHx"/>
          <p:cNvPicPr/>
          <p:nvPr/>
        </p:nvPicPr>
        <p:blipFill>
          <a:blip r:embed="rId2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976480" y="0"/>
            <a:ext cx="6167520" cy="621504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1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704880" y="1476360"/>
            <a:ext cx="1017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788"/>
                </a:solidFill>
                <a:latin typeface="Verdana"/>
              </a:rPr>
              <a:t>Agen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210360" y="0"/>
            <a:ext cx="2971800" cy="68580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logoHx"/>
          <p:cNvPicPr/>
          <p:nvPr/>
        </p:nvPicPr>
        <p:blipFill>
          <a:blip r:embed="rId2"/>
          <a:stretch/>
        </p:blipFill>
        <p:spPr>
          <a:xfrm>
            <a:off x="6973920" y="5813280"/>
            <a:ext cx="1436760" cy="32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30080" y="1752480"/>
            <a:ext cx="515628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rguibel 286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Buenos Aires (C1426DKB)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tel: 54+11+4779 640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BRASI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Cardoso de Melo 1470 – 8, Vila Olimpia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San Pablo (04548004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tel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55+11+3045 219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Roque Graseras 857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Montevideo (11300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tel: 598+2+711787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SA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2105 Sundance C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ston (20194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el:+703 842 945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hexacta.co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10" descr="isoLogoHx"/>
          <p:cNvPicPr/>
          <p:nvPr/>
        </p:nvPicPr>
        <p:blipFill>
          <a:blip r:embed="rId2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"/>
          </p:nvPr>
        </p:nvSpPr>
        <p:spPr>
          <a:xfrm>
            <a:off x="754344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5CC-AC92-445B-A803-E11A3946D981}" type="slidenum">
              <a:rPr b="1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4"/>
          </p:nvPr>
        </p:nvSpPr>
        <p:spPr>
          <a:xfrm>
            <a:off x="634680" y="6464160"/>
            <a:ext cx="289548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0" descr="isoLogoHx"/>
          <p:cNvPicPr/>
          <p:nvPr/>
        </p:nvPicPr>
        <p:blipFill>
          <a:blip r:embed="rId2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5"/>
          </p:nvPr>
        </p:nvSpPr>
        <p:spPr>
          <a:xfrm>
            <a:off x="754344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6CDB-B2B5-405C-9B69-AC3D15387E4F}" type="slidenum">
              <a:rPr b="1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6"/>
          </p:nvPr>
        </p:nvSpPr>
        <p:spPr>
          <a:xfrm>
            <a:off x="634680" y="6464160"/>
            <a:ext cx="289548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isoLogoHx"/>
          <p:cNvPicPr/>
          <p:nvPr/>
        </p:nvPicPr>
        <p:blipFill>
          <a:blip r:embed="rId2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7"/>
          </p:nvPr>
        </p:nvSpPr>
        <p:spPr>
          <a:xfrm>
            <a:off x="754344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C82-FD42-48B7-80EB-C3607350761C}" type="slidenum">
              <a:rPr b="1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8"/>
          </p:nvPr>
        </p:nvSpPr>
        <p:spPr>
          <a:xfrm>
            <a:off x="634680" y="6464160"/>
            <a:ext cx="289548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 flipH="1">
            <a:off x="0" y="0"/>
            <a:ext cx="179280" cy="596880"/>
          </a:xfrm>
          <a:prstGeom prst="rect">
            <a:avLst/>
          </a:prstGeom>
          <a:solidFill>
            <a:srgbClr val="0077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0" y="590400"/>
            <a:ext cx="179280" cy="62676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730080" y="6581880"/>
            <a:ext cx="60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Verdana"/>
              </a:rPr>
              <a:t>No imprima este documento si no es necesario. Protejamos el medio ambiente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10" descr="isoLogoHx"/>
          <p:cNvPicPr/>
          <p:nvPr/>
        </p:nvPicPr>
        <p:blipFill>
          <a:blip r:embed="rId2"/>
          <a:stretch/>
        </p:blipFill>
        <p:spPr>
          <a:xfrm>
            <a:off x="357120" y="6410160"/>
            <a:ext cx="185760" cy="258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54080" y="6184800"/>
            <a:ext cx="8989920" cy="619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730080" y="6373800"/>
            <a:ext cx="656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Verdana"/>
              </a:rPr>
              <a:t>Nombre de la presentación | Fech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8902800" y="6491160"/>
            <a:ext cx="42840" cy="177840"/>
          </a:xfrm>
          <a:prstGeom prst="rect">
            <a:avLst/>
          </a:prstGeom>
          <a:solidFill>
            <a:srgbClr val="c4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88"/>
                </a:solidFill>
                <a:latin typeface="HelveticaNeueLT Std"/>
              </a:rPr>
              <a:t>Click to edit the title text format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22160" y="1445760"/>
            <a:ext cx="78883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1" marL="4017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2" marL="6303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3" marL="8589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4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5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  <a:p>
            <a:pPr lvl="6" marL="1087560" indent="-173160">
              <a:spcBef>
                <a:spcPts val="3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NeueLT Std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9"/>
          </p:nvPr>
        </p:nvSpPr>
        <p:spPr>
          <a:xfrm>
            <a:off x="754344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896C-6A7A-4995-9FD0-9544B737FC05}" type="slidenum">
              <a:rPr b="1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0"/>
          </p:nvPr>
        </p:nvSpPr>
        <p:spPr>
          <a:xfrm>
            <a:off x="634680" y="6464160"/>
            <a:ext cx="289548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1800" y="1476000"/>
            <a:ext cx="4240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7788"/>
                </a:solidFill>
                <a:latin typeface="HelveticaNeueLT Std"/>
              </a:rPr>
              <a:t>Hexacta a través del tiempo</a:t>
            </a:r>
            <a:endParaRPr b="0" lang="en-US" sz="21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22160" y="2003040"/>
            <a:ext cx="53928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f7f7f"/>
                </a:solidFill>
                <a:latin typeface="HelveticaNeueLT Std"/>
              </a:rPr>
              <a:t>Diego Vigliarolo</a:t>
            </a:r>
            <a:endParaRPr b="0" lang="en-US" sz="1800" spc="-1" strike="noStrike">
              <a:solidFill>
                <a:srgbClr val="000000"/>
              </a:solidFill>
              <a:latin typeface="HelveticaNeueLT St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f7f7f"/>
                </a:solidFill>
                <a:latin typeface="HelveticaNeueLT Std"/>
              </a:rPr>
              <a:t>Agosto 2009</a:t>
            </a:r>
            <a:endParaRPr b="0" lang="en-US" sz="1800" spc="-1" strike="noStrike">
              <a:solidFill>
                <a:srgbClr val="000000"/>
              </a:solidFill>
              <a:latin typeface="HelveticaNeueLT St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NeueLT Std"/>
            </a:endParaRPr>
          </a:p>
        </p:txBody>
      </p:sp>
      <p:pic>
        <p:nvPicPr>
          <p:cNvPr id="383" name="Picture 7" descr="portadaTop.jpg"/>
          <p:cNvPicPr/>
          <p:nvPr/>
        </p:nvPicPr>
        <p:blipFill>
          <a:blip r:embed="rId1"/>
          <a:stretch/>
        </p:blipFill>
        <p:spPr>
          <a:xfrm>
            <a:off x="5224320" y="905040"/>
            <a:ext cx="3434040" cy="192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portadaBottom.jpg"/>
          <p:cNvPicPr/>
          <p:nvPr/>
        </p:nvPicPr>
        <p:blipFill>
          <a:blip r:embed="rId2"/>
          <a:stretch/>
        </p:blipFill>
        <p:spPr>
          <a:xfrm>
            <a:off x="5214960" y="2986200"/>
            <a:ext cx="34336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6280" y="347760"/>
            <a:ext cx="844848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788"/>
                </a:solidFill>
                <a:latin typeface="HelveticaNeueLT Std"/>
              </a:rPr>
              <a:t>Agenda para hoy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86280" y="1045800"/>
            <a:ext cx="493704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Somos una empresa de Consultoría en Tecnología y Desarrollo de Software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Sumamos cerca de 200 personas, en nuestras oficinas de Buenos Aires, Bahía Blanca (Provincia de Buenos Aires), Paraná (Entre Ríos), Montevideo (Uruguay) y São Paulo (Brasil)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Trabajamos para grandes corporaciones de la región, EE.UU. y Europa, en proyectos en donde se requieran capacidades tecnológicas de punta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Aproximadamente el 70% de la facturación de Argentina proviene de trabajos para empresas del extranjero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Nuestro principal foco son los proyectos de desarrollo de software en dos plataformas: Java y  Microsoft  .Net (somos “Microsoft Gold Partners desde el año 2002)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  <a:p>
            <a:pPr marL="178560" indent="-178560">
              <a:lnSpc>
                <a:spcPts val="1500"/>
              </a:lnSpc>
              <a:spcBef>
                <a:spcPts val="300"/>
              </a:spcBef>
              <a:spcAft>
                <a:spcPts val="300"/>
              </a:spcAft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HelveticaNeueLT Std"/>
              </a:rPr>
              <a:t>Empleamos profesionales de las carreras de sistemas, diseño gráfico, económicas e ingeniería.</a:t>
            </a:r>
            <a:endParaRPr b="0" lang="en-US" sz="1200" spc="-1" strike="noStrike">
              <a:solidFill>
                <a:srgbClr val="000000"/>
              </a:solidFill>
              <a:latin typeface="HelveticaNeueLT Std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543800" y="6364440"/>
            <a:ext cx="1398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E820-AFA6-4DF0-AB61-3EB6D9E1420A}" type="slidenum">
              <a:rPr b="1" lang="en-US" sz="14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6280" y="639360"/>
            <a:ext cx="844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7f7f7f"/>
              </a:solidFill>
              <a:latin typeface="HelveticaNeueLT Std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462480" y="2041560"/>
            <a:ext cx="5046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3040" indent="-203040">
              <a:lnSpc>
                <a:spcPts val="15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03040" indent="-203040">
              <a:lnSpc>
                <a:spcPts val="15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0" descr="oficinas.png"/>
          <p:cNvPicPr/>
          <p:nvPr/>
        </p:nvPicPr>
        <p:blipFill>
          <a:blip r:embed="rId12"/>
          <a:stretch/>
        </p:blipFill>
        <p:spPr>
          <a:xfrm>
            <a:off x="644400" y="1047600"/>
            <a:ext cx="276696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6280" y="166320"/>
            <a:ext cx="8448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788"/>
                </a:solidFill>
                <a:latin typeface="HelveticaNeueLT Std"/>
              </a:rPr>
              <a:t>Etapas de Hexacta</a:t>
            </a:r>
            <a:endParaRPr b="0" lang="en-US" sz="2000" spc="-1" strike="noStrike">
              <a:solidFill>
                <a:srgbClr val="007788"/>
              </a:solidFill>
              <a:latin typeface="HelveticaNeueLT Std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34880" y="706320"/>
          <a:ext cx="8434440" cy="5005440"/>
        </p:xfrm>
        <a:graphic>
          <a:graphicData uri="http://schemas.openxmlformats.org/drawingml/2006/table">
            <a:tbl>
              <a:tblPr/>
              <a:tblGrid>
                <a:gridCol w="978120"/>
                <a:gridCol w="1177920"/>
                <a:gridCol w="1251000"/>
                <a:gridCol w="1228680"/>
                <a:gridCol w="1295280"/>
                <a:gridCol w="1219320"/>
                <a:gridCol w="128412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La burbuja de internet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Los años de oro de la Colonia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La crisis Argentina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La Nueva Hexacta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Los años de crecimiento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“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Incertidumbre y precaución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78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Tipo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47d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ortales B2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imeros clientes loc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mpresas español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mpresas locales crecen en relev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 gridSpan="2">
                  <a:txBody>
                    <a:bodyPr lIns="72000" rIns="72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mpresas loc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xportación de servicios a Méjico, USA, Brasil y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mpresas loc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Foco en la expor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RRH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47d86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Stock Option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imeras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valu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Mento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lan de carr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z</a:t>
                      </a:r>
                      <a:r>
                        <a:rPr b="0" lang="es-AR" sz="9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zz</a:t>
                      </a:r>
                      <a:r>
                        <a:rPr b="0" lang="es-AR" sz="8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zzz…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gridSpan="2">
                  <a:txBody>
                    <a:bodyPr lIns="72000" rIns="72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“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oniendo la casa en orden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ompens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ultura Hexac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Gestión de ge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GPT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recimi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De  la “Lucha por recursos” al Desaceler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47d86"/>
                    </a:solidFill>
                  </a:tcPr>
                </a:tc>
                <a:tc>
                  <a:txBody>
                    <a:bodyPr lIns="36000" rIns="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Definición de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esentaciones 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imeros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Brasil y Méj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>
                  <a:txBody>
                    <a:bodyPr lIns="36000" rIns="72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Foco en presentaciones y prop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imeros proyectos gr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Nueva imagen corpo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Material promo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Intento Mad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Redefinición de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El inicio de las expor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Se cierra Méj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“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oniendo la casa en orden II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Proces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Herrami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apacitación de ger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Socios de negocios en el exter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HelveticaNeueLT Std"/>
                        </a:rPr>
                        <a:t>Metod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47d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Metodología Hexac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Desarrollo a dis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MM Nivel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MM Nivel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ISO 9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elveticaNeueLT St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HelveticaNeueLT Std"/>
                        </a:rPr>
                        <a:t>CMMI Nivel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ed"/>
                    </a:solidFill>
                  </a:tcPr>
                </a:tc>
              </a:tr>
            </a:tbl>
          </a:graphicData>
        </a:graphic>
      </p:graphicFrame>
      <p:sp>
        <p:nvSpPr>
          <p:cNvPr id="393" name="Straight Connector 8"/>
          <p:cNvSpPr/>
          <p:nvPr/>
        </p:nvSpPr>
        <p:spPr>
          <a:xfrm flipV="1">
            <a:off x="793800" y="1314000"/>
            <a:ext cx="8075520" cy="9720"/>
          </a:xfrm>
          <a:prstGeom prst="line">
            <a:avLst/>
          </a:prstGeom>
          <a:ln w="57240">
            <a:solidFill>
              <a:srgbClr val="a1c14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051560" y="493560"/>
            <a:ext cx="63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Dic.’9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11200" y="493560"/>
            <a:ext cx="65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Oct.’0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591720" y="493560"/>
            <a:ext cx="63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Dic.’0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822560" y="49356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Feb.’0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8470440" y="49356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Ho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6079320" y="493560"/>
            <a:ext cx="63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Dic.’0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7286760" y="493560"/>
            <a:ext cx="72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HelveticaNeueLT Std"/>
              </a:rPr>
              <a:t>Sept.’08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Chart 17" descr=""/>
          <p:cNvPicPr/>
          <p:nvPr/>
        </p:nvPicPr>
        <p:blipFill>
          <a:blip r:embed="rId2"/>
          <a:stretch/>
        </p:blipFill>
        <p:spPr>
          <a:xfrm>
            <a:off x="4565520" y="3560760"/>
            <a:ext cx="4365720" cy="1670040"/>
          </a:xfrm>
          <a:prstGeom prst="rect">
            <a:avLst/>
          </a:prstGeom>
          <a:ln w="0">
            <a:noFill/>
          </a:ln>
        </p:spPr>
      </p:pic>
      <p:pic>
        <p:nvPicPr>
          <p:cNvPr id="402" name="Chart 18" descr=""/>
          <p:cNvPicPr/>
          <p:nvPr/>
        </p:nvPicPr>
        <p:blipFill>
          <a:blip r:embed="rId3"/>
          <a:stretch/>
        </p:blipFill>
        <p:spPr>
          <a:xfrm>
            <a:off x="4529160" y="2212920"/>
            <a:ext cx="4402080" cy="1639800"/>
          </a:xfrm>
          <a:prstGeom prst="rect">
            <a:avLst/>
          </a:prstGeom>
          <a:ln w="0">
            <a:noFill/>
          </a:ln>
        </p:spPr>
      </p:pic>
      <p:sp>
        <p:nvSpPr>
          <p:cNvPr id="403" name="Straight Connector 21"/>
          <p:cNvSpPr/>
          <p:nvPr/>
        </p:nvSpPr>
        <p:spPr>
          <a:xfrm>
            <a:off x="5429160" y="2666880"/>
            <a:ext cx="0" cy="695520"/>
          </a:xfrm>
          <a:prstGeom prst="line">
            <a:avLst/>
          </a:prstGeom>
          <a:ln w="9360">
            <a:solidFill>
              <a:srgbClr val="00778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bdc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3"/>
          <p:cNvSpPr/>
          <p:nvPr/>
        </p:nvSpPr>
        <p:spPr>
          <a:xfrm flipV="1">
            <a:off x="2413080" y="0"/>
            <a:ext cx="0" cy="6858000"/>
          </a:xfrm>
          <a:prstGeom prst="line">
            <a:avLst/>
          </a:prstGeom>
          <a:ln w="1260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562680" y="6523200"/>
            <a:ext cx="1389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d6d6"/>
                </a:solidFill>
                <a:latin typeface="Verdana"/>
              </a:rPr>
              <a:t>www.hexacta.co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C:\hexacta\nueva imagen\logo.tif"/>
          <p:cNvPicPr/>
          <p:nvPr/>
        </p:nvPicPr>
        <p:blipFill>
          <a:blip r:embed="rId1"/>
          <a:srcRect l="0" t="0" r="76337" b="0"/>
          <a:stretch/>
        </p:blipFill>
        <p:spPr>
          <a:xfrm>
            <a:off x="1093680" y="2894040"/>
            <a:ext cx="327240" cy="42552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6"/>
          <p:cNvGrpSpPr/>
          <p:nvPr/>
        </p:nvGrpSpPr>
        <p:grpSpPr>
          <a:xfrm>
            <a:off x="6375240" y="1833480"/>
            <a:ext cx="2210040" cy="819360"/>
            <a:chOff x="6375240" y="1833480"/>
            <a:chExt cx="2210040" cy="819360"/>
          </a:xfrm>
        </p:grpSpPr>
        <p:sp>
          <p:nvSpPr>
            <p:cNvPr id="409" name="Text Box 7"/>
            <p:cNvSpPr/>
            <p:nvPr/>
          </p:nvSpPr>
          <p:spPr>
            <a:xfrm>
              <a:off x="6375240" y="2058840"/>
              <a:ext cx="2210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Arguibel 2860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Capital Federal  (C1426DKB)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tel: 54+11+4779 6400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8"/>
            <p:cNvSpPr/>
            <p:nvPr/>
          </p:nvSpPr>
          <p:spPr>
            <a:xfrm>
              <a:off x="6375240" y="1833480"/>
              <a:ext cx="22100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ARGENTIN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oup 9"/>
          <p:cNvGrpSpPr/>
          <p:nvPr/>
        </p:nvGrpSpPr>
        <p:grpSpPr>
          <a:xfrm>
            <a:off x="6375240" y="3021120"/>
            <a:ext cx="2210040" cy="986760"/>
            <a:chOff x="6375240" y="3021120"/>
            <a:chExt cx="2210040" cy="986760"/>
          </a:xfrm>
        </p:grpSpPr>
        <p:sp>
          <p:nvSpPr>
            <p:cNvPr id="412" name="Text Box 10"/>
            <p:cNvSpPr/>
            <p:nvPr/>
          </p:nvSpPr>
          <p:spPr>
            <a:xfrm>
              <a:off x="6375240" y="3246480"/>
              <a:ext cx="221004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Cardoso de Melo 1470 - 8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Vila Olimpia | San Pabl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CEP (04548004)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tel: </a:t>
              </a:r>
              <a:r>
                <a:rPr b="0" lang="en-US" sz="1100" spc="-1" strike="noStrike">
                  <a:solidFill>
                    <a:srgbClr val="d6d6d6"/>
                  </a:solidFill>
                  <a:latin typeface="Verdana"/>
                  <a:ea typeface="Times New Roman"/>
                </a:rPr>
                <a:t>55+11+3045 2193</a:t>
              </a:r>
              <a:r>
                <a:rPr b="0" lang="en-US" sz="1100" spc="-1" strike="noStrike">
                  <a:solidFill>
                    <a:srgbClr val="d6d6d6"/>
                  </a:solidFill>
                  <a:latin typeface="Verdana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6375240" y="3021120"/>
              <a:ext cx="22100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BRASIL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6375240" y="4210200"/>
            <a:ext cx="2362320" cy="1154160"/>
            <a:chOff x="6375240" y="4210200"/>
            <a:chExt cx="2362320" cy="1154160"/>
          </a:xfrm>
        </p:grpSpPr>
        <p:sp>
          <p:nvSpPr>
            <p:cNvPr id="415" name="Text Box 13"/>
            <p:cNvSpPr/>
            <p:nvPr/>
          </p:nvSpPr>
          <p:spPr>
            <a:xfrm>
              <a:off x="6375240" y="4435560"/>
              <a:ext cx="23623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d6d6d6"/>
                  </a:solidFill>
                  <a:latin typeface="Verdana"/>
                </a:rPr>
                <a:t>Homero 527, 6o Piso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d6d6d6"/>
                  </a:solidFill>
                  <a:latin typeface="Verdana"/>
                </a:rPr>
                <a:t>Colonia Chapultepec Morales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d6d6d6"/>
                  </a:solidFill>
                  <a:latin typeface="Verdana"/>
                </a:rPr>
                <a:t>México DF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d6d6d6"/>
                  </a:solidFill>
                  <a:latin typeface="Verdana"/>
                </a:rPr>
                <a:t>11560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d6d6d6"/>
                  </a:solidFill>
                  <a:latin typeface="Verdana"/>
                </a:rPr>
                <a:t>tel: 52+55+5097 7000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375240" y="4210200"/>
              <a:ext cx="22100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MEXIC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oup 15"/>
          <p:cNvGrpSpPr/>
          <p:nvPr/>
        </p:nvGrpSpPr>
        <p:grpSpPr>
          <a:xfrm>
            <a:off x="6375240" y="5567400"/>
            <a:ext cx="2362320" cy="987120"/>
            <a:chOff x="6375240" y="5567400"/>
            <a:chExt cx="2362320" cy="987120"/>
          </a:xfrm>
        </p:grpSpPr>
        <p:sp>
          <p:nvSpPr>
            <p:cNvPr id="418" name="Text Box 16"/>
            <p:cNvSpPr/>
            <p:nvPr/>
          </p:nvSpPr>
          <p:spPr>
            <a:xfrm>
              <a:off x="6375240" y="5793120"/>
              <a:ext cx="236232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Avda de San Luis 25-27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Edificio 2 Planta -1 | Madrid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(28033)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tel: 34+91+558 6300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Text Box 17"/>
            <p:cNvSpPr/>
            <p:nvPr/>
          </p:nvSpPr>
          <p:spPr>
            <a:xfrm>
              <a:off x="6375240" y="5567400"/>
              <a:ext cx="22100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d6d6d6"/>
                  </a:solidFill>
                  <a:latin typeface="Verdana"/>
                </a:rPr>
                <a:t>ESPAÑ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14:55:32Z</dcterms:created>
  <dc:creator>Hexacta</dc:creator>
  <dc:description/>
  <dc:language>en-US</dc:language>
  <cp:lastModifiedBy>CPCEACABA</cp:lastModifiedBy>
  <dcterms:modified xsi:type="dcterms:W3CDTF">2009-09-02T14:34:57Z</dcterms:modified>
  <cp:revision>556</cp:revision>
  <dc:subject/>
  <dc:title>PowerPoint Presentation</dc:title>
</cp:coreProperties>
</file>