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5CE-60BA-4D6B-8E62-549847A2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4A4-4078-4979-B621-E971DA18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272-CDC6-45FE-9D09-5578B91B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9A0-2FE4-4234-9631-FB0B1DEF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22F-6257-4B3E-A153-CF683B0D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7A4-D065-4D63-82D7-01C3ED69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2CE-D925-4457-9DAF-9DCA0AF2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7C0-D869-41E8-80C3-E7E45BA1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720-0E61-46C6-87F3-59DA81CE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B92-58CC-4873-9E2E-84694F8F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D67-9479-474E-886D-F3D9DF06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D71-0162-48D1-8C3C-7BFF0BF0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C2F0-5F02-4FC6-A995-FEC2BEA8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n 3" descr="Plantilla Promo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3280" y="1801800"/>
            <a:ext cx="4127760" cy="3211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65600" cy="3498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348156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54080" y="1941480"/>
            <a:ext cx="52819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21:50:14Z</dcterms:created>
  <dc:creator>Tito Loizeau</dc:creator>
  <dc:description/>
  <dc:language>en-US</dc:language>
  <cp:lastModifiedBy>Tito Loizeau</cp:lastModifiedBy>
  <dcterms:modified xsi:type="dcterms:W3CDTF">2009-08-26T17:40:25Z</dcterms:modified>
  <cp:revision>33</cp:revision>
  <dc:subject/>
  <dc:title>Diapositiva 1</dc:title>
</cp:coreProperties>
</file>