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9E07D-FE87-4064-9294-C2AD6B304AB9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031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0333B-8F3A-46D9-B77E-738FEC757D31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031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23FB2-6888-4418-8B66-CF6400621DA4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031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F5DD4-16DB-40BC-BC4C-D17AE4246824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031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68A36-A3F0-44C1-8551-0F979DA708DC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A18-ACC3-42FC-8553-E9CABE64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ED4-269E-4E16-97B4-005DB5DF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4E3-23EC-4B37-BEDB-67760C81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881-25AF-4EF4-AB9F-B7B17F6B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E00D-FF0A-4C2A-A933-E8F96A50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443C-29C1-4F62-B4A3-A3E95414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7FE8-D3F1-4F0A-9A4D-1E026D9E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9145-999E-4E15-8333-00ECD524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23C9-E983-4F0B-84E0-31FCAE66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B590-210F-4787-88DB-693E581E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5DA6-E22E-46BB-AE71-436005CE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8F8-B186-4FDE-9A2C-73B136E6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99C6-6151-4392-A750-92755BF5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D5FA-ADA0-47FD-82CB-C99D3C5C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64DE-037A-4847-944F-8B1F97BA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815D-94BB-4C4A-B970-AD25F52A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6E28-FE80-4544-BEA2-F9FD71D3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91307-7A8A-487D-9328-263BBCC3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4FB3-632E-46AD-8ABD-92E20021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2BD6-2CF6-4435-BBA3-DF3C1509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D7E2-27E2-4424-A080-C3FC4DA4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1369-2B56-4900-9A7A-1C6318D9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988-D0D8-48C6-8E0F-BF102BCA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3BAA7-202D-44D4-A177-5500D5CA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8305-371A-4C2B-9883-CA0A8831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BF5F3-D265-4AE2-9C39-2E2C9C3C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BE936-8E03-4CC1-91E2-A4DEA4D9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2865-7EDB-4855-A5EF-D8ADFB4C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DC736-67A3-4CE3-9BCE-74CD7FAB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CD4C-9738-48F9-92ED-F52EFC3F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D58-35D5-42CE-A0BC-98A9E455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528-9E74-4E32-A406-8DE79B5C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E0F-892C-4687-8F0F-03800D51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8AD-DD51-45B4-AA5C-1505324E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957-73E8-4352-9BB5-C7E52F82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129-D53D-4584-928F-82D38AD4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6346-2D27-4E76-91E9-5A8CB6D05B9E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5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A26E-6370-4FC1-B77D-9D85CD9459C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2a42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7524720" y="154080"/>
            <a:ext cx="1406520" cy="61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Picture 12" descr="logo"/>
          <p:cNvPicPr/>
          <p:nvPr/>
        </p:nvPicPr>
        <p:blipFill>
          <a:blip r:embed="rId3"/>
          <a:stretch/>
        </p:blipFill>
        <p:spPr>
          <a:xfrm>
            <a:off x="0" y="0"/>
            <a:ext cx="971640" cy="704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0F69-EACC-4617-BE4C-62DBFA7D3D04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mmanson@portalrh.com.ar" TargetMode="External"/><Relationship Id="rId2" Type="http://schemas.openxmlformats.org/officeDocument/2006/relationships/hyperlink" Target="http://www.portalrh.com.ar/" TargetMode="External"/><Relationship Id="rId3" Type="http://schemas.openxmlformats.org/officeDocument/2006/relationships/hyperlink" Target="http://www.busquedasrh.com.ar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539640" y="4005360"/>
            <a:ext cx="8209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611280" y="5157720"/>
            <a:ext cx="7861320" cy="1330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468360" y="609300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28 de Agosto de 2009</a:t>
            </a:r>
            <a:endParaRPr b="0" lang="en-US" sz="1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28760" y="207180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V Encuentro de Jóvenes Profesionales en Ciencias Económicas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143680" y="4500720"/>
            <a:ext cx="378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udio A. Fernaud</a:t>
            </a: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39" name="Picture 8" descr="CPCECABA.JPG"/>
          <p:cNvPicPr/>
          <p:nvPr/>
        </p:nvPicPr>
        <p:blipFill>
          <a:blip r:embed="rId2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2"/>
          <p:cNvSpPr/>
          <p:nvPr/>
        </p:nvSpPr>
        <p:spPr>
          <a:xfrm>
            <a:off x="1905120" y="1357200"/>
            <a:ext cx="55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stilo de Conducción</a:t>
            </a: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14200" y="2428920"/>
          <a:ext cx="2806920" cy="1619280"/>
        </p:xfrm>
        <a:graphic>
          <a:graphicData uri="http://schemas.openxmlformats.org/drawingml/2006/table">
            <a:tbl>
              <a:tblPr/>
              <a:tblGrid>
                <a:gridCol w="2806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erior</a:t>
                      </a:r>
                      <a:endParaRPr b="0" lang="en-US" sz="21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ministrador eficiente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214800" y="2357280"/>
          <a:ext cx="2717640" cy="1838520"/>
        </p:xfrm>
        <a:graphic>
          <a:graphicData uri="http://schemas.openxmlformats.org/drawingml/2006/table">
            <a:tbl>
              <a:tblPr/>
              <a:tblGrid>
                <a:gridCol w="271764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iente</a:t>
                      </a:r>
                      <a:endParaRPr b="0" lang="en-US" sz="21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derazgo y coordinación de equipos de trabajo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6362640" y="2357280"/>
          <a:ext cx="2781360" cy="2103480"/>
        </p:xfrm>
        <a:graphic>
          <a:graphicData uri="http://schemas.openxmlformats.org/drawingml/2006/table">
            <a:tbl>
              <a:tblPr/>
              <a:tblGrid>
                <a:gridCol w="27813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ual</a:t>
                      </a:r>
                      <a:endParaRPr b="0" lang="en-US" sz="21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rendedor y dirigido a resultados de corto y largo plazo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4" name="Picture 5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14200" y="2000160"/>
            <a:ext cx="30718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Anterior</a:t>
            </a:r>
            <a:endParaRPr b="0" lang="en-US" sz="21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bjetivo Empresario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Hacer lo mismo con mayor eficiencia.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bjetivo del Negocio: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Vender servicios y productos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43160" y="2000160"/>
            <a:ext cx="3048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Reciente</a:t>
            </a:r>
            <a:endParaRPr b="0" lang="en-US" sz="21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mpetitividad en base a productos de calidad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tisfacer necesidades del mercado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172200" y="1928880"/>
            <a:ext cx="2971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000000"/>
                </a:solidFill>
                <a:latin typeface="Verdana"/>
              </a:rPr>
              <a:t>Actual</a:t>
            </a:r>
            <a:endParaRPr b="0" lang="en-US" sz="21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Innovación 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Segmentación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Estrategia de Nicho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mpresa dirigida al cliente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571680" y="1285920"/>
            <a:ext cx="76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tivos de las Organizaciones</a:t>
            </a: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89" name="Picture 6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1266120" y="2928960"/>
            <a:ext cx="667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¿Cómo evolucionan y se adaptan las personas?</a:t>
            </a: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91" name="Picture 2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928960" y="1357200"/>
            <a:ext cx="26128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Técnico -Profesionales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86280" y="1428840"/>
            <a:ext cx="23227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Humanísticas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3116160" y="1432080"/>
            <a:ext cx="4645080" cy="3771720"/>
            <a:chOff x="3116160" y="1432080"/>
            <a:chExt cx="4645080" cy="3771720"/>
          </a:xfrm>
        </p:grpSpPr>
        <p:sp>
          <p:nvSpPr>
            <p:cNvPr id="195" name="Line 5"/>
            <p:cNvSpPr/>
            <p:nvPr/>
          </p:nvSpPr>
          <p:spPr>
            <a:xfrm>
              <a:off x="5437080" y="1432080"/>
              <a:ext cx="0" cy="37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>
              <a:off x="3116160" y="3317760"/>
              <a:ext cx="464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sp>
        <p:nvSpPr>
          <p:cNvPr id="197" name="Rectangle 7"/>
          <p:cNvSpPr/>
          <p:nvPr/>
        </p:nvSpPr>
        <p:spPr>
          <a:xfrm>
            <a:off x="3429000" y="4786200"/>
            <a:ext cx="1365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Básicas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6000840" y="4786200"/>
            <a:ext cx="1914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Vivenciales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357120" y="2214720"/>
            <a:ext cx="2187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Habilidades</a:t>
            </a:r>
            <a:endParaRPr b="0" lang="en-US" sz="21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366840" y="3929040"/>
            <a:ext cx="34909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Características de Personalidad</a:t>
            </a:r>
            <a:endParaRPr b="0" lang="en-US" sz="21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01" name="Picture 10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045"/>
          <p:cNvSpPr/>
          <p:nvPr/>
        </p:nvSpPr>
        <p:spPr>
          <a:xfrm>
            <a:off x="1500120" y="571680"/>
            <a:ext cx="563904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Búsqueda De Resultados Con Excelencia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03" name="Text Box 1046" descr=""/>
          <p:cNvPicPr/>
          <p:nvPr/>
        </p:nvPicPr>
        <p:blipFill>
          <a:blip r:embed="rId1"/>
          <a:stretch/>
        </p:blipFill>
        <p:spPr>
          <a:xfrm>
            <a:off x="987480" y="6272280"/>
            <a:ext cx="7388280" cy="341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47"/>
          <p:cNvSpPr/>
          <p:nvPr/>
        </p:nvSpPr>
        <p:spPr>
          <a:xfrm>
            <a:off x="1214280" y="1428840"/>
            <a:ext cx="3800520" cy="21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III - TECNICO PROFESIONALES</a:t>
            </a:r>
            <a:endParaRPr b="0" lang="en-US" sz="11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lnSpc>
                <a:spcPct val="85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 lvl="1" marL="4572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Educación Formal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4572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Expertise (Pericia / Idoneidad)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4572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Conocimientos sobre: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2" marL="9144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el negocio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2" marL="9144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el mercado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2" marL="9144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procesos tecnológicos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2" marL="9144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planeamiento estratégico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2" marL="9144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control de resultados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2" marL="9144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5" name="Text Box 1048"/>
          <p:cNvSpPr/>
          <p:nvPr/>
        </p:nvSpPr>
        <p:spPr>
          <a:xfrm>
            <a:off x="1214280" y="3500280"/>
            <a:ext cx="281952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Verdana"/>
            </a:endParaRPr>
          </a:p>
          <a:p>
            <a:pPr lvl="1" marL="4572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Inteligencia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4572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Creatividad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4572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Identidad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4572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Autoestima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4572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Deseo de saber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4572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Adaptación al medio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4572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Tenacidad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45720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Tolerancia a la frustración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457200">
              <a:lnSpc>
                <a:spcPct val="85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I - BASICAS</a:t>
            </a:r>
            <a:endParaRPr b="0" lang="en-US" sz="11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6" name="Text Box 1049"/>
          <p:cNvSpPr/>
          <p:nvPr/>
        </p:nvSpPr>
        <p:spPr>
          <a:xfrm>
            <a:off x="5000760" y="1143000"/>
            <a:ext cx="28191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IV - HUMANISTICAS</a:t>
            </a:r>
            <a:endParaRPr b="0" lang="en-US" sz="11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lnSpc>
                <a:spcPct val="85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Conducción y liderazgo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Resolución de problemas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Facilitador del cambio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Implementación ejecutiva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Delegación y empowerment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Orientación a los resultados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7" name="Text Box 1050"/>
          <p:cNvSpPr/>
          <p:nvPr/>
        </p:nvSpPr>
        <p:spPr>
          <a:xfrm>
            <a:off x="4572000" y="3429000"/>
            <a:ext cx="3998880" cy="25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3520" indent="-88920">
              <a:lnSpc>
                <a:spcPct val="85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533520" indent="-8892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Inteligencia emocional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533520" indent="-8892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Ética y moral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533520" indent="-8892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Comunicación y relaciones interpersonales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533520" indent="-8892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Flexibilidad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533520" indent="-8892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Visión estratégica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533520" indent="-8892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Tolerancia a la incertidumbre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533520" indent="-8892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Ambición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533520" indent="-8892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Capacidad de autocrítica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533520" indent="-88920">
              <a:lnSpc>
                <a:spcPct val="85000"/>
              </a:lnSpc>
              <a:spcAft>
                <a:spcPts val="162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Conocimiento de potencial y limitaciones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  <a:p>
            <a:pPr lvl="1" marL="533520" indent="-88920">
              <a:lnSpc>
                <a:spcPct val="80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II - VIVENCIALES</a:t>
            </a:r>
            <a:endParaRPr b="0" lang="en-US" sz="11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8" name="Text Box 1051"/>
          <p:cNvSpPr/>
          <p:nvPr/>
        </p:nvSpPr>
        <p:spPr>
          <a:xfrm>
            <a:off x="142920" y="2071800"/>
            <a:ext cx="24289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Habilidades</a:t>
            </a:r>
            <a:endParaRPr b="0" lang="en-US" sz="1300" spc="-1" strike="noStrike">
              <a:solidFill>
                <a:srgbClr val="ffff99"/>
              </a:solidFill>
              <a:latin typeface="Verdana"/>
            </a:endParaRPr>
          </a:p>
        </p:txBody>
      </p:sp>
      <p:grpSp>
        <p:nvGrpSpPr>
          <p:cNvPr id="209" name="Group 1052"/>
          <p:cNvGrpSpPr/>
          <p:nvPr/>
        </p:nvGrpSpPr>
        <p:grpSpPr>
          <a:xfrm>
            <a:off x="0" y="4000680"/>
            <a:ext cx="2286000" cy="1109160"/>
            <a:chOff x="0" y="4000680"/>
            <a:chExt cx="2286000" cy="1109160"/>
          </a:xfrm>
        </p:grpSpPr>
        <p:sp>
          <p:nvSpPr>
            <p:cNvPr id="210" name="Text Box 1053"/>
            <p:cNvSpPr/>
            <p:nvPr/>
          </p:nvSpPr>
          <p:spPr>
            <a:xfrm>
              <a:off x="0" y="4000680"/>
              <a:ext cx="20001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Características </a:t>
              </a:r>
              <a:endParaRPr b="0" lang="en-US" sz="13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11" name="Text Box 1054"/>
            <p:cNvSpPr/>
            <p:nvPr/>
          </p:nvSpPr>
          <p:spPr>
            <a:xfrm>
              <a:off x="142920" y="4428720"/>
              <a:ext cx="21430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90480" indent="-690480">
                <a:lnSpc>
                  <a:spcPct val="85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De</a:t>
              </a:r>
              <a:endParaRPr b="0" lang="en-US" sz="1300" spc="-1" strike="noStrike">
                <a:solidFill>
                  <a:srgbClr val="ffff99"/>
                </a:solidFill>
                <a:latin typeface="Verdana"/>
              </a:endParaRPr>
            </a:p>
            <a:p>
              <a:pPr marL="690480" indent="-690480">
                <a:lnSpc>
                  <a:spcPct val="85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99"/>
                </a:solidFill>
                <a:latin typeface="Verdana"/>
              </a:endParaRPr>
            </a:p>
            <a:p>
              <a:pPr marL="690480" indent="-690480">
                <a:lnSpc>
                  <a:spcPct val="85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Personalidad</a:t>
              </a:r>
              <a:endParaRPr b="0" lang="en-US" sz="13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sp>
        <p:nvSpPr>
          <p:cNvPr id="212" name="Line 1055"/>
          <p:cNvSpPr/>
          <p:nvPr/>
        </p:nvSpPr>
        <p:spPr>
          <a:xfrm>
            <a:off x="1214280" y="357192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3" name="Line 1056"/>
          <p:cNvSpPr/>
          <p:nvPr/>
        </p:nvSpPr>
        <p:spPr>
          <a:xfrm flipV="1">
            <a:off x="4643280" y="12859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4" name="Line 1057"/>
          <p:cNvSpPr/>
          <p:nvPr/>
        </p:nvSpPr>
        <p:spPr>
          <a:xfrm flipH="1">
            <a:off x="5500800" y="6072120"/>
            <a:ext cx="428400" cy="21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pSp>
        <p:nvGrpSpPr>
          <p:cNvPr id="215" name="Group 1058"/>
          <p:cNvGrpSpPr/>
          <p:nvPr/>
        </p:nvGrpSpPr>
        <p:grpSpPr>
          <a:xfrm>
            <a:off x="2928960" y="6052680"/>
            <a:ext cx="4969440" cy="663480"/>
            <a:chOff x="2928960" y="6052680"/>
            <a:chExt cx="4969440" cy="663480"/>
          </a:xfrm>
        </p:grpSpPr>
        <p:sp>
          <p:nvSpPr>
            <p:cNvPr id="216" name="Line 1059"/>
            <p:cNvSpPr/>
            <p:nvPr/>
          </p:nvSpPr>
          <p:spPr>
            <a:xfrm flipV="1">
              <a:off x="7375320" y="6478200"/>
              <a:ext cx="523080" cy="237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17" name="Line 1060"/>
            <p:cNvSpPr/>
            <p:nvPr/>
          </p:nvSpPr>
          <p:spPr>
            <a:xfrm>
              <a:off x="2928960" y="6052680"/>
              <a:ext cx="429120" cy="21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grpSp>
        <p:nvGrpSpPr>
          <p:cNvPr id="218" name="Group 1061"/>
          <p:cNvGrpSpPr/>
          <p:nvPr/>
        </p:nvGrpSpPr>
        <p:grpSpPr>
          <a:xfrm>
            <a:off x="2360880" y="1213920"/>
            <a:ext cx="3530160" cy="201240"/>
            <a:chOff x="2360880" y="1213920"/>
            <a:chExt cx="3530160" cy="201240"/>
          </a:xfrm>
        </p:grpSpPr>
        <p:sp>
          <p:nvSpPr>
            <p:cNvPr id="219" name="Line 1062"/>
            <p:cNvSpPr/>
            <p:nvPr/>
          </p:nvSpPr>
          <p:spPr>
            <a:xfrm flipV="1">
              <a:off x="2360880" y="1214640"/>
              <a:ext cx="426240" cy="1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20" name="Line 1063"/>
            <p:cNvSpPr/>
            <p:nvPr/>
          </p:nvSpPr>
          <p:spPr>
            <a:xfrm>
              <a:off x="5499720" y="1213920"/>
              <a:ext cx="391320" cy="20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sp>
        <p:nvSpPr>
          <p:cNvPr id="221" name="Line 1057"/>
          <p:cNvSpPr/>
          <p:nvPr/>
        </p:nvSpPr>
        <p:spPr>
          <a:xfrm flipV="1">
            <a:off x="4643280" y="578592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22" name="Picture 21" descr="CPCECABA.JPG"/>
          <p:cNvPicPr/>
          <p:nvPr/>
        </p:nvPicPr>
        <p:blipFill>
          <a:blip r:embed="rId2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14200" y="1714680"/>
            <a:ext cx="45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Gerencia General y Comité de Dirección - nivel 1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lta Gerencia - nivel 2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Gerencia Media - niveles 3 y 4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Jefatura - niveles mayores que 4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mpleados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5221440" y="1779480"/>
            <a:ext cx="1055520" cy="969840"/>
            <a:chOff x="5221440" y="1779480"/>
            <a:chExt cx="1055520" cy="969840"/>
          </a:xfrm>
        </p:grpSpPr>
        <p:sp>
          <p:nvSpPr>
            <p:cNvPr id="225" name="Freeform 4"/>
            <p:cNvSpPr/>
            <p:nvPr/>
          </p:nvSpPr>
          <p:spPr>
            <a:xfrm>
              <a:off x="5221440" y="1779480"/>
              <a:ext cx="830160" cy="969840"/>
            </a:xfrm>
            <a:prstGeom prst="pie">
              <a:avLst/>
            </a:prstGeom>
            <a:solidFill>
              <a:srgbClr val="007e7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26" name="Freeform 5"/>
            <p:cNvSpPr/>
            <p:nvPr/>
          </p:nvSpPr>
          <p:spPr>
            <a:xfrm>
              <a:off x="5635800" y="1779480"/>
              <a:ext cx="641160" cy="969840"/>
            </a:xfrm>
            <a:prstGeom prst="pie">
              <a:avLst/>
            </a:prstGeom>
            <a:solidFill>
              <a:srgbClr val="005e5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grpSp>
        <p:nvGrpSpPr>
          <p:cNvPr id="227" name="Group 6"/>
          <p:cNvGrpSpPr/>
          <p:nvPr/>
        </p:nvGrpSpPr>
        <p:grpSpPr>
          <a:xfrm>
            <a:off x="4908600" y="2438280"/>
            <a:ext cx="1836720" cy="1055520"/>
            <a:chOff x="4908600" y="2438280"/>
            <a:chExt cx="1836720" cy="1055520"/>
          </a:xfrm>
        </p:grpSpPr>
        <p:sp>
          <p:nvSpPr>
            <p:cNvPr id="228" name="Freeform 7"/>
            <p:cNvSpPr/>
            <p:nvPr/>
          </p:nvSpPr>
          <p:spPr>
            <a:xfrm>
              <a:off x="4908600" y="2749320"/>
              <a:ext cx="1473120" cy="744480"/>
            </a:xfrm>
            <a:prstGeom prst="pie">
              <a:avLst/>
            </a:prstGeom>
            <a:solidFill>
              <a:srgbClr val="00928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>
              <a:off x="6051600" y="2438280"/>
              <a:ext cx="693720" cy="1055520"/>
            </a:xfrm>
            <a:prstGeom prst="pie">
              <a:avLst/>
            </a:prstGeom>
            <a:solidFill>
              <a:srgbClr val="0070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grpSp>
        <p:nvGrpSpPr>
          <p:cNvPr id="230" name="Group 9"/>
          <p:cNvGrpSpPr/>
          <p:nvPr/>
        </p:nvGrpSpPr>
        <p:grpSpPr>
          <a:xfrm>
            <a:off x="4579920" y="2922480"/>
            <a:ext cx="2666520" cy="1315800"/>
            <a:chOff x="4579920" y="2922480"/>
            <a:chExt cx="2666520" cy="1315800"/>
          </a:xfrm>
        </p:grpSpPr>
        <p:sp>
          <p:nvSpPr>
            <p:cNvPr id="231" name="Freeform 10"/>
            <p:cNvSpPr/>
            <p:nvPr/>
          </p:nvSpPr>
          <p:spPr>
            <a:xfrm>
              <a:off x="4579920" y="3493800"/>
              <a:ext cx="2112840" cy="744480"/>
            </a:xfrm>
            <a:prstGeom prst="pie">
              <a:avLst/>
            </a:prstGeom>
            <a:solidFill>
              <a:srgbClr val="00a6a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32" name="Freeform 11"/>
            <p:cNvSpPr/>
            <p:nvPr/>
          </p:nvSpPr>
          <p:spPr>
            <a:xfrm>
              <a:off x="6381360" y="2922480"/>
              <a:ext cx="865080" cy="1315800"/>
            </a:xfrm>
            <a:prstGeom prst="pie">
              <a:avLst/>
            </a:prstGeom>
            <a:solidFill>
              <a:srgbClr val="00848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4251240" y="3435480"/>
            <a:ext cx="3498840" cy="1565280"/>
            <a:chOff x="4251240" y="3435480"/>
            <a:chExt cx="3498840" cy="1565280"/>
          </a:xfrm>
        </p:grpSpPr>
        <p:sp>
          <p:nvSpPr>
            <p:cNvPr id="234" name="Freeform 13"/>
            <p:cNvSpPr/>
            <p:nvPr/>
          </p:nvSpPr>
          <p:spPr>
            <a:xfrm>
              <a:off x="4251240" y="4238640"/>
              <a:ext cx="2769840" cy="762120"/>
            </a:xfrm>
            <a:prstGeom prst="pie">
              <a:avLst/>
            </a:prstGeom>
            <a:solidFill>
              <a:srgbClr val="00bab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35" name="Freeform 14"/>
            <p:cNvSpPr/>
            <p:nvPr/>
          </p:nvSpPr>
          <p:spPr>
            <a:xfrm>
              <a:off x="6689520" y="3435480"/>
              <a:ext cx="1060560" cy="1565280"/>
            </a:xfrm>
            <a:prstGeom prst="pie">
              <a:avLst/>
            </a:prstGeom>
            <a:solidFill>
              <a:srgbClr val="0098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grpSp>
        <p:nvGrpSpPr>
          <p:cNvPr id="236" name="Group 15"/>
          <p:cNvGrpSpPr/>
          <p:nvPr/>
        </p:nvGrpSpPr>
        <p:grpSpPr>
          <a:xfrm>
            <a:off x="3903840" y="3944880"/>
            <a:ext cx="4399920" cy="1869840"/>
            <a:chOff x="3903840" y="3944880"/>
            <a:chExt cx="4399920" cy="1869840"/>
          </a:xfrm>
        </p:grpSpPr>
        <p:sp>
          <p:nvSpPr>
            <p:cNvPr id="237" name="Freeform 16"/>
            <p:cNvSpPr/>
            <p:nvPr/>
          </p:nvSpPr>
          <p:spPr>
            <a:xfrm>
              <a:off x="3903840" y="5000400"/>
              <a:ext cx="3465000" cy="814320"/>
            </a:xfrm>
            <a:prstGeom prst="pie">
              <a:avLst/>
            </a:prstGeom>
            <a:solidFill>
              <a:srgbClr val="00cec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38" name="Freeform 17"/>
            <p:cNvSpPr/>
            <p:nvPr/>
          </p:nvSpPr>
          <p:spPr>
            <a:xfrm>
              <a:off x="7021080" y="3944880"/>
              <a:ext cx="1282680" cy="1869840"/>
            </a:xfrm>
            <a:prstGeom prst="pie">
              <a:avLst/>
            </a:prstGeom>
            <a:solidFill>
              <a:srgbClr val="00ac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pic>
        <p:nvPicPr>
          <p:cNvPr id="239" name="Picture 17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5"/>
          <p:cNvGrpSpPr/>
          <p:nvPr/>
        </p:nvGrpSpPr>
        <p:grpSpPr>
          <a:xfrm>
            <a:off x="1428840" y="1285920"/>
            <a:ext cx="7571880" cy="5273280"/>
            <a:chOff x="1428840" y="1285920"/>
            <a:chExt cx="7571880" cy="5273280"/>
          </a:xfrm>
        </p:grpSpPr>
        <p:sp>
          <p:nvSpPr>
            <p:cNvPr id="241" name="Rectangle 26"/>
            <p:cNvSpPr/>
            <p:nvPr/>
          </p:nvSpPr>
          <p:spPr>
            <a:xfrm>
              <a:off x="1722240" y="1285920"/>
              <a:ext cx="7278480" cy="524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7027920" y="2730600"/>
              <a:ext cx="16707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aphicFrame>
          <p:nvGraphicFramePr>
            <p:cNvPr id="243" name="Object 3"/>
            <p:cNvGraphicFramePr/>
            <p:nvPr/>
          </p:nvGraphicFramePr>
          <p:xfrm>
            <a:off x="2016000" y="1310400"/>
            <a:ext cx="4677840" cy="52488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4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16000" y="1310400"/>
                      <a:ext cx="4677840" cy="524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5" name="Rectangle 29"/>
            <p:cNvSpPr/>
            <p:nvPr/>
          </p:nvSpPr>
          <p:spPr>
            <a:xfrm>
              <a:off x="4415040" y="1882440"/>
              <a:ext cx="17121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rientación a los resultados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46" name="Rectangle 30"/>
            <p:cNvSpPr/>
            <p:nvPr/>
          </p:nvSpPr>
          <p:spPr>
            <a:xfrm>
              <a:off x="5147280" y="2256840"/>
              <a:ext cx="16128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mplementación ejecutiv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47" name="Rectangle 31"/>
            <p:cNvSpPr/>
            <p:nvPr/>
          </p:nvSpPr>
          <p:spPr>
            <a:xfrm>
              <a:off x="5727600" y="2728080"/>
              <a:ext cx="130824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Delegación y empowerment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48" name="Rectangle 32"/>
            <p:cNvSpPr/>
            <p:nvPr/>
          </p:nvSpPr>
          <p:spPr>
            <a:xfrm>
              <a:off x="5960520" y="3215880"/>
              <a:ext cx="100800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acilitador del cambi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49" name="Rectangle 33"/>
            <p:cNvSpPr/>
            <p:nvPr/>
          </p:nvSpPr>
          <p:spPr>
            <a:xfrm>
              <a:off x="2713680" y="1992960"/>
              <a:ext cx="10447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ducación form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50" name="Rectangle 34"/>
            <p:cNvSpPr/>
            <p:nvPr/>
          </p:nvSpPr>
          <p:spPr>
            <a:xfrm>
              <a:off x="1856160" y="2477880"/>
              <a:ext cx="13039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Técnicas gerenciales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51" name="Rectangle 35"/>
            <p:cNvSpPr/>
            <p:nvPr/>
          </p:nvSpPr>
          <p:spPr>
            <a:xfrm>
              <a:off x="1647720" y="3090240"/>
              <a:ext cx="9565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xpertise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52" name="Rectangle 36"/>
            <p:cNvSpPr/>
            <p:nvPr/>
          </p:nvSpPr>
          <p:spPr>
            <a:xfrm>
              <a:off x="6127560" y="4799160"/>
              <a:ext cx="8575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Ética y mor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53" name="Rectangle 37"/>
            <p:cNvSpPr/>
            <p:nvPr/>
          </p:nvSpPr>
          <p:spPr>
            <a:xfrm>
              <a:off x="5657400" y="5426640"/>
              <a:ext cx="9169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lexibil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54" name="Rectangle 38"/>
            <p:cNvSpPr/>
            <p:nvPr/>
          </p:nvSpPr>
          <p:spPr>
            <a:xfrm>
              <a:off x="4800960" y="5757840"/>
              <a:ext cx="985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Visión estratégic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55" name="Rectangle 39"/>
            <p:cNvSpPr/>
            <p:nvPr/>
          </p:nvSpPr>
          <p:spPr>
            <a:xfrm>
              <a:off x="1647720" y="4611240"/>
              <a:ext cx="7718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Deseo de saber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56" name="Rectangle 40"/>
            <p:cNvSpPr/>
            <p:nvPr/>
          </p:nvSpPr>
          <p:spPr>
            <a:xfrm>
              <a:off x="1859040" y="5354280"/>
              <a:ext cx="101736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nteligenci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57" name="Rectangle 41"/>
            <p:cNvSpPr/>
            <p:nvPr/>
          </p:nvSpPr>
          <p:spPr>
            <a:xfrm>
              <a:off x="2300040" y="5715000"/>
              <a:ext cx="11844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daptación al medi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58" name="Line 42"/>
            <p:cNvSpPr/>
            <p:nvPr/>
          </p:nvSpPr>
          <p:spPr>
            <a:xfrm>
              <a:off x="4278600" y="1310400"/>
              <a:ext cx="0" cy="524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59" name="Line 43"/>
            <p:cNvSpPr/>
            <p:nvPr/>
          </p:nvSpPr>
          <p:spPr>
            <a:xfrm flipH="1">
              <a:off x="1428840" y="4106880"/>
              <a:ext cx="588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60" name="Rectangle 44"/>
            <p:cNvSpPr/>
            <p:nvPr/>
          </p:nvSpPr>
          <p:spPr>
            <a:xfrm>
              <a:off x="1504440" y="3966120"/>
              <a:ext cx="91548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tiv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61" name="Rectangle 45"/>
            <p:cNvSpPr/>
            <p:nvPr/>
          </p:nvSpPr>
          <p:spPr>
            <a:xfrm>
              <a:off x="6232320" y="3890160"/>
              <a:ext cx="100116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nteligencia emocion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62" name="Rectangle 46"/>
            <p:cNvSpPr/>
            <p:nvPr/>
          </p:nvSpPr>
          <p:spPr>
            <a:xfrm>
              <a:off x="3704760" y="1416960"/>
              <a:ext cx="1156680" cy="37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onducción y liderazg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63" name="Rectangle 47"/>
            <p:cNvSpPr/>
            <p:nvPr/>
          </p:nvSpPr>
          <p:spPr>
            <a:xfrm>
              <a:off x="3683160" y="6277320"/>
              <a:ext cx="120888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Tenac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pic>
        <p:nvPicPr>
          <p:cNvPr id="264" name="Picture 24" descr="CPCECABA.JPG"/>
          <p:cNvPicPr/>
          <p:nvPr/>
        </p:nvPicPr>
        <p:blipFill>
          <a:blip r:embed="rId3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571680" y="1143000"/>
            <a:ext cx="8286120" cy="5334120"/>
            <a:chOff x="571680" y="1143000"/>
            <a:chExt cx="8286120" cy="5334120"/>
          </a:xfrm>
        </p:grpSpPr>
        <p:sp>
          <p:nvSpPr>
            <p:cNvPr id="266" name="Rectangle 3"/>
            <p:cNvSpPr/>
            <p:nvPr/>
          </p:nvSpPr>
          <p:spPr>
            <a:xfrm>
              <a:off x="571680" y="1143000"/>
              <a:ext cx="7729920" cy="531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aphicFrame>
          <p:nvGraphicFramePr>
            <p:cNvPr id="267" name="Object 2"/>
            <p:cNvGraphicFramePr/>
            <p:nvPr/>
          </p:nvGraphicFramePr>
          <p:xfrm>
            <a:off x="1156320" y="1143000"/>
            <a:ext cx="5686560" cy="531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6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56320" y="1143000"/>
                      <a:ext cx="5686560" cy="53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9" name="Rectangle 5"/>
            <p:cNvSpPr/>
            <p:nvPr/>
          </p:nvSpPr>
          <p:spPr>
            <a:xfrm>
              <a:off x="4072680" y="1721880"/>
              <a:ext cx="2081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rientación a los resultados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70" name="Rectangle 6"/>
            <p:cNvSpPr/>
            <p:nvPr/>
          </p:nvSpPr>
          <p:spPr>
            <a:xfrm>
              <a:off x="4962960" y="2100960"/>
              <a:ext cx="196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mplementación ejecutiv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71" name="Rectangle 7"/>
            <p:cNvSpPr/>
            <p:nvPr/>
          </p:nvSpPr>
          <p:spPr>
            <a:xfrm>
              <a:off x="5668200" y="2577600"/>
              <a:ext cx="15904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Delegación y empowerment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72" name="Rectangle 8"/>
            <p:cNvSpPr/>
            <p:nvPr/>
          </p:nvSpPr>
          <p:spPr>
            <a:xfrm>
              <a:off x="5951520" y="3071520"/>
              <a:ext cx="12250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acilitador del cambi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73" name="Rectangle 9"/>
            <p:cNvSpPr/>
            <p:nvPr/>
          </p:nvSpPr>
          <p:spPr>
            <a:xfrm>
              <a:off x="2004480" y="1833480"/>
              <a:ext cx="12704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ducación form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962280" y="2324520"/>
              <a:ext cx="158508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Técnicas gerenciales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709200" y="2944440"/>
              <a:ext cx="116280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xpertise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6154560" y="4674240"/>
              <a:ext cx="1042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Ética y mor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5582880" y="5309280"/>
              <a:ext cx="11145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lexibil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78" name="Rectangle 14"/>
            <p:cNvSpPr/>
            <p:nvPr/>
          </p:nvSpPr>
          <p:spPr>
            <a:xfrm>
              <a:off x="4542120" y="5644800"/>
              <a:ext cx="1198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Visión estratégic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709200" y="4484160"/>
              <a:ext cx="938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Deseo de saber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965160" y="5236560"/>
              <a:ext cx="1236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nteligenci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81" name="Rectangle 17"/>
            <p:cNvSpPr/>
            <p:nvPr/>
          </p:nvSpPr>
          <p:spPr>
            <a:xfrm>
              <a:off x="1501560" y="5601600"/>
              <a:ext cx="143964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daptación al medi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1873800" y="2299680"/>
              <a:ext cx="3990600" cy="2559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83" name="Text Box 19"/>
            <p:cNvSpPr/>
            <p:nvPr/>
          </p:nvSpPr>
          <p:spPr>
            <a:xfrm>
              <a:off x="5472360" y="5914800"/>
              <a:ext cx="33854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 algn="ctr">
                <a:lnSpc>
                  <a:spcPct val="85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Iniciación Ejecutiva -</a:t>
              </a:r>
              <a:endParaRPr b="0" lang="en-US" sz="1300" spc="-1" strike="noStrike">
                <a:solidFill>
                  <a:srgbClr val="ffff99"/>
                </a:solidFill>
                <a:latin typeface="Verdana"/>
              </a:endParaRPr>
            </a:p>
            <a:p>
              <a:pPr marL="177840" indent="-177840" algn="ctr">
                <a:lnSpc>
                  <a:spcPct val="85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JEFATURA</a:t>
              </a:r>
              <a:endParaRPr b="0" lang="en-US" sz="13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pSp>
          <p:nvGrpSpPr>
            <p:cNvPr id="284" name="Group 20"/>
            <p:cNvGrpSpPr/>
            <p:nvPr/>
          </p:nvGrpSpPr>
          <p:grpSpPr>
            <a:xfrm>
              <a:off x="591480" y="1143000"/>
              <a:ext cx="7018560" cy="5312880"/>
              <a:chOff x="591480" y="1143000"/>
              <a:chExt cx="7018560" cy="5312880"/>
            </a:xfrm>
          </p:grpSpPr>
          <p:sp>
            <p:nvSpPr>
              <p:cNvPr id="285" name="Line 21"/>
              <p:cNvSpPr/>
              <p:nvPr/>
            </p:nvSpPr>
            <p:spPr>
              <a:xfrm>
                <a:off x="591480" y="3973320"/>
                <a:ext cx="701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286" name="Line 22"/>
              <p:cNvSpPr/>
              <p:nvPr/>
            </p:nvSpPr>
            <p:spPr>
              <a:xfrm>
                <a:off x="3908160" y="1143000"/>
                <a:ext cx="0" cy="531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sp>
          <p:nvSpPr>
            <p:cNvPr id="287" name="Rectangle 23"/>
            <p:cNvSpPr/>
            <p:nvPr/>
          </p:nvSpPr>
          <p:spPr>
            <a:xfrm>
              <a:off x="3209760" y="1218240"/>
              <a:ext cx="140616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onducción y liderazg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88" name="Rectangle 24"/>
            <p:cNvSpPr/>
            <p:nvPr/>
          </p:nvSpPr>
          <p:spPr>
            <a:xfrm>
              <a:off x="3124080" y="6055920"/>
              <a:ext cx="1491480" cy="30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Tenac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89" name="Rectangle 25"/>
            <p:cNvSpPr/>
            <p:nvPr/>
          </p:nvSpPr>
          <p:spPr>
            <a:xfrm>
              <a:off x="653760" y="3850560"/>
              <a:ext cx="1132920" cy="26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tiv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90" name="Rectangle 26"/>
            <p:cNvSpPr/>
            <p:nvPr/>
          </p:nvSpPr>
          <p:spPr>
            <a:xfrm>
              <a:off x="6405840" y="3754080"/>
              <a:ext cx="1092600" cy="34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nteligencia emocion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pic>
        <p:nvPicPr>
          <p:cNvPr id="291" name="Picture 26" descr="CPCECABA.JPG"/>
          <p:cNvPicPr/>
          <p:nvPr/>
        </p:nvPicPr>
        <p:blipFill>
          <a:blip r:embed="rId3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7"/>
          <p:cNvGrpSpPr/>
          <p:nvPr/>
        </p:nvGrpSpPr>
        <p:grpSpPr>
          <a:xfrm>
            <a:off x="642960" y="1214280"/>
            <a:ext cx="8175240" cy="5453280"/>
            <a:chOff x="642960" y="1214280"/>
            <a:chExt cx="8175240" cy="5453280"/>
          </a:xfrm>
        </p:grpSpPr>
        <p:sp>
          <p:nvSpPr>
            <p:cNvPr id="293" name="Rectangle 28"/>
            <p:cNvSpPr/>
            <p:nvPr/>
          </p:nvSpPr>
          <p:spPr>
            <a:xfrm>
              <a:off x="642960" y="1214280"/>
              <a:ext cx="7801920" cy="545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aphicFrame>
          <p:nvGraphicFramePr>
            <p:cNvPr id="294" name="Object 2"/>
            <p:cNvGraphicFramePr/>
            <p:nvPr/>
          </p:nvGraphicFramePr>
          <p:xfrm>
            <a:off x="1233000" y="1214280"/>
            <a:ext cx="5739480" cy="54532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9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33000" y="1214280"/>
                      <a:ext cx="5739480" cy="545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6" name="Rectangle 30"/>
            <p:cNvSpPr/>
            <p:nvPr/>
          </p:nvSpPr>
          <p:spPr>
            <a:xfrm>
              <a:off x="4176720" y="1808640"/>
              <a:ext cx="2100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rientación a los resultados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97" name="Rectangle 31"/>
            <p:cNvSpPr/>
            <p:nvPr/>
          </p:nvSpPr>
          <p:spPr>
            <a:xfrm>
              <a:off x="5074920" y="2197440"/>
              <a:ext cx="1978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mplementación ejecutiv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98" name="Rectangle 32"/>
            <p:cNvSpPr/>
            <p:nvPr/>
          </p:nvSpPr>
          <p:spPr>
            <a:xfrm>
              <a:off x="5787000" y="2686680"/>
              <a:ext cx="1605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Delegación y empowerment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299" name="Rectangle 33"/>
            <p:cNvSpPr/>
            <p:nvPr/>
          </p:nvSpPr>
          <p:spPr>
            <a:xfrm>
              <a:off x="6072840" y="3193560"/>
              <a:ext cx="12366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acilitador del cambi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00" name="Rectangle 34"/>
            <p:cNvSpPr/>
            <p:nvPr/>
          </p:nvSpPr>
          <p:spPr>
            <a:xfrm>
              <a:off x="2089080" y="1923120"/>
              <a:ext cx="12823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ducación form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01" name="Rectangle 35"/>
            <p:cNvSpPr/>
            <p:nvPr/>
          </p:nvSpPr>
          <p:spPr>
            <a:xfrm>
              <a:off x="1037160" y="2427120"/>
              <a:ext cx="15998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Técnicas gerenciales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02" name="Rectangle 36"/>
            <p:cNvSpPr/>
            <p:nvPr/>
          </p:nvSpPr>
          <p:spPr>
            <a:xfrm>
              <a:off x="781560" y="3063240"/>
              <a:ext cx="117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xpertise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03" name="Rectangle 37"/>
            <p:cNvSpPr/>
            <p:nvPr/>
          </p:nvSpPr>
          <p:spPr>
            <a:xfrm>
              <a:off x="6277680" y="4838400"/>
              <a:ext cx="10519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Ética y mor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04" name="Rectangle 38"/>
            <p:cNvSpPr/>
            <p:nvPr/>
          </p:nvSpPr>
          <p:spPr>
            <a:xfrm>
              <a:off x="5700600" y="5490720"/>
              <a:ext cx="11250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lexibil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05" name="Rectangle 39"/>
            <p:cNvSpPr/>
            <p:nvPr/>
          </p:nvSpPr>
          <p:spPr>
            <a:xfrm>
              <a:off x="4650480" y="5834880"/>
              <a:ext cx="12092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Visión estratégic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06" name="Rectangle 40"/>
            <p:cNvSpPr/>
            <p:nvPr/>
          </p:nvSpPr>
          <p:spPr>
            <a:xfrm>
              <a:off x="781560" y="4643640"/>
              <a:ext cx="946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Deseo de saber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07" name="Rectangle 41"/>
            <p:cNvSpPr/>
            <p:nvPr/>
          </p:nvSpPr>
          <p:spPr>
            <a:xfrm>
              <a:off x="1040040" y="5415840"/>
              <a:ext cx="12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nteligenci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08" name="Rectangle 42"/>
            <p:cNvSpPr/>
            <p:nvPr/>
          </p:nvSpPr>
          <p:spPr>
            <a:xfrm>
              <a:off x="1581480" y="5790600"/>
              <a:ext cx="1452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daptación al medi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09" name="Freeform 43"/>
            <p:cNvSpPr/>
            <p:nvPr/>
          </p:nvSpPr>
          <p:spPr>
            <a:xfrm>
              <a:off x="2349360" y="2363760"/>
              <a:ext cx="3627000" cy="3106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10" name="Text Box 44"/>
            <p:cNvSpPr/>
            <p:nvPr/>
          </p:nvSpPr>
          <p:spPr>
            <a:xfrm>
              <a:off x="5572080" y="6143760"/>
              <a:ext cx="32461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 algn="ctr">
                <a:lnSpc>
                  <a:spcPct val="85000"/>
                </a:lnSpc>
                <a:spcBef>
                  <a:spcPts val="326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Consolidación –</a:t>
              </a:r>
              <a:endParaRPr b="0" lang="en-US" sz="1300" spc="-1" strike="noStrike">
                <a:solidFill>
                  <a:srgbClr val="ffff99"/>
                </a:solidFill>
                <a:latin typeface="Verdana"/>
              </a:endParaRPr>
            </a:p>
            <a:p>
              <a:pPr marL="177840" indent="-177840" algn="ctr">
                <a:lnSpc>
                  <a:spcPct val="85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GERENCIA MEDIA</a:t>
              </a:r>
              <a:endParaRPr b="0" lang="en-US" sz="13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pSp>
          <p:nvGrpSpPr>
            <p:cNvPr id="311" name="Group 45"/>
            <p:cNvGrpSpPr/>
            <p:nvPr/>
          </p:nvGrpSpPr>
          <p:grpSpPr>
            <a:xfrm>
              <a:off x="663120" y="1214280"/>
              <a:ext cx="7084080" cy="5453280"/>
              <a:chOff x="663120" y="1214280"/>
              <a:chExt cx="7084080" cy="5453280"/>
            </a:xfrm>
          </p:grpSpPr>
          <p:sp>
            <p:nvSpPr>
              <p:cNvPr id="312" name="Line 46"/>
              <p:cNvSpPr/>
              <p:nvPr/>
            </p:nvSpPr>
            <p:spPr>
              <a:xfrm>
                <a:off x="663120" y="4119480"/>
                <a:ext cx="708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313" name="Line 47"/>
              <p:cNvSpPr/>
              <p:nvPr/>
            </p:nvSpPr>
            <p:spPr>
              <a:xfrm>
                <a:off x="4010760" y="1214280"/>
                <a:ext cx="0" cy="54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sp>
          <p:nvSpPr>
            <p:cNvPr id="314" name="Rectangle 48"/>
            <p:cNvSpPr/>
            <p:nvPr/>
          </p:nvSpPr>
          <p:spPr>
            <a:xfrm>
              <a:off x="3323880" y="1323000"/>
              <a:ext cx="141912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onducción y liderazg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15" name="Rectangle 49"/>
            <p:cNvSpPr/>
            <p:nvPr/>
          </p:nvSpPr>
          <p:spPr>
            <a:xfrm>
              <a:off x="3237840" y="6258600"/>
              <a:ext cx="1483200" cy="28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Tenac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16" name="Rectangle 50"/>
            <p:cNvSpPr/>
            <p:nvPr/>
          </p:nvSpPr>
          <p:spPr>
            <a:xfrm>
              <a:off x="735840" y="3977640"/>
              <a:ext cx="102132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tiv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17" name="Rectangle 51"/>
            <p:cNvSpPr/>
            <p:nvPr/>
          </p:nvSpPr>
          <p:spPr>
            <a:xfrm>
              <a:off x="6377400" y="3894120"/>
              <a:ext cx="121932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nteligencia emocion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pic>
        <p:nvPicPr>
          <p:cNvPr id="318" name="Picture 26" descr="CPCECABA.JPG"/>
          <p:cNvPicPr/>
          <p:nvPr/>
        </p:nvPicPr>
        <p:blipFill>
          <a:blip r:embed="rId3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571680" y="1143000"/>
            <a:ext cx="8102160" cy="5400720"/>
            <a:chOff x="571680" y="1143000"/>
            <a:chExt cx="8102160" cy="5400720"/>
          </a:xfrm>
        </p:grpSpPr>
        <p:sp>
          <p:nvSpPr>
            <p:cNvPr id="320" name="Rectangle 3"/>
            <p:cNvSpPr/>
            <p:nvPr/>
          </p:nvSpPr>
          <p:spPr>
            <a:xfrm>
              <a:off x="571680" y="1143000"/>
              <a:ext cx="7952400" cy="539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aphicFrame>
          <p:nvGraphicFramePr>
            <p:cNvPr id="321" name="Object 3"/>
            <p:cNvGraphicFramePr/>
            <p:nvPr/>
          </p:nvGraphicFramePr>
          <p:xfrm>
            <a:off x="1173240" y="1143000"/>
            <a:ext cx="5850360" cy="53931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2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73240" y="1143000"/>
                      <a:ext cx="5850360" cy="539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3" name="Rectangle 5"/>
            <p:cNvSpPr/>
            <p:nvPr/>
          </p:nvSpPr>
          <p:spPr>
            <a:xfrm>
              <a:off x="4173480" y="1730880"/>
              <a:ext cx="21416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rientación a los resultados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>
              <a:off x="5089320" y="2115360"/>
              <a:ext cx="201708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mplementación ejecutiv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25" name="Rectangle 7"/>
            <p:cNvSpPr/>
            <p:nvPr/>
          </p:nvSpPr>
          <p:spPr>
            <a:xfrm>
              <a:off x="5815080" y="2599200"/>
              <a:ext cx="163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Delegación y empowerment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106320" y="3100680"/>
              <a:ext cx="126036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acilitador del cambi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2045520" y="1843920"/>
              <a:ext cx="13071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ducación form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973440" y="2342520"/>
              <a:ext cx="16308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Técnicas gerenciales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29" name="Rectangle 11"/>
            <p:cNvSpPr/>
            <p:nvPr/>
          </p:nvSpPr>
          <p:spPr>
            <a:xfrm>
              <a:off x="713160" y="2971440"/>
              <a:ext cx="1196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xpertise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6315480" y="4727520"/>
              <a:ext cx="10724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Ética y mor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5727240" y="5372280"/>
              <a:ext cx="11466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lexibil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4656600" y="5713200"/>
              <a:ext cx="12326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Visión estratégic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33" name="Rectangle 15"/>
            <p:cNvSpPr/>
            <p:nvPr/>
          </p:nvSpPr>
          <p:spPr>
            <a:xfrm>
              <a:off x="713160" y="4436640"/>
              <a:ext cx="9651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Deseo de saber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34" name="Rectangle 16"/>
            <p:cNvSpPr/>
            <p:nvPr/>
          </p:nvSpPr>
          <p:spPr>
            <a:xfrm>
              <a:off x="976680" y="5298480"/>
              <a:ext cx="1272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nteligenci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35" name="Rectangle 17"/>
            <p:cNvSpPr/>
            <p:nvPr/>
          </p:nvSpPr>
          <p:spPr>
            <a:xfrm>
              <a:off x="1528200" y="5668920"/>
              <a:ext cx="14810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daptación al medi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926720" y="2180520"/>
              <a:ext cx="4150080" cy="35978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928840" y="6072120"/>
              <a:ext cx="27450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 algn="ctr">
                <a:lnSpc>
                  <a:spcPct val="85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- Expansión -</a:t>
              </a:r>
              <a:endParaRPr b="0" lang="en-US" sz="1300" spc="-1" strike="noStrike">
                <a:solidFill>
                  <a:srgbClr val="ffff99"/>
                </a:solidFill>
                <a:latin typeface="Verdana"/>
              </a:endParaRPr>
            </a:p>
            <a:p>
              <a:pPr marL="177840" indent="-177840" algn="ctr">
                <a:lnSpc>
                  <a:spcPct val="85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ALTA GERENCIA</a:t>
              </a:r>
              <a:endParaRPr b="0" lang="en-US" sz="13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592200" y="1143000"/>
              <a:ext cx="7220880" cy="5393160"/>
              <a:chOff x="592200" y="1143000"/>
              <a:chExt cx="7220880" cy="5393160"/>
            </a:xfrm>
          </p:grpSpPr>
          <p:sp>
            <p:nvSpPr>
              <p:cNvPr id="339" name="Line 21"/>
              <p:cNvSpPr/>
              <p:nvPr/>
            </p:nvSpPr>
            <p:spPr>
              <a:xfrm>
                <a:off x="592200" y="4016160"/>
                <a:ext cx="722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340" name="Line 22"/>
              <p:cNvSpPr/>
              <p:nvPr/>
            </p:nvSpPr>
            <p:spPr>
              <a:xfrm>
                <a:off x="4004280" y="1143000"/>
                <a:ext cx="0" cy="539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sp>
          <p:nvSpPr>
            <p:cNvPr id="341" name="Rectangle 23"/>
            <p:cNvSpPr/>
            <p:nvPr/>
          </p:nvSpPr>
          <p:spPr>
            <a:xfrm>
              <a:off x="3285720" y="1250640"/>
              <a:ext cx="144648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onducción y liderazg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42" name="Rectangle 24"/>
            <p:cNvSpPr/>
            <p:nvPr/>
          </p:nvSpPr>
          <p:spPr>
            <a:xfrm>
              <a:off x="3197520" y="6194520"/>
              <a:ext cx="1512000" cy="23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Tenac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43" name="Rectangle 25"/>
            <p:cNvSpPr/>
            <p:nvPr/>
          </p:nvSpPr>
          <p:spPr>
            <a:xfrm>
              <a:off x="675000" y="3871440"/>
              <a:ext cx="110124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tiv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44" name="Rectangle 26"/>
            <p:cNvSpPr/>
            <p:nvPr/>
          </p:nvSpPr>
          <p:spPr>
            <a:xfrm>
              <a:off x="6548040" y="3793680"/>
              <a:ext cx="114984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nteligencia emocion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pic>
        <p:nvPicPr>
          <p:cNvPr id="345" name="Picture 26" descr="CPCECABA.JPG"/>
          <p:cNvPicPr/>
          <p:nvPr/>
        </p:nvPicPr>
        <p:blipFill>
          <a:blip r:embed="rId3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539640" y="1773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s el Primer Portal Argentino de “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búsquedas ejecutivas”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integrado por consultoras especialistas en selección</a:t>
            </a:r>
            <a:br>
              <a:rPr sz="1800"/>
            </a:b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39640" y="4005360"/>
            <a:ext cx="8209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68360" y="3068640"/>
            <a:ext cx="8316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articipa activamente en seminarios, conferencias y eventos dentro de las principales Escuelas de Negocios y Universidades con dictado de Posgrados.</a:t>
            </a: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Ha firmado recientemente una alianza con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El Cronista Comercial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, que ofrece un importante espacio de publicidad semanal en el diario, intercambio de banners, participación conjunta en eventos.</a:t>
            </a: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Realiza mensualmente, con asesoramiento profesional del estudio Dagnino Costa y Asoc. un Indice de Demanda Ejecutiva, “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IDE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”. El mismo toma como fuente los avisos publicados por las propias consultoras en nuestra página web.</a:t>
            </a: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Cuenta actualmente con una base de datos de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139.000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curriculums vitae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La página recibe más de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69.000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 visitas mensuales</a:t>
            </a: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95280" y="1341360"/>
            <a:ext cx="842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Verdana"/>
              </a:rPr>
              <a:t>PortalRH</a:t>
            </a:r>
            <a:endParaRPr b="0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44" name="Picture 5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642960" y="1143000"/>
            <a:ext cx="8081640" cy="5401440"/>
            <a:chOff x="642960" y="1143000"/>
            <a:chExt cx="8081640" cy="5401440"/>
          </a:xfrm>
        </p:grpSpPr>
        <p:sp>
          <p:nvSpPr>
            <p:cNvPr id="347" name="Rectangle 3"/>
            <p:cNvSpPr/>
            <p:nvPr/>
          </p:nvSpPr>
          <p:spPr>
            <a:xfrm>
              <a:off x="642960" y="1143000"/>
              <a:ext cx="7957800" cy="532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aphicFrame>
          <p:nvGraphicFramePr>
            <p:cNvPr id="348" name="Object 2"/>
            <p:cNvGraphicFramePr/>
            <p:nvPr/>
          </p:nvGraphicFramePr>
          <p:xfrm>
            <a:off x="1244880" y="1143000"/>
            <a:ext cx="5854320" cy="5324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4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44880" y="1143000"/>
                      <a:ext cx="5854320" cy="532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0" name="Rectangle 5"/>
            <p:cNvSpPr/>
            <p:nvPr/>
          </p:nvSpPr>
          <p:spPr>
            <a:xfrm>
              <a:off x="4247280" y="1723320"/>
              <a:ext cx="214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rientación a los resultados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>
              <a:off x="5163840" y="2103120"/>
              <a:ext cx="201852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mplementación ejecutiv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52" name="Rectangle 7"/>
            <p:cNvSpPr/>
            <p:nvPr/>
          </p:nvSpPr>
          <p:spPr>
            <a:xfrm>
              <a:off x="5889960" y="2580840"/>
              <a:ext cx="1637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Delegación y empowerment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6181560" y="3075840"/>
              <a:ext cx="12614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acilitador del cambi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2117880" y="1835280"/>
              <a:ext cx="130788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ducación form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1045080" y="2327040"/>
              <a:ext cx="16318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Técnicas gerenciales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56" name="Rectangle 11"/>
            <p:cNvSpPr/>
            <p:nvPr/>
          </p:nvSpPr>
          <p:spPr>
            <a:xfrm>
              <a:off x="784440" y="2948400"/>
              <a:ext cx="11970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xpertise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6390360" y="4682160"/>
              <a:ext cx="107316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Ética y mor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5801760" y="5318640"/>
              <a:ext cx="11473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lexibil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4730400" y="5654880"/>
              <a:ext cx="12333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Visión estratégic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784440" y="4491720"/>
              <a:ext cx="9658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Deseo de saber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61" name="Rectangle 16"/>
            <p:cNvSpPr/>
            <p:nvPr/>
          </p:nvSpPr>
          <p:spPr>
            <a:xfrm>
              <a:off x="1048320" y="5245560"/>
              <a:ext cx="127332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nteligencia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62" name="Rectangle 17"/>
            <p:cNvSpPr/>
            <p:nvPr/>
          </p:nvSpPr>
          <p:spPr>
            <a:xfrm>
              <a:off x="1600200" y="5611320"/>
              <a:ext cx="148212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daptación al medi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63" name="Freeform 18"/>
            <p:cNvSpPr/>
            <p:nvPr/>
          </p:nvSpPr>
          <p:spPr>
            <a:xfrm>
              <a:off x="2402640" y="2616120"/>
              <a:ext cx="3885840" cy="29966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64" name="Text Box 19"/>
            <p:cNvSpPr/>
            <p:nvPr/>
          </p:nvSpPr>
          <p:spPr>
            <a:xfrm>
              <a:off x="5572440" y="6072840"/>
              <a:ext cx="31521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 algn="ctr">
                <a:lnSpc>
                  <a:spcPct val="85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- Maduración -</a:t>
              </a:r>
              <a:endParaRPr b="0" lang="en-US" sz="1300" spc="-1" strike="noStrike">
                <a:solidFill>
                  <a:srgbClr val="ffff99"/>
                </a:solidFill>
                <a:latin typeface="Verdana"/>
              </a:endParaRPr>
            </a:p>
            <a:p>
              <a:pPr marL="177840" indent="-177840" algn="ctr">
                <a:lnSpc>
                  <a:spcPct val="85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GERENCIA GENERAL</a:t>
              </a:r>
              <a:endParaRPr b="0" lang="en-US" sz="13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pSp>
          <p:nvGrpSpPr>
            <p:cNvPr id="365" name="Group 20"/>
            <p:cNvGrpSpPr/>
            <p:nvPr/>
          </p:nvGrpSpPr>
          <p:grpSpPr>
            <a:xfrm>
              <a:off x="663480" y="1143000"/>
              <a:ext cx="7225560" cy="5324760"/>
              <a:chOff x="663480" y="1143000"/>
              <a:chExt cx="7225560" cy="5324760"/>
            </a:xfrm>
          </p:grpSpPr>
          <p:sp>
            <p:nvSpPr>
              <p:cNvPr id="366" name="Line 21"/>
              <p:cNvSpPr/>
              <p:nvPr/>
            </p:nvSpPr>
            <p:spPr>
              <a:xfrm>
                <a:off x="663480" y="3979800"/>
                <a:ext cx="722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367" name="Line 22"/>
              <p:cNvSpPr/>
              <p:nvPr/>
            </p:nvSpPr>
            <p:spPr>
              <a:xfrm>
                <a:off x="4077720" y="1143000"/>
                <a:ext cx="0" cy="532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sp>
          <p:nvSpPr>
            <p:cNvPr id="368" name="Rectangle 23"/>
            <p:cNvSpPr/>
            <p:nvPr/>
          </p:nvSpPr>
          <p:spPr>
            <a:xfrm>
              <a:off x="3339360" y="1265040"/>
              <a:ext cx="1447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onducción y liderazgo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69" name="Rectangle 24"/>
            <p:cNvSpPr/>
            <p:nvPr/>
          </p:nvSpPr>
          <p:spPr>
            <a:xfrm>
              <a:off x="3270600" y="6145560"/>
              <a:ext cx="151308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Tenac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70" name="Rectangle 25"/>
            <p:cNvSpPr/>
            <p:nvPr/>
          </p:nvSpPr>
          <p:spPr>
            <a:xfrm>
              <a:off x="738000" y="3841200"/>
              <a:ext cx="1041840" cy="26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tividad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71" name="Rectangle 26"/>
            <p:cNvSpPr/>
            <p:nvPr/>
          </p:nvSpPr>
          <p:spPr>
            <a:xfrm>
              <a:off x="6585120" y="3759840"/>
              <a:ext cx="1169640" cy="55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Inteligencia emocional</a:t>
              </a:r>
              <a:endParaRPr b="0" lang="en-US" sz="14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pic>
        <p:nvPicPr>
          <p:cNvPr id="372" name="Picture 26" descr="CPCECABA.JPG"/>
          <p:cNvPicPr/>
          <p:nvPr/>
        </p:nvPicPr>
        <p:blipFill>
          <a:blip r:embed="rId3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32"/>
          <p:cNvSpPr/>
          <p:nvPr/>
        </p:nvSpPr>
        <p:spPr>
          <a:xfrm>
            <a:off x="2500200" y="1714680"/>
            <a:ext cx="23367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II. Técnico -Profesionales</a:t>
            </a: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74" name="Rectangle 33"/>
          <p:cNvSpPr/>
          <p:nvPr/>
        </p:nvSpPr>
        <p:spPr>
          <a:xfrm>
            <a:off x="5332320" y="17319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V. Humanísticas</a:t>
            </a: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</p:txBody>
      </p:sp>
      <p:grpSp>
        <p:nvGrpSpPr>
          <p:cNvPr id="375" name="Group 34"/>
          <p:cNvGrpSpPr/>
          <p:nvPr/>
        </p:nvGrpSpPr>
        <p:grpSpPr>
          <a:xfrm>
            <a:off x="2898720" y="2003400"/>
            <a:ext cx="4510080" cy="3718080"/>
            <a:chOff x="2898720" y="2003400"/>
            <a:chExt cx="4510080" cy="3718080"/>
          </a:xfrm>
        </p:grpSpPr>
        <p:sp>
          <p:nvSpPr>
            <p:cNvPr id="376" name="Line 35"/>
            <p:cNvSpPr/>
            <p:nvPr/>
          </p:nvSpPr>
          <p:spPr>
            <a:xfrm>
              <a:off x="5153040" y="2003400"/>
              <a:ext cx="1440" cy="371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77" name="Line 36"/>
            <p:cNvSpPr/>
            <p:nvPr/>
          </p:nvSpPr>
          <p:spPr>
            <a:xfrm>
              <a:off x="2898720" y="3860640"/>
              <a:ext cx="4510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sp>
        <p:nvSpPr>
          <p:cNvPr id="378" name="Rectangle 37"/>
          <p:cNvSpPr/>
          <p:nvPr/>
        </p:nvSpPr>
        <p:spPr>
          <a:xfrm>
            <a:off x="3267000" y="5578560"/>
            <a:ext cx="132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. Básicas</a:t>
            </a: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79" name="Rectangle 38"/>
          <p:cNvSpPr/>
          <p:nvPr/>
        </p:nvSpPr>
        <p:spPr>
          <a:xfrm>
            <a:off x="5403960" y="5578560"/>
            <a:ext cx="22543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I. Vivenciales</a:t>
            </a: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80" name="Rectangle 39"/>
          <p:cNvSpPr/>
          <p:nvPr/>
        </p:nvSpPr>
        <p:spPr>
          <a:xfrm>
            <a:off x="0" y="2857680"/>
            <a:ext cx="21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HABILIDADES</a:t>
            </a: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81" name="Rectangle 40"/>
          <p:cNvSpPr/>
          <p:nvPr/>
        </p:nvSpPr>
        <p:spPr>
          <a:xfrm>
            <a:off x="379440" y="4524480"/>
            <a:ext cx="2387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ARACTERISTICAS DE PERSONALIDAD</a:t>
            </a:r>
            <a:endParaRPr b="0" lang="en-US" sz="1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82" name="Line 41"/>
          <p:cNvSpPr/>
          <p:nvPr/>
        </p:nvSpPr>
        <p:spPr>
          <a:xfrm>
            <a:off x="4003560" y="2682720"/>
            <a:ext cx="227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83" name="Line 42"/>
          <p:cNvSpPr/>
          <p:nvPr/>
        </p:nvSpPr>
        <p:spPr>
          <a:xfrm>
            <a:off x="3456000" y="5065560"/>
            <a:ext cx="3003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84" name="Line 43"/>
          <p:cNvSpPr/>
          <p:nvPr/>
        </p:nvSpPr>
        <p:spPr>
          <a:xfrm>
            <a:off x="6756480" y="3147840"/>
            <a:ext cx="0" cy="157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85" name="Line 44"/>
          <p:cNvSpPr/>
          <p:nvPr/>
        </p:nvSpPr>
        <p:spPr>
          <a:xfrm>
            <a:off x="3916440" y="2936880"/>
            <a:ext cx="2543040" cy="1857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86" name="Oval 45"/>
          <p:cNvSpPr/>
          <p:nvPr/>
        </p:nvSpPr>
        <p:spPr>
          <a:xfrm>
            <a:off x="6588000" y="2560680"/>
            <a:ext cx="292320" cy="2491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87" name="Oval 46"/>
          <p:cNvSpPr/>
          <p:nvPr/>
        </p:nvSpPr>
        <p:spPr>
          <a:xfrm>
            <a:off x="3473280" y="2575080"/>
            <a:ext cx="290520" cy="2473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88" name="Oval 47"/>
          <p:cNvSpPr/>
          <p:nvPr/>
        </p:nvSpPr>
        <p:spPr>
          <a:xfrm>
            <a:off x="6600960" y="4933800"/>
            <a:ext cx="291960" cy="247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89" name="Oval 48"/>
          <p:cNvSpPr/>
          <p:nvPr/>
        </p:nvSpPr>
        <p:spPr>
          <a:xfrm>
            <a:off x="2982960" y="4933800"/>
            <a:ext cx="291960" cy="247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90" name="Line 49"/>
          <p:cNvSpPr/>
          <p:nvPr/>
        </p:nvSpPr>
        <p:spPr>
          <a:xfrm>
            <a:off x="3914640" y="2943360"/>
            <a:ext cx="2543400" cy="185724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91" name="Line 50"/>
          <p:cNvSpPr/>
          <p:nvPr/>
        </p:nvSpPr>
        <p:spPr>
          <a:xfrm>
            <a:off x="4010040" y="2682720"/>
            <a:ext cx="22780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92" name="Line 51"/>
          <p:cNvSpPr/>
          <p:nvPr/>
        </p:nvSpPr>
        <p:spPr>
          <a:xfrm>
            <a:off x="4010040" y="2682720"/>
            <a:ext cx="227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93" name="Line 52"/>
          <p:cNvSpPr/>
          <p:nvPr/>
        </p:nvSpPr>
        <p:spPr>
          <a:xfrm>
            <a:off x="6756480" y="3149640"/>
            <a:ext cx="0" cy="15717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94" name="Line 53"/>
          <p:cNvSpPr/>
          <p:nvPr/>
        </p:nvSpPr>
        <p:spPr>
          <a:xfrm>
            <a:off x="6756480" y="3147840"/>
            <a:ext cx="0" cy="157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95" name="Line 54"/>
          <p:cNvSpPr/>
          <p:nvPr/>
        </p:nvSpPr>
        <p:spPr>
          <a:xfrm>
            <a:off x="6756480" y="3147840"/>
            <a:ext cx="0" cy="15717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96" name="Line 55"/>
          <p:cNvSpPr/>
          <p:nvPr/>
        </p:nvSpPr>
        <p:spPr>
          <a:xfrm>
            <a:off x="6756480" y="3149640"/>
            <a:ext cx="0" cy="157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97" name="Line 56"/>
          <p:cNvSpPr/>
          <p:nvPr/>
        </p:nvSpPr>
        <p:spPr>
          <a:xfrm>
            <a:off x="4010040" y="2682720"/>
            <a:ext cx="22780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98" name="Line 57"/>
          <p:cNvSpPr/>
          <p:nvPr/>
        </p:nvSpPr>
        <p:spPr>
          <a:xfrm>
            <a:off x="4003560" y="2682720"/>
            <a:ext cx="227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99" name="Line 58"/>
          <p:cNvSpPr/>
          <p:nvPr/>
        </p:nvSpPr>
        <p:spPr>
          <a:xfrm>
            <a:off x="3914640" y="2943360"/>
            <a:ext cx="2543400" cy="1857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0" name="Line 59"/>
          <p:cNvSpPr/>
          <p:nvPr/>
        </p:nvSpPr>
        <p:spPr>
          <a:xfrm>
            <a:off x="3914640" y="2936880"/>
            <a:ext cx="2543400" cy="185724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1" name="Line 60"/>
          <p:cNvSpPr/>
          <p:nvPr/>
        </p:nvSpPr>
        <p:spPr>
          <a:xfrm>
            <a:off x="3914640" y="2943360"/>
            <a:ext cx="2543400" cy="1857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402" name="Picture 32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714240" y="135720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querimientos significativos</a:t>
            </a: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785880" y="2143080"/>
            <a:ext cx="60008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ica y Moral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ligencia Emocional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ientación a los Resultados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sión Estratégica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ividad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ducción y Liderazgo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ción Ejecutiva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acidad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405" name="Picture 3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642960" y="142884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os Ciclos del Cambio</a:t>
            </a: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3500280" y="2500200"/>
            <a:ext cx="21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NUEVOS DESAFÍOS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5500800" y="4500720"/>
            <a:ext cx="239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OLUCIONES CREATIVAS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714240" y="4500720"/>
            <a:ext cx="272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PARICIÓN DEL CAMBIO</a:t>
            </a: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0" name="Line 15"/>
          <p:cNvSpPr/>
          <p:nvPr/>
        </p:nvSpPr>
        <p:spPr>
          <a:xfrm>
            <a:off x="3790800" y="4938840"/>
            <a:ext cx="140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1" name="Line 16"/>
          <p:cNvSpPr/>
          <p:nvPr/>
        </p:nvSpPr>
        <p:spPr>
          <a:xfrm flipV="1">
            <a:off x="2130480" y="3250800"/>
            <a:ext cx="1101600" cy="92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2" name="Line 17"/>
          <p:cNvSpPr/>
          <p:nvPr/>
        </p:nvSpPr>
        <p:spPr>
          <a:xfrm>
            <a:off x="5854680" y="3308400"/>
            <a:ext cx="1019160" cy="92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3" name="Line 18"/>
          <p:cNvSpPr/>
          <p:nvPr/>
        </p:nvSpPr>
        <p:spPr>
          <a:xfrm flipV="1">
            <a:off x="2130480" y="3250800"/>
            <a:ext cx="1101600" cy="92412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4" name="Line 19"/>
          <p:cNvSpPr/>
          <p:nvPr/>
        </p:nvSpPr>
        <p:spPr>
          <a:xfrm>
            <a:off x="5854680" y="3308400"/>
            <a:ext cx="1019160" cy="9237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5" name="Line 20"/>
          <p:cNvSpPr/>
          <p:nvPr/>
        </p:nvSpPr>
        <p:spPr>
          <a:xfrm>
            <a:off x="3790800" y="4938840"/>
            <a:ext cx="1400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6" name="Line 21"/>
          <p:cNvSpPr/>
          <p:nvPr/>
        </p:nvSpPr>
        <p:spPr>
          <a:xfrm flipV="1">
            <a:off x="2130480" y="3250800"/>
            <a:ext cx="1101600" cy="92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7" name="Line 22"/>
          <p:cNvSpPr/>
          <p:nvPr/>
        </p:nvSpPr>
        <p:spPr>
          <a:xfrm>
            <a:off x="5864400" y="3308400"/>
            <a:ext cx="1019160" cy="92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8" name="Line 23"/>
          <p:cNvSpPr/>
          <p:nvPr/>
        </p:nvSpPr>
        <p:spPr>
          <a:xfrm>
            <a:off x="3790800" y="4938840"/>
            <a:ext cx="140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9" name="Line 24"/>
          <p:cNvSpPr/>
          <p:nvPr/>
        </p:nvSpPr>
        <p:spPr>
          <a:xfrm flipV="1">
            <a:off x="2130480" y="3250800"/>
            <a:ext cx="1101600" cy="92412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20" name="Line 25"/>
          <p:cNvSpPr/>
          <p:nvPr/>
        </p:nvSpPr>
        <p:spPr>
          <a:xfrm>
            <a:off x="5864400" y="3308400"/>
            <a:ext cx="1019160" cy="9237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21" name="Line 26"/>
          <p:cNvSpPr/>
          <p:nvPr/>
        </p:nvSpPr>
        <p:spPr>
          <a:xfrm>
            <a:off x="3790800" y="4938840"/>
            <a:ext cx="1400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22" name="Line 27"/>
          <p:cNvSpPr/>
          <p:nvPr/>
        </p:nvSpPr>
        <p:spPr>
          <a:xfrm flipV="1">
            <a:off x="2130480" y="3250800"/>
            <a:ext cx="1101600" cy="92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23" name="Line 28"/>
          <p:cNvSpPr/>
          <p:nvPr/>
        </p:nvSpPr>
        <p:spPr>
          <a:xfrm>
            <a:off x="5854680" y="3308400"/>
            <a:ext cx="1019160" cy="92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24" name="Line 29"/>
          <p:cNvSpPr/>
          <p:nvPr/>
        </p:nvSpPr>
        <p:spPr>
          <a:xfrm>
            <a:off x="3790800" y="4938840"/>
            <a:ext cx="140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25" name="TextBox 20"/>
          <p:cNvSpPr/>
          <p:nvPr/>
        </p:nvSpPr>
        <p:spPr>
          <a:xfrm>
            <a:off x="428760" y="5500800"/>
            <a:ext cx="83581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No sólo “lo único permanente es el cambio”.</a:t>
            </a:r>
            <a:endParaRPr b="0" lang="en-US" sz="21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Verdana"/>
            </a:endParaRPr>
          </a:p>
          <a:p>
            <a:pPr marL="177840" indent="-177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hora el cambio ocurre cada vez a mayor velocidad.</a:t>
            </a:r>
            <a:endParaRPr b="0" lang="en-US" sz="21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426" name="Picture 21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1000080" y="27147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MUCHAS GRACIAS !!</a:t>
            </a:r>
            <a:endParaRPr b="0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428" name="Picture 2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539640" y="1773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s el Primer Portal Argentino de “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búsquedas NO ejecutivas”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integrado por consultoras de recursos humanos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39640" y="4005360"/>
            <a:ext cx="8209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68360" y="2852640"/>
            <a:ext cx="8316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articipa activamente en eventos tales como Ferias de Empresas en Universidades y exposiciones relacionadas con el ámbito laboral.</a:t>
            </a:r>
            <a:endParaRPr b="0" lang="en-US" sz="16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ta charlas y talleres gratuitos a estudiantes y profesionales que buscan un cambio de trabajo o un primer empleo.</a:t>
            </a:r>
            <a:endParaRPr b="0" lang="en-US" sz="16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Tiene convenios de difusión con sites de capacitación.</a:t>
            </a:r>
            <a:endParaRPr b="0" lang="en-US" sz="16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enta actualmente con una base de datos de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145.000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rriculums vitae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a página recibe más de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70.000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visitas mensuales</a:t>
            </a:r>
            <a:endParaRPr b="0" lang="en-US" sz="1600" spc="-1" strike="noStrike">
              <a:solidFill>
                <a:srgbClr val="ffff99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95280" y="1197000"/>
            <a:ext cx="842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Verdana"/>
              </a:rPr>
              <a:t>BúsquedasRH</a:t>
            </a:r>
            <a:endParaRPr b="0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49" name="Picture 5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Para mayor información contactarse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María Man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erente Portal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mmanson@portalrh.com.ar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4325-2360 int. 2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ucumán 829 – Piso 1º.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portalrh.com.ar</a:t>
            </a:r>
            <a:r>
              <a:rPr b="1" lang="es-ES" sz="1800" spc="-1" strike="noStrike">
                <a:solidFill>
                  <a:srgbClr val="2f499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busquedasrh.com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4"/>
          <a:stretch/>
        </p:blipFill>
        <p:spPr>
          <a:xfrm>
            <a:off x="6804000" y="5877000"/>
            <a:ext cx="2087640" cy="725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PCECABA.JPG"/>
          <p:cNvPicPr/>
          <p:nvPr/>
        </p:nvPicPr>
        <p:blipFill>
          <a:blip r:embed="rId5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4005360"/>
            <a:ext cx="8209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1"/>
          <a:stretch/>
        </p:blipFill>
        <p:spPr>
          <a:xfrm>
            <a:off x="611280" y="5157720"/>
            <a:ext cx="7861320" cy="13305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468360" y="609300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28 de Agosto de 2009</a:t>
            </a:r>
            <a:endParaRPr b="0" lang="en-US" sz="1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428760" y="23572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FIL DE PROFESIONALES Y EJECUTIVOS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5143680" y="4500720"/>
            <a:ext cx="378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udio A. Fernaud</a:t>
            </a: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58" name="Picture 8" descr="CPCECABA.JPG"/>
          <p:cNvPicPr/>
          <p:nvPr/>
        </p:nvPicPr>
        <p:blipFill>
          <a:blip r:embed="rId2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714680" y="142884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00040" y="2714760"/>
            <a:ext cx="7391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texto General.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ómo se adaptan y cambias las personas.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s procesos de profesionalización y cambios.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s desafíos futuros.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61" name="Picture 3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85840" y="2214720"/>
            <a:ext cx="265896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Anterior</a:t>
            </a:r>
            <a:endParaRPr b="0" lang="en-US" sz="21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bilidad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ocos cambios 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evisibilidad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yección del futuro basado en el pasado.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286080" y="2143080"/>
            <a:ext cx="259092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Reciente</a:t>
            </a:r>
            <a:endParaRPr b="0" lang="en-US" sz="21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Inestabilidad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mbios frecuentes 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Baja previsibilidad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yección del Futuro basada en las tendencias del presente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700720" y="12142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texto General</a:t>
            </a: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6215040" y="2143080"/>
            <a:ext cx="2319480" cy="49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000000"/>
                </a:solidFill>
                <a:latin typeface="Verdana"/>
              </a:rPr>
              <a:t>Actual</a:t>
            </a:r>
            <a:endParaRPr b="0" lang="en-US" sz="21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ran inestabilidad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Cambios acelerados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mbigüedad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Debe imaginarse y descubrirse el futuro.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66" name="Picture 8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4067280" y="784080"/>
            <a:ext cx="81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26420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Text Box 69"/>
          <p:cNvSpPr/>
          <p:nvPr/>
        </p:nvSpPr>
        <p:spPr>
          <a:xfrm>
            <a:off x="642960" y="1214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structura de las Organizaciones</a:t>
            </a: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0" name="Text Box 71"/>
          <p:cNvSpPr/>
          <p:nvPr/>
        </p:nvSpPr>
        <p:spPr>
          <a:xfrm>
            <a:off x="380880" y="1600200"/>
            <a:ext cx="1828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57120" y="2143080"/>
          <a:ext cx="2806920" cy="3398760"/>
        </p:xfrm>
        <a:graphic>
          <a:graphicData uri="http://schemas.openxmlformats.org/drawingml/2006/table">
            <a:tbl>
              <a:tblPr/>
              <a:tblGrid>
                <a:gridCol w="28069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erior</a:t>
                      </a:r>
                      <a:endParaRPr b="0" lang="en-US" sz="21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ical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rárquica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a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das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97"/>
          <p:cNvSpPr/>
          <p:nvPr/>
        </p:nvSpPr>
        <p:spPr>
          <a:xfrm>
            <a:off x="3286080" y="2071800"/>
            <a:ext cx="2514600" cy="31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Reciente</a:t>
            </a:r>
            <a:endParaRPr b="0" lang="en-US" sz="21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4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Horizontal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lana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scentralizada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ianzas y Outsorcing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172200" y="2071800"/>
          <a:ext cx="2971800" cy="339552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ual</a:t>
                      </a:r>
                      <a:endParaRPr b="0" lang="en-US" sz="21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5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ricial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ializada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y por proyectos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alizada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Picture 8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1"/>
          <p:cNvSpPr/>
          <p:nvPr/>
        </p:nvSpPr>
        <p:spPr>
          <a:xfrm>
            <a:off x="2428920" y="121932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cción</a:t>
            </a: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8600" y="2031840"/>
          <a:ext cx="2832120" cy="2792520"/>
        </p:xfrm>
        <a:graphic>
          <a:graphicData uri="http://schemas.openxmlformats.org/drawingml/2006/table">
            <a:tbl>
              <a:tblPr/>
              <a:tblGrid>
                <a:gridCol w="283212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erior</a:t>
                      </a:r>
                      <a:endParaRPr b="0" lang="en-US" sz="21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ificada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decible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todos y Procedimientos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371760" y="1990800"/>
          <a:ext cx="2571840" cy="287496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iente</a:t>
                      </a:r>
                      <a:endParaRPr b="0" lang="en-US" sz="21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a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ptable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s genéricas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6215040" y="2000160"/>
          <a:ext cx="2590920" cy="287496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ual</a:t>
                      </a:r>
                      <a:endParaRPr b="0" lang="en-US" sz="21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igida al cliente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locidad de  Respuesta</a:t>
                      </a:r>
                      <a:endParaRPr b="0" lang="en-US" sz="1800" spc="-1" strike="noStrike">
                        <a:solidFill>
                          <a:srgbClr val="ffff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Picture 5" descr="CPCECABA.JPG"/>
          <p:cNvPicPr/>
          <p:nvPr/>
        </p:nvPicPr>
        <p:blipFill>
          <a:blip r:embed="rId1"/>
          <a:stretch/>
        </p:blipFill>
        <p:spPr>
          <a:xfrm>
            <a:off x="142920" y="142920"/>
            <a:ext cx="9288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19:59:53Z</dcterms:created>
  <dc:creator>Hidalgo &amp; Asociados</dc:creator>
  <dc:description/>
  <dc:language>en-US</dc:language>
  <cp:lastModifiedBy>CPCEACABA</cp:lastModifiedBy>
  <cp:lastPrinted>2002-03-11T23:15:42Z</cp:lastPrinted>
  <dcterms:modified xsi:type="dcterms:W3CDTF">2009-08-12T17:27:26Z</dcterms:modified>
  <cp:revision>505</cp:revision>
  <dc:subject/>
  <dc:title>Practicas de Compensaciones en Contextos Inflacionarios</dc:title>
</cp:coreProperties>
</file>