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72E-D37B-4DDC-ABA5-A256A397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7C9-25E2-4523-9069-1B4B2B55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D10-DEF9-4397-95AC-16AD301E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485-0FE7-426C-B1C6-C9429149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800-88D4-49B2-A3ED-50AA9667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154-D2D5-46D4-9A8D-9FA04631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3D8-8114-4DAF-B5CB-3EE0BEAD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653-BE9D-4EDE-ACEF-96A9FF67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131-27C7-4300-97B2-C153E1FA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291-69A1-4122-889A-D54C3C60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AE9-2F1B-4D6A-B18D-B3ACBB2D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983-89B8-4D37-AF53-41891AD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D0DD-CA52-4BEC-9801-F452B439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615636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rebuchet MS"/>
              </a:rPr>
              <a:t>Dra. M. Cristina De Nápoli – Servicio de Empleo y Orientación Laboral CPCECACA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6126120"/>
            <a:ext cx="838440" cy="731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76320"/>
            <a:ext cx="129564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80880"/>
            <a:ext cx="1295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200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590920"/>
            <a:ext cx="624852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Myriad Web"/>
              </a:rPr>
              <a:t>V Encuentro de Jóvenes Profesio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Myriad Web"/>
              </a:rPr>
              <a:t>en Ciencias Ec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Myriad Web"/>
              </a:rPr>
              <a:t>“</a:t>
            </a:r>
            <a:r>
              <a:rPr b="1" lang="es-AR" sz="1600" spc="-1" strike="noStrike">
                <a:solidFill>
                  <a:srgbClr val="000099"/>
                </a:solidFill>
                <a:latin typeface="Myriad Web"/>
              </a:rPr>
              <a:t>La crisis como oportunidad de desarrollo profesional</a:t>
            </a:r>
            <a:r>
              <a:rPr b="1" lang="es-ES" sz="1600" spc="-1" strike="noStrike">
                <a:solidFill>
                  <a:srgbClr val="000099"/>
                </a:solidFill>
                <a:latin typeface="Myriad Web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VersionPreferencial-conPlaca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16254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76320"/>
            <a:ext cx="853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619272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2320" y="685800"/>
            <a:ext cx="777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¿Qué Pue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Explorar nuestras apt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¿Qué oportunidades ofrece el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Evaluar el contexto económico y labo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Nacional e Internacional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8600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D04912_" descr=""/>
          <p:cNvPicPr/>
          <p:nvPr/>
        </p:nvPicPr>
        <p:blipFill>
          <a:blip r:embed="rId4"/>
          <a:stretch/>
        </p:blipFill>
        <p:spPr>
          <a:xfrm>
            <a:off x="6477120" y="3733920"/>
            <a:ext cx="1752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76320"/>
            <a:ext cx="853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619272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126000" y="685800"/>
            <a:ext cx="85338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Lenta reactivación del mercado labo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Posiciones que se generan a partir de la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A esta nueva generación se le pi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*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*Inno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*Pa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76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76320"/>
            <a:ext cx="853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619272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74520" y="6858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2193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94680" y="685800"/>
            <a:ext cx="552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Éxitos para esta nueva etap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E01561_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           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126120"/>
            <a:ext cx="838440" cy="731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1066680"/>
            <a:ext cx="853416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¿Qué es ser un Jóven Profes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Implica reposicionarse con nuevas demandas y respons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Nos coloca frente a una desición compleja y exigente...</a:t>
            </a:r>
            <a:r>
              <a:rPr b="0" lang="es-ES" sz="1600" spc="-1" strike="noStrike">
                <a:solidFill>
                  <a:srgbClr val="00376e"/>
                </a:solidFill>
                <a:latin typeface="Myriad Web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S02064_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           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6126120"/>
            <a:ext cx="838440" cy="731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1066680"/>
            <a:ext cx="8534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¿En qué campo profesional quiero desarrollar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Exigente y honesto ejercicio de autoexploració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0028_" descr=""/>
          <p:cNvPicPr/>
          <p:nvPr/>
        </p:nvPicPr>
        <p:blipFill>
          <a:blip r:embed="rId2"/>
          <a:stretch/>
        </p:blipFill>
        <p:spPr>
          <a:xfrm>
            <a:off x="3429000" y="3124080"/>
            <a:ext cx="198108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76320"/>
            <a:ext cx="853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619272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685800"/>
            <a:ext cx="703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¿Quién So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Fortalezas y Debil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¿Qué me gusta hacer? 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1316_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979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76320"/>
            <a:ext cx="853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619272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1720" y="685800"/>
            <a:ext cx="81770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¿Qué Qui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¿Hacía dónde quiero 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¿Hasta dónde quiero lleg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¿Qué pasos debo d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¿Qué estoy dispuesto a ceder en ese cami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¿Qué esfuerzos me demandará esta desi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76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D06663_" descr=""/>
          <p:cNvPicPr/>
          <p:nvPr/>
        </p:nvPicPr>
        <p:blipFill>
          <a:blip r:embed="rId7"/>
          <a:stretch/>
        </p:blipFill>
        <p:spPr>
          <a:xfrm>
            <a:off x="5791320" y="3809880"/>
            <a:ext cx="19285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76320"/>
            <a:ext cx="853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619272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153000" y="588960"/>
            <a:ext cx="94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76e"/>
                </a:solidFill>
                <a:latin typeface="Comic Sans MS"/>
              </a:rPr>
              <a:t>Oportunidades para el Jóven Profes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76e"/>
                </a:solidFill>
                <a:latin typeface="Comic Sans MS"/>
              </a:rPr>
              <a:t>de Ciencias Econó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D06662_" descr=""/>
          <p:cNvPicPr/>
          <p:nvPr/>
        </p:nvPicPr>
        <p:blipFill>
          <a:blip r:embed="rId2"/>
          <a:stretch/>
        </p:blipFill>
        <p:spPr>
          <a:xfrm>
            <a:off x="3675240" y="2635200"/>
            <a:ext cx="17935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76320"/>
            <a:ext cx="853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619272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3960" y="685800"/>
            <a:ext cx="838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Amplitud de campos e incumb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Los empleadores reconocen la multipli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Competencias y Campos de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Actu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Nuevas Tecnologías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76320"/>
            <a:ext cx="853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619272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85800"/>
            <a:ext cx="963468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Relación de Dependencia / Trabajo en forma Inde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Profesional Independ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376e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Visión integral del Negoci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376e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Brinda soluciones y promueve mejo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376e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Tanto en la vida corporativa como en el trabaj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en forma independiente, tenemos qu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376e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Profesionales de la venta y adminis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de nuestros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376e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Emprendedores dentro del negocio y nuestra pro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carr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76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 ENCUENTRO DE JÓVENES PROFESIONALES</a:t>
            </a:r>
            <a:r>
              <a:rPr b="1" lang="es-AR" sz="1800" spc="-1" strike="noStrike">
                <a:solidFill>
                  <a:srgbClr val="ffffff"/>
                </a:solidFill>
                <a:latin typeface="Trebuchet MS"/>
              </a:rPr>
              <a:t> EN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76320"/>
            <a:ext cx="853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619272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129240" y="685800"/>
            <a:ext cx="89085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CPCEC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Red de contactos: 66.000 matricu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Servicio de Empleo y Orientación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Comisiones de Estud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Desarrollo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Encuentr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76e"/>
                </a:solidFill>
                <a:latin typeface="Comic Sans MS"/>
              </a:rPr>
              <a:t>Actualización Perman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Ser Profesionales implica que somos expert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referentes en nuestro trabajo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376e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76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7:01:08Z</dcterms:created>
  <dc:creator>CPCEACABA</dc:creator>
  <dc:description/>
  <dc:language>en-US</dc:language>
  <cp:lastModifiedBy>cdenapoli</cp:lastModifiedBy>
  <dcterms:modified xsi:type="dcterms:W3CDTF">2009-08-26T20:00:08Z</dcterms:modified>
  <cp:revision>88</cp:revision>
  <dc:subject/>
  <dc:title>Presentación de PowerPoint</dc:title>
</cp:coreProperties>
</file>