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F651-C695-4769-A6BE-C1652BEB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0E0-E79A-4A91-AA73-CA1B317C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8AA0-6452-4246-97BE-6FC91320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603-1E26-4B28-8D24-5C162F5F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1669-C9E8-4C93-B5FA-13C7AD7F1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7E340-CCC5-496E-A9A5-E9332E86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9F78-E18A-476E-B83C-B8D15705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097E-0A71-4F3D-A6D1-FAE2D999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ABA9-48E4-438F-877B-51517D2D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F0A4D-C8A8-4FA9-9E1C-599B5F9F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122-C062-420D-B6E5-F8FF2EA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9CE2-4C18-4137-9114-3B1525F6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7C47-3985-4A7D-BF46-31C0E30A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84A92-6729-4335-B145-CD47A09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19E2-1053-4DB9-B019-D7CA42DE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8640-855A-47B5-B413-9072C700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E6A1-EFAD-4902-9C46-4CD07008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B5CF-B21C-48F1-BB17-AD8B27E7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284A-CFBB-44B5-921E-32C644DF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B713-7FEB-4476-8B68-1A8BFA402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E885-925D-4DB9-8BEC-A6810F28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61B3-4817-42F5-8841-15E32BBE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E57-25DD-427D-BD09-AA4D289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AFD0-D3E6-46E8-99EB-129D9107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44C-A84B-4E23-AEA0-10E99E2527C7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81A4-6978-458F-AFDC-576F2EE946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DD6-78E1-49E7-A02B-3267632FD11D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0CE71-687C-4C3E-9C0C-C70560DA37F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cizapata@arnet.com.ar" TargetMode="External"/><Relationship Id="rId2" Type="http://schemas.openxmlformats.org/officeDocument/2006/relationships/hyperlink" Target="mailto:cizapata1@gmail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41440" y="1125000"/>
            <a:ext cx="827856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420000"/>
                </a:solidFill>
                <a:latin typeface="Times New Roman"/>
              </a:rPr>
              <a:t>Logística Internacional, su influencia en el desarrollo para las PyMEs</a:t>
            </a:r>
            <a:r>
              <a:rPr b="0" lang="es-ES_tradnl" sz="54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55640" y="4436640"/>
            <a:ext cx="8058240" cy="12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 Simpos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rcio Internacional e Integ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de Diciembre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443640" y="2852640"/>
            <a:ext cx="2087640" cy="2014560"/>
          </a:xfrm>
          <a:prstGeom prst="rect">
            <a:avLst/>
          </a:prstGeom>
          <a:ln w="38160">
            <a:solidFill>
              <a:srgbClr val="999966"/>
            </a:solidFill>
            <a:prstDash val="lgDashDotDot"/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1823-A935-445B-886E-FC4769473A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475920"/>
            <a:ext cx="80010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20000"/>
                </a:solidFill>
                <a:latin typeface="Times New Roman"/>
              </a:rPr>
              <a:t>1. DESDE LA EMPRESA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00"/>
                </a:solidFill>
                <a:latin typeface="Arial"/>
              </a:rPr>
              <a:t>Análisis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 las características del embarq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 costo y tiempo de transi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 obligaciones y responsabilidades de las par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ualitativo de servicio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95C0-6D87-4985-8CDB-349D6243D7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20000"/>
                </a:solidFill>
                <a:latin typeface="Times New Roman"/>
              </a:rPr>
              <a:t>2. DESDE LOS PRESTADO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00"/>
                </a:solidFill>
                <a:latin typeface="Arial"/>
              </a:rPr>
              <a:t>Confiabilidad de los servicios brind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Frecuencia del itinerar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Veloc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Secuencia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5850-834E-47CB-9D95-3EEDBEF38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420000"/>
                </a:solidFill>
                <a:latin typeface="Times New Roman"/>
              </a:rPr>
              <a:t>2. DESDE LOS PRESTADORES</a:t>
            </a:r>
            <a:endParaRPr b="0" lang="en-US" sz="36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660000"/>
                </a:solidFill>
                <a:latin typeface="Arial"/>
              </a:rPr>
              <a:t>Seguridad  vs.  Riesgos</a:t>
            </a: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e demo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el manipule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110000"/>
              </a:lnSpc>
              <a:spcBef>
                <a:spcPts val="901"/>
              </a:spcBef>
              <a:buClr>
                <a:srgbClr val="660000"/>
              </a:buClr>
              <a:buSzPct val="65000"/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uptura unidad de car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en interfaces del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110000"/>
              </a:lnSpc>
              <a:spcBef>
                <a:spcPts val="901"/>
              </a:spcBef>
              <a:buClr>
                <a:srgbClr val="660000"/>
              </a:buClr>
              <a:buSzPct val="65000"/>
              <a:buFont typeface="Wingdings 3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Daños, perdidas, hurtos, rob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5B6-B135-4236-BD4C-54C27E8151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INSTANCIAS SUPERADO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DE ULTIMA GENE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ADA9-AEFB-48E7-A732-E2535379790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60000"/>
              </a:lnSpc>
              <a:spcBef>
                <a:spcPts val="1001"/>
              </a:spcBef>
              <a:buClr>
                <a:srgbClr val="800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logística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hace que bienes de todo el mundo sean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accesible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a casi cualquier persona, de cualquier lugar y en cualquier momento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E511-18CC-4232-94B9-EFD578700B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75096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80008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Hoy como nunca, las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PYMEX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tienen el poder de generar un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impacto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económico y social significativo, tanto para el mercado doméstico como el internacional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D3EF-137E-42DE-9D6D-B42F73940F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83628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s herramientas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TIEMP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ESPA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COMUNICACION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724-9641-4DFB-9966-2B4BBB4981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85800" y="1830240"/>
            <a:ext cx="7772400" cy="33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TIEMPO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y el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ESPACIO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están colapsando rápidament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9F62-763C-44F1-84EE-577FC86D92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82224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COMUNICACIÓN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por el contrario, esta creciendo exponencialmente a partir de la web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2AA4-33B4-488E-855D-E82E7649BD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3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Y esta recombinación de factores está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cambiando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la forma de hacer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negocio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en todo el mund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B8E0-1DB1-48B0-A743-54F3311CE2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1719360"/>
            <a:ext cx="7772400" cy="40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¿CUÁL ES LA PROBLEMÁ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DE LAS PY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ANT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LA EXPORTACIÓ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FDCD-C82F-4A7D-96CC-501BD8C26F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oportunidad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está abierta: está en nosotros profesionales en Cs Económicas, para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ajustarno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adaptarnos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MX" sz="4000" spc="-1" strike="noStrike">
                <a:solidFill>
                  <a:srgbClr val="660000"/>
                </a:solidFill>
                <a:latin typeface="Arial"/>
              </a:rPr>
              <a:t>cambiar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DBEF-6F20-4FFD-90CD-B2BA1085A6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75096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No existen las soluciones mágic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1001"/>
              </a:spcBef>
              <a:buClr>
                <a:srgbClr val="9999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olucionamos solo median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660000"/>
                </a:solidFill>
                <a:latin typeface="Arial"/>
              </a:rPr>
              <a:t>PARTICIPAC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660000"/>
                </a:solidFill>
                <a:latin typeface="Arial"/>
              </a:rPr>
              <a:t>EL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600" spc="-1" strike="noStrike">
                <a:solidFill>
                  <a:srgbClr val="660000"/>
                </a:solidFill>
                <a:latin typeface="Arial"/>
              </a:rPr>
              <a:t>SUPERACIÓN</a:t>
            </a: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845F-6F8C-4969-B06C-FB447795FB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0">
              <a:lnSpc>
                <a:spcPct val="13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420000"/>
                </a:solidFill>
                <a:latin typeface="Arial"/>
              </a:rPr>
              <a:t>MUCHAS GRACIA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660000"/>
                </a:solidFill>
                <a:latin typeface="Arial"/>
              </a:rPr>
              <a:t>Dr Cristina I Zap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cizapata@arnet.com.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cizapata1@gmail.com</a:t>
            </a:r>
            <a:r>
              <a:rPr b="1" lang="es-ES" sz="2400" spc="-1" strike="noStrike" u="sng">
                <a:solidFill>
                  <a:srgbClr val="9933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00"/>
                </a:solidFill>
                <a:latin typeface="Arial"/>
              </a:rPr>
              <a:t>011 15 5801 76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5B09-3362-4BBE-B03C-8743796A8C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282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Obstáculos para el inicio exportado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835280"/>
            <a:ext cx="838836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cceso a la inform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eci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scaso apoyo ofic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olumen / escala de produ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nanciamien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A698-B17B-4665-BADF-4FED75432B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55280" y="1906560"/>
            <a:ext cx="838836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apital huma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sto del transpor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evolución del 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gulaciones aduaner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1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ipo de camb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0" y="62820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20000"/>
                </a:solidFill>
                <a:latin typeface="Times New Roman"/>
              </a:rPr>
              <a:t>  </a:t>
            </a: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Obstáculos para el inicio exportado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A98-B8BB-434E-BA10-58646BBB41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Salto Cualitativo PyME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761840"/>
            <a:ext cx="874728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799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uperar l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sventaja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799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mprender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riesg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de la no expansión int´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799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ntender el motivo de l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glob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799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rse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como jugador de la nueva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799"/>
              </a:spcBef>
              <a:buClr>
                <a:srgbClr val="9999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aptar la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entalidad del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03C2-14EC-4833-ACAB-35F1CCF900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¿COMO IMPAC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LA LOGISTIC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EN LAS PYME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4912-09BC-4A44-A547-2BADB542E1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Saber vs. Hace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Cuál es el costo de la logíst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 En cuánto tiempo estará mi producto en el local del comprad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¿ Cómo llega mi producto al local del comprado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E50-449E-4E10-A1FD-D1590C47F1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   </a:t>
            </a:r>
            <a:r>
              <a:rPr b="1" lang="es-MX" sz="4000" spc="-1" strike="noStrike">
                <a:solidFill>
                  <a:srgbClr val="420000"/>
                </a:solidFill>
                <a:latin typeface="Times New Roman"/>
              </a:rPr>
              <a:t>Ponderaciones a Resolver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Relación costo / pre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iempo de transito / urgenci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Volumen / atomización de la dema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30000"/>
              </a:lnSpc>
              <a:spcBef>
                <a:spcPts val="901"/>
              </a:spcBef>
              <a:buClr>
                <a:srgbClr val="999966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Negocio Internacional / comercio exter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F22-3508-4926-AACC-718455DEB5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INSTANCIAS SUPERADO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420000"/>
                </a:solidFill>
                <a:latin typeface="Times New Roman"/>
              </a:rPr>
              <a:t>HABITU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r Cristina I Zapat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991F-5BFE-4A6A-BE0C-A2967F5F9E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12:26:47Z</dcterms:created>
  <dc:creator>Dr Cristina I Zapata</dc:creator>
  <dc:description/>
  <dc:language>en-US</dc:language>
  <cp:lastModifiedBy>WinuE</cp:lastModifiedBy>
  <dcterms:modified xsi:type="dcterms:W3CDTF">2008-12-03T13:44:16Z</dcterms:modified>
  <cp:revision>5</cp:revision>
  <dc:subject>Logistica Internacinal, su influencia en el desarrollo PyMEs</dc:subject>
  <dc:title>Consejo - V Simposio Cio Intl e Integracion</dc:title>
</cp:coreProperties>
</file>