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7F0AAE-C994-4E23-9187-10D55BBB78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DEBAC3-BB3E-4DC1-80D6-E14C328C89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CC62A4-46E5-4B14-AB47-11FF059285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F962B4E-8026-4B02-B4EF-18AA596517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4ECF5B6-962D-450C-9E2A-A9E995BC82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0969CF-A4A7-4023-AD31-5195634167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2ACF90-C4EE-4B59-8708-E8DC591D4F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BC1E90-BA12-4228-B8E2-A7BACC9EAF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188-6AF9-44B4-96B3-5650783A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BEB-8FE6-4EAC-A181-E3492445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E8A05-5D79-4EBE-889C-0EF01E76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305D6-BF4E-4310-A2A0-DD717843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63BF3-12C8-443A-8CD8-B1E2D2DF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209EA-B48D-48BF-AD53-D0AD8A8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2E799-889B-4257-B24F-8D95FC28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06BE4-2231-4D17-B18A-4A305BC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88970-AECC-4F99-A307-C75902F0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40593-0298-4372-B5B6-0EF1479E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5A010-190A-4982-9F98-C26DD781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DEC-F84D-4A20-866E-0D089C0B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92A-6929-491B-B80A-89F4FE6F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D1FF-FDCF-4A89-BFA4-463D4B51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A063-2808-4561-8F00-C1291C47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BE6B-2299-45EE-B00C-E56DEAD2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747B-F371-497F-B89B-E5FAF502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24BB-B21B-4192-AFD1-187FBB05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67B-EEB5-421E-AC80-7734BEC2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9EAF-0D6A-46E5-A855-C05A9E5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E59-C188-4994-8DAF-9FE8A70E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9267-0AC8-4695-990C-CB41B3C4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A642-18A2-4176-ABEA-EC648CA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D6F6-1A3E-4DB4-8434-77C43F74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A207-C361-4914-9A8A-3CC50409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8A4E-930C-426B-A87B-F95A93EC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42DB8-814C-447B-AC3A-BE5E47E3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EDEE1-FF14-4439-823F-522DBBA7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34E71-5FDA-4227-BDF4-661CD4DB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BC50D-1DB2-47DE-B1AA-6103D503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10087-FB19-427B-A7C2-D56AF708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60C-DF8A-4E5A-B67C-86F55BBA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29C93-CEA5-4FDD-A7A9-CCB8E7D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10008-03B7-4E72-883B-F61856D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D72B1-8785-4004-966C-1F049809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0D491-9372-4150-9B2C-7C2AF7C6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3C86D-ABDD-4B43-83ED-2B800DB5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19358-0D49-4727-B36B-9CABE5FD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89A08-BBD2-4B98-96E7-11923AA7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C853C-E3F7-4D59-AE3D-B4154FBD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60B11-B49D-4A59-B7B6-3ECB3E0F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4523D-E99E-48F3-8E19-F09AFDFE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98B-47CC-427F-AE5A-FF688A0A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7953D-2C62-4324-811F-9814D433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85489-F524-4FB9-B961-D9EAEAA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83320-56B1-433C-ABF9-FBA61764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33EC7-65D6-4FB5-AA11-4A22013F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FA4A3-13C1-4001-9D6B-94E3D694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4CA4E-1066-4C63-A0AD-FA4292F6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483FF-31C8-4B09-9B2B-30B7AE3A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9AA30-1948-4548-A3C1-C998C434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6F106-097F-43AF-885F-7F27B561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AAF19-239A-4545-822D-6B7FAE2C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75F-4B39-480F-9EFB-1DBD2AFE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037C1-F309-476D-B5DE-1C983909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E1D28-15F6-4078-9891-8344C1E1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2862B-FA17-4CBE-9C3B-84601189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CD7EC-FEDC-49E0-8B01-415935A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7200D-D9AB-4C64-9545-6FB4889A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2EF90-7377-40D7-9928-001CC00B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D7059-0CDF-4FD9-B704-6AEBB67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432E6-E164-4CD8-970C-29120D5D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B8AF1-16A7-4AFC-B783-AC8CBB2C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6F3DE-94FE-4F0A-86B1-14C2C0D6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378-C2A8-47A3-A335-DD2B491B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DA910-265E-4CD3-A3AE-AEA47B0C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F8E67-F3FF-41C1-B29B-F09DA6B1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226E-3840-4B7C-B61A-B2262B2D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B11F1-AE8B-4F5A-9FE3-FCE3228E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68E9-28EE-4635-9535-E88CDCBB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448E5-BE54-4F75-8680-7BACD8E5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0AC17-5F2A-4F84-9499-5C269A84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84F14-F2D3-40E9-947E-D8A9ACF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17AB-7F1D-4B75-9A89-CC3090ED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A929-6102-4BFD-A37D-AADAFA6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036-4F54-4074-881B-75B51BF6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96939-E4F1-4B22-9987-C739E20E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17A44-6F89-4EEA-BBF2-8ED80E24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62F8E-2409-4EF0-9173-3E53DB66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AC3CA-32DE-4469-B7B1-49422B26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03D3C-4060-4B56-8A80-80B0FF0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53575-B344-4F58-BC8B-B3FC4B89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84A1C-1E43-4E14-BDDE-F576966D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86600-6A4D-49C6-B7DC-43E19CA0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2FF1F9-7A5E-443A-A25B-D89A5965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020E8-E39A-4860-B65D-0011DCF7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BC0-3381-4FA3-AA5D-E610A1B4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1685A-74E1-4181-A504-1A8CA21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8D1A5-49D1-4136-8F9E-378BD0C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2FFDF-54F1-4C33-A030-48A4EAC1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36001-2FA2-4708-9890-96FED744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33203-873E-44D8-8358-BB25CE16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FF24A-315D-4317-84CB-340CB821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FADB-39FA-4A93-B81E-B5548A0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7541F-4B46-44E7-B811-D03A77E2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440DC-EBE9-41AC-97BA-1608F6CC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A4CF1-332A-4B41-B92C-9E1040DE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782-E66F-4BF6-9056-CC8B6D9D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1BC51-045E-45D2-B92A-414658C6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B081-3E86-4EDC-AEDB-BDA163DD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BF56D-4138-457A-880A-9834B6D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CBEBD-0E0D-49A4-9D31-F2EE06A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390AA-FB70-4C1F-9EAB-A3A6906C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55265-2CB9-465C-A6D5-A6105DB6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E112-E109-4192-9C6D-0306FE1C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642A8-D4AA-4A91-A83A-BBC39B32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BEC46-B757-4072-9FF9-395A239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56093-9B38-440D-AB6C-23720158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IRECCIÓN GENERAL DE ATENCIÓN AL INVER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7FE9-0D5A-4F07-A645-ECEEDB61267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DIRECCIÓN GENERAL DE ATENCIÓN AL INVER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660F-BA20-44B9-B582-79F5B5B36C0E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CB82-1217-42D7-82C3-EDF805C31A3C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IRECCIÓN GENERAL DE ATENCIÓN AL INVER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AF88-BBA5-45CA-AD39-6441541D7F9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IRECCIÓN GENERAL DE ATENCIÓN AL INVER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B695-F26C-4DA3-802E-90EA4D94EBB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IRECCIÓN GENERAL DE ATENCIÓN AL INVER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IRECCIÓN GENERAL DE ATENCIÓN AL INVER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0E42-BA5B-4EB8-A0D0-BF2952941423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F086-F9FB-4AAB-B096-390E5C62AD99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IRECCIÓN GENERAL DE ATENCIÓN AL INVER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IRECCIÓN GENERAL DE ATENCIÓN AL INVER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56DA-D983-492E-9E08-4A9C25EF1F4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IRECCIÓN GENERAL DE ATENCIÓN AL INVER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9026-87A4-4BF7-85D5-05291D96F8F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2920" y="2420640"/>
            <a:ext cx="81723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ebddc3"/>
                </a:solidFill>
                <a:latin typeface="Tw Cen MT"/>
              </a:rPr>
              <a:t>Distrito Tecnológico</a:t>
            </a:r>
            <a:br>
              <a:rPr sz="6000"/>
            </a:br>
            <a:r>
              <a:rPr b="1" lang="es-AR" sz="6000" spc="-1" strike="noStrike">
                <a:solidFill>
                  <a:srgbClr val="ebddc3"/>
                </a:solidFill>
                <a:latin typeface="Tw Cen MT"/>
              </a:rPr>
              <a:t>Ciudad de Buenos Aires</a:t>
            </a:r>
            <a:endParaRPr b="0" lang="en-US" sz="6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052720" y="599112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Ministerio de Desarrollo Económ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w Cen MT"/>
              </a:rPr>
              <a:t>Gobierno de la Ciudad Autónoma de Buenos A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24360" y="71280"/>
            <a:ext cx="1224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775f55"/>
                </a:solidFill>
                <a:latin typeface="Tw Cen MT"/>
              </a:rPr>
              <a:t>TIC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9875-305E-4463-8A31-A404B9E1838B}" type="slidenum">
              <a:rPr b="1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8172360" y="219240"/>
            <a:ext cx="863640" cy="79992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1428840" y="1949400"/>
            <a:ext cx="2971800" cy="2286000"/>
            <a:chOff x="1428840" y="1949400"/>
            <a:chExt cx="2971800" cy="2286000"/>
          </a:xfrm>
        </p:grpSpPr>
        <p:sp>
          <p:nvSpPr>
            <p:cNvPr id="407" name=""/>
            <p:cNvSpPr/>
            <p:nvPr/>
          </p:nvSpPr>
          <p:spPr>
            <a:xfrm>
              <a:off x="1505160" y="1949400"/>
              <a:ext cx="2895480" cy="2286000"/>
            </a:xfrm>
            <a:prstGeom prst="cube">
              <a:avLst>
                <a:gd name="adj" fmla="val 25000"/>
              </a:avLst>
            </a:prstGeom>
            <a:solidFill>
              <a:srgbClr val="94b6d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8840" y="293976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oftware y Servicios Informáticos (SSI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552920" y="1949400"/>
            <a:ext cx="2971800" cy="2286000"/>
            <a:chOff x="4552920" y="1949400"/>
            <a:chExt cx="2971800" cy="2286000"/>
          </a:xfrm>
        </p:grpSpPr>
        <p:sp>
          <p:nvSpPr>
            <p:cNvPr id="410" name=""/>
            <p:cNvSpPr/>
            <p:nvPr/>
          </p:nvSpPr>
          <p:spPr>
            <a:xfrm>
              <a:off x="4629240" y="1949400"/>
              <a:ext cx="2895480" cy="2286000"/>
            </a:xfrm>
            <a:prstGeom prst="cube">
              <a:avLst>
                <a:gd name="adj" fmla="val 25000"/>
              </a:avLst>
            </a:prstGeom>
            <a:solidFill>
              <a:srgbClr val="dd80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52920" y="310644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428840" y="4311720"/>
            <a:ext cx="2971800" cy="2286000"/>
            <a:chOff x="1428840" y="4311720"/>
            <a:chExt cx="2971800" cy="2286000"/>
          </a:xfrm>
        </p:grpSpPr>
        <p:sp>
          <p:nvSpPr>
            <p:cNvPr id="413" name=""/>
            <p:cNvSpPr/>
            <p:nvPr/>
          </p:nvSpPr>
          <p:spPr>
            <a:xfrm>
              <a:off x="1504800" y="4311720"/>
              <a:ext cx="2895840" cy="2286000"/>
            </a:xfrm>
            <a:prstGeom prst="cube">
              <a:avLst>
                <a:gd name="adj" fmla="val 25000"/>
              </a:avLst>
            </a:prstGeom>
            <a:solidFill>
              <a:srgbClr val="dd80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28840" y="55166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PO - KP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52920" y="4311720"/>
            <a:ext cx="2971800" cy="2286000"/>
            <a:chOff x="4552920" y="4311720"/>
            <a:chExt cx="2971800" cy="2286000"/>
          </a:xfrm>
        </p:grpSpPr>
        <p:sp>
          <p:nvSpPr>
            <p:cNvPr id="416" name=""/>
            <p:cNvSpPr/>
            <p:nvPr/>
          </p:nvSpPr>
          <p:spPr>
            <a:xfrm>
              <a:off x="4629240" y="4311720"/>
              <a:ext cx="2895480" cy="2286000"/>
            </a:xfrm>
            <a:prstGeom prst="cube">
              <a:avLst>
                <a:gd name="adj" fmla="val 25000"/>
              </a:avLst>
            </a:prstGeom>
            <a:solidFill>
              <a:srgbClr val="94b6d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52920" y="5510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ontact Center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36720" y="71280"/>
            <a:ext cx="53992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775f55"/>
                </a:solidFill>
                <a:latin typeface="Tw Cen MT"/>
              </a:rPr>
              <a:t>¿Por qué la Ciudad de Buenos Aire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F5EF-B299-40BE-BBED-213DC8B65E9A}" type="slidenum">
              <a:rPr b="1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8172360" y="219240"/>
            <a:ext cx="863640" cy="799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552920" cy="487656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4788000" y="1555920"/>
            <a:ext cx="4284360" cy="5257440"/>
            <a:chOff x="4788000" y="1555920"/>
            <a:chExt cx="4284360" cy="5257440"/>
          </a:xfrm>
        </p:grpSpPr>
        <p:grpSp>
          <p:nvGrpSpPr>
            <p:cNvPr id="423" name=""/>
            <p:cNvGrpSpPr/>
            <p:nvPr/>
          </p:nvGrpSpPr>
          <p:grpSpPr>
            <a:xfrm>
              <a:off x="4788000" y="1555920"/>
              <a:ext cx="4232880" cy="5257440"/>
              <a:chOff x="4788000" y="1555920"/>
              <a:chExt cx="4232880" cy="5257440"/>
            </a:xfrm>
          </p:grpSpPr>
          <p:sp>
            <p:nvSpPr>
              <p:cNvPr id="424" name=""/>
              <p:cNvSpPr/>
              <p:nvPr/>
            </p:nvSpPr>
            <p:spPr>
              <a:xfrm rot="10800000">
                <a:off x="4788000" y="1555920"/>
                <a:ext cx="4232880" cy="5257440"/>
              </a:xfrm>
              <a:custGeom>
                <a:avLst/>
                <a:gdLst>
                  <a:gd name="textAreaLeft" fmla="*/ 0 w 4232880"/>
                  <a:gd name="textAreaRight" fmla="*/ 4233240 w 4232880"/>
                  <a:gd name="textAreaTop" fmla="*/ 0 h 5257440"/>
                  <a:gd name="textAreaBottom" fmla="*/ 5257800 h 525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09" y="0"/>
                    </a:lnTo>
                    <a:lnTo>
                      <a:pt x="21600" y="10800"/>
                    </a:lnTo>
                    <a:lnTo>
                      <a:pt x="190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4b6d2">
                  <a:alpha val="1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11440" y="2149560"/>
                <a:ext cx="18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316840" y="1571760"/>
              <a:ext cx="3755520" cy="49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Capital humano calificado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Población sofisticada  con el mayor  poder adquisitivo de Latinoaméric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Universidades y centros de investigación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Inversores / Banco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Consultores legales y contable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Cultura Emprendedora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Conexión con el mundo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Huso horario EEUU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Infraestructura telecomunicacione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El 70% de las TICs se encuentran en Buenos Aire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76010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775f55"/>
                </a:solidFill>
                <a:latin typeface="Tw Cen MT"/>
              </a:rPr>
              <a:t>Objetivos del Distrito Tecnológic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2C03-39D5-4CA3-BA32-24F3CEE13FFF}" type="slidenum">
              <a:rPr b="1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172360" y="219240"/>
            <a:ext cx="863640" cy="799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50920" y="1916280"/>
            <a:ext cx="7993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Promover a la Ciudad de Buenos Aires como Capital Latinoamericana de la Tecnología, fomentando a la industria TIC de alto valor agreg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480" indent="-312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480" indent="-3124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Retener y atraer inversiones estratégicas locales e internacion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480" indent="-312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480" indent="-312480">
              <a:lnSpc>
                <a:spcPct val="70000"/>
              </a:lnSpc>
              <a:buClr>
                <a:srgbClr val="dd8047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arrollar un espacio donde conviva la identidad cultural existente con las empresas TIC, se trabaje, se estudie, y se v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480" indent="-312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480" indent="-3124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Incrementar el número de estudiantes y la calidad de la educación en carreras científicas y tecnológic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480" indent="-3124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480" indent="-312480">
              <a:lnSpc>
                <a:spcPct val="70000"/>
              </a:lnSpc>
              <a:buClr>
                <a:srgbClr val="dd8047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Contribuir en el desarrollo de la zona Sur de la Ciu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25520" y="71280"/>
            <a:ext cx="78184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775f55"/>
                </a:solidFill>
                <a:latin typeface="Tw Cen MT"/>
              </a:rPr>
              <a:t>¿Por qué la zona Sur de la Ciudad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D287-3C9F-4472-8E95-D42B57DD6641}" type="slidenum">
              <a:rPr b="1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8172360" y="219240"/>
            <a:ext cx="863640" cy="799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755640" y="1787400"/>
            <a:ext cx="766764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cana al microcentro de la Ciu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grandes posibilidades de constru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ente ac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uencia de numerosas líneas de colectivos,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nea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subterráneos y ferrocarr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4059000" y="4733640"/>
            <a:ext cx="1079640" cy="120672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01680 h 1206720"/>
              <a:gd name="textAreaBottom" fmla="*/ 905040 h 1206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8047"/>
          </a:solidFill>
          <a:ln w="936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"/>
          <p:cNvSpPr/>
          <p:nvPr/>
        </p:nvSpPr>
        <p:spPr>
          <a:xfrm>
            <a:off x="1258920" y="6103800"/>
            <a:ext cx="670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ENTE RELACIÓN COSTO-BENEF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1160" y="71280"/>
            <a:ext cx="78181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775f55"/>
                </a:solidFill>
                <a:latin typeface="Tw Cen MT"/>
              </a:rPr>
              <a:t>Distrito Tecnológic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D612-3C84-40E2-9C8C-27DD2B6C1921}" type="slidenum">
              <a:rPr b="1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8172360" y="219240"/>
            <a:ext cx="863640" cy="7999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205080" y="1557360"/>
            <a:ext cx="5543640" cy="5229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755640" y="5110200"/>
            <a:ext cx="1511280" cy="623880"/>
          </a:xfrm>
          <a:prstGeom prst="rect">
            <a:avLst/>
          </a:prstGeom>
          <a:solidFill>
            <a:srgbClr val="000000"/>
          </a:solidFill>
          <a:ln w="38160">
            <a:solidFill>
              <a:srgbClr val="94b6d2"/>
            </a:solidFill>
            <a:miter/>
          </a:ln>
          <a:effectLst>
            <a:outerShdw dist="107932" dir="8100000" blurRad="0" rotWithShape="0">
              <a:srgbClr val="ebddc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HECTÁRE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142920" y="1868400"/>
            <a:ext cx="29890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76010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775f55"/>
                </a:solidFill>
                <a:latin typeface="Tw Cen MT"/>
              </a:rPr>
              <a:t>Incentivos Fisca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BF9C-9C6C-4918-AE99-04F5B28E0B8D}" type="slidenum">
              <a:rPr b="1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8172360" y="219240"/>
            <a:ext cx="863640" cy="799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-684360" y="1989000"/>
            <a:ext cx="98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3" marL="1330200" indent="-221400">
              <a:lnSpc>
                <a:spcPct val="150000"/>
              </a:lnSpc>
              <a:spcBef>
                <a:spcPts val="400"/>
              </a:spcBef>
              <a:buClr>
                <a:srgbClr val="dd8047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Tw Cen MT"/>
              </a:rPr>
              <a:t>Impuesto a Ingresos Brutos (por 10 añ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330200" indent="-221400">
              <a:lnSpc>
                <a:spcPct val="150000"/>
              </a:lnSpc>
              <a:spcBef>
                <a:spcPts val="400"/>
              </a:spcBef>
              <a:buClr>
                <a:srgbClr val="dd8047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Tw Cen MT"/>
              </a:rPr>
              <a:t>Impuesto de Sel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330200" indent="-221400">
              <a:lnSpc>
                <a:spcPct val="150000"/>
              </a:lnSpc>
              <a:spcBef>
                <a:spcPts val="400"/>
              </a:spcBef>
              <a:buClr>
                <a:srgbClr val="dd8047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Tw Cen MT"/>
              </a:rPr>
              <a:t>ABL (por 10 añ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330200" indent="-221400">
              <a:lnSpc>
                <a:spcPct val="150000"/>
              </a:lnSpc>
              <a:spcBef>
                <a:spcPts val="400"/>
              </a:spcBef>
              <a:buClr>
                <a:srgbClr val="dd8047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Tw Cen MT"/>
              </a:rPr>
              <a:t>Derecho de Delineación y Construcciones (por 10 añ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330200" indent="-221400">
              <a:lnSpc>
                <a:spcPct val="150000"/>
              </a:lnSpc>
              <a:spcBef>
                <a:spcPts val="400"/>
              </a:spcBef>
              <a:buClr>
                <a:srgbClr val="dd8047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000" spc="-1" strike="noStrike">
                <a:solidFill>
                  <a:srgbClr val="000000"/>
                </a:solidFill>
                <a:latin typeface="Tw Cen MT"/>
              </a:rPr>
              <a:t>Líneas de Crédito Preferenciales del Banco Ciuda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330200" indent="-2214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6560" y="71280"/>
            <a:ext cx="74170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775f55"/>
                </a:solidFill>
                <a:latin typeface="Tw Cen MT"/>
              </a:rPr>
              <a:t>Otros benefici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5508-3991-4DBF-8691-E450D672C374}" type="slidenum">
              <a:rPr b="1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172360" y="219240"/>
            <a:ext cx="863640" cy="799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79280" y="1700280"/>
            <a:ext cx="871380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buClr>
                <a:srgbClr val="dd8047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ayor oferta de recursos humanos capacitados: promoción de formación en Tecnologí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dd8047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ejoras en infraestructura y rediseño del espacio públic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dd8047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Optimización del tránsito y medios de transpor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dd8047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ejoramiento de la seguridad de la zon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7:58:03Z</dcterms:created>
  <dc:creator>Usuario</dc:creator>
  <dc:description/>
  <dc:language>en-US</dc:language>
  <cp:lastModifiedBy>carlos.pirovano</cp:lastModifiedBy>
  <dcterms:modified xsi:type="dcterms:W3CDTF">2008-11-24T13:39:26Z</dcterms:modified>
  <cp:revision>221</cp:revision>
  <dc:subject/>
  <dc:title>CENTRO DE ATENCIÓN AL INVEROR</dc:title>
</cp:coreProperties>
</file>