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wmf" ContentType="image/x-wmf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8067600" y="0"/>
            <a:ext cx="1076400" cy="892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979560" y="6299280"/>
            <a:ext cx="71708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ff6600">
                  <a:alpha val="0"/>
                </a:srgbClr>
              </a:gs>
              <a:gs pos="100000">
                <a:srgbClr val="ff3300">
                  <a:alpha val="70196"/>
                </a:srgbClr>
              </a:gs>
            </a:gsLst>
            <a:lin ang="8100000"/>
          </a:gra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image" Target="../media/image4.jpeg"/><Relationship Id="rId19" Type="http://schemas.openxmlformats.org/officeDocument/2006/relationships/image" Target="../media/image4.jpeg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4.jpeg"/><Relationship Id="rId25" Type="http://schemas.openxmlformats.org/officeDocument/2006/relationships/image" Target="../media/image4.jpeg"/><Relationship Id="rId26" Type="http://schemas.openxmlformats.org/officeDocument/2006/relationships/image" Target="../media/image4.jpeg"/><Relationship Id="rId27" Type="http://schemas.openxmlformats.org/officeDocument/2006/relationships/image" Target="../media/image4.jpeg"/><Relationship Id="rId28" Type="http://schemas.openxmlformats.org/officeDocument/2006/relationships/image" Target="../media/image4.jpeg"/><Relationship Id="rId29" Type="http://schemas.openxmlformats.org/officeDocument/2006/relationships/image" Target="../media/image4.jpeg"/><Relationship Id="rId30" Type="http://schemas.openxmlformats.org/officeDocument/2006/relationships/image" Target="../media/image4.jpeg"/><Relationship Id="rId31" Type="http://schemas.openxmlformats.org/officeDocument/2006/relationships/image" Target="../media/image4.jpeg"/><Relationship Id="rId32" Type="http://schemas.openxmlformats.org/officeDocument/2006/relationships/image" Target="../media/image4.jpeg"/><Relationship Id="rId33" Type="http://schemas.openxmlformats.org/officeDocument/2006/relationships/image" Target="../media/image4.jpeg"/><Relationship Id="rId34" Type="http://schemas.openxmlformats.org/officeDocument/2006/relationships/image" Target="../media/image4.jpeg"/><Relationship Id="rId35" Type="http://schemas.openxmlformats.org/officeDocument/2006/relationships/image" Target="../media/image4.jpeg"/><Relationship Id="rId36" Type="http://schemas.openxmlformats.org/officeDocument/2006/relationships/image" Target="../media/image4.jpeg"/><Relationship Id="rId37" Type="http://schemas.openxmlformats.org/officeDocument/2006/relationships/image" Target="../media/image4.jpeg"/><Relationship Id="rId38" Type="http://schemas.openxmlformats.org/officeDocument/2006/relationships/image" Target="../media/image4.jpeg"/><Relationship Id="rId39" Type="http://schemas.openxmlformats.org/officeDocument/2006/relationships/image" Target="../media/image4.jpeg"/><Relationship Id="rId40" Type="http://schemas.openxmlformats.org/officeDocument/2006/relationships/image" Target="../media/image4.jpeg"/><Relationship Id="rId41" Type="http://schemas.openxmlformats.org/officeDocument/2006/relationships/image" Target="../media/image4.jpeg"/><Relationship Id="rId42" Type="http://schemas.openxmlformats.org/officeDocument/2006/relationships/image" Target="../media/image4.jpeg"/><Relationship Id="rId43" Type="http://schemas.openxmlformats.org/officeDocument/2006/relationships/image" Target="../media/image4.jpeg"/><Relationship Id="rId44" Type="http://schemas.openxmlformats.org/officeDocument/2006/relationships/image" Target="../media/image4.jpeg"/><Relationship Id="rId4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30360" y="2889360"/>
            <a:ext cx="79167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9200" y="5522760"/>
            <a:ext cx="79167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492360"/>
            <a:ext cx="914400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s-AR" sz="2600" spc="-1" strike="noStrike">
                <a:solidFill>
                  <a:srgbClr val="333399"/>
                </a:solidFill>
                <a:latin typeface="Arial"/>
              </a:rPr>
              <a:t>V Simposio sobre Comercio Exterior e Integr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Escenarios futu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129120" y="228600"/>
            <a:ext cx="2858760" cy="2117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6280200"/>
            <a:ext cx="9144000" cy="57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333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Instituto de Estrategia Inter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388200" y="5681520"/>
            <a:ext cx="22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Enrique S. Mant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49840" y="6307200"/>
            <a:ext cx="357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Buenos Aires, Diciembre d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0924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333399"/>
                </a:solidFill>
                <a:latin typeface="Arial"/>
              </a:rPr>
              <a:t>Consejo Profesional de Ciencias Económi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032520"/>
            <a:ext cx="4572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57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ENSAJE DEL PRESID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4840" y="960480"/>
            <a:ext cx="867096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¿Qué podemos hace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99"/>
                </a:solidFill>
                <a:latin typeface="Arial"/>
              </a:rPr>
              <a:t>Como director estoy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cc0000"/>
                </a:solidFill>
                <a:latin typeface="Arial"/>
              </a:rPr>
              <a:t>preocupado tanto de la continuidad de la empresa como de la tranquilidad de ustedes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200" spc="-1" strike="noStrike">
                <a:solidFill>
                  <a:srgbClr val="333399"/>
                </a:solidFill>
                <a:latin typeface="Arial"/>
              </a:rPr>
              <a:t>y de apoyarles y aconsejarles lo más posible para que podamos todos salir bien de estos acontecimientos. La crisis nos impacta como empresa y, por lo tanto, a nivel personal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33280" y="3448080"/>
            <a:ext cx="8150400" cy="3294000"/>
            <a:chOff x="233280" y="3448080"/>
            <a:chExt cx="8150400" cy="3294000"/>
          </a:xfrm>
        </p:grpSpPr>
        <p:sp>
          <p:nvSpPr>
            <p:cNvPr id="171" name=""/>
            <p:cNvSpPr/>
            <p:nvPr/>
          </p:nvSpPr>
          <p:spPr>
            <a:xfrm>
              <a:off x="4192560" y="6697800"/>
              <a:ext cx="395784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280" y="6697800"/>
              <a:ext cx="395928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192560" y="6318360"/>
              <a:ext cx="395784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3280" y="6318360"/>
              <a:ext cx="395928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192560" y="5938920"/>
              <a:ext cx="395784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3280" y="5938920"/>
              <a:ext cx="395928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92560" y="5559480"/>
              <a:ext cx="395784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3280" y="5559480"/>
              <a:ext cx="395928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92560" y="4159080"/>
              <a:ext cx="419112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rmAutofit/>
            </a:bodyPr>
            <a:p>
              <a:pPr>
                <a:spcBef>
                  <a:spcPts val="550"/>
                </a:spcBef>
                <a:buSzPct val="102909"/>
                <a:buBlip>
                  <a:blip r:embed="rId1"/>
                </a:buBlip>
                <a:tabLst>
                  <a:tab algn="l" pos="536400"/>
                  <a:tab algn="l" pos="1073160"/>
                  <a:tab algn="l" pos="1609560"/>
                  <a:tab algn="l" pos="2146320"/>
                  <a:tab algn="l" pos="2682720"/>
                  <a:tab algn="l" pos="3219480"/>
                  <a:tab algn="l" pos="3755880"/>
                  <a:tab algn="l" pos="4292640"/>
                  <a:tab algn="l" pos="4829040"/>
                  <a:tab algn="l" pos="5365800"/>
                  <a:tab algn="l" pos="5902200"/>
                  <a:tab algn="l" pos="6438960"/>
                  <a:tab algn="l" pos="6975360"/>
                  <a:tab algn="l" pos="7512120"/>
                  <a:tab algn="l" pos="8048520"/>
                  <a:tab algn="l" pos="8585280"/>
                  <a:tab algn="l" pos="9121680"/>
                  <a:tab algn="l" pos="9658440"/>
                  <a:tab algn="l" pos="10194840"/>
                  <a:tab algn="l" pos="1073160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2200" spc="-1" strike="noStrike">
                  <a:solidFill>
                    <a:srgbClr val="000000"/>
                  </a:solidFill>
                  <a:latin typeface="Arial"/>
                </a:rPr>
                <a:t>Bajar el nivel de gastos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550"/>
                </a:spcBef>
                <a:tabLst>
                  <a:tab algn="l" pos="0"/>
                  <a:tab algn="l" pos="536400"/>
                  <a:tab algn="l" pos="1073160"/>
                  <a:tab algn="l" pos="1609560"/>
                  <a:tab algn="l" pos="2146320"/>
                  <a:tab algn="l" pos="2682720"/>
                  <a:tab algn="l" pos="3219480"/>
                  <a:tab algn="l" pos="3755880"/>
                  <a:tab algn="l" pos="4292640"/>
                  <a:tab algn="l" pos="4829040"/>
                  <a:tab algn="l" pos="5365800"/>
                  <a:tab algn="l" pos="5902200"/>
                  <a:tab algn="l" pos="6438960"/>
                  <a:tab algn="l" pos="6975360"/>
                  <a:tab algn="l" pos="7512120"/>
                  <a:tab algn="l" pos="8048520"/>
                  <a:tab algn="l" pos="8585280"/>
                  <a:tab algn="l" pos="9121680"/>
                  <a:tab algn="l" pos="9658440"/>
                  <a:tab algn="l" pos="10194840"/>
                  <a:tab algn="l" pos="1073160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s-ES" sz="2200" spc="-1" strike="noStrike">
                  <a:solidFill>
                    <a:srgbClr val="000000"/>
                  </a:solidFill>
                  <a:latin typeface="Arial"/>
                </a:rPr>
                <a:t>personales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550"/>
                </a:spcBef>
                <a:buSzPct val="102909"/>
                <a:buBlip>
                  <a:blip r:embed="rId2"/>
                </a:buBlip>
                <a:tabLst>
                  <a:tab algn="l" pos="536400"/>
                  <a:tab algn="l" pos="1073160"/>
                  <a:tab algn="l" pos="1609560"/>
                  <a:tab algn="l" pos="2146320"/>
                  <a:tab algn="l" pos="2682720"/>
                  <a:tab algn="l" pos="3219480"/>
                  <a:tab algn="l" pos="3755880"/>
                  <a:tab algn="l" pos="4292640"/>
                  <a:tab algn="l" pos="4829040"/>
                  <a:tab algn="l" pos="5365800"/>
                  <a:tab algn="l" pos="5902200"/>
                  <a:tab algn="l" pos="6438960"/>
                  <a:tab algn="l" pos="6975360"/>
                  <a:tab algn="l" pos="7512120"/>
                  <a:tab algn="l" pos="8048520"/>
                  <a:tab algn="l" pos="8585280"/>
                  <a:tab algn="l" pos="9121680"/>
                  <a:tab algn="l" pos="9658440"/>
                  <a:tab algn="l" pos="10194840"/>
                  <a:tab algn="l" pos="1073160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2200" spc="-1" strike="noStrike">
                  <a:solidFill>
                    <a:srgbClr val="000000"/>
                  </a:solidFill>
                  <a:latin typeface="Arial"/>
                </a:rPr>
                <a:t>Ahorrar lo más posible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550"/>
                </a:spcBef>
                <a:buSzPct val="102909"/>
                <a:buBlip>
                  <a:blip r:embed="rId3"/>
                </a:buBlip>
                <a:tabLst>
                  <a:tab algn="l" pos="536400"/>
                  <a:tab algn="l" pos="1073160"/>
                  <a:tab algn="l" pos="1609560"/>
                  <a:tab algn="l" pos="2146320"/>
                  <a:tab algn="l" pos="2682720"/>
                  <a:tab algn="l" pos="3219480"/>
                  <a:tab algn="l" pos="3755880"/>
                  <a:tab algn="l" pos="4292640"/>
                  <a:tab algn="l" pos="4829040"/>
                  <a:tab algn="l" pos="5365800"/>
                  <a:tab algn="l" pos="5902200"/>
                  <a:tab algn="l" pos="6438960"/>
                  <a:tab algn="l" pos="6975360"/>
                  <a:tab algn="l" pos="7512120"/>
                  <a:tab algn="l" pos="8048520"/>
                  <a:tab algn="l" pos="8585280"/>
                  <a:tab algn="l" pos="9121680"/>
                  <a:tab algn="l" pos="9658440"/>
                  <a:tab algn="l" pos="10194840"/>
                  <a:tab algn="l" pos="1073160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2200" spc="-1" strike="noStrike">
                  <a:solidFill>
                    <a:srgbClr val="000000"/>
                  </a:solidFill>
                  <a:latin typeface="Arial"/>
                </a:rPr>
                <a:t>Desendeudarse (las tasas 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550"/>
                </a:spcBef>
                <a:tabLst>
                  <a:tab algn="l" pos="0"/>
                  <a:tab algn="l" pos="536400"/>
                  <a:tab algn="l" pos="1073160"/>
                  <a:tab algn="l" pos="1609560"/>
                  <a:tab algn="l" pos="2146320"/>
                  <a:tab algn="l" pos="2682720"/>
                  <a:tab algn="l" pos="3219480"/>
                  <a:tab algn="l" pos="3755880"/>
                  <a:tab algn="l" pos="4292640"/>
                  <a:tab algn="l" pos="4829040"/>
                  <a:tab algn="l" pos="5365800"/>
                  <a:tab algn="l" pos="5902200"/>
                  <a:tab algn="l" pos="6438960"/>
                  <a:tab algn="l" pos="6975360"/>
                  <a:tab algn="l" pos="7512120"/>
                  <a:tab algn="l" pos="8048520"/>
                  <a:tab algn="l" pos="8585280"/>
                  <a:tab algn="l" pos="9121680"/>
                  <a:tab algn="l" pos="9658440"/>
                  <a:tab algn="l" pos="10194840"/>
                  <a:tab algn="l" pos="1073160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s-ES" sz="2200" spc="-1" strike="noStrike">
                  <a:solidFill>
                    <a:srgbClr val="000000"/>
                  </a:solidFill>
                  <a:latin typeface="Arial"/>
                </a:rPr>
                <a:t>de interés van a subir)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3280" y="4206960"/>
              <a:ext cx="395928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rmAutofit/>
            </a:bodyPr>
            <a:p>
              <a:pPr>
                <a:spcBef>
                  <a:spcPts val="550"/>
                </a:spcBef>
                <a:buSzPct val="102909"/>
                <a:buBlip>
                  <a:blip r:embed="rId4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2200" spc="-1" strike="noStrike">
                  <a:solidFill>
                    <a:srgbClr val="000000"/>
                  </a:solidFill>
                  <a:latin typeface="Arial"/>
                </a:rPr>
                <a:t>Bajar los gastos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5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s-ES" sz="2200" spc="-1" strike="noStrike">
                  <a:solidFill>
                    <a:srgbClr val="000000"/>
                  </a:solidFill>
                  <a:latin typeface="Arial"/>
                </a:rPr>
                <a:t>(Luz, teléfonos,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5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s-ES" sz="2200" spc="-1" strike="noStrike">
                  <a:solidFill>
                    <a:srgbClr val="000000"/>
                  </a:solidFill>
                  <a:latin typeface="Arial"/>
                </a:rPr>
                <a:t>celulares, papelería,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5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s-ES" sz="2200" spc="-1" strike="noStrike">
                  <a:solidFill>
                    <a:srgbClr val="000000"/>
                  </a:solidFill>
                  <a:latin typeface="Arial"/>
                </a:rPr>
                <a:t>viajes, horas extra  etc)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5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5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92560" y="3827520"/>
              <a:ext cx="395784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rmAutofit/>
            </a:bodyPr>
            <a:p>
              <a:pPr>
                <a:spcBef>
                  <a:spcPts val="550"/>
                </a:spcBef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Cuidar su trabajo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4640" y="3827520"/>
              <a:ext cx="395784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rmAutofit/>
            </a:bodyPr>
            <a:p>
              <a:pPr algn="ctr">
                <a:spcBef>
                  <a:spcPts val="550"/>
                </a:spcBef>
                <a:buSzPct val="102909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Cuidar a los clientes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49640" y="3448080"/>
              <a:ext cx="425124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Persona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7600" y="3448080"/>
              <a:ext cx="424008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Empres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12680" y="3448080"/>
              <a:ext cx="71056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96840" y="3827520"/>
              <a:ext cx="708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92560" y="3448080"/>
              <a:ext cx="144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157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A GRAN INCÓGN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34800" y="1057320"/>
            <a:ext cx="8542440" cy="51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es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rivados no gast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a bonos de Gobi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¿Estado Gasta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¿Infraestructura: motor del crecimien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esg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25000"/>
              </a:lnSpc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 el sistema financiero está trabado, ¿cómo se aumenta la 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25000"/>
              </a:lnSpc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 en los países anglosajones, las familias tienen poco ahorro, la reducción de impuestos ... ¿va a cancelar créditos o al consum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25000"/>
              </a:lnSpc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 los Gobiernos emiten bonos, son impuestos futuros: ¿cómo se distribuirá esta carga?, ¿Impuestos sobre algún secto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150920"/>
            <a:ext cx="268200" cy="1055880"/>
          </a:xfrm>
          <a:custGeom>
            <a:avLst/>
            <a:gdLst>
              <a:gd name="textAreaLeft" fmla="*/ 171360 w 268200"/>
              <a:gd name="textAreaRight" fmla="*/ 268560 w 268200"/>
              <a:gd name="textAreaTop" fmla="*/ 27360 h 1055880"/>
              <a:gd name="textAreaBottom" fmla="*/ 1028520 h 1055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 rot="3019800">
            <a:off x="3548160" y="1982880"/>
            <a:ext cx="2047680" cy="2622240"/>
          </a:xfrm>
          <a:prstGeom prst="irregularSeal2">
            <a:avLst/>
          </a:prstGeom>
          <a:solidFill>
            <a:srgbClr val="e30b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56000" y="5049720"/>
            <a:ext cx="4051080" cy="1041480"/>
          </a:xfrm>
          <a:prstGeom prst="ellipse">
            <a:avLst/>
          </a:prstGeom>
          <a:solidFill>
            <a:srgbClr val="00ff99"/>
          </a:solidFill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2640" y="1204920"/>
            <a:ext cx="3753000" cy="1332000"/>
          </a:xfrm>
          <a:prstGeom prst="ellipse">
            <a:avLst/>
          </a:prstGeom>
          <a:solidFill>
            <a:srgbClr val="ffff99"/>
          </a:solidFill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05240" y="1266840"/>
            <a:ext cx="3733920" cy="1333440"/>
          </a:xfrm>
          <a:prstGeom prst="ellipse">
            <a:avLst/>
          </a:prstGeom>
          <a:solidFill>
            <a:srgbClr val="ffff99"/>
          </a:solidFill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622680" y="30272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Volat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9880" y="1517760"/>
            <a:ext cx="359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Cambio brusco de polí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(deuda soci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46280" y="5248440"/>
            <a:ext cx="402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Restricciones fiscales import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97200" y="1693800"/>
            <a:ext cx="32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risis del Sector Ext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322880" y="4335480"/>
            <a:ext cx="485640" cy="577800"/>
          </a:xfrm>
          <a:prstGeom prst="upArrow">
            <a:avLst>
              <a:gd name="adj1" fmla="val 50000"/>
              <a:gd name="adj2" fmla="val 297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13828800">
            <a:off x="6132240" y="2587320"/>
            <a:ext cx="485640" cy="996840"/>
          </a:xfrm>
          <a:prstGeom prst="upArrow">
            <a:avLst>
              <a:gd name="adj1" fmla="val 50000"/>
              <a:gd name="adj2" fmla="val 513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7989000">
            <a:off x="2498040" y="2561760"/>
            <a:ext cx="485640" cy="987480"/>
          </a:xfrm>
          <a:prstGeom prst="upArrow">
            <a:avLst>
              <a:gd name="adj1" fmla="val 50000"/>
              <a:gd name="adj2" fmla="val 5083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57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IREMOS LAT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rcRect l="0" t="0" r="36651" b="0"/>
          <a:stretch/>
        </p:blipFill>
        <p:spPr>
          <a:xfrm>
            <a:off x="2455920" y="1081080"/>
            <a:ext cx="6499080" cy="31129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95400" y="2367000"/>
            <a:ext cx="250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Plano Fis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2160" y="4505400"/>
            <a:ext cx="750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Monedas </a:t>
            </a:r>
            <a:r>
              <a:rPr b="1" i="1" lang="en-US" sz="2600" spc="-1" strike="noStrike">
                <a:solidFill>
                  <a:srgbClr val="cc0000"/>
                </a:solidFill>
                <a:latin typeface="Arial"/>
              </a:rPr>
              <a:t>commodities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 se debilit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5400" y="5432400"/>
            <a:ext cx="5992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Conflictividad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157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A GRAN INCÓGN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157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XPORTACIONES ARGENTI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0120" y="6467400"/>
            <a:ext cx="131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Fuente: 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INDEC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40440" y="3618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7000" y="2776680"/>
            <a:ext cx="9117000" cy="2943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790560" y="1046160"/>
            <a:ext cx="749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articipación de las exportaciones en 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or Destinos y Grandes Rub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21560" y="2048400"/>
            <a:ext cx="323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eve meses 2007 -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157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0320" y="890640"/>
            <a:ext cx="87595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10000"/>
              </a:lnSpc>
              <a:buSzPct val="102812"/>
              <a:buBlip>
                <a:blip r:embed="rId1"/>
              </a:buBlip>
              <a:tabLst>
                <a:tab algn="l" pos="80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Negocios Expo: de manos financieramente débiles a fuertes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ctr">
              <a:lnSpc>
                <a:spcPct val="110000"/>
              </a:lnSpc>
              <a:tabLst>
                <a:tab algn="l" pos="0"/>
                <a:tab algn="l" pos="80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UEVO CONTEXTO = NUEVO TE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110000"/>
              </a:lnSpc>
              <a:tabLst>
                <a:tab algn="l" pos="0"/>
                <a:tab algn="l" pos="80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buSzPct val="102812"/>
              <a:buBlip>
                <a:blip r:embed="rId2"/>
              </a:buBlip>
              <a:tabLst>
                <a:tab algn="l" pos="80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336600"/>
                </a:solidFill>
                <a:latin typeface="Arial"/>
              </a:rPr>
              <a:t>Acelerar  devolución del IVA-Exportador y reintegros de exporta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buSzPct val="102812"/>
              <a:buBlip>
                <a:blip r:embed="rId3"/>
              </a:buBlip>
              <a:tabLst>
                <a:tab algn="l" pos="80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Estrategia realista sobre el tipo de cambio re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buSzPct val="102812"/>
              <a:buBlip>
                <a:blip r:embed="rId4"/>
              </a:buBlip>
              <a:tabLst>
                <a:tab algn="l" pos="80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336600"/>
                </a:solidFill>
                <a:latin typeface="Arial"/>
              </a:rPr>
              <a:t>Derechos de exportación: adecuarlos a realidades competitivas actu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buSzPct val="102812"/>
              <a:buBlip>
                <a:blip r:embed="rId5"/>
              </a:buBlip>
              <a:tabLst>
                <a:tab algn="l" pos="80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Adoptar modelo Brasil de control de divisas de exportación por regist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buSzPct val="102812"/>
              <a:buBlip>
                <a:blip r:embed="rId6"/>
              </a:buBlip>
              <a:tabLst>
                <a:tab algn="l" pos="80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336600"/>
                </a:solidFill>
                <a:latin typeface="Arial"/>
              </a:rPr>
              <a:t>Las provincias que lo aplican: eximir exportaciones de ingresos brutos (funcionan como “un derecho de exportación local”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buSzPct val="102812"/>
              <a:buBlip>
                <a:blip r:embed="rId7"/>
              </a:buBlip>
              <a:tabLst>
                <a:tab algn="l" pos="80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Crear un instrumento como los DAX (documentos de aceptación exportadora) para movilizar ahorro/atesoramiento en dólares y volcarlos al proceso exporta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buSzPct val="102812"/>
              <a:buBlip>
                <a:blip r:embed="rId8"/>
              </a:buBlip>
              <a:tabLst>
                <a:tab algn="l" pos="80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336600"/>
                </a:solidFill>
                <a:latin typeface="Arial"/>
              </a:rPr>
              <a:t>Desburocratizar y agilizar los sistemas de registros, intervenciones previas y regímenes para export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buSzPct val="102812"/>
              <a:buBlip>
                <a:blip r:embed="rId9"/>
              </a:buBlip>
              <a:tabLst>
                <a:tab algn="l" pos="80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336600"/>
                </a:solidFill>
                <a:latin typeface="Arial"/>
              </a:rPr>
              <a:t>Eliminar completamente el impuesto a las transacciones financieras del proceso exportador, como lo ha hecho Bras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110000"/>
              </a:lnSpc>
              <a:tabLst>
                <a:tab algn="l" pos="0"/>
                <a:tab algn="l" pos="80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23920" y="2889360"/>
            <a:ext cx="6843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9480" y="4859280"/>
            <a:ext cx="6843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70280" y="3652920"/>
            <a:ext cx="33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Muchas gra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129120" y="228600"/>
            <a:ext cx="2858760" cy="21178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0" y="0"/>
            <a:ext cx="9144000" cy="57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6280200"/>
            <a:ext cx="9144000" cy="57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077560" y="2139840"/>
            <a:ext cx="53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Instituto de Estrategia Inter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6032520"/>
            <a:ext cx="4572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830920" y="5116680"/>
            <a:ext cx="22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Enrique S. Mant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013200" y="6434280"/>
            <a:ext cx="357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Buenos Aires, Diciembre d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42920"/>
            <a:ext cx="814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OS CONSEJOS DE IRVING FISHER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193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2160" y="747720"/>
            <a:ext cx="896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The Debt-Deflation and the Theory of Great Depression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8680" y="1693800"/>
            <a:ext cx="878976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2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oría de las burbuj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 vez es difer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uda x Activos caen activos quedan deu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7840" y="456084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Banco Cent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flació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flació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Fis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51080" y="5130720"/>
            <a:ext cx="1641600" cy="322200"/>
          </a:xfrm>
          <a:prstGeom prst="rightArrow">
            <a:avLst>
              <a:gd name="adj1" fmla="val 50000"/>
              <a:gd name="adj2" fmla="val 12737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05360" y="4630680"/>
            <a:ext cx="88920" cy="1239840"/>
          </a:xfrm>
          <a:custGeom>
            <a:avLst/>
            <a:gdLst>
              <a:gd name="textAreaLeft" fmla="*/ 25920 w 88920"/>
              <a:gd name="textAreaRight" fmla="*/ 89280 w 88920"/>
              <a:gd name="textAreaTop" fmla="*/ 51480 h 1239840"/>
              <a:gd name="textAreaBottom" fmla="*/ 1188360 h 123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8080" y="1238400"/>
            <a:ext cx="870084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354480" y="4807080"/>
            <a:ext cx="2435040" cy="1271520"/>
          </a:xfrm>
          <a:prstGeom prst="triangle">
            <a:avLst>
              <a:gd name="adj" fmla="val 50000"/>
            </a:avLst>
          </a:prstGeom>
          <a:solidFill>
            <a:srgbClr val="ffff99">
              <a:alpha val="58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16400" y="76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42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N DE LA REVOLUCIÓN FINANCI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1280" y="1106280"/>
            <a:ext cx="430560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pósitos en Ban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ncos comerciales – estat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umidores   Empresas    E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idad Económ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pital de Invers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05120" y="952200"/>
            <a:ext cx="4538520" cy="51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oney Market Fu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(papeles comercia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Bancos  de  invers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edgefund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ivate Equ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ecios de Ac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ficiencia del Capi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82160" y="5251320"/>
            <a:ext cx="154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Bermu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97040" y="2778120"/>
            <a:ext cx="141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bera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58840" y="4206960"/>
            <a:ext cx="270000" cy="468360"/>
          </a:xfrm>
          <a:prstGeom prst="downArrow">
            <a:avLst>
              <a:gd name="adj1" fmla="val 50000"/>
              <a:gd name="adj2" fmla="val 43367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96120" y="4199040"/>
            <a:ext cx="270000" cy="468360"/>
          </a:xfrm>
          <a:prstGeom prst="downArrow">
            <a:avLst>
              <a:gd name="adj1" fmla="val 50000"/>
              <a:gd name="adj2" fmla="val 4336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48040" y="1447920"/>
            <a:ext cx="293400" cy="707760"/>
          </a:xfrm>
          <a:prstGeom prst="downArrow">
            <a:avLst>
              <a:gd name="adj1" fmla="val 50000"/>
              <a:gd name="adj2" fmla="val 60307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27680" y="1584360"/>
            <a:ext cx="295560" cy="576360"/>
          </a:xfrm>
          <a:prstGeom prst="downArrow">
            <a:avLst>
              <a:gd name="adj1" fmla="val 50000"/>
              <a:gd name="adj2" fmla="val 4875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2441520"/>
            <a:ext cx="90360" cy="414360"/>
          </a:xfrm>
          <a:prstGeom prst="downArrow">
            <a:avLst>
              <a:gd name="adj1" fmla="val 50000"/>
              <a:gd name="adj2" fmla="val 114641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60520" y="3227400"/>
            <a:ext cx="106560" cy="604800"/>
          </a:xfrm>
          <a:prstGeom prst="downArrow">
            <a:avLst>
              <a:gd name="adj1" fmla="val 50000"/>
              <a:gd name="adj2" fmla="val 141892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7800">
            <a:off x="3168360" y="3455280"/>
            <a:ext cx="733320" cy="111240"/>
          </a:xfrm>
          <a:prstGeom prst="leftArrow">
            <a:avLst>
              <a:gd name="adj1" fmla="val 50000"/>
              <a:gd name="adj2" fmla="val 164806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3583400">
            <a:off x="844200" y="3440880"/>
            <a:ext cx="733320" cy="111240"/>
          </a:xfrm>
          <a:prstGeom prst="leftArrow">
            <a:avLst>
              <a:gd name="adj1" fmla="val 50000"/>
              <a:gd name="adj2" fmla="val 164806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8667800">
            <a:off x="7717680" y="3586680"/>
            <a:ext cx="512640" cy="117360"/>
          </a:xfrm>
          <a:prstGeom prst="leftArrow">
            <a:avLst>
              <a:gd name="adj1" fmla="val 50000"/>
              <a:gd name="adj2" fmla="val 10920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3583400">
            <a:off x="6617160" y="3564720"/>
            <a:ext cx="511200" cy="118800"/>
          </a:xfrm>
          <a:prstGeom prst="leftArrow">
            <a:avLst>
              <a:gd name="adj1" fmla="val 50000"/>
              <a:gd name="adj2" fmla="val 10757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76920" y="2449440"/>
            <a:ext cx="90720" cy="414360"/>
          </a:xfrm>
          <a:prstGeom prst="downArrow">
            <a:avLst>
              <a:gd name="adj1" fmla="val 50000"/>
              <a:gd name="adj2" fmla="val 11418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3583400">
            <a:off x="3308040" y="2595600"/>
            <a:ext cx="590400" cy="110880"/>
          </a:xfrm>
          <a:prstGeom prst="leftArrow">
            <a:avLst>
              <a:gd name="adj1" fmla="val 50000"/>
              <a:gd name="adj2" fmla="val 133117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8667800">
            <a:off x="833400" y="2596680"/>
            <a:ext cx="590760" cy="111240"/>
          </a:xfrm>
          <a:prstGeom prst="leftArrow">
            <a:avLst>
              <a:gd name="adj1" fmla="val 50000"/>
              <a:gd name="adj2" fmla="val 132767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3583400">
            <a:off x="7684920" y="2601720"/>
            <a:ext cx="590400" cy="111240"/>
          </a:xfrm>
          <a:prstGeom prst="leftArrow">
            <a:avLst>
              <a:gd name="adj1" fmla="val 50000"/>
              <a:gd name="adj2" fmla="val 13268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8667800">
            <a:off x="5130720" y="2601720"/>
            <a:ext cx="590400" cy="111240"/>
          </a:xfrm>
          <a:prstGeom prst="leftArrow">
            <a:avLst>
              <a:gd name="adj1" fmla="val 50000"/>
              <a:gd name="adj2" fmla="val 13268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20163000">
            <a:off x="6171840" y="5328720"/>
            <a:ext cx="1008000" cy="433440"/>
          </a:xfrm>
          <a:prstGeom prst="leftArrow">
            <a:avLst>
              <a:gd name="adj1" fmla="val 50000"/>
              <a:gd name="adj2" fmla="val 5814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2627000">
            <a:off x="2162880" y="5441760"/>
            <a:ext cx="1008360" cy="104760"/>
          </a:xfrm>
          <a:prstGeom prst="leftArrow">
            <a:avLst>
              <a:gd name="adj1" fmla="val 50000"/>
              <a:gd name="adj2" fmla="val 240636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43120" y="4748040"/>
            <a:ext cx="2714400" cy="354240"/>
          </a:xfrm>
          <a:prstGeom prst="roundRect">
            <a:avLst>
              <a:gd name="adj" fmla="val 50000"/>
            </a:avLst>
          </a:pr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24520" y="4734000"/>
            <a:ext cx="2817720" cy="353880"/>
          </a:xfrm>
          <a:prstGeom prst="roundRect">
            <a:avLst>
              <a:gd name="adj" fmla="val 50000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rcRect l="13531" t="30856" r="3920" b="15595"/>
          <a:stretch/>
        </p:blipFill>
        <p:spPr>
          <a:xfrm>
            <a:off x="100080" y="1492200"/>
            <a:ext cx="8885160" cy="44038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65840" y="645012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Rounded MT Bold"/>
              </a:rPr>
              <a:t>Fuente: Gave, Lou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57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A TEORÍA DE LA DESCONEX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80240" y="1739880"/>
            <a:ext cx="217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RESERVAS ASIÁ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43000" y="1273320"/>
            <a:ext cx="855720" cy="79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932600" y="4962600"/>
            <a:ext cx="900360" cy="79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57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AS OPCIONES DE MIS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701720" y="2154240"/>
          <a:ext cx="5727960" cy="2664000"/>
        </p:xfrm>
        <a:graphic>
          <a:graphicData uri="http://schemas.openxmlformats.org/drawingml/2006/table">
            <a:tbl>
              <a:tblPr/>
              <a:tblGrid>
                <a:gridCol w="2863800"/>
                <a:gridCol w="2864160"/>
              </a:tblGrid>
              <a:tr h="133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– S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6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– 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6b8">
                        <a:alpha val="50000"/>
                      </a:srgbClr>
                    </a:solidFill>
                  </a:tcPr>
                </a:tc>
              </a:tr>
              <a:tr h="133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– S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5e6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– N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5e6b8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366480" y="2928960"/>
            <a:ext cx="1265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ít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s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5240" y="14461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04160" y="51166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9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64320" y="1174680"/>
            <a:ext cx="28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ítica Moneta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67200" y="2479680"/>
            <a:ext cx="4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73880" y="392580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02320" y="1701720"/>
            <a:ext cx="4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33360" y="169848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1104840" y="1711440"/>
            <a:ext cx="581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18520" y="4808520"/>
            <a:ext cx="53820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693880" y="1449360"/>
            <a:ext cx="4233960" cy="1062000"/>
          </a:xfrm>
          <a:prstGeom prst="rect">
            <a:avLst/>
          </a:prstGeom>
          <a:solidFill>
            <a:srgbClr val="ffff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65200" y="4734000"/>
            <a:ext cx="4748400" cy="1312920"/>
          </a:xfrm>
          <a:prstGeom prst="ellipse">
            <a:avLst/>
          </a:prstGeom>
          <a:solidFill>
            <a:srgbClr val="bbe0e3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652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NA FÓRMULA DE IRVING FIS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514520" y="1092240"/>
            <a:ext cx="727704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   .   V    =    P  .   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B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itut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t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08280" y="5119560"/>
            <a:ext cx="406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¿Recesión o Depresió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82840" y="2884320"/>
            <a:ext cx="1492200" cy="1409760"/>
          </a:xfrm>
          <a:prstGeom prst="irregularSeal1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ap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157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ICLO ECONÓMICO MUND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582480" y="915840"/>
          <a:ext cx="7866360" cy="5335560"/>
        </p:xfrm>
        <a:graphic>
          <a:graphicData uri="http://schemas.openxmlformats.org/drawingml/2006/table">
            <a:tbl>
              <a:tblPr/>
              <a:tblGrid>
                <a:gridCol w="835200"/>
                <a:gridCol w="3211560"/>
                <a:gridCol w="3819600"/>
              </a:tblGrid>
              <a:tr h="1800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           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ff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en-US" sz="2800" spc="-1" strike="noStrike">
                          <a:solidFill>
                            <a:srgbClr val="6666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66ff"/>
                          </a:solidFill>
                          <a:latin typeface="Times New Roman"/>
                          <a:ea typeface="Times New Roman"/>
                        </a:rPr>
                        <a:t>Estanfl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Crecimiento inflacionar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2006 - 200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II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Estancamiento con defl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08 -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d60093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60093"/>
                          </a:solidFill>
                          <a:latin typeface="Times New Roman"/>
                          <a:ea typeface="Times New Roman"/>
                        </a:rPr>
                        <a:t>Crecimiento con inflación control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60093"/>
                          </a:solidFill>
                          <a:latin typeface="Times New Roman"/>
                          <a:ea typeface="Times New Roman"/>
                        </a:rPr>
                        <a:t>2002 - 20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              Actividad económica               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 flipH="1" flipV="1">
            <a:off x="5411520" y="2827080"/>
            <a:ext cx="4680" cy="1003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078080" y="2947680"/>
            <a:ext cx="1128600" cy="90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416400" y="76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57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ICLO ECONÓMICO 2007 -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023840" y="1300320"/>
          <a:ext cx="7078680" cy="4701960"/>
        </p:xfrm>
        <a:graphic>
          <a:graphicData uri="http://schemas.openxmlformats.org/drawingml/2006/table">
            <a:tbl>
              <a:tblPr/>
              <a:tblGrid>
                <a:gridCol w="2868840"/>
                <a:gridCol w="1339920"/>
                <a:gridCol w="1450800"/>
                <a:gridCol w="1419120"/>
              </a:tblGrid>
              <a:tr h="713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cimiento PBI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Mund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/ -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316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íses Desarroll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316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íses Emerge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618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.UU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8 / -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618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zo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ema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618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ino Uni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0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375840" y="6467400"/>
            <a:ext cx="12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Fuente: Brod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0" y="2727360"/>
            <a:ext cx="1071720" cy="552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7851240" y="2097000"/>
            <a:ext cx="1071720" cy="709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368280" y="809640"/>
          <a:ext cx="8429760" cy="533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809640"/>
                    <a:ext cx="8429760" cy="53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0" y="157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XPECTATIVAS A 6 M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09680" y="6467400"/>
            <a:ext cx="265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Rounded MT Bold"/>
              </a:rPr>
              <a:t>Fuente: CESifo. Munich Univers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083120" y="884160"/>
            <a:ext cx="898560" cy="23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035600" y="833400"/>
            <a:ext cx="1044360" cy="337320"/>
          </a:xfrm>
          <a:prstGeom prst="rect">
            <a:avLst/>
          </a:prstGeom>
          <a:solidFill>
            <a:srgbClr val="bbe0e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Mejo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393040" y="3319560"/>
            <a:ext cx="41436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8800" y="3409920"/>
            <a:ext cx="33984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2680" y="3186000"/>
            <a:ext cx="366480" cy="560520"/>
          </a:xfrm>
          <a:prstGeom prst="rect">
            <a:avLst/>
          </a:prstGeom>
          <a:solidFill>
            <a:srgbClr val="ccec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93040" y="3216240"/>
            <a:ext cx="411120" cy="429120"/>
          </a:xfrm>
          <a:prstGeom prst="rect">
            <a:avLst/>
          </a:prstGeom>
          <a:solidFill>
            <a:srgbClr val="ccec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54320" y="5945040"/>
            <a:ext cx="1001880" cy="19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025880" y="5877000"/>
            <a:ext cx="1087560" cy="277560"/>
          </a:xfrm>
          <a:prstGeom prst="rect">
            <a:avLst/>
          </a:prstGeom>
          <a:solidFill>
            <a:srgbClr val="bbe0e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eterio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9:21:35Z</dcterms:created>
  <dc:creator>Techint</dc:creator>
  <dc:description/>
  <dc:language>en-US</dc:language>
  <cp:lastModifiedBy>Audio</cp:lastModifiedBy>
  <dcterms:modified xsi:type="dcterms:W3CDTF">2008-12-03T19:03:27Z</dcterms:modified>
  <cp:revision>10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