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laser.wav" ContentType="audio/x-wav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6C57-3C90-4C44-990E-EF43B6F7E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8C0F-06D8-4AA3-97BC-C480E3CD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C840-BBE2-459D-B9DB-C14D648C1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647C-C310-4A72-9B97-0A744BC48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F1B8-894C-4929-9ABA-47647C5B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0F00-FE95-4D6B-B84A-6CB932F2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269F-49A6-424F-A867-4D55A6B1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36D9-EBB2-42DE-BE17-A606812C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CD4C-202D-4732-A913-EC6E3F23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396C-3F2C-4BCD-9C09-289E7CB4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E442-786D-48A5-8D2D-6B4E6D7F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1473-E7A0-41A4-AFDD-965F7F1B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1E9B-12B4-4614-9ADD-367DC5E96CB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imes New Roman"/>
              </a:rPr>
              <a:t>Ministerio de Relaciones Exteriores, Comercio Internacional y Cul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0" y="6400800"/>
            <a:ext cx="9144000" cy="7632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3808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entro de Economía Inter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30160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66"/>
                </a:solidFill>
                <a:latin typeface="Arial"/>
              </a:rPr>
              <a:t>Argentina y el comercio mundial de servic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0" y="1066320"/>
            <a:ext cx="9144000" cy="7632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4320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imes New Roman"/>
              </a:rPr>
              <a:t>Ministerio de Relaciones Exteriores, Comercio Internacional y Cul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0" y="303840"/>
            <a:ext cx="9144000" cy="7596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0" y="6400800"/>
            <a:ext cx="9144000" cy="7632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390840" y="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Centro de Economía Intern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-3960" y="6093000"/>
            <a:ext cx="223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66"/>
                </a:solidFill>
                <a:latin typeface="Arial"/>
              </a:rPr>
              <a:t>Fuente: CEI en base a IND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19280" y="54936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ontribución al crecimiento de las export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55640" y="947880"/>
          <a:ext cx="7345440" cy="497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947880"/>
                    <a:ext cx="7345440" cy="49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  <p:sndAc>
      <p:stSnd>
        <p:snd r:embed="rId3" name="lase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4320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imes New Roman"/>
              </a:rPr>
              <a:t>Ministerio de Relaciones Exteriores, Comercio Internacional y Cul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0" y="303840"/>
            <a:ext cx="9144000" cy="7596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0" y="6400800"/>
            <a:ext cx="9144000" cy="7632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90840" y="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Centro de Economía Intern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-3960" y="6093000"/>
            <a:ext cx="223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Fuente: CEI en base a IND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9280" y="54936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xportaciones de servicios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0" y="1176480"/>
          <a:ext cx="9144000" cy="450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76480"/>
                    <a:ext cx="9144000" cy="45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  <p:sndAc>
      <p:stSnd>
        <p:snd r:embed="rId3" name="lase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imes New Roman"/>
              </a:rPr>
              <a:t>Ministerio de Relaciones Exteriores, Comercio Internacional y Cul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0" y="303840"/>
            <a:ext cx="9144000" cy="7596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0" y="6400800"/>
            <a:ext cx="9144000" cy="7632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90840" y="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Centro de Economía Intern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-3960" y="6093000"/>
            <a:ext cx="223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Fuente: CEI en base a IND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19280" y="54936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Participación en las exportaciones de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36400" y="1625760"/>
          <a:ext cx="8375760" cy="3919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1625760"/>
                    <a:ext cx="8375760" cy="39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  <p:sndAc>
      <p:stSnd>
        <p:snd r:embed="rId3" name="lase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imes New Roman"/>
              </a:rPr>
              <a:t>Ministerio de Relaciones Exteriores, Comercio Internacional y Cul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0" y="303840"/>
            <a:ext cx="9144000" cy="7596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0" y="6400800"/>
            <a:ext cx="9144000" cy="7632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506600" y="2341440"/>
            <a:ext cx="6129360" cy="2173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2" name="lase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imes New Roman"/>
              </a:rPr>
              <a:t>Ministerio de Relaciones Exteriores, Comercio Internacional y Cul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0" y="303840"/>
            <a:ext cx="9144000" cy="7596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0" y="6400800"/>
            <a:ext cx="9144000" cy="7632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90840" y="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Centro de Economía Intern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514600"/>
            <a:ext cx="79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236232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3960" y="5999040"/>
            <a:ext cx="211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Fuente: CEI en base a O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0" y="958680"/>
          <a:ext cx="9144000" cy="494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58680"/>
                    <a:ext cx="9144000" cy="494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1934280" y="404640"/>
            <a:ext cx="527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xportaciones mundiales de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3" name="lase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320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imes New Roman"/>
              </a:rPr>
              <a:t>Ministerio de Relaciones Exteriores, Comercio Internacional y Cul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0" y="303840"/>
            <a:ext cx="9144000" cy="7596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0" y="6400800"/>
            <a:ext cx="9144000" cy="7632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90840" y="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Centro de Economía Intern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0" y="1065240"/>
          <a:ext cx="9144000" cy="47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5240"/>
                    <a:ext cx="9144000" cy="47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83960" y="5999040"/>
            <a:ext cx="211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Fuente: CEI en base a O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0240" y="549360"/>
            <a:ext cx="800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xportaciones mundiales de servicios por regiones -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3" name="lase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4320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imes New Roman"/>
              </a:rPr>
              <a:t>Ministerio de Relaciones Exteriores, Comercio Internacional y Cul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0" y="303840"/>
            <a:ext cx="9144000" cy="7596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0" y="6400800"/>
            <a:ext cx="9144000" cy="7632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390840" y="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Centro de Economía Intern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95280" y="1406520"/>
          <a:ext cx="8569440" cy="394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06520"/>
                    <a:ext cx="8569440" cy="39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-8280" y="5661000"/>
            <a:ext cx="513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Fuente: CEI en base a OMC y FMI (World Economic Outlook, Abril 200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19280" y="47628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xportaciones de servicios como porcentaje del PIB en U$S corr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3" name="lase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4320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imes New Roman"/>
              </a:rPr>
              <a:t>Ministerio de Relaciones Exteriores, Comercio Internacional y Cul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0" y="303840"/>
            <a:ext cx="9144000" cy="7596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0" y="6400800"/>
            <a:ext cx="9144000" cy="7632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90840" y="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Centro de Economía Intern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70040" y="1262160"/>
          <a:ext cx="7619760" cy="44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1262160"/>
                    <a:ext cx="761976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719280" y="47628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xportaciones de servicios como porcentaje de las exportaciones mundiales de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-3240" y="5661000"/>
            <a:ext cx="211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Fuente: CEI en base a O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3" name="lase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4320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imes New Roman"/>
              </a:rPr>
              <a:t>Ministerio de Relaciones Exteriores, Comercio Internacional y Cul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0" y="303840"/>
            <a:ext cx="9144000" cy="7596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0" y="6400800"/>
            <a:ext cx="9144000" cy="7632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90840" y="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Centro de Economía Intern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0" y="1276200"/>
          <a:ext cx="9144000" cy="4305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76200"/>
                    <a:ext cx="9144000" cy="43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995200" y="549360"/>
            <a:ext cx="317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rgen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omercio de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3240" y="5999040"/>
            <a:ext cx="223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Fuente: CEI en base a IND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3" name="lase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4320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imes New Roman"/>
              </a:rPr>
              <a:t>Ministerio de Relaciones Exteriores, Comercio Internacional y Cul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0" y="303840"/>
            <a:ext cx="9144000" cy="7596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0" y="6400800"/>
            <a:ext cx="9144000" cy="7632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90840" y="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Centro de Economía Intern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258920" y="1484280"/>
          <a:ext cx="6251400" cy="4425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484280"/>
                    <a:ext cx="6251400" cy="44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719280" y="47628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xportaciones de servicios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(participación porcentu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3240" y="5999040"/>
            <a:ext cx="223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Fuente: CEI en base a IND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3" name="lase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4320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imes New Roman"/>
              </a:rPr>
              <a:t>Ministerio de Relaciones Exteriores, Comercio Internacional y Cul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0" y="303840"/>
            <a:ext cx="9144000" cy="7596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0" y="6400800"/>
            <a:ext cx="9144000" cy="7632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90840" y="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Centro de Economía Intern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187280" y="1484280"/>
          <a:ext cx="7135920" cy="438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484280"/>
                    <a:ext cx="713592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719280" y="54936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Importaciones de servicios 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(participación porcentu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3240" y="5999040"/>
            <a:ext cx="223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Fuente: CEI en base a IND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3" name="lase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65372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imes New Roman"/>
              </a:rPr>
              <a:t>Ministerio de Relaciones Exteriores, Comercio Internacional y Cul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0" y="303840"/>
            <a:ext cx="9144000" cy="7596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0" y="6400800"/>
            <a:ext cx="9144000" cy="7632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90840" y="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Centro de Economía Intern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-3960" y="6021360"/>
            <a:ext cx="223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Fuente: CEI en base a IND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0" y="1341360"/>
          <a:ext cx="9144000" cy="454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1360"/>
                    <a:ext cx="9144000" cy="45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719280" y="54936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rgen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omposición de las exportaciones de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3" name="lase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8T15:43:03Z</dcterms:created>
  <dc:creator> </dc:creator>
  <dc:description/>
  <dc:language>en-US</dc:language>
  <cp:lastModifiedBy>C.P.C.E.C.A.B.A</cp:lastModifiedBy>
  <dcterms:modified xsi:type="dcterms:W3CDTF">2008-12-02T13:24:53Z</dcterms:modified>
  <cp:revision>39</cp:revision>
  <dc:subject/>
  <dc:title>Presentación de PowerPoint</dc:title>
</cp:coreProperties>
</file>