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93420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774960" y="93420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8076BC2C-8981-42B8-8B8D-FB4007A5D0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774960" y="93420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A763932-1DF0-4226-9B75-D7FB027EFA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93420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65280" y="4671720"/>
            <a:ext cx="533232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73800"/>
            <a:ext cx="9144000" cy="162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6535800"/>
            <a:ext cx="60958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Univers ATT"/>
              </a:rPr>
              <a:t>empresas@bancociudad.com.ar  </a:t>
            </a:r>
            <a:r>
              <a:rPr b="1" lang="es-ES" sz="1400" spc="-1" strike="noStrike">
                <a:solidFill>
                  <a:srgbClr val="ff0000"/>
                </a:solidFill>
                <a:latin typeface="Univers ATT"/>
              </a:rPr>
              <a:t>/</a:t>
            </a:r>
            <a:r>
              <a:rPr b="1" lang="es-ES" sz="1400" spc="-1" strike="noStrike">
                <a:solidFill>
                  <a:srgbClr val="000066"/>
                </a:solidFill>
                <a:latin typeface="Univers ATT"/>
              </a:rPr>
              <a:t>  www.bancociudad.com.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6800"/>
            <a:ext cx="1905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Univers AT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010280" y="66168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76B9-7CC2-4CD9-B156-9547C3440CBB}" type="slidenum">
              <a:rPr b="1" lang="es-ES" sz="1000" spc="-1" strike="noStrike">
                <a:solidFill>
                  <a:srgbClr val="000066"/>
                </a:solidFill>
                <a:latin typeface="Univers AT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34320" y="74520"/>
            <a:ext cx="22096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Univers ATT"/>
              </a:rPr>
              <a:t>Gerencia de Py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33720" y="3240"/>
            <a:ext cx="47242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s-ES" sz="1900" spc="-1" strike="noStrike">
                <a:solidFill>
                  <a:srgbClr val="000099"/>
                </a:solidFill>
                <a:latin typeface="Univers ATT"/>
              </a:rPr>
              <a:t>El Banco Ciudad  y la Exporta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439560"/>
            <a:ext cx="9144000" cy="163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85680" y="79200"/>
          <a:ext cx="1209600" cy="2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" y="79200"/>
                    <a:ext cx="120960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305920" cy="21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Arial"/>
              </a:rPr>
              <a:t>Financiamiento de Exportacion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733920"/>
            <a:ext cx="838188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4360" y="2057400"/>
            <a:ext cx="74674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atoriedad de ingreso de las divisas.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Com.”A” 34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lazo máximo para el ingreso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.A 3473; 4361 y 486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Arial Rounded MT Bold"/>
              </a:rPr>
              <a:t>EXPORTACION DE SERV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280" y="944640"/>
            <a:ext cx="828036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54b9b"/>
                </a:solidFill>
                <a:latin typeface="Engravers MT"/>
              </a:rPr>
              <a:t>1878 - 23 de Mayo -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54b9b"/>
                </a:solidFill>
                <a:latin typeface="Engravers MT"/>
              </a:rPr>
              <a:t>130º Anivers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593640"/>
            <a:ext cx="8569440" cy="5730840"/>
          </a:xfrm>
          <a:prstGeom prst="rect">
            <a:avLst/>
          </a:prstGeom>
          <a:noFill/>
          <a:ln w="57240">
            <a:solidFill>
              <a:srgbClr val="0066cc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47760" y="4329000"/>
            <a:ext cx="4846680" cy="114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2421000"/>
            <a:ext cx="7696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enta Corr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br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a de Crédito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n de Pago, Transferencia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o anticip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 Rounded MT Bold"/>
              </a:rPr>
              <a:t>MEDIOS de PAGO en </a:t>
            </a:r>
            <a:br>
              <a:rPr sz="3600"/>
            </a:b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 Rounded MT Bold"/>
              </a:rPr>
              <a:t>COMERCIO EX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42920" y="2708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mentos oper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ndeo del Banco Correspon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 Rounded MT Bold"/>
              </a:rPr>
              <a:t>ORDEN DE P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6668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tes  Intervin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rucción de Co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cumentos contra acep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cumentos contra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3300"/>
                </a:solidFill>
                <a:latin typeface="Arial Rounded MT Bold"/>
              </a:rPr>
              <a:t>COBRANZ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752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ples  y  Docu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765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773360"/>
            <a:ext cx="784872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P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imonio pro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ósitos de 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eraciones de efectivo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escuentos en Banco Lo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escuentos del B.C.R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 Rounded MT Bold"/>
              </a:rPr>
              <a:t>FUENTES</a:t>
            </a:r>
            <a:r>
              <a:rPr b="0" lang="es-ES_tradnl" sz="4400" spc="-1" strike="noStrike">
                <a:solidFill>
                  <a:srgbClr val="0033cc"/>
                </a:solidFill>
                <a:latin typeface="Arial Rounded MT Bold"/>
              </a:rPr>
              <a:t> </a:t>
            </a:r>
            <a:r>
              <a:rPr b="0" lang="es-ES_tradnl" sz="3600" spc="-1" strike="noStrike">
                <a:solidFill>
                  <a:srgbClr val="0033cc"/>
                </a:solidFill>
                <a:latin typeface="Arial Rounded MT Bold"/>
              </a:rPr>
              <a:t>DE FINANCIA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52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52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52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52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52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1676520"/>
            <a:ext cx="784836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 Divis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ósitos en Moneda Extra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eración de Efectivo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íneas del Ex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ción de 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escuentos de Bancos lo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escuentos del B.C.R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Arial Rounded MT Bold"/>
              </a:rPr>
              <a:t>FUENTES DE FINANCIA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1295280"/>
            <a:ext cx="701064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cumentación requer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anciación del Ex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fina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st-Fina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anciación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fina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st-Fina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d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ún el mo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ún su fu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ún sus 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cc"/>
                </a:solidFill>
                <a:latin typeface="Arial Rounded MT Bold"/>
              </a:rPr>
              <a:t>FINANCIA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1905120"/>
            <a:ext cx="746784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r inscripto como export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r Calificado por el Ban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r una CDE abierta en el Banco.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•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r una Orden de Compra en fi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Arial Rounded MT Bold"/>
              </a:rPr>
              <a:t>PREFINANCIACION DE EXPOR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4360" y="2708280"/>
            <a:ext cx="746748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rcadería debe estar embarc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documentación debe ser enviada al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xterior a través del mismo Ban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Arial Rounded MT Bold"/>
              </a:rPr>
              <a:t>FINANCIACION   DE </a:t>
            </a:r>
            <a:br>
              <a:rPr sz="3600"/>
            </a:br>
            <a:r>
              <a:rPr b="0" lang="en-US" sz="3600" spc="-1" strike="noStrike" u="sng">
                <a:solidFill>
                  <a:srgbClr val="000099"/>
                </a:solidFill>
                <a:uFillTx/>
                <a:latin typeface="Arial Rounded MT Bold"/>
              </a:rPr>
              <a:t>EXPORTACIONES DE BIEN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05:38Z</dcterms:created>
  <dc:creator>Jose Gonzalez Gallego</dc:creator>
  <dc:description/>
  <dc:language>en-US</dc:language>
  <cp:lastModifiedBy>CPCEACABA</cp:lastModifiedBy>
  <cp:lastPrinted>2008-05-19T19:49:46Z</cp:lastPrinted>
  <dcterms:modified xsi:type="dcterms:W3CDTF">2008-12-03T14:22:05Z</dcterms:modified>
  <cp:revision>80</cp:revision>
  <dc:subject/>
  <dc:title>Financiacion de Exportaciones</dc:title>
</cp:coreProperties>
</file>