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A84A-5F8E-4DE5-A9B9-444CDE6E453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9F11-B199-48D9-A647-89A5D9A76938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u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0C4-583B-472A-B82C-14CE4CA9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122-978C-4B31-A704-E63CC665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D8E9-5A06-4D3D-9177-97A7C2C6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6FB-62F3-47D3-ABAF-EF3D7EFC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65F1-8C2B-4C3B-93FC-E7697992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3A3B-C21F-4CFB-8837-C90A416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D96F-DCA9-4AFC-A24A-73C6EAEA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E4E-BCF5-4D93-ACD3-CD6B8CCD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3711-B4EF-4407-98A5-1AD55DB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2B7E-1275-4DFA-B60B-2B38FA3F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1969-C91A-4687-A808-FFFB1DF5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350A-D398-416A-B216-4AD2CB4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10B-AC57-457D-A947-8823CE2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9D2-B2B4-4FA4-B747-58C238DD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A24F-D9AC-4406-82C1-03D27969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CF9A-203D-44D4-8CE4-38636727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BA5B-F740-432C-99BF-7B4324BA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F29-8647-435C-AC78-04FB2C1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519-C52D-4E8A-98CE-2F09E4CE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A0C-0277-49BA-B46D-F2619A8B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9FB-52ED-4CF0-AA9E-E22F35D9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5C1-7553-4BEF-B3CB-41C989D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B92-AA22-4E32-88B0-6B86DCB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073-9FBF-43AE-97BA-6B96439D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D55-2A71-48CD-B4CA-0394F6C30DE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523D-8607-42C8-AD22-B59BD982C912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57880"/>
            <a:ext cx="7951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de la Actividad Turíst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263600" y="4357800"/>
            <a:ext cx="7340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caudación impositiva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del 5% en el 200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canzando una cifra del 7.290 millones de pes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14680" y="5072040"/>
            <a:ext cx="60721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ernoctes en Hoteler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3366"/>
                </a:solidFill>
                <a:latin typeface="Arial"/>
              </a:rPr>
              <a:t>Hubo 46 millones y medio de pernoctes en Alojamientos Turísticos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4d4d"/>
                </a:solidFill>
                <a:latin typeface="Arial"/>
              </a:rPr>
              <a:t>9% de crecimiento en la Ciudad Autónoma de Buenos Aires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4d4d"/>
                </a:solidFill>
                <a:latin typeface="Arial"/>
              </a:rPr>
              <a:t>9% de crecimiento en la Provincia de Buenos Aire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4d4d"/>
                </a:solidFill>
                <a:latin typeface="Arial"/>
              </a:rPr>
              <a:t>7% de crecimiento en la Patagoni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4d4d"/>
                </a:solidFill>
                <a:latin typeface="Arial"/>
              </a:rPr>
              <a:t>27% de crecimiento en el Litoral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4d4d"/>
                </a:solidFill>
                <a:latin typeface="Arial"/>
              </a:rPr>
              <a:t>11% de crecimiento en el Nort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714680" y="5786280"/>
            <a:ext cx="58323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Proyección del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imación de 4.500.000 de turistas para el año 2006 y se obtuvieron 6.000.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imación de Ingreso de divisas turísticas en el 2004 fue de 2.491 millones y se obtuvieron       4.200 mill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692360" y="4869000"/>
            <a:ext cx="58323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edias de Ocupación Hotelera 2005/ estimación 2008 ( Cat. Lujo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547640" y="5445000"/>
            <a:ext cx="583272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Object 7"/>
          <p:cNvGraphicFramePr/>
          <p:nvPr/>
        </p:nvGraphicFramePr>
        <p:xfrm>
          <a:off x="1763640" y="2421000"/>
          <a:ext cx="5977080" cy="295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421000"/>
                    <a:ext cx="59770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Medias de Ocupación Hotelera 2005/ estimación 2008 ( Cat. Turística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714680" y="5857920"/>
            <a:ext cx="583236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Object 6"/>
          <p:cNvGraphicFramePr/>
          <p:nvPr/>
        </p:nvGraphicFramePr>
        <p:xfrm>
          <a:off x="1357200" y="2500200"/>
          <a:ext cx="6429600" cy="329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57200" y="2500200"/>
                    <a:ext cx="642960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Muchas Gra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Ricardo Manuel Bo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366"/>
                </a:solidFill>
                <a:latin typeface="Arial"/>
              </a:rPr>
              <a:t>525HOT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692360" y="5000760"/>
            <a:ext cx="65944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no de Obra intens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n millón de personas trabajan hoy en la actividad directamen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ecesidad de una creciente conectividad interna y externa para sostener la activ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19280" y="4941720"/>
            <a:ext cx="6192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diciones ventajosas de la conectivi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as personas con trabaj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vitar la emigración de personas a grandes centros urban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destino turístico mas visitado y nacimiento de otros nuevos destin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ntirse orgulloso del país y de su propia local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571760" y="5429160"/>
            <a:ext cx="60004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urismo receptivo 200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gresos de 4.200 millones de dól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f8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f80"/>
                </a:solidFill>
                <a:latin typeface="Arial"/>
              </a:rPr>
              <a:t>Es el 7.5% de los ingresos de las exportaciones de bi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f80"/>
                </a:solidFill>
                <a:latin typeface="Arial"/>
              </a:rPr>
              <a:t>Y el 41% en las exportaciones de servicio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00120" y="5143680"/>
            <a:ext cx="6191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Posicionamiento de actividades tradicionales 20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1º Subproductos de la so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2º Grasas y Ace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3º Material de Trans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4º Cere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b93ff"/>
                </a:solidFill>
                <a:latin typeface="Arial"/>
              </a:rPr>
              <a:t>5º Turism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7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6191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Visitas de extranjeros al paí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4.5 millones de llegadas en el añ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269999"/>
                </a:solidFill>
                <a:latin typeface="Arial"/>
              </a:rPr>
              <a:t>Un incremento del 9% con respecto al año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bicando a la Argentina como segundo destino de Sudaméric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71760" y="5357880"/>
            <a:ext cx="59767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¿Como se obtuvo el Desarrollo Turístic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 Políticas vinculadas a la promo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ctor Privado y Estado trabajando en forma conjun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encia en todas las ferias y workshop vinculadas a la actividad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0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14680" y="5214960"/>
            <a:ext cx="59036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ctividad Hotel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isten 10 mil emprendimientos hoteleros concentrados en el 50% de los destinos turísticos mas tradic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857240" y="5072040"/>
            <a:ext cx="5975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Inversiones en la Actividad Hotele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eriores a los 170 millones de dólares en nuevos emprendimientos durante el transcurso de los dos últimos añ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 prevé 1.200 millones de dólares de inversión para la construcción de 300 establecimientos sin contar la remodelación de los exist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1"/>
          <a:stretch/>
        </p:blipFill>
        <p:spPr>
          <a:xfrm>
            <a:off x="1357200" y="5286240"/>
            <a:ext cx="6120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4:38:50Z</dcterms:created>
  <dc:creator>Eugenia</dc:creator>
  <dc:description/>
  <dc:language>en-US</dc:language>
  <cp:lastModifiedBy>Audio</cp:lastModifiedBy>
  <dcterms:modified xsi:type="dcterms:W3CDTF">2008-12-03T16:05:48Z</dcterms:modified>
  <cp:revision>20</cp:revision>
  <dc:subject/>
  <dc:title>Actividad Turistica</dc:title>
</cp:coreProperties>
</file>