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2D03-8610-4469-B023-5700F822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9ED0-0D97-4300-901A-0968F5B3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CD27-ACEC-46FB-AD4E-C0D12AC0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0EBB-3ECE-4405-BE55-9D17222C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D3FCD-377D-416F-9EB0-F3C4D8F2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30918-2EB0-4362-864F-A6D633E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C161B-BC6D-4074-A997-4152153E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D5BFF-6085-4CC0-8488-1345244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E34B2-6CCC-461E-8225-636F3C85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8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8B8CD-32C2-4C28-BCFA-25BF1AE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F4006-F7D8-47EB-8253-CA3C8AD3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A625-DDC7-4066-8EF8-277317F6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3B9F8-69AE-4D34-9635-EA5DC39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8B158-1C50-44C7-8EFB-5A64BEAC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181FF-7AB8-4BCE-9FBF-D2425995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2F2E3-D95A-4163-B834-2D12B4E8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32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6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32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6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FAC98-3B60-4CF3-89D5-8E051116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895F-87FC-4C7B-81A0-D204714F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560A-E505-4912-858C-2022375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4DF5-FC7A-43EC-904A-190CB9A2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8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05D9-6A17-4400-A152-C4BC25E5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774E-3F3A-410B-8124-5054C838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DF3E-45B1-440C-A603-EE1E540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BFE8-3BB5-445B-BE37-01E534A6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FFDE-F110-4D81-86F9-506226F8E50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E2E-4819-432A-97A1-B1664D8324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1E5F-1ACF-47B1-A0B9-622337DB948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BA58-9445-4060-8880-CF20C8AA39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742840" y="3580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858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8000"/>
                </a:solidFill>
                <a:latin typeface="Verdana"/>
              </a:rPr>
              <a:t>LAS VENTAJAS DE UTILIZAR MODELOS LINEALES GENERALIZADOS EN EL ANÁLISIS DE CLASIFICACIÓN DE RIESGOS EN LOS PROCESOS DE RATEMAKING. Una comparación con el modelo lineal clás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817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8000"/>
                </a:solidFill>
                <a:latin typeface="Verdana"/>
              </a:rPr>
              <a:t>5° Congreso Argentino de Actuarios – 8vo Congreso Panamericano de Actuarios. “Horizontes de la profesión”. El hoy y las asignaturas pendientes.</a:t>
            </a:r>
            <a:r>
              <a:rPr b="1" i="1" lang="en-US" sz="18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Act. Guido Wo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Buenos Aires, 18 de Octubre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Variables a estudiar: Costo Me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osto Medio: variable aleatori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asimétrica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. En general, se ajusta a una distribución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gamma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weib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760" y="2271600"/>
            <a:ext cx="7848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e la puede modelizar mediante l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transformación recíproca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 E(Y) =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AR" sz="2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. Así, el predictor resulta ser la tasa a la cual un pago de una unidad monetaria debe realizarse por siniestro promedio por unidad de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572000"/>
            <a:ext cx="7772400" cy="825480"/>
          </a:xfrm>
          <a:prstGeom prst="rect">
            <a:avLst/>
          </a:prstGeom>
          <a:noFill/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8000"/>
                </a:solidFill>
                <a:latin typeface="Verdana"/>
              </a:rPr>
              <a:t>Utilizaremos modelos estadísticos multivariables para analizar la frecuencia y el cost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s Lineales: 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Queremos estudiar la contribución de diferentes influencias a un fenóme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0574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so de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modelos lineales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63700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Mediante combinaciones lineales de las variables explicativ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04812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264168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e estudia la asociación entre fenómenos a través de comportamientos 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14504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8000"/>
                </a:solidFill>
                <a:latin typeface="Verdana"/>
              </a:rPr>
              <a:t>Utilizando modelos de muy sencilla interpr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649400">
            <a:off x="7548480" y="3731400"/>
            <a:ext cx="457200" cy="762120"/>
          </a:xfrm>
          <a:custGeom>
            <a:avLst/>
            <a:gdLst>
              <a:gd name="textAreaLeft" fmla="*/ 0 w 457200"/>
              <a:gd name="textAreaRight" fmla="*/ 457560 w 457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80060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Comprender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los modelos estimados posibilita un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generalización razonable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y dota de una importante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robustez y confiabilidad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al estud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 Lineal Clásico (c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152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Tradicionalmente, y en sus múltiples áreas de aplicación, el modelo lineal clásico es el más utiliz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905120"/>
            <a:ext cx="815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1981080"/>
            <a:ext cx="88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s formulado a partir de 4 compon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29718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Componente independiente,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. Las variables explic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489480"/>
            <a:ext cx="90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Componente paramétrico, </a:t>
            </a:r>
            <a:r>
              <a:rPr b="1" lang="es-A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. Especifica las relaciones d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4382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Componente aleatorio, Y. Es la variable 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402264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Componente de error, </a:t>
            </a:r>
            <a:r>
              <a:rPr b="1" lang="es-A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. Son los efectos no considerados por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784760"/>
            <a:ext cx="8915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o y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= x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+ x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+ x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+ .... + x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410080"/>
            <a:ext cx="929628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(Análisis de regresión, análisis de varianza, análisis de covarianz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 Lineal Clásico (c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1520" y="1066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aracterístic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2133720"/>
            <a:ext cx="838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- Relación lineal entre Y y el predictor lin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651040"/>
            <a:ext cx="906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(Si bien es posible trabajar con la transformación logarítmica, se pierden ciertas propiedades estadísticas de los estimadores, que hacen a la bondad del mod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600200"/>
            <a:ext cx="838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- Efectos adi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380988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- Asume distribución Normal (robusto si el tamaño de muestra es grande) y varianza const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c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1520" y="1066680"/>
            <a:ext cx="7848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on este fin, mediante algoritmos pseudo-aleatorios se simuló el comportamiento de una cart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ejercicio se desarrolla solamente para el análisis de la frecuencia. O, dicho de otra manera, se asume costo medio constante para todas las unidades expue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Total expuestos: 11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Variables Consider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Edad: 21 a 75 in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Sexo: F y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Antigüedad: Ordinal, A1 a 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Región: R1, R2 y 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Clase: C1, C2, C3, C4 y C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c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1520" y="1066680"/>
            <a:ext cx="88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Total Siniestros               Expuestos y siniestros por sexo   Expuestos y siniestros por antigüe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320" y="1414440"/>
          <a:ext cx="2057400" cy="1552680"/>
        </p:xfrm>
        <a:graphic>
          <a:graphicData uri="http://schemas.openxmlformats.org/drawingml/2006/table">
            <a:tbl>
              <a:tblPr/>
              <a:tblGrid>
                <a:gridCol w="990360"/>
                <a:gridCol w="1067040"/>
              </a:tblGrid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e 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e S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: 1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: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362320" y="1447920"/>
          <a:ext cx="2590560" cy="1143000"/>
        </p:xfrm>
        <a:graphic>
          <a:graphicData uri="http://schemas.openxmlformats.org/drawingml/2006/table">
            <a:tbl>
              <a:tblPr/>
              <a:tblGrid>
                <a:gridCol w="518040"/>
                <a:gridCol w="666360"/>
                <a:gridCol w="739800"/>
                <a:gridCol w="666360"/>
              </a:tblGrid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257800" y="1447920"/>
          <a:ext cx="3048120" cy="1752480"/>
        </p:xfrm>
        <a:graphic>
          <a:graphicData uri="http://schemas.openxmlformats.org/drawingml/2006/table">
            <a:tbl>
              <a:tblPr/>
              <a:tblGrid>
                <a:gridCol w="914400"/>
                <a:gridCol w="635040"/>
                <a:gridCol w="714600"/>
                <a:gridCol w="784080"/>
              </a:tblGrid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gü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311560" y="3606840"/>
            <a:ext cx="27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Expuestos y siniestros cl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0" y="3911760"/>
          <a:ext cx="3429000" cy="172080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990360"/>
                <a:gridCol w="762120"/>
              </a:tblGrid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e 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e S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52280" y="3192480"/>
            <a:ext cx="28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320" y="3048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Frec promedio = 8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c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990720"/>
            <a:ext cx="56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Expuestos y siniestros por edad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(Edad promedio = 48.16 añ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320" y="1390680"/>
          <a:ext cx="2590560" cy="4857840"/>
        </p:xfrm>
        <a:graphic>
          <a:graphicData uri="http://schemas.openxmlformats.org/drawingml/2006/table">
            <a:tbl>
              <a:tblPr/>
              <a:tblGrid>
                <a:gridCol w="533160"/>
                <a:gridCol w="685800"/>
                <a:gridCol w="685800"/>
                <a:gridCol w="685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743200" y="1397160"/>
          <a:ext cx="2590920" cy="4614840"/>
        </p:xfrm>
        <a:graphic>
          <a:graphicData uri="http://schemas.openxmlformats.org/drawingml/2006/table">
            <a:tbl>
              <a:tblPr/>
              <a:tblGrid>
                <a:gridCol w="533520"/>
                <a:gridCol w="685800"/>
                <a:gridCol w="609480"/>
                <a:gridCol w="762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410080" y="1392120"/>
          <a:ext cx="2895480" cy="4614840"/>
        </p:xfrm>
        <a:graphic>
          <a:graphicData uri="http://schemas.openxmlformats.org/drawingml/2006/table">
            <a:tbl>
              <a:tblPr/>
              <a:tblGrid>
                <a:gridCol w="533160"/>
                <a:gridCol w="685800"/>
                <a:gridCol w="685800"/>
                <a:gridCol w="9907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c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520" y="1066680"/>
            <a:ext cx="843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Plantear un modelo …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lm modelo aditivo        frecuencia efectos multiplic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97360" y="1562040"/>
            <a:ext cx="457200" cy="152640"/>
          </a:xfrm>
          <a:prstGeom prst="leftRightArrow">
            <a:avLst>
              <a:gd name="adj1" fmla="val 50000"/>
              <a:gd name="adj2" fmla="val 59628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286000"/>
            <a:ext cx="792468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Perdiendo las propiedades de mejor estimador, se utiliza la transformación logarítmi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n(frec) =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dad +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Antig +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Reg +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lase +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114800"/>
            <a:ext cx="8229600" cy="825480"/>
          </a:xfrm>
          <a:prstGeom prst="rect">
            <a:avLst/>
          </a:prstGeom>
          <a:noFill/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8000"/>
                </a:solidFill>
                <a:latin typeface="Verdana"/>
              </a:rPr>
              <a:t>Aún agrupando las observaciones, quedan muchos casos con frec = 0. No pueden ser incluidos en 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 Lineal Generalizado (g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1520" y="10666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os glm son una extensión de los clm. Permiten levantar los supuestos de distribución Normal y varianza constate, y modelizar relaciones no line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0840" y="2239920"/>
            <a:ext cx="884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s formulado a partir de 3 compon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06864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Componente sistemático, </a:t>
            </a:r>
            <a:r>
              <a:rPr b="0" lang="es-A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. Combinación lineal de variables explic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2662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Componente aleatorio, Y. Es la variable 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390672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Función de enlace o link, g. 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specifica cómo se relaciona el valor esperado del componente aleatorio con el componente line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18652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g(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= g</a:t>
            </a:r>
            <a:r>
              <a:rPr b="0" lang="es-AR" sz="2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811840"/>
            <a:ext cx="929628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Primer contraste con clm: ausencia del componente </a:t>
            </a:r>
            <a:r>
              <a:rPr b="0" lang="es-AR" sz="2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 Lineal Generalizado (g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990720"/>
            <a:ext cx="64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Y debe seguir una distr que pertenezca a l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familia exponencial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905120"/>
            <a:ext cx="815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581280" y="1447920"/>
          <a:ext cx="281016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447920"/>
                    <a:ext cx="281016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3520" y="24382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Por ejemplo, para Y ~ P (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 (distribución Poiss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2440" y="3992400"/>
            <a:ext cx="760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= ln(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, b(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 = e</a:t>
            </a:r>
            <a:r>
              <a:rPr b="0" lang="es-AR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=1, a(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=1 y c(y,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 = -Ln(y!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9480" y="2995560"/>
          <a:ext cx="2159280" cy="8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95560"/>
                    <a:ext cx="21592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09480" y="48006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función de enlace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 cualquier función continua, monótona y diferenc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–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52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Primeros 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06668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Generalmente aceptadas: ventajas de clasificación de riesgos en el cálculo de primas puras y tarif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09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Necesidad de un méto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2840" y="232416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19810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Calcular las rela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382920"/>
            <a:ext cx="411480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na técnica que permi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na adecuada clasif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na buena esti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438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Identificar los grupos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401328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700440"/>
            <a:ext cx="4165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justificación teórica y empí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plicable (estimable e implementada sin prácticas inusuale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52456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5302080"/>
            <a:ext cx="41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Riesgo de error mensurable y en niveles aceptab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 Lineal Generalizado (g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5680" y="3797280"/>
            <a:ext cx="90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Al analizar los datos de manera agrupada, es común hal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05120"/>
            <a:ext cx="815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4373640"/>
            <a:ext cx="89154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Sobre-Dispersión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 la varianza real difiere de la nomi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uele ser aceptable asumir que la varianza es proporcional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a media: Var(Y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AR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(Y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9360" y="1143000"/>
            <a:ext cx="86360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estimación de parámetros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 se realiza mediante una regresión de mínimos cuadrados ponderados iter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828800" y="2031840"/>
          <a:ext cx="13716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31840"/>
                    <a:ext cx="1371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43080" y="21636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tiliza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25960" y="2163600"/>
            <a:ext cx="594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n la estimación, es posible realizar 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0120" y="289548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estimación ponderada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(exp para frec y stros para c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 Lineal Generalizado (g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25560" y="4038480"/>
            <a:ext cx="901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n un escenario donde los efectos no son ortogonales entre s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25560" y="4541760"/>
            <a:ext cx="9017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análisis de deviance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permite estudiar los ajustes producid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por una serie de modelos anidados (similar al análisi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varianza en los ml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066680"/>
            <a:ext cx="8915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na medida utilizada para estudiar l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bondad de ajuste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, es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deviance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. Es posible testear estadísticamente la difer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ntre la deviance del modelo y del modelo nulo (dist. </a:t>
            </a: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AR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514600"/>
            <a:ext cx="89154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e prueba si el modelo aporta información. Es necesa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recurrir 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análisis de residuos 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para completar esta f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1520" y="1066680"/>
            <a:ext cx="9042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n principio aceptamos que la frecuencia sigue una distribución poiss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Y: cantidad de sinies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ant de unidades expuestas: </a:t>
            </a:r>
            <a:r>
              <a:rPr b="0" i="1" lang="es-AR" sz="2200" spc="-1" strike="noStrike">
                <a:solidFill>
                  <a:srgbClr val="000000"/>
                </a:solidFill>
                <a:latin typeface="Verdana"/>
              </a:rPr>
              <a:t>off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Función Link: 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4221000"/>
            <a:ext cx="6172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= e</a:t>
            </a:r>
            <a:r>
              <a:rPr b="0" lang="es-AR" sz="2200" spc="-1" strike="noStrike" baseline="30000">
                <a:solidFill>
                  <a:srgbClr val="000000"/>
                </a:solidFill>
                <a:latin typeface="Verdana"/>
              </a:rPr>
              <a:t>ln(expuestos)+</a:t>
            </a:r>
            <a:r>
              <a:rPr b="1" lang="es-AR" sz="22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es-AR" sz="2200" spc="-1" strike="noStrike" baseline="30000">
                <a:solidFill>
                  <a:srgbClr val="000000"/>
                </a:solidFill>
                <a:latin typeface="Verdana"/>
              </a:rPr>
              <a:t>’</a:t>
            </a:r>
            <a:r>
              <a:rPr b="0" lang="es-AR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E(Y). Es dec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172200" y="3962520"/>
          <a:ext cx="160020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962520"/>
                    <a:ext cx="16002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480" y="4995720"/>
          <a:ext cx="82296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995720"/>
                    <a:ext cx="82296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7924680" y="4140360"/>
            <a:ext cx="3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5059440"/>
            <a:ext cx="3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1520" y="1066680"/>
            <a:ext cx="9042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Así formulado, se expresarán relatividades sobre las categorías base: Masculino – Antig 1 – Región 1 – Clase 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(no tienen parámetro en el model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os siniestros esperados para el grupo bas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914400" y="3048120"/>
          <a:ext cx="251460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8120"/>
                    <a:ext cx="25146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228600" y="304812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1520" y="3689280"/>
            <a:ext cx="904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Y para un expuesto de sexo Masc – Ant 3 – Reg 1 – Clase 5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419580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863640" y="4165560"/>
          <a:ext cx="312408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165560"/>
                    <a:ext cx="3124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152280" y="47545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coci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866960" y="4624560"/>
          <a:ext cx="220968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66960" y="4624560"/>
                    <a:ext cx="2209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4038480" y="475452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495680" y="4734000"/>
          <a:ext cx="533520" cy="44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734000"/>
                    <a:ext cx="5335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5029200" y="475452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representa la relativida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544032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para Antigüedad 3 respecto a la 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1520" y="1066680"/>
            <a:ext cx="904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Ni a nivel teórico ni en los estudios exploratorios previos se halló evidencia a favor de incluir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interacciones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. Mientras el ajuste sea bueno, no se incluirán en el mode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04920" y="2284560"/>
          <a:ext cx="4038480" cy="2439720"/>
        </p:xfrm>
        <a:graphic>
          <a:graphicData uri="http://schemas.openxmlformats.org/drawingml/2006/table">
            <a:tbl>
              <a:tblPr/>
              <a:tblGrid>
                <a:gridCol w="685440"/>
                <a:gridCol w="762120"/>
                <a:gridCol w="609480"/>
                <a:gridCol w="685800"/>
                <a:gridCol w="1295640"/>
              </a:tblGrid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i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hi / 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.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61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4495680" y="2362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aporte del modelo es signific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3444840"/>
            <a:ext cx="41911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cociente Pearson Chi /D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stima la SD. El valor 1 permita aceptar que la varianza nominal es correcta y utilizar la distribución pois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1104840"/>
            <a:ext cx="4953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os modelos Tipo III testean los efectos parciales de cada factor, es decir, su significatividad considerando el resto de los efectos incluidos en el model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329256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estudio de esta tabla sugiere analizar si conviene excluir del estudio las variables Sexo y / o Clas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066680"/>
          <a:ext cx="3048120" cy="183060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1067040"/>
              </a:tblGrid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ypr III - LR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 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,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gü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,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1104840"/>
            <a:ext cx="49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gráfico mapea los residuos estandarizados contra los valores estimados por el model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2971800"/>
            <a:ext cx="79246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i bien se observa en general un buen ajuste (no hay ningún patrón importante, sólo una muy leve tendencia que es aceptable; los residuos están en general acotados), se observa un valor alto y alejado del resto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Observando los datos, se corresponde con un expuesto que ha sufrido 3 siniestros – el único de la cartera. Se considera que se trata de un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Outlier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y este caso es excluido del análisi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76400" y="981000"/>
            <a:ext cx="1743120" cy="18385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09480" y="1143000"/>
            <a:ext cx="281160" cy="13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86080" y="2666880"/>
            <a:ext cx="876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tim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22320" y="1066680"/>
            <a:ext cx="114480" cy="114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68580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e vuelve a ajustar el modelo, excluyendo este c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52280" y="1219320"/>
          <a:ext cx="3810240" cy="1749240"/>
        </p:xfrm>
        <a:graphic>
          <a:graphicData uri="http://schemas.openxmlformats.org/drawingml/2006/table">
            <a:tbl>
              <a:tblPr/>
              <a:tblGrid>
                <a:gridCol w="609840"/>
                <a:gridCol w="761760"/>
                <a:gridCol w="609840"/>
                <a:gridCol w="838080"/>
                <a:gridCol w="99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i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hi / 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.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47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1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4648320" y="1219320"/>
          <a:ext cx="2590560" cy="2217600"/>
        </p:xfrm>
        <a:graphic>
          <a:graphicData uri="http://schemas.openxmlformats.org/drawingml/2006/table">
            <a:tbl>
              <a:tblPr/>
              <a:tblGrid>
                <a:gridCol w="838080"/>
                <a:gridCol w="762120"/>
                <a:gridCol w="990360"/>
              </a:tblGrid>
              <a:tr h="304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ypr III - LR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 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,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gü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229360" y="3809880"/>
            <a:ext cx="1704960" cy="1771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052960" y="4078440"/>
            <a:ext cx="281160" cy="13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15000" y="5524560"/>
            <a:ext cx="876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tim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36840"/>
            <a:ext cx="48006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l ajuste ahora parece satisfactor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2 análisis quedan por realizar. Estudiar los </a:t>
            </a:r>
            <a:r>
              <a:rPr b="0" lang="es-AR" sz="2000" spc="-1" strike="noStrike">
                <a:solidFill>
                  <a:srgbClr val="008000"/>
                </a:solidFill>
                <a:latin typeface="Verdana"/>
              </a:rPr>
              <a:t>efectos Sexo y Clase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. Y, si bien la tendencia observada en el gráfico resulta aceptable, investigar si el modelo no ajustaría mejor introduciendo algún efecto de </a:t>
            </a:r>
            <a:r>
              <a:rPr b="0" lang="es-AR" sz="2000" spc="-1" strike="noStrike">
                <a:solidFill>
                  <a:srgbClr val="008000"/>
                </a:solidFill>
                <a:latin typeface="Verdana"/>
              </a:rPr>
              <a:t>interac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68580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os coeficientes estimados en este mode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80880" y="1219320"/>
          <a:ext cx="7238880" cy="4843440"/>
        </p:xfrm>
        <a:graphic>
          <a:graphicData uri="http://schemas.openxmlformats.org/drawingml/2006/table">
            <a:tbl>
              <a:tblPr/>
              <a:tblGrid>
                <a:gridCol w="1788840"/>
                <a:gridCol w="1362240"/>
                <a:gridCol w="1362240"/>
                <a:gridCol w="1361880"/>
                <a:gridCol w="1363680"/>
              </a:tblGrid>
              <a:tr h="30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 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</a:t>
                      </a:r>
                      <a:r>
                        <a:rPr b="0" i="1" lang="es-AR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05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.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.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güe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7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68580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Variables clase y sex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366920"/>
          <a:ext cx="4343400" cy="244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66920"/>
                    <a:ext cx="434340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2743200" y="4100400"/>
            <a:ext cx="5791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análisis de deviance respecto al modelo con todas las variables, muestra que eliminar sexo no provoca una pérdida significativa de ajuste, mientras que eliminar clase sí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–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52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Primeros 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990720"/>
            <a:ext cx="876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Prima Pura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 resultado de una estimación de costos promedios basada en una combinación de inferencias estadísticas y juicio profesional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239920"/>
            <a:ext cx="876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Segmentación de la cartera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971800"/>
            <a:ext cx="5105520" cy="2743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6208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Verdana"/>
              </a:rPr>
              <a:t>Resultados técn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668920"/>
            <a:ext cx="426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Verdana"/>
              </a:rPr>
              <a:t>Juicio de expertos en el c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664240"/>
            <a:ext cx="35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Verdana"/>
              </a:rPr>
              <a:t>Estrategias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79200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Variables clase y sex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11937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La beta para </a:t>
            </a:r>
            <a:r>
              <a:rPr b="0" lang="es-AR" sz="2000" spc="-1" strike="noStrike">
                <a:solidFill>
                  <a:srgbClr val="008000"/>
                </a:solidFill>
                <a:latin typeface="Verdana"/>
              </a:rPr>
              <a:t>sexo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femenino es cercano a cero, lo que explica que si bien su error estándar es similar al de otros coeficientes, este resulte no de signific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l error estándar se mantiene en un nivel acep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La evidencia no es contundente, se decide dejarla en el mod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882880"/>
            <a:ext cx="922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- En cambio, el error estándar de las beta para </a:t>
            </a:r>
            <a:r>
              <a:rPr b="0" lang="es-AR" sz="2000" spc="-1" strike="noStrike">
                <a:solidFill>
                  <a:srgbClr val="008000"/>
                </a:solidFill>
                <a:latin typeface="Verdana"/>
              </a:rPr>
              <a:t>Clase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son al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l riesgo de segmentar también por esta variable resulta elevado. Una opción es intentar fusionar categorías. Luego de algunos ensayos, se ha decidido excluir la variable y no segmentar el cálculo de la frecuencia por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708440"/>
            <a:ext cx="601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La inclusión de </a:t>
            </a:r>
            <a:r>
              <a:rPr b="0" lang="es-AR" sz="2000" spc="-1" strike="noStrike">
                <a:solidFill>
                  <a:srgbClr val="008000"/>
                </a:solidFill>
                <a:latin typeface="Verdana"/>
              </a:rPr>
              <a:t>interacciones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no ha mejorado el ajuste general del modelo. Asimismo, el gráfico de residuos y estimaciones ha mantenido la misma for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Análisis de una cartera -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320" y="79200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Resultados Fina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28600" y="1981080"/>
          <a:ext cx="2286000" cy="24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22860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3886200" y="1981080"/>
          <a:ext cx="2057400" cy="682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981080"/>
                    <a:ext cx="205740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886200" y="3886200"/>
          <a:ext cx="2011320" cy="1101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886200"/>
                    <a:ext cx="201132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3886200" y="2819520"/>
          <a:ext cx="2057400" cy="903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819520"/>
                    <a:ext cx="20574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76320" y="14778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Coeficientes Estim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4731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Relativ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52578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stas relatividades se aplican sobre una frecuencia base igual a e</a:t>
            </a:r>
            <a:r>
              <a:rPr b="0" lang="es-AR" sz="2200" spc="-1" strike="noStrike" baseline="30000">
                <a:solidFill>
                  <a:srgbClr val="000000"/>
                </a:solidFill>
                <a:latin typeface="Verdana"/>
              </a:rPr>
              <a:t>-3.7174+0.0234*Eda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1520" y="1066680"/>
            <a:ext cx="88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AR" sz="2200" spc="-1" strike="noStrike">
                <a:solidFill>
                  <a:srgbClr val="000000"/>
                </a:solidFill>
                <a:latin typeface="Verdana"/>
              </a:rPr>
              <a:t>Horizontes de la profesión”. El hoy y las asignaturas pendient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280" y="19810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ontingencia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18288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as mejores estimaciones no son predi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0" y="21081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2773440"/>
            <a:ext cx="35053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Competencia comercial (mercado globa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2773440"/>
            <a:ext cx="35049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Valores éticos (actividad socia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2971800"/>
            <a:ext cx="381240" cy="380880"/>
          </a:xfrm>
          <a:prstGeom prst="plus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3276720"/>
            <a:ext cx="304920" cy="76176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3687840"/>
            <a:ext cx="7391520" cy="459720"/>
          </a:xfrm>
          <a:prstGeom prst="rect">
            <a:avLst/>
          </a:prstGeom>
          <a:noFill/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8000"/>
                </a:solidFill>
                <a:latin typeface="Verdana"/>
              </a:rPr>
              <a:t>Utilizar las mejores herramientas disponible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4678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studiar modelos GLM, GLAM, GLM + Credibility, Baye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–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s estadísticos multi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06668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¿Por qué recurrir a model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70640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na gran cantidad de observacione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392200"/>
            <a:ext cx="83818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Necesidad de reducir 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esqu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que expliquen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sucintamente las variaciones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de los 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a través de unos pocos valores o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parámetros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…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mode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905120"/>
            <a:ext cx="457200" cy="83808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3505320"/>
            <a:ext cx="457200" cy="1295280"/>
          </a:xfrm>
          <a:custGeom>
            <a:avLst/>
            <a:gdLst>
              <a:gd name="textAreaLeft" fmla="*/ 61200 w 457200"/>
              <a:gd name="textAreaRight" fmla="*/ 396000 w 4572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026262"/>
                <a:lnTo>
                  <a:pt x="6000" y="21302"/>
                </a:lnTo>
                <a:lnTo>
                  <a:pt x="0" y="17280"/>
                </a:lnTo>
                <a:lnTo>
                  <a:pt x="6000" y="12662"/>
                </a:lnTo>
                <a:lnTo>
                  <a:pt x="6000" y="14822"/>
                </a:lnTo>
                <a:arcTo wR="21600" hR="7560" stAng="3026262" swAng="-266882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080" y="2743200"/>
            <a:ext cx="304560" cy="914400"/>
          </a:xfrm>
          <a:custGeom>
            <a:avLst/>
            <a:gdLst>
              <a:gd name="textAreaLeft" fmla="*/ 40680 w 304560"/>
              <a:gd name="textAreaRight" fmla="*/ 263880 w 3045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920" y="4775040"/>
            <a:ext cx="304920" cy="914400"/>
          </a:xfrm>
          <a:custGeom>
            <a:avLst/>
            <a:gdLst>
              <a:gd name="textAreaLeft" fmla="*/ 40680 w 304920"/>
              <a:gd name="textAreaRight" fmla="*/ 264240 w 3049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s estadísticos multi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Todas las variables explicativas deben ser analizadas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simultáne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163600"/>
            <a:ext cx="8305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xiste un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inter-relación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entre las diferentes variab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Del ejemplo que veremos lueg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440" y="3214080"/>
            <a:ext cx="47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Frecuencia Por Sexo                                 Frecuencia Por Reg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777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29000" y="3495600"/>
            <a:ext cx="6556320" cy="107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248520" y="3505320"/>
            <a:ext cx="2666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Base: Masc, Región 3 =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Fem, Región 1 = 0.94 * 0.7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s-AR" sz="1200" spc="-1" strike="noStrike">
                <a:solidFill>
                  <a:srgbClr val="008000"/>
                </a:solidFill>
                <a:latin typeface="Verdana"/>
              </a:rPr>
              <a:t>= 0.6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9360" y="4525200"/>
            <a:ext cx="332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Análisis bivariado: Frec por Sexo y Reg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4799160"/>
            <a:ext cx="7238880" cy="1222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48520" y="4890960"/>
            <a:ext cx="2666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Base: Masc, Región 3 =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Fem, Región 1 = 6.99 / 9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s-AR" sz="1200" spc="-1" strike="noStrike">
                <a:solidFill>
                  <a:srgbClr val="008000"/>
                </a:solidFill>
                <a:latin typeface="Verdana"/>
              </a:rPr>
              <a:t>= 0.7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s estadísticos multi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Todas las variables explicativas deben ser analizadas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simultáne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133720"/>
            <a:ext cx="8305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El resultado de un análisis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univariable es espurio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: dentro de cada región, hay una diferente composición de sexo =&gt; ¿cuál es el efecto que explica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657600"/>
            <a:ext cx="83059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No es igual realizar múltiples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test estadísticos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 (sobre modelos univariables) que un único test sobre el modelo multivari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Modelos estadísticos multi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No se trata de ajustar polinomios, sino de realizar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inferencias estad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30592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A través de estadísticos con distribuciones conocidas es posible realizar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test de hipóte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Una herramienta más para l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toma de decis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876920"/>
            <a:ext cx="7772400" cy="459720"/>
          </a:xfrm>
          <a:prstGeom prst="rect">
            <a:avLst/>
          </a:prstGeom>
          <a:noFill/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8000"/>
                </a:solidFill>
                <a:latin typeface="Verdana"/>
              </a:rPr>
              <a:t>Utilizaremos modelos estadísticos multi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Variables a 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066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Variable a analizar: Prima P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782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Prima Pura = Frecuencia * Costo 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962160" y="53280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259092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Diferentes fenómenos cuyas variaciones no están necesariamente asociados a los mismos fact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992400"/>
            <a:ext cx="784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Haremos 2 estudi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- uno para la frecu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- otro para el costo 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4310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GLM en los procesos de Rateme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64008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Verdana"/>
              </a:rPr>
              <a:t>Act. Guido Wolman -  Bs. As. 18 / Oct /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Verdana"/>
              </a:rPr>
              <a:t>Variables a estudiar: Frec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19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Frecuencia: variable aleatoria que sigue una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distribución de pois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752480"/>
            <a:ext cx="78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in embargo, al ver los datos agrupados, cierta variabilidad inter-sujetos puede llevar a una distribución binomial negativ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2004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Los efectos sobre la frecuencia son </a:t>
            </a:r>
            <a:r>
              <a:rPr b="0" lang="es-AR" sz="2200" spc="-1" strike="noStrike">
                <a:solidFill>
                  <a:srgbClr val="008000"/>
                </a:solidFill>
                <a:latin typeface="Verdana"/>
              </a:rPr>
              <a:t>multiplic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35514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Similar al interés compuesto, los efectos de una variable actúan también sobre los efectos de las demá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4622760"/>
            <a:ext cx="32767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Por ejempl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Región 2:  20% ma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Marca 3: 30% ma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Total efecto = 1.2 * 1.3 -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= 5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624560"/>
            <a:ext cx="32767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fectos aditivos (incorrecto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Región 2:  20% ma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Marca 3: 30% ma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Total efecto = 0.2 +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= 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47:16Z</dcterms:created>
  <dc:creator>guido.alfredo.wolman</dc:creator>
  <dc:description>Blank Presentation. Accenture Firmwide Templates v10.0.</dc:description>
  <dc:language>en-US</dc:language>
  <cp:lastModifiedBy>C.P.C.E.C.A.B.A.</cp:lastModifiedBy>
  <dcterms:modified xsi:type="dcterms:W3CDTF">2006-10-18T15:29:55Z</dcterms:modified>
  <cp:revision>83</cp:revision>
  <dc:subject/>
  <dc:title>Slide 1</dc:title>
</cp:coreProperties>
</file>