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9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16800"/>
            <a:ext cx="9144000" cy="303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16920" y="0"/>
            <a:ext cx="1931760" cy="9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9000" y="6656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800520" cy="561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6240" y="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greso Argentino y Panamericano de Act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9440" y="3125880"/>
            <a:ext cx="52545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ablero de control en la era de la información y la gestión de los costos en salu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57800" y="661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9440" y="6008760"/>
            <a:ext cx="5254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ra. Marisa Silvina Sori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2200" y="1228680"/>
            <a:ext cx="8651880" cy="45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9920" indent="-169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ando grupos que tengan diferentes comportamientos, a los clientes los podemos agrup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cliente (corporativos, directos o individuales, obras sociales, afin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facturación (individual, grup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ínea de producto (cartilla méd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tipo de cobertura (abiertos, cerrados, diferente cobertura para prestaciones top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zona ge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820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dad y sex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241200"/>
            <a:ext cx="69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seg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proceso interno, indicadores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82800"/>
            <a:ext cx="5178600" cy="5634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0880" y="1456920"/>
            <a:ext cx="3736800" cy="48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a gestión del costo médico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oco de esta pres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ceso o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señ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estadores propios, o la integr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6240" y="227160"/>
            <a:ext cx="63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orque gestiona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19320" y="1000080"/>
            <a:ext cx="5342040" cy="5095800"/>
          </a:xfrm>
          <a:prstGeom prst="upArrow">
            <a:avLst>
              <a:gd name="adj1" fmla="val 51398"/>
              <a:gd name="adj2" fmla="val 371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2897280"/>
            <a:ext cx="6051600" cy="3794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 de la oferta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43080" y="3505320"/>
            <a:ext cx="5253120" cy="303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vejec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3960720"/>
            <a:ext cx="6148440" cy="3794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yor demanda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43080" y="4491000"/>
            <a:ext cx="5253120" cy="379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Mayor expectativa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92240" y="5022720"/>
            <a:ext cx="6051600" cy="3794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cina de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9400" y="5629320"/>
            <a:ext cx="5253120" cy="303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mparos y medida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60840" y="1228680"/>
            <a:ext cx="52369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ulatorio: Incluye todas aquellas prestaciones médicas que no requieren hospit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urgencias y eme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tas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s de diagnóstico y trata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16872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4240" y="1228680"/>
            <a:ext cx="584352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nación: aquellos tratamientos que requieren la hospitalización del paciente en una institución, la misma puede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í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rúr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st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qu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 o 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139920" cy="561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960" y="1076400"/>
            <a:ext cx="60721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rmacia: se divide en dos grandes rub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 de farmacias: corresponde al gasto en medicamentos durante la atención ambulatoria (cobertura par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medicación especial para determinadas patologías cubierta por Ley (PMO) al 100% por ejemplo: HIV, oncológica, otras de alto costo y baja inci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402" t="0" r="19233" b="0"/>
          <a:stretch/>
        </p:blipFill>
        <p:spPr>
          <a:xfrm>
            <a:off x="0" y="1000080"/>
            <a:ext cx="2739960" cy="561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6240" y="24120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1960" y="1228680"/>
            <a:ext cx="5995800" cy="52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cunas: aquellas incluidas en la cobertura, con descuento del 100% o el que corresponda 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dontología: los diferentes planes odontológicos que el cliente ha optado a la hora de elegir su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ótesis: se analiza por separado dada su diversidad, pero en la mayoría de los casos es parte del costo de una internación quirú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2817720" cy="561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6240" y="24120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4960" y="13604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Participación de los conceptos sobre el costo final en una empres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3040" y="2138400"/>
          <a:ext cx="819612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138400"/>
                    <a:ext cx="81961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1758960"/>
            <a:ext cx="9143640" cy="4704840"/>
            <a:chOff x="0" y="1758960"/>
            <a:chExt cx="9143640" cy="4704840"/>
          </a:xfrm>
        </p:grpSpPr>
        <p:sp>
          <p:nvSpPr>
            <p:cNvPr id="140" name=""/>
            <p:cNvSpPr/>
            <p:nvPr/>
          </p:nvSpPr>
          <p:spPr>
            <a:xfrm>
              <a:off x="102240" y="1828800"/>
              <a:ext cx="9041400" cy="454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2560" y="3119040"/>
              <a:ext cx="3070080" cy="30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Se valorizan las prestaciones médicas utilizadas y las internaciones realiz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Medimos la correcta valorización de las mis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La responsabilidad sobre los valores  generalmente recae sobre</a:t>
              </a: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 sector encargado de contratacion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Es parte de</a:t>
              </a: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 la gestión médica </a:t>
              </a: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uando se modifica el m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4480" y="3119040"/>
              <a:ext cx="286488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s el resultado de las variables anteri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s el que utilizo para las renta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80808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Se gestiona a través de los dos puntos anteri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4920" y="2243520"/>
              <a:ext cx="2940480" cy="712800"/>
            </a:xfrm>
            <a:custGeom>
              <a:avLst/>
              <a:gdLst>
                <a:gd name="textAreaLeft" fmla="*/ 0 w 2940480"/>
                <a:gd name="textAreaRight" fmla="*/ 2940840 w 29404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osto de cada pres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6280" y="2243520"/>
              <a:ext cx="2621880" cy="712800"/>
            </a:xfrm>
            <a:custGeom>
              <a:avLst/>
              <a:gdLst>
                <a:gd name="textAreaLeft" fmla="*/ 0 w 2621880"/>
                <a:gd name="textAreaRight" fmla="*/ 2621880 w 26218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osto médico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29040" y="17589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119040"/>
              <a:ext cx="2880360" cy="30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marL="315360" indent="-31536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El cliente tiene acceso al servi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Puede ser de manera ambulatoria o a través de una intern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Medimos las cantidades utilizadas y las relacionamos con los cli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nsideramos el mix de prest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spcBef>
                  <a:spcPts val="349"/>
                </a:spcBef>
                <a:buClr>
                  <a:srgbClr val="000000"/>
                </a:buClr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La responsabilidad de control de esta tasa estaría en el </a:t>
              </a: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ector encargado de gestión méd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080" y="2243520"/>
              <a:ext cx="2940480" cy="712800"/>
            </a:xfrm>
            <a:custGeom>
              <a:avLst/>
              <a:gdLst>
                <a:gd name="textAreaLeft" fmla="*/ 0 w 2940480"/>
                <a:gd name="textAreaRight" fmla="*/ 2940840 w 29404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antidad de prest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760" y="1814040"/>
              <a:ext cx="21398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83440" y="1909080"/>
              <a:ext cx="18324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46240" y="16524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Gestión del costo médic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Medición de la tasa de uso y de los valores por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la diferente composición del costo médico a medir considerando  cantidad, precio y mix de pres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u vez el costo médico lo podemos desagregar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ando la segmentación que vimos para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gunta es qué incluir en el tab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quello que decidimos poner foco en el plan estraté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200" y="241200"/>
            <a:ext cx="65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 y el tabler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02400" y="4111560"/>
          <a:ext cx="34416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4111560"/>
                    <a:ext cx="34416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3040" y="1303200"/>
            <a:ext cx="827244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indar algunos conceptos teóricos que nos ayuden a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er la relación entre el tablero de control y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unciar los principales problemas que se nos presentan a la hora de establecer un tablero de control en una empresa de salud, focalizándonos en la gestión del costo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cutir y entender los problemas específicos del sector salud, para definir un cuadro de comando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8520" y="2412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5780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240" y="1987560"/>
            <a:ext cx="8727840" cy="304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9920" y="2670120"/>
            <a:ext cx="8727840" cy="2828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6240" y="1228680"/>
            <a:ext cx="4781520" cy="49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obtener una mayor apertura de los conceptos ambulatorios como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di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ágenes, TAC y R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e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patolog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práctic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3710160" cy="561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ambulatorio, proble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automatización de la captura de las prestaciones médicas, con volúmenes millonarios de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 (falta de homogeneidad entre efectores, duplicaciones, inconsiste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6240" y="1987560"/>
            <a:ext cx="8727840" cy="347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920" y="1987560"/>
            <a:ext cx="8804160" cy="3506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2560" y="1228680"/>
            <a:ext cx="47052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obtener una mayor apertura de las internaciones como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í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rúr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á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stétricas (partos, cesár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quiá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4040280" cy="5616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3120" y="1228680"/>
            <a:ext cx="50846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77120" indent="-1771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mos considerar el tipo de cama ocupada y abrirl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terapia intensiva (con y sin AR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cor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pediá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odin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3586320" cy="5693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5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en internación, proble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560" y="1374840"/>
            <a:ext cx="815040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, módulos con diferentes inclusiones y ex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 esquema para compartir el riesgo con los prestadores, como por ejemplo el pago por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farmacia y vacu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9920" y="1758960"/>
            <a:ext cx="8727840" cy="4402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520" y="1217520"/>
            <a:ext cx="842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oner un enfoque de trabajo diferente, con un equipo multi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ualizar el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valor agregado del Actu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el equipo multi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rar algunos ejemplos de reportes y tabl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24120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288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farmacia y vacu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46240" y="1911240"/>
            <a:ext cx="8651520" cy="4024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odontología y pr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9920" y="2062080"/>
            <a:ext cx="8727840" cy="3492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de odontología y pr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9000" y="13604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Comparación con el acumulado al mismo mes del añ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6240" y="2055960"/>
            <a:ext cx="8651520" cy="334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4120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segmenta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6560" y="1303200"/>
            <a:ext cx="81504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modelos de de tableros podemos desagregarlos consider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egmentación de cl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5480" indent="-219240">
              <a:lnSpc>
                <a:spcPct val="15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5480" indent="-219240">
              <a:lnSpc>
                <a:spcPct val="15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rporativo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zo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ad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íneas de productos, pla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podemos abrirlo a nivel prestador o efector, para evaluar el costo efectividad o perfil del mismo, lo que denominamo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rofy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rof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560" y="1076400"/>
            <a:ext cx="815040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62720" indent="-1627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indicadores están puestos sobre los prestadores médicos, considerando su especialidad, el diagnóstico, y el grupo de pacientes a los que se atienden, se podrá med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médic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ce de re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generado por cada con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piabilidad de la prestación mé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ividad clínica y diagnó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zación adecuada de nueva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2566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l compromiso de los prestadores con el sistema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40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2200" y="241200"/>
            <a:ext cx="58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prof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6560" y="1076400"/>
            <a:ext cx="8355240" cy="49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herramienta poco desarrollada en nuestr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cnología informática juega un papel v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necesita un equipo multidisciplinario donde el Actuar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6240" y="24120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el model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8160" y="1000080"/>
            <a:ext cx="8745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lación médica es un problema en el mundo (tecnología, envejecimiento de la población, mayores demandas de la sociedad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estadores ven incrementados sus costo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esidad de acceso a la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ntos de equilibrio muy a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a relación fluida entre efectores y financiadores, que permitan afrontar los inconvenientes de manera conj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500"/>
                            </p:stCondLst>
                            <p:childTnLst>
                              <p:par>
                                <p:cTn id="9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6240" y="24120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el model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46240" y="1076040"/>
            <a:ext cx="889776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istema argentino comparativamente con otros países es más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cartillas médicas son muy amplias (problema comer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xisten deducibles  (problema comercial, cultural, 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hay topes claros en las pres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opagan las prestaciones (problema comercial, cultural, 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bertura es superior en la Argentina que en o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mos innovar, por ejemplo a través de la promoción y 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ablero es una necesidad para las empresas financi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9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500"/>
                            </p:stCondLst>
                            <p:childTnLst>
                              <p:par>
                                <p:cTn id="9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39960" y="177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6240" y="24120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sto médico, la coyu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46240" y="1455840"/>
            <a:ext cx="8576640" cy="4426920"/>
            <a:chOff x="246240" y="1455840"/>
            <a:chExt cx="8576640" cy="4426920"/>
          </a:xfrm>
        </p:grpSpPr>
        <p:grpSp>
          <p:nvGrpSpPr>
            <p:cNvPr id="250" name=""/>
            <p:cNvGrpSpPr/>
            <p:nvPr/>
          </p:nvGrpSpPr>
          <p:grpSpPr>
            <a:xfrm>
              <a:off x="246240" y="1455840"/>
              <a:ext cx="8576640" cy="4426920"/>
              <a:chOff x="246240" y="1455840"/>
              <a:chExt cx="8576640" cy="4426920"/>
            </a:xfrm>
          </p:grpSpPr>
          <p:sp>
            <p:nvSpPr>
              <p:cNvPr id="251" name=""/>
              <p:cNvSpPr/>
              <p:nvPr/>
            </p:nvSpPr>
            <p:spPr>
              <a:xfrm>
                <a:off x="3222360" y="1941480"/>
                <a:ext cx="557280" cy="3214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087600" y="2767680"/>
                <a:ext cx="538560" cy="1321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89480" y="2687760"/>
                <a:ext cx="594360" cy="1717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692080" y="3506400"/>
                <a:ext cx="539640" cy="2152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4725000" y="4395240"/>
                <a:ext cx="12240" cy="6058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387960" y="4123800"/>
                <a:ext cx="437040" cy="40824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5686200" y="4255920"/>
                <a:ext cx="516600" cy="3826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6054840" y="3522960"/>
                <a:ext cx="510480" cy="1792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3920" y="1455840"/>
                <a:ext cx="166968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Nuevas Tecnologí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6240" y="2454120"/>
                <a:ext cx="202212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cuerdo de prec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2200" y="3392280"/>
                <a:ext cx="189648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dicina Defensiv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8160" y="4350960"/>
                <a:ext cx="234468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Negociación con los prestador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26080" y="1577520"/>
                <a:ext cx="229680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Convenios colectivos de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97440" y="2454120"/>
                <a:ext cx="204912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mparos y Medidas judici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1480" y="3516120"/>
                <a:ext cx="217440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Incremento del costo prestaci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54800" y="4457520"/>
                <a:ext cx="229176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Regulación de la medicina prepag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97000" y="5240160"/>
                <a:ext cx="3528720" cy="642600"/>
              </a:xfrm>
              <a:prstGeom prst="rect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Nuevas prestaciones incluidas en el P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534640" y="2049480"/>
                <a:ext cx="470520" cy="2797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22480" y="2680920"/>
                <a:ext cx="1800000" cy="11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12920" indent="-412920"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ff0000"/>
                    </a:solidFill>
                    <a:latin typeface="Arial"/>
                  </a:rPr>
                  <a:t>Medic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12920" indent="-412920"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ff0000"/>
                    </a:solidFill>
                    <a:latin typeface="Arial"/>
                  </a:rPr>
                  <a:t>Prepag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12920" indent="-412920"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400" spc="-1" strike="noStrike">
                    <a:solidFill>
                      <a:srgbClr val="ff0000"/>
                    </a:solidFill>
                    <a:latin typeface="Arial"/>
                  </a:rPr>
                  <a:t>Argent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717720" y="2370240"/>
              <a:ext cx="2016000" cy="17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46240" y="24120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berturas, comparativo entre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1152360"/>
            <a:ext cx="8897760" cy="5528880"/>
            <a:chOff x="0" y="1152360"/>
            <a:chExt cx="8897760" cy="5528880"/>
          </a:xfrm>
        </p:grpSpPr>
        <p:graphicFrame>
          <p:nvGraphicFramePr>
            <p:cNvPr id="274" name=""/>
            <p:cNvGraphicFramePr/>
            <p:nvPr/>
          </p:nvGraphicFramePr>
          <p:xfrm>
            <a:off x="0" y="1463760"/>
            <a:ext cx="8897760" cy="467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463760"/>
                      <a:ext cx="8897760" cy="467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5178600" y="115236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compa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51760" y="1152360"/>
              <a:ext cx="10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7680" y="115236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muy inf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6320" y="1152360"/>
              <a:ext cx="96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inf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8480" y="6161040"/>
              <a:ext cx="479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uente: estudio de coberturas médicas – Mercer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8520" y="923760"/>
            <a:ext cx="843588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herramienta que permite la evaluación constante y sistemática  del ente en su conjunto, verificando el grado de cumplimiento de las metas establec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egura el éxito de la estrategia definida  y mantiene su relación con la misión y con las condiciones del medio en que a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sistema de medición que ayuda a las empresas administrar mejor la creación de valor en el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puedes medirlo, no puedes gestion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8520" y="22716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ablero de control: 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5780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231120" y="1360440"/>
            <a:ext cx="8623080" cy="5107680"/>
            <a:chOff x="231120" y="1360440"/>
            <a:chExt cx="8623080" cy="5107680"/>
          </a:xfrm>
        </p:grpSpPr>
        <p:sp>
          <p:nvSpPr>
            <p:cNvPr id="284" name=""/>
            <p:cNvSpPr/>
            <p:nvPr/>
          </p:nvSpPr>
          <p:spPr>
            <a:xfrm>
              <a:off x="1407960" y="1695600"/>
              <a:ext cx="94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mbula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45120" y="1695600"/>
              <a:ext cx="82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Inter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42440" y="1876320"/>
              <a:ext cx="113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Mater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70600" y="1743120"/>
              <a:ext cx="1416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Medica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en farma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9960" y="1876320"/>
              <a:ext cx="86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do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4560" y="1876320"/>
              <a:ext cx="735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p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82840" y="1695600"/>
              <a:ext cx="13496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Tratamien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even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97920" y="1876320"/>
              <a:ext cx="656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31680" y="1360440"/>
              <a:ext cx="226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bertura Bá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1386000"/>
              <a:ext cx="433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bertura Adi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45520" y="5697360"/>
              <a:ext cx="8519760" cy="287280"/>
              <a:chOff x="245520" y="5697360"/>
              <a:chExt cx="8519760" cy="287280"/>
            </a:xfrm>
          </p:grpSpPr>
          <p:sp>
            <p:nvSpPr>
              <p:cNvPr id="295" name=""/>
              <p:cNvSpPr/>
              <p:nvPr/>
            </p:nvSpPr>
            <p:spPr>
              <a:xfrm>
                <a:off x="245520" y="5717880"/>
                <a:ext cx="128376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Puerto R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582560" y="5697360"/>
                <a:ext cx="7182720" cy="287280"/>
                <a:chOff x="1582560" y="5697360"/>
                <a:chExt cx="7182720" cy="287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582560" y="569736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339640" y="5697360"/>
                  <a:ext cx="8312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95280" y="569736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52600" y="5697360"/>
                  <a:ext cx="12852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363640" y="5697360"/>
                  <a:ext cx="982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70120" y="569736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951240" y="5697360"/>
                  <a:ext cx="11329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08560" y="5697360"/>
                  <a:ext cx="756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4273200" y="1693800"/>
              <a:ext cx="445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61520" y="2219400"/>
              <a:ext cx="8330400" cy="287280"/>
              <a:chOff x="461520" y="2219400"/>
              <a:chExt cx="8330400" cy="28728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609200" y="2219400"/>
                <a:ext cx="7182720" cy="287280"/>
                <a:chOff x="1609200" y="2219400"/>
                <a:chExt cx="7182720" cy="2872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609200" y="221940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366280" y="2219400"/>
                  <a:ext cx="8312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121920" y="221940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179240" y="2219400"/>
                  <a:ext cx="12852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390280" y="2219400"/>
                  <a:ext cx="982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96760" y="221940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77880" y="2219400"/>
                  <a:ext cx="11329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035200" y="2219400"/>
                  <a:ext cx="756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61520" y="2240280"/>
                <a:ext cx="106740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Argen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893520" y="2786040"/>
              <a:ext cx="5402880" cy="287280"/>
              <a:chOff x="893520" y="2786040"/>
              <a:chExt cx="5402880" cy="2872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609200" y="2786040"/>
                <a:ext cx="4687200" cy="287280"/>
                <a:chOff x="1609200" y="2786040"/>
                <a:chExt cx="4687200" cy="287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609200" y="278604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366280" y="2786040"/>
                  <a:ext cx="8312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121920" y="278604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464800" y="278604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893520" y="2806560"/>
                <a:ext cx="6346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Bras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969120" y="3354480"/>
              <a:ext cx="6084360" cy="287280"/>
              <a:chOff x="969120" y="3354480"/>
              <a:chExt cx="6084360" cy="28728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609200" y="3354480"/>
                <a:ext cx="5444280" cy="287280"/>
                <a:chOff x="1609200" y="3354480"/>
                <a:chExt cx="5444280" cy="287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609200" y="335448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366280" y="3354480"/>
                  <a:ext cx="8312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121920" y="335448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179240" y="3354480"/>
                  <a:ext cx="12852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389920" y="3354480"/>
                  <a:ext cx="982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6400" y="335448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969120" y="3375000"/>
                <a:ext cx="56016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Ch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86000" y="3922560"/>
              <a:ext cx="7548480" cy="358200"/>
              <a:chOff x="486000" y="3922560"/>
              <a:chExt cx="7548480" cy="3582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608840" y="3922560"/>
                <a:ext cx="6425640" cy="358200"/>
                <a:chOff x="1608840" y="3922560"/>
                <a:chExt cx="6425640" cy="3582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608840" y="3993840"/>
                  <a:ext cx="83160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65920" y="3993840"/>
                  <a:ext cx="83124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121560" y="3993840"/>
                  <a:ext cx="113472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77520" y="3922560"/>
                  <a:ext cx="1056960" cy="286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86000" y="3979800"/>
                <a:ext cx="10432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Colomb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53480" y="4560840"/>
              <a:ext cx="4787280" cy="287280"/>
              <a:chOff x="753480" y="4560840"/>
              <a:chExt cx="4787280" cy="2872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609200" y="4560840"/>
                <a:ext cx="3931560" cy="287280"/>
                <a:chOff x="1609200" y="4560840"/>
                <a:chExt cx="3931560" cy="2872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09200" y="456084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66280" y="4560840"/>
                  <a:ext cx="9075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197880" y="4560840"/>
                  <a:ext cx="113472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257000" y="4560840"/>
                  <a:ext cx="12837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753480" y="4581360"/>
                <a:ext cx="77508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Mex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10760" y="5129280"/>
              <a:ext cx="8381880" cy="287280"/>
              <a:chOff x="410760" y="5129280"/>
              <a:chExt cx="8381880" cy="2872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609200" y="5129280"/>
                <a:ext cx="7183440" cy="287280"/>
                <a:chOff x="1609200" y="5129280"/>
                <a:chExt cx="7183440" cy="287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609200" y="5129280"/>
                  <a:ext cx="8319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6640" y="5129280"/>
                  <a:ext cx="8316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22280" y="5129280"/>
                  <a:ext cx="1135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179600" y="5129280"/>
                  <a:ext cx="128556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390640" y="5129280"/>
                  <a:ext cx="98280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297120" y="5129280"/>
                  <a:ext cx="75744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78240" y="5129280"/>
                  <a:ext cx="11332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035560" y="5129280"/>
                  <a:ext cx="757080" cy="287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410760" y="5150160"/>
                <a:ext cx="111780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Venezue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31120" y="6161040"/>
              <a:ext cx="483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uente: estudio de coberturas médicas – Mercer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46240" y="24120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berturas, comparativo entre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24120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Financiamiento, comparativo entre paí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73040" y="1711440"/>
          <a:ext cx="8120160" cy="3395520"/>
        </p:xfrm>
        <a:graphic>
          <a:graphicData uri="http://schemas.openxmlformats.org/drawingml/2006/table">
            <a:tbl>
              <a:tblPr/>
              <a:tblGrid>
                <a:gridCol w="2635200"/>
                <a:gridCol w="3208320"/>
                <a:gridCol w="227664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í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mbul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ern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hasta t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s Unid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+ $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en GP, €36 re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661680" y="6116760"/>
            <a:ext cx="48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estudio de coberturas médicas – Mercer Argen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704880" y="1847880"/>
          <a:ext cx="77342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47880"/>
                    <a:ext cx="77342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510000" y="2746440"/>
            <a:ext cx="2438280" cy="1608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23160" y="1228680"/>
            <a:ext cx="2220840" cy="1608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03320" y="304956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59000" y="343692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0640" y="365292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flación médica, Estados Un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0200" y="6227640"/>
            <a:ext cx="57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encuesta de Salud Corporativa Mercer 2006 – Estados U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1542960"/>
            <a:ext cx="9144000" cy="3583080"/>
          </a:xfrm>
          <a:prstGeom prst="rect">
            <a:avLst/>
          </a:prstGeom>
          <a:solidFill>
            <a:srgbClr val="66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9440" y="3049560"/>
            <a:ext cx="5254560" cy="2048040"/>
          </a:xfrm>
          <a:prstGeom prst="rect">
            <a:avLst/>
          </a:prstGeom>
          <a:solidFill>
            <a:srgbClr val="66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1425600" y="3835080"/>
            <a:ext cx="1103400" cy="368460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3684600"/>
              <a:gd name="textAreaBottom" fmla="*/ 3684960 h 36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Promo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4656960" y="4369320"/>
            <a:ext cx="1103400" cy="261612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2616120"/>
              <a:gd name="textAreaBottom" fmla="*/ 2616480 h 261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7308720" y="4394160"/>
            <a:ext cx="1077840" cy="25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42800" y="301140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Bajo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45160" y="4235400"/>
            <a:ext cx="259884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8920" y="168264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endencia, promoción y preven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69200" y="4340160"/>
            <a:ext cx="2674800" cy="580680"/>
            <a:chOff x="6469200" y="4340160"/>
            <a:chExt cx="2674800" cy="580680"/>
          </a:xfrm>
        </p:grpSpPr>
        <p:sp>
          <p:nvSpPr>
            <p:cNvPr id="388" name=""/>
            <p:cNvSpPr/>
            <p:nvPr/>
          </p:nvSpPr>
          <p:spPr>
            <a:xfrm>
              <a:off x="7683480" y="4340160"/>
              <a:ext cx="146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nferme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cró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69200" y="4340160"/>
              <a:ext cx="136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nferme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gu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6560" y="1303200"/>
            <a:ext cx="81504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o de los costo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cesidad de limitar o copagar las coberturas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ancia de mejorar la relación entre financiadores y efectores o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quipo multidisciplinario como centro de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ctuario como generador de valor en este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ablero es el medio para la supervivencia de las empresas con el sistem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s a la promoción y 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806320" y="6645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9920" y="24120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370240" y="2290680"/>
            <a:ext cx="4402080" cy="2200320"/>
            <a:chOff x="2370240" y="2290680"/>
            <a:chExt cx="4402080" cy="2200320"/>
          </a:xfrm>
        </p:grpSpPr>
        <p:sp>
          <p:nvSpPr>
            <p:cNvPr id="399" name=""/>
            <p:cNvSpPr/>
            <p:nvPr/>
          </p:nvSpPr>
          <p:spPr>
            <a:xfrm>
              <a:off x="3054240" y="2290680"/>
              <a:ext cx="2960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00"/>
                  </a:solidFill>
                  <a:latin typeface="Arial"/>
                </a:rPr>
                <a:t>Muchas Gracia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70240" y="3732120"/>
              <a:ext cx="4402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00"/>
                  </a:solidFill>
                  <a:latin typeface="Arial"/>
                </a:rPr>
                <a:t>Dra. Marisa Silvina So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73040" y="1217520"/>
            <a:ext cx="8153280" cy="4710240"/>
            <a:chOff x="473040" y="1217520"/>
            <a:chExt cx="8153280" cy="4710240"/>
          </a:xfrm>
        </p:grpSpPr>
        <p:sp>
          <p:nvSpPr>
            <p:cNvPr id="61" name=""/>
            <p:cNvSpPr/>
            <p:nvPr/>
          </p:nvSpPr>
          <p:spPr>
            <a:xfrm>
              <a:off x="473040" y="1217520"/>
              <a:ext cx="8153280" cy="47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81080" indent="-181080">
                <a:lnSpc>
                  <a:spcPct val="155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lnSpc>
                  <a:spcPct val="155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0480" y="2865600"/>
              <a:ext cx="3616200" cy="1863720"/>
            </a:xfrm>
            <a:prstGeom prst="rightArrow">
              <a:avLst>
                <a:gd name="adj1" fmla="val 89435"/>
                <a:gd name="adj2" fmla="val 3577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443000">
              <a:off x="2212200" y="2734920"/>
              <a:ext cx="1323720" cy="837000"/>
            </a:xfrm>
            <a:prstGeom prst="rightArrow">
              <a:avLst>
                <a:gd name="adj1" fmla="val 70028"/>
                <a:gd name="adj2" fmla="val 4708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450200">
              <a:off x="792000" y="2735280"/>
              <a:ext cx="1322280" cy="836640"/>
            </a:xfrm>
            <a:prstGeom prst="rightArrow">
              <a:avLst>
                <a:gd name="adj1" fmla="val 70028"/>
                <a:gd name="adj2" fmla="val 4705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931200">
              <a:off x="2663640" y="3792600"/>
              <a:ext cx="1284120" cy="1022400"/>
            </a:xfrm>
            <a:prstGeom prst="rightArrow">
              <a:avLst>
                <a:gd name="adj1" fmla="val 70028"/>
                <a:gd name="adj2" fmla="val 3739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879200">
              <a:off x="792000" y="4032360"/>
              <a:ext cx="1322280" cy="836640"/>
            </a:xfrm>
            <a:prstGeom prst="rightArrow">
              <a:avLst>
                <a:gd name="adj1" fmla="val 70028"/>
                <a:gd name="adj2" fmla="val 4705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97080" y="2738520"/>
              <a:ext cx="3618000" cy="1863720"/>
            </a:xfrm>
            <a:prstGeom prst="rightArrow">
              <a:avLst>
                <a:gd name="adj1" fmla="val 89435"/>
                <a:gd name="adj2" fmla="val 3578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80000" y="2746440"/>
              <a:ext cx="1324080" cy="836640"/>
            </a:xfrm>
            <a:prstGeom prst="rightArrow">
              <a:avLst>
                <a:gd name="adj1" fmla="val 70028"/>
                <a:gd name="adj2" fmla="val 4711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60880" y="2746440"/>
              <a:ext cx="1320840" cy="836640"/>
            </a:xfrm>
            <a:prstGeom prst="rightArrow">
              <a:avLst>
                <a:gd name="adj1" fmla="val 70028"/>
                <a:gd name="adj2" fmla="val 4700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80000" y="3878280"/>
              <a:ext cx="1324080" cy="836640"/>
            </a:xfrm>
            <a:prstGeom prst="rightArrow">
              <a:avLst>
                <a:gd name="adj1" fmla="val 70028"/>
                <a:gd name="adj2" fmla="val 4711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60880" y="3878280"/>
              <a:ext cx="1320840" cy="836640"/>
            </a:xfrm>
            <a:prstGeom prst="rightArrow">
              <a:avLst>
                <a:gd name="adj1" fmla="val 70028"/>
                <a:gd name="adj2" fmla="val 4700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3400" y="1995480"/>
              <a:ext cx="3557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Estado esperado a la hora de diseñar el tabler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480" y="1963800"/>
              <a:ext cx="3251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Estado anterior al planeamiento estraté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8520" y="24120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Alineando las 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2288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52600" y="1217520"/>
            <a:ext cx="81532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8520" y="227160"/>
            <a:ext cx="78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Construcción del tabl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2200" y="1000080"/>
            <a:ext cx="865188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tablero de control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luir información: sintética, multifacética y de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trar en forma periódica los desvíos por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 algn="just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yudar a anticiparnos a los problemas, permitiéndonos adelantar 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luir análisis  conclusiones, y facilitar proy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r el cumplimiento de los objetivos que surgieron del plan estraté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7360" y="1000080"/>
            <a:ext cx="8756640" cy="54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826920" indent="0">
              <a:lnSpc>
                <a:spcPct val="15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salud creciente en todo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demanda del públic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ciedad con mayor acceso a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remento de la tecnología aplicada (nuevos equipos de diagnóstico, nuevos procedimientos y nuevas dro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na defen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5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remento de la expectativa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5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existencia de un marco regulatorio para el sector salud en l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2200" y="22716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1840" y="999720"/>
            <a:ext cx="882180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automatización de la captura de las prestaciones médicas, con volúmenes millonarios de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 específica inadecuada (falta de homogeneidad entre efectores, duplicaciones, inconsistenc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nivel de profesionalización de las empresas de salud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an cantidad de procesos informales, altamente visuales y con una importante manipulación de pap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22716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1840" y="1228320"/>
            <a:ext cx="82724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lanes médicos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incipal producto que comercializan las empresas de medicina prepaga, el que permite a sus clientes (asociados) acceder a una amplia cobertura médico asistencial pagando una cuota men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bertura asistencial  (Plan) incluye un conjunto de beneficios, un conjunto de prestadores (Red), con un esquema de normas para el acceso a los m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6240" y="0"/>
            <a:ext cx="69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Perspectiva del cliente, definición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07040" y="664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880" y="66168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3:48:21Z</dcterms:created>
  <dc:creator>Roberto Miskolczi / Fernando Riedel</dc:creator>
  <dc:description/>
  <dc:language>en-US</dc:language>
  <cp:lastModifiedBy>SWM_NataliaC</cp:lastModifiedBy>
  <dcterms:modified xsi:type="dcterms:W3CDTF">2006-10-19T18:57:41Z</dcterms:modified>
  <cp:revision>196</cp:revision>
  <dc:subject/>
  <dc:title>Presentación Caso de Exito Swiss Medical</dc:title>
</cp:coreProperties>
</file>