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55514-1A98-42B8-98A9-01DA4F6418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67080" y="-225720"/>
            <a:ext cx="2819520" cy="106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77C49-3C2C-457F-A91D-D900E89B93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67080" y="-225720"/>
            <a:ext cx="2819520" cy="106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43EB7-DA96-4BFE-9339-D9A97EB306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267080" y="-225720"/>
            <a:ext cx="2819520" cy="106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59ECA-5E47-416C-89E7-27C53FC72F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67080" y="-225720"/>
            <a:ext cx="2819520" cy="106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F184E-6B89-4D95-B3A2-9FDADAF6F2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67080" y="-225720"/>
            <a:ext cx="2819520" cy="106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D8287-9F67-45E1-B026-01A0B477AA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67080" y="-225720"/>
            <a:ext cx="2819520" cy="106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B34ED-6896-409A-B448-670FBB22F5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67080" y="-225720"/>
            <a:ext cx="2819520" cy="106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B640D-72D3-4CC2-8BE7-A2A11FAD48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267080" y="0"/>
            <a:ext cx="28195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0C879-2BD6-465A-A478-EB99A6B80A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67080" y="-225720"/>
            <a:ext cx="2819520" cy="106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17575-6E2A-4233-B45A-D318C26883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67080" y="-225720"/>
            <a:ext cx="2819520" cy="106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7158A-D965-40E3-A94A-9D5BA3C43B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67080" y="-225720"/>
            <a:ext cx="2819520" cy="106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126F3-2648-4659-88FF-42CCCF324D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67080" y="0"/>
            <a:ext cx="28195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eb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1066680"/>
            <a:ext cx="86104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266720" y="6552720"/>
            <a:ext cx="685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81d5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9A633-8C2C-4C22-8DF3-5DB5F916C56B}" type="slidenum">
              <a:rPr b="0" lang="en-US" sz="1200" spc="-1" strike="noStrike">
                <a:solidFill>
                  <a:srgbClr val="081d5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2280" y="6095880"/>
            <a:ext cx="530280" cy="6238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685800" y="6400800"/>
            <a:ext cx="8077320" cy="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79320" y="6508800"/>
            <a:ext cx="360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 Division of American International Group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952880" y="650700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Rating Personal Auto,  October 200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304920" y="4343040"/>
            <a:ext cx="853416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Rating Personal Auto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United States and Latin America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October 2006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429000" y="1600200"/>
          <a:ext cx="212868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1600200"/>
                    <a:ext cx="212868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304920" y="304920"/>
            <a:ext cx="85341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IU Personal Line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14B02-4EE4-4B14-AC01-527960204F0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vantage of Segmented Rat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dvantage can be gained by segmentation of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erritory: postal code analysi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river Profile: occupation, education, etc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hicle: make/model, anti-theft devices, etc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E4C23-F71C-4B96-A588-AA6F426C1AB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04760" y="0"/>
            <a:ext cx="51814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Driver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Factor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1219320"/>
            <a:ext cx="86868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85800" y="1600200"/>
          <a:ext cx="7772400" cy="4052880"/>
        </p:xfrm>
        <a:graphic>
          <a:graphicData uri="http://schemas.openxmlformats.org/drawingml/2006/table">
            <a:tbl>
              <a:tblPr/>
              <a:tblGrid>
                <a:gridCol w="1574640"/>
                <a:gridCol w="1003320"/>
                <a:gridCol w="1195560"/>
                <a:gridCol w="982800"/>
                <a:gridCol w="1195200"/>
                <a:gridCol w="1820880"/>
              </a:tblGrid>
              <a:tr h="418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Unmarri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Marri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Age onl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Fact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A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Ma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Fema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Ma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Fema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8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18-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2.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1.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1.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1.7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1.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21-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2.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1.7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1.6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1.6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1.7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25-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1.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1.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1.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1.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1.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30-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1.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1.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1.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1.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1.0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36-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1.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1.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1.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0.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1.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41-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1.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0.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0.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0.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0.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51+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1.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0.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0.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0.8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0.8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61577-58AF-4CBA-9489-696E64DC8BE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Prevents Segmented Rating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ata not available for analysi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ating system not flexible enough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 Agents/Brokers unwilling to provide data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98743-7FFE-4805-A2E5-0CF28DF1194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ating Variables Commonly Used in the U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14300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SzPct val="75000"/>
              <a:buFont typeface="Web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hicle Us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550"/>
              </a:spcBef>
              <a:buClr>
                <a:srgbClr val="ffffff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pleasure/commute/commercial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550"/>
              </a:spcBef>
              <a:buClr>
                <a:srgbClr val="ffffff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mileage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550"/>
              </a:spcBef>
              <a:buClr>
                <a:srgbClr val="ffffff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garaging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SzPct val="75000"/>
              <a:buFont typeface="Web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hicle Featur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550"/>
              </a:spcBef>
              <a:buClr>
                <a:srgbClr val="ffffff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make/model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550"/>
              </a:spcBef>
              <a:buClr>
                <a:srgbClr val="ffffff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safety devices (air bags, automatic seat belts, ABS)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550"/>
              </a:spcBef>
              <a:buClr>
                <a:srgbClr val="ffffff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anti-theft devices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SzPct val="75000"/>
              <a:buFont typeface="Web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erritor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550"/>
              </a:spcBef>
              <a:buClr>
                <a:srgbClr val="ffffff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cities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550"/>
              </a:spcBef>
              <a:buClr>
                <a:srgbClr val="ffffff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postal codes (zip code)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8D9CC-A013-4223-95D8-90D71E48872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152280"/>
            <a:ext cx="8686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ating Variables in the 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1676520"/>
            <a:ext cx="7772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eb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river Pro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ag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gend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marital statu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student statu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driver training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credit histor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eb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aim Experi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8A39F-B993-4B8F-B859-8B79F7B718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New Rating Variable in US – Credit Scor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1219320"/>
            <a:ext cx="86868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219320"/>
            <a:ext cx="845820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250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co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 score for an insurance risk is a numeric summary of the impact on loss ratio relativity of certain credit-based predictive characteristic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Credit score and insured’s loss experi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High correlation between insured’s financial responsibility and loss experi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he higher the credit score, the better the loss experi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Most important credit score compon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umber of credit inquiries in the last 6 month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otal current balance of all installment contrac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otal collection amounts past d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umber of late paym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atio of total current balance to overall credit lim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AA548-76A1-43B0-93B0-A1769E76DCC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xperimental Rating Variable in US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GPS Rating</a:t>
            </a:r>
            <a:br>
              <a:rPr sz="1600"/>
            </a:b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1577880"/>
            <a:ext cx="86868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806480"/>
            <a:ext cx="8458200" cy="37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250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nformation collected through the GPS monitor in the vehicl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umber of times the car is star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How far the car is driv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riving speed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he times of day that the car is in u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250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Use of the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etermine how the car is driv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earn whether that way of driving affects accident ra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et rates based on real data from the monitor together with the other traditional variabl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olicyholders can affect their rates by changing driving habi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5F40D-0A57-4617-8B46-E93AAC5269D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0880" y="152280"/>
            <a:ext cx="8686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ating Variables in Latin Amer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1676520"/>
            <a:ext cx="7772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9000"/>
          </a:bodyPr>
          <a:p>
            <a:pPr marL="305280" indent="-305280">
              <a:lnSpc>
                <a:spcPct val="17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eb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hicle Use (Brazi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7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eb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hicle Make/Model (Argentina, Brazil, Chile, Ecuador, Mexic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7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eb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erritory (Argentina, Brazil, Chile, Colombia,        Venezuel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7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eb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river Profile (Brazil, Ecuado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7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eb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aim Experience (Brazi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67E1E-F26E-4A01-BD04-874C56D914A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6320" y="152280"/>
            <a:ext cx="8839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y Segment Rat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47640" y="1600200"/>
          <a:ext cx="8496360" cy="373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640" y="1600200"/>
                    <a:ext cx="849636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380880" y="1619280"/>
          <a:ext cx="8477280" cy="3352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1619280"/>
                    <a:ext cx="847728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647640" y="1523880"/>
          <a:ext cx="8496360" cy="38102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7640" y="1523880"/>
                    <a:ext cx="849636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207000" y="1324080"/>
            <a:ext cx="465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lbertus Medium"/>
              </a:rPr>
              <a:t>Without</a:t>
            </a:r>
            <a:r>
              <a:rPr b="0" lang="en-US" sz="2800" spc="-1" strike="noStrike">
                <a:solidFill>
                  <a:srgbClr val="ffffff"/>
                </a:solidFill>
                <a:latin typeface="Albertus Medium"/>
              </a:rPr>
              <a:t> Segmented rat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3A1FF-B113-4C2F-A23D-995AD7AAE70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6320" y="152280"/>
            <a:ext cx="8839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y Segment Rat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80880" y="1600200"/>
          <a:ext cx="8382240" cy="342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38224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176760" y="1324080"/>
            <a:ext cx="43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lbertus Medium"/>
              </a:rPr>
              <a:t>With Segmented Rat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27CB8-3854-48B2-B50E-4A0AD168DB6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vantage of Segmented Rat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80720" y="15238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rket Rat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$100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dicated Rat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 83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lected Rat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 90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ice Advantag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 10%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rofit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9%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46CB0-B8DB-4C61-8810-EF640547D0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6T21:52:54Z</dcterms:created>
  <dc:creator>ESuarez</dc:creator>
  <dc:description/>
  <dc:language>en-US</dc:language>
  <cp:lastModifiedBy>C.P.C.E.C.A.B.A.</cp:lastModifiedBy>
  <cp:lastPrinted>2001-09-06T14:17:56Z</cp:lastPrinted>
  <dcterms:modified xsi:type="dcterms:W3CDTF">2006-10-18T15:48:53Z</dcterms:modified>
  <cp:revision>315</cp:revision>
  <dc:subject/>
  <dc:title>AIU Personal Lines Worldwid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49367372</vt:r8>
  </property>
  <property fmtid="{D5CDD505-2E9C-101B-9397-08002B2CF9AE}" pid="3" name="_AuthorEmail">
    <vt:lpwstr>Frank.Karlinski@AIG.com</vt:lpwstr>
  </property>
  <property fmtid="{D5CDD505-2E9C-101B-9397-08002B2CF9AE}" pid="4" name="_AuthorEmailDisplayName">
    <vt:lpwstr>Karlinski, Frank</vt:lpwstr>
  </property>
  <property fmtid="{D5CDD505-2E9C-101B-9397-08002B2CF9AE}" pid="5" name="_EmailSubject">
    <vt:lpwstr>ACTUARIAL CONGRESS IN ARGENTINA</vt:lpwstr>
  </property>
</Properties>
</file>