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A6D6-4294-4113-BF9D-C845E23CFD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ellows will have 5-10 years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essence – and helping others to – is basis for sound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e “best fact” is misleading – it gives the perspective of profitability, but not of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he Society of Actuaries, which is for life, health and pension actuaries – they have 18,0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upport staff of 20 people that handle admin functions, library, dues collection, meeting arrange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embers do all the work through committees – all volunt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ing ed through CAS and regional affiliate meetings and seminars, and on-line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sociates go on to become fel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3 hours, exam 2 is 2 hours, all others are 4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4 are given twice, others once – May or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rates are 30-40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ionalism course created by and given by CAS members, 2 day class room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98E6-7512-490C-A981-F25CA7C6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5280" y="52020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0DBF-746B-48CB-A9C2-6656B44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524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8719-349E-4045-84C9-23280CE1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9240" y="47242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23560" y="47242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5280" y="52020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9240" y="52020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23560" y="52020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03A1-6980-4AB1-96A8-F882297C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C372-7AF3-4AF4-9322-5EEA2003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1D2D-917A-4F2E-B700-69A2D74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5BE4-9C59-4F8A-BF70-9D4B0289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8311-1D90-44CB-97D8-18101AF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7C4-49C5-4904-8AB9-D46DFD2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407-A604-4C3B-A898-43586B1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9528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A70C-98E7-4B6D-AD2E-E408384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9FFC-F31D-49D2-8FBB-971EA59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524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95F4-216A-4A0B-B6B5-8FCFDE5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52020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A6D-29C6-4614-BF40-7F8FA48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295280" y="52020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216A-D9A1-4F91-BB29-6B685B5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524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4D4-8DA3-4AC3-959F-90A36F68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59240" y="47242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23560" y="472428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295280" y="52020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59240" y="52020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623560" y="5202000"/>
            <a:ext cx="206064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784-FD02-4436-9A12-19CC2BFC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4E37-0201-4058-AB49-1BADDCAC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679D-0EDA-481C-8C96-D9FEB51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8DD9-2CC1-411C-8C80-34C0CABB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A9FE-9F38-4B5F-8CAA-8C6035F4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528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1DBB-C9B6-4659-9670-7CF0D37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5240" y="520200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01EC-1D84-4735-8FDC-FAAE716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5240" y="4724280"/>
            <a:ext cx="312336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5202000"/>
            <a:ext cx="64008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3471-C92F-45C3-9AA5-19C8743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DB94-DE96-47A9-B183-E02F50A7C6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425600" cy="13687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0A3-14B0-4E27-801A-652A9D1E10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1792440" cy="1792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asact.org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6668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sualty Actuarial Society Organization, Education and International Activities</a:t>
            </a: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48765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k Karlinski, Sr. VP, A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S Latin America Regional Committ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tober 200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83C0-000D-4670-881E-57FFD5DC42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hat good is all this education?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and Quantitative Analy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Ess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…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ey to adding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06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ECF5-AD52-45A4-8AB6-E83100463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Actuaries’ Value to an Organization</a:t>
            </a:r>
            <a:endParaRPr b="1" lang="en-US" sz="34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replace supposition and conjecture with facts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young male drivers are high r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Unmarried males age 18-25 have accident frequency twice the average of all driver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tter f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Unmarried males age 18-25 have loss ratio ten points higher than averag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-58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st f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Unmarried male drivers age 18-25 have loss and expense ratio five points higher than averag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0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3747-A55C-4410-A458-46203E3B4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 Actuary Brings Perspective</a:t>
            </a:r>
            <a:endParaRPr b="1" lang="en-US" sz="36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ng male drivers are high risk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of the young male driver loss distribution is higher than mean of total distribution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7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es risk with the mean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µ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7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t risk is a variance 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concep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7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isk is determined by the shape 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of the loss distribution, not its mea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7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run an insurance company until you understand varia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798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actuary is to be educated – know the essence; and to educate – convey the essenc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9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41D7-E4A5-42B3-93E3-BB75E2405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ternational Activities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 seeks to support other actuarial organizations around the world in their pursuit of professional excellence throug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0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cooperation with other actuarial organizations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0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worldwide dissemination of information about the CAS;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90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promotion of the profession at la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1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1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546E-45F2-4312-9703-9205D5730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ternational Activities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S has created three regional committees under the direction of the International Vice Presi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n Amer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BE7D-728A-499F-8535-7A6616BC49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atin America Regional Committee Responsibilities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the delivery of CAS services to members and candidates in Latin Ame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 as liaison to local actuarial organiz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CAS participation in their activ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communications between the CAS and actuarial organizations in the reg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74F0-8301-41BB-A057-B9947F236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atin America Regional Committee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ons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ationships are being established with the leaders of Latin American actuarial organizat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ts val="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ing contact with the heads of the actuarial programs at Latin American universiti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ource sharing has begun through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 web sit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 study guide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akers participation at conferenc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 meeting invitations to the leaders of the actuarial organizat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F559-FC16-4E29-8D02-FE17202CED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S Web Site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AS publications are available on the web site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asact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 old and new pub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IN pub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s made at CAS meet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line cour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56C0-59D9-46F9-8A71-62F7317BA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2742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uito Obrigado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ank you very much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57600" y="838080"/>
            <a:ext cx="1782720" cy="17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ABA-101D-4FF8-A4AF-E4D68B308E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CAS – Who are we?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asualty Actuarial Society (CAS) is the professional actuarial organization for property/casualty (general) insurance actuaries in the U.S. and Canad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AS was organized in 1914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currently is an organization of 4,121 membe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,752 Fellows 67%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2ec74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,369 Associates 33%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eat majority of the members (95%) live and work in the U.S. and Canad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09F8-CCDE-4FAD-BAC2-85F48F9FD5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CAS – Who are we?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poses of the CAS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dvance the body of knowledge of actuarial science applied to property and casualty exposu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stablish and maintain standards of qualification for memb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omote and maintain high standards of conduct and competence for the mem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crease the awareness of actuarial sc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549-6E4E-4930-8B00-82CF1F228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S Membership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y Employment</a:t>
            </a: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828800"/>
          <a:ext cx="7391520" cy="4856040"/>
        </p:xfrm>
        <a:graphic>
          <a:graphicData uri="http://schemas.openxmlformats.org/drawingml/2006/table">
            <a:tbl>
              <a:tblPr/>
              <a:tblGrid>
                <a:gridCol w="3360960"/>
                <a:gridCol w="1438200"/>
                <a:gridCol w="2592360"/>
              </a:tblGrid>
              <a:tr h="544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rance Compan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lt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vern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ade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k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i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1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D21D-C48A-4972-BD6E-D781E0D91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Education for Members and Candidates for Membership</a:t>
            </a: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inuing Education for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hours per year required of each member to keep current in their fields of expert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66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lifications for Membershi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s and cour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5E6F-DBE0-4322-AC8D-DF39A5E998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Education for Admittance</a:t>
            </a: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liminary educ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ociateship educ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llowship exa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932A-1560-40EC-9941-11CD0C655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Education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quirements for Candidates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8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courses in applied statistical methods, corporate finance and econom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512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 Exa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262160" indent="-3492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62160" indent="-3492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Mathema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62160" indent="-3492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 and mode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62160" indent="-3492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rial mod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62160" indent="-34920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making (introduc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ABFA-48C9-4ED5-B31D-EDCA33658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ociateship Education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quirements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eliminary requirements, plu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 6: Reserving, insurance accounting and reinsu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 7: Annual statement taxation and regulation (Canada or U.S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 course on professiona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0082-D59F-4C88-B323-5BCFA32EC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ellowship Education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quirements</a:t>
            </a:r>
            <a:endParaRPr b="1" lang="en-US" sz="40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ship requirements, plu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 8: Investments and financial analy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 9: Advanced ratemaking, rate of retur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and individual risk rating pl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41360" y="4849920"/>
            <a:ext cx="7788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34340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 exams are offered in 30 cities outside the U.S. and Canada, including Buenos Aires, Mexico City, Port of Spain, and Sao Pa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959B-2153-4A0B-B444-B960499A49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1:25:20Z</dcterms:created>
  <dc:creator>Dan Magnolia</dc:creator>
  <dc:description/>
  <dc:language>en-US</dc:language>
  <cp:lastModifiedBy>FKARLINS</cp:lastModifiedBy>
  <dcterms:modified xsi:type="dcterms:W3CDTF">2006-10-13T18:22:35Z</dcterms:modified>
  <cp:revision>59</cp:revision>
  <dc:subject/>
  <dc:title>Presentation Title</dc:title>
</cp:coreProperties>
</file>