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BEE-6C3C-4C96-80E5-5E5F0B5C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D8F-5D03-42BB-99D4-8343970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D87-0953-445F-BB1C-B204BE75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9D4-E851-41C4-AD16-8593C836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95E-367A-4458-A84F-A44B0D63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9BCC-65D6-4A59-B0AD-E4E85C27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860-5B71-4376-9B0E-6ABA878B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9891-6E7C-4024-8BEA-87EF5787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0A62-DCF7-48C8-B4A3-70C9B275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03F8-B7E7-4B7B-AEC9-663C1045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CB5B-4F80-4D9D-A733-574A8C4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43A-788D-4836-90A9-0E71E261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ABE-468C-4C6A-A8FB-0CB41DA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C7A-E7E3-48EB-A007-0235345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7F1-7EBD-4B36-81C5-42E1BE7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74A-32C8-4440-8CEB-6339A94F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C291-7B7B-4A7B-B57D-D4967C9D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F99-EBE1-4827-8ECB-C98E6272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FC9-A8F7-49A3-BD0F-8A396E6D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425-F476-49AA-B5F1-7394053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00D-7E22-4225-924F-37137E07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C8D-C9D9-421A-8718-BAA7146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873-3302-4FDC-BC6E-9018AD0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B26-DAA1-47A2-860F-CEBC00E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717-0B47-4E3D-B61D-45F6621565B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315200" y="22860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62920" y="6095880"/>
            <a:ext cx="167616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9164-AD4B-410F-8623-DA858CD5916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Tahoma"/>
              </a:rPr>
              <a:t>Los desafíos del Actuario en Mercados Nuevos o Inestables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66cc"/>
                </a:solidFill>
                <a:latin typeface="Tahoma"/>
              </a:rPr>
              <a:t>Construcción de Tarifas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incipales Desafíos en los primeros 10 años de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Construcción de Tarif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 lo largo del tiempo nos enfrentamos 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alida de la Convertibilidad y renegociación de precios con los prestadores a ritmos muy distin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Brusca caída de la actividad en la Argentina y su posterior reactiv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claración de inconstitucionalidad. Crecimiento  exponencial de la tasa de reclamos por fuera del sistema desde el año 2004. Distinta judicialidad por zona, actividad y tamaño de empr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ambios a través de los años en la forma de evaluar las lesiones por parte de las Comisiones Méd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Construcción de Tarif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sarrollo de sistemas para reducir el empleo no declarado. Rectificativa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reciente reclamo de Jornales Caídos en los casos de bajos importes por parte de los Emplead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ambios en la política de aplicación de Sum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misiones Médicas obligando a pagar por encima de lo que prescribe la Le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ratamiento de las Enfermedades Profesionales por parte del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tintos costos médicos por zo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sarrollo progresivo de métodos de control sobre los prestadores aplicados por las ART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66cc"/>
                </a:solidFill>
                <a:latin typeface="Tahoma"/>
              </a:rPr>
              <a:t>Construcción de Tarifas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arrollo de los principales concep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Salida de la Convert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astos Médicos pasados expresados en valores no representat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 estar cerca de las renegoci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odología usual de “Ratemaking” hubiera fall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sas sólo variables sobre masa salarial para capturar sus incre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Brusca Caída de la Actividad y Posterior Reac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mbios en la proporción de trabajadores de “cuello blanco” y de “cuello azul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cuencias no represent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ortancia de analizar los cambios en la composición de las Nóm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ortancia de compartir experiencias con los Ingenieros que visitan las plan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Reducción del empleo no declarado y rectificativ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cidentes de Trabajadores “en Negr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olución del sistema de alta de nuevos trabajado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ligación de Declarar anticipadamente las al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visión tardía de los expuestos. Triángulos de desarro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Inconstitucionalidad de la Le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cimiento del nivel de Litigiosidad a partir de 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s enfrentamos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eriencias cortas, no homogéne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ómo proyectar tendencias a futu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der dinero por mayores siniest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der cartera frente a competidores más os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ólo proyectar crecimiento de reclamos, segmentarlo adecuadamente. Cambiar  ANTISELECCIÓN por SELECCIÓN FAVOR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cc"/>
                </a:solidFill>
                <a:latin typeface="Tahoma"/>
              </a:rPr>
              <a:t>Cambios </a:t>
            </a:r>
            <a:r>
              <a:rPr b="0" lang="es-ES_tradnl" sz="4000" spc="-1" strike="noStrike">
                <a:solidFill>
                  <a:srgbClr val="0066cc"/>
                </a:solidFill>
                <a:latin typeface="Tahoma"/>
              </a:rPr>
              <a:t>de Comisiones Médicas</a:t>
            </a:r>
            <a:br>
              <a:rPr sz="4000"/>
            </a:br>
            <a:r>
              <a:rPr b="0" lang="es-ES" sz="4000" spc="-1" strike="noStrike">
                <a:solidFill>
                  <a:srgbClr val="0066cc"/>
                </a:solidFill>
                <a:latin typeface="Tahoma"/>
              </a:rPr>
              <a:t>en la Evaluación de las Les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s aseguradoras coinciden en que se detectaron al menos 3 cambios de comportamien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pensión a otorgar “algunos puntos de incapacidad” a casos que antes se dictaminaban “sin incapacidad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mento en los puntos de incapacidad prome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ayor número de casos con incapacidades superiores a 5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cc"/>
                </a:solidFill>
                <a:latin typeface="Tahoma"/>
              </a:rPr>
              <a:t>Cambios en la política de aplicación de Sum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cantidad de Sumarios y sus multas sobre las ARTs ha ido en au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anciones a las ARTs sobre casos muy antigu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BNR de Sumario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incipales Actividad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que debe desarrollar el Actuario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cción de Tarif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imación de IBN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aluación de Carte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nálisis de Factibil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Otr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66cc"/>
                </a:solidFill>
                <a:latin typeface="Tahoma"/>
              </a:rPr>
              <a:t>Estimación del IBNR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incipales desafíos enfren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cc"/>
                </a:solidFill>
                <a:latin typeface="Tahoma"/>
              </a:rPr>
              <a:t>IBN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prendizaje en los administradores de siniestros de la real duración de los Jornales Caí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ayor fluidez en la relación con los prestadores méd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staciones en Especie: Siniestros de “cola larg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es niveles de Prestaciones Dinerarias y quiebre en la estabilidad de los niveles salaria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cc"/>
                </a:solidFill>
                <a:latin typeface="Tahoma"/>
              </a:rPr>
              <a:t>JUICIOS E IBN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ño 2004: Disparada de reclamos por vía judicial, afectando a períodos de ocurrencia anteri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Hoy: ¿Podemos afirmar que los actuales triángulos son un buen reflejo del desarrollo futur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“novedad” judicial “cae” en forma no homogénea en los triángu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cc"/>
                </a:solidFill>
                <a:latin typeface="Tahoma"/>
              </a:rPr>
              <a:t>JUICIOS E IBN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Todas las zonas, todas las actividades y todos los tamaños de empresas se vieron y se verán afectados de igual form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álisis del mix de cartera a través del tiem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erspectiva de mayor número de Demandas para el 200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eríodos de ocurrencia a los que afectar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Necesidad de Modelos ad-hoc para estimar IBN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cc"/>
                </a:solidFill>
                <a:latin typeface="Tahoma"/>
              </a:rPr>
              <a:t>IBN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rde o temprano la Ley 24.557 será modificada y según como sea la nueva Ley y como se pueda limitar o no lo ya ocurrido de alguna manera volveremos a “foja cer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s enseña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eoría de Construcción de Tarif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eoría de Cálculo de IBN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s enfrentamos a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amos Maduros e Inmadu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xtos Estables e Inest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rmativa / Cobertur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torno Juríd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Teor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strucción de Tarif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es Robust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endencias Claras en Frecuencias y Costos Med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laciones Controladas y Est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imación de IBN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riángulos Repet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n considerar Infl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lación es tenida en cuenta pero No representa un inconven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cc"/>
                </a:solidFill>
                <a:latin typeface="Tahoma"/>
              </a:rPr>
              <a:t>La </a:t>
            </a:r>
            <a:r>
              <a:rPr b="0" lang="es-ES_tradnl" sz="4000" spc="-1" strike="noStrike">
                <a:solidFill>
                  <a:srgbClr val="0066cc"/>
                </a:solidFill>
                <a:latin typeface="Tahoma"/>
              </a:rPr>
              <a:t>Vida Profesional</a:t>
            </a:r>
            <a:r>
              <a:rPr b="0" lang="es-ES" sz="4000" spc="-1" strike="noStrike">
                <a:solidFill>
                  <a:srgbClr val="0066cc"/>
                </a:solidFill>
                <a:latin typeface="Tahoma"/>
              </a:rPr>
              <a:t> nos enfrenta a escenarios no tan de laboratori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bemos reconocer entonces la importancia de involucrarnos en el día a día del Negocio para entenderlo y volcar tal conocimiento en nuestras estim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Primeros 10 años de Historia del Sistema de AR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193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ejemplo para repasar los desafíos Profesionales del Act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Lanzamiento del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ta de Experiencia Argentina para Construcción de Tarif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66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cidentes del Trabaj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66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eriencias Extranjeras / Distintas Legisl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ta de patrones de Desarrollo para el Cálculo de IBN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Lanzamiento del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meras Estimaciones distaron mucho de los Precios Fina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rcado como Regulador de Prec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compañamos a los Comerciales a sus visitas a potenciales Clientes para entender el “Gap”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as las pólizas se cotizaban en el mismo mes, por un año y sin posibilidad de anularlas o reconvenir prec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der Dinero / Resultar Inviable por escaso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BNR al año del In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ahoma"/>
              </a:rPr>
              <a:t>¿Qué hemos aprendido después de 10 años de Sistema de ARTs?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2:51:11Z</dcterms:created>
  <dc:creator>GUSTAVO GRINBLAT </dc:creator>
  <dc:description/>
  <dc:language>en-US</dc:language>
  <cp:lastModifiedBy>C.P.C.E.C.A.B.A.</cp:lastModifiedBy>
  <dcterms:modified xsi:type="dcterms:W3CDTF">2006-10-17T14:55:34Z</dcterms:modified>
  <cp:revision>35</cp:revision>
  <dc:subject/>
  <dc:title>Los desafíos del Actuario en Mercados Nuevos o Inestables</dc:title>
</cp:coreProperties>
</file>