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0.wmf" ContentType="image/x-wmf"/>
  <Override PartName="/ppt/media/image25.png" ContentType="image/png"/>
  <Override PartName="/ppt/media/image6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6012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6420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76200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720720" y="742680"/>
            <a:ext cx="520056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76200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943C-23EA-4C0E-BB46-70039007EB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733320" y="743040"/>
            <a:ext cx="5178600" cy="369864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885960" y="4705200"/>
            <a:ext cx="4868640" cy="4453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B3680-A89A-4E03-850F-4FD8B6BE29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1280" y="304920"/>
            <a:ext cx="74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820548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2600" y="3944520"/>
            <a:ext cx="820548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2E2B5-876C-45E8-AD7F-5823000683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11280" y="304920"/>
            <a:ext cx="74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400392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17040" y="1534680"/>
            <a:ext cx="400392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2600" y="3944520"/>
            <a:ext cx="400392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17040" y="3944520"/>
            <a:ext cx="400392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37CD3-A063-43B5-83C9-CB7C6B5C5E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11280" y="304920"/>
            <a:ext cx="74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264204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7120" y="1534680"/>
            <a:ext cx="264204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61640" y="1534680"/>
            <a:ext cx="264204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2600" y="3944520"/>
            <a:ext cx="264204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7120" y="3944520"/>
            <a:ext cx="264204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61640" y="3944520"/>
            <a:ext cx="264204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C6265-F1BF-4B30-9A8E-17606F53C6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304920"/>
            <a:ext cx="74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12600" y="1534680"/>
            <a:ext cx="820548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304920"/>
            <a:ext cx="74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820548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304920"/>
            <a:ext cx="74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400392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7040" y="1534680"/>
            <a:ext cx="400392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304920"/>
            <a:ext cx="74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11280" y="304920"/>
            <a:ext cx="74008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304920"/>
            <a:ext cx="74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400392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7040" y="1534680"/>
            <a:ext cx="400392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2600" y="3944520"/>
            <a:ext cx="400392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1280" y="304920"/>
            <a:ext cx="74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2600" y="1534680"/>
            <a:ext cx="820548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3EABE-6190-4283-88C1-8E3AC2A1BD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304920"/>
            <a:ext cx="74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400392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040" y="1534680"/>
            <a:ext cx="400392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7040" y="3944520"/>
            <a:ext cx="400392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304920"/>
            <a:ext cx="74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400392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040" y="1534680"/>
            <a:ext cx="400392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2600" y="3944520"/>
            <a:ext cx="820548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304920"/>
            <a:ext cx="74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820548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12600" y="3944520"/>
            <a:ext cx="820548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304920"/>
            <a:ext cx="74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400392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7040" y="1534680"/>
            <a:ext cx="400392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2600" y="3944520"/>
            <a:ext cx="400392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7040" y="3944520"/>
            <a:ext cx="400392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304920"/>
            <a:ext cx="74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264204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87120" y="1534680"/>
            <a:ext cx="264204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61640" y="1534680"/>
            <a:ext cx="264204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12600" y="3944520"/>
            <a:ext cx="264204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87120" y="3944520"/>
            <a:ext cx="264204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61640" y="3944520"/>
            <a:ext cx="264204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1280" y="304920"/>
            <a:ext cx="74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820548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9D1B8-5AFB-4F1C-A442-9DCF6B27A4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1280" y="304920"/>
            <a:ext cx="74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400392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17040" y="1534680"/>
            <a:ext cx="400392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EBF71-BADE-43C9-BE87-83FC6678DD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1280" y="304920"/>
            <a:ext cx="74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D5616-E786-4C8E-99A7-D75F57F3DD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11280" y="304920"/>
            <a:ext cx="74008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4101A-B5F8-46B0-B39E-BA581AE13C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11280" y="304920"/>
            <a:ext cx="74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400392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17040" y="1534680"/>
            <a:ext cx="400392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2600" y="3944520"/>
            <a:ext cx="400392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E55C1-3B36-46B2-8247-3337C900D5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11280" y="304920"/>
            <a:ext cx="74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400392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040" y="1534680"/>
            <a:ext cx="400392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17040" y="3944520"/>
            <a:ext cx="400392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A16CF-3F1A-4AC9-8B66-AB53EF4046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11280" y="304920"/>
            <a:ext cx="74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400392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040" y="1534680"/>
            <a:ext cx="400392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2600" y="3944520"/>
            <a:ext cx="820548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8E4E8-68A7-4171-99F0-1466EF2ACE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605880" cy="992160"/>
            <a:chOff x="0" y="0"/>
            <a:chExt cx="9605880" cy="9921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050240" cy="992160"/>
            </a:xfrm>
            <a:prstGeom prst="rect">
              <a:avLst/>
            </a:pr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6989760" y="0"/>
              <a:ext cx="2616120" cy="99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912600" y="1534680"/>
            <a:ext cx="820548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2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263520">
              <a:spcBef>
                <a:spcPts val="1250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5920" indent="-255600">
              <a:spcBef>
                <a:spcPts val="1250"/>
              </a:spcBef>
              <a:buClr>
                <a:srgbClr val="000000"/>
              </a:buClr>
              <a:buSzPct val="40000"/>
              <a:buFont typeface="Wingdings" charset="2"/>
              <a:buChar char="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86000" indent="-258840">
              <a:spcBef>
                <a:spcPts val="1250"/>
              </a:spcBef>
              <a:buClr>
                <a:srgbClr val="000000"/>
              </a:buClr>
              <a:buFont typeface="Arial"/>
              <a:buChar char="­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16280" indent="-304920">
              <a:spcBef>
                <a:spcPts val="1250"/>
              </a:spcBef>
              <a:buClr>
                <a:srgbClr val="000000"/>
              </a:buClr>
              <a:buSzPct val="90000"/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16280" indent="-304920">
              <a:spcBef>
                <a:spcPts val="1250"/>
              </a:spcBef>
              <a:buClr>
                <a:srgbClr val="000000"/>
              </a:buClr>
              <a:buSzPct val="90000"/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16280" indent="-304920">
              <a:spcBef>
                <a:spcPts val="1250"/>
              </a:spcBef>
              <a:buClr>
                <a:srgbClr val="000000"/>
              </a:buClr>
              <a:buSzPct val="90000"/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ileRef"/>
          <p:cNvSpPr/>
          <p:nvPr/>
        </p:nvSpPr>
        <p:spPr>
          <a:xfrm>
            <a:off x="5181480" y="6386400"/>
            <a:ext cx="357372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algn="r">
              <a:spcBef>
                <a:spcPts val="437"/>
              </a:spcBef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8859600" y="6194520"/>
            <a:ext cx="446040" cy="2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E53A-D07D-4E39-811D-8C70013F201F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611280" y="304920"/>
            <a:ext cx="74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378080"/>
            <a:ext cx="9601200" cy="3774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0760" y="2782440"/>
            <a:ext cx="5575320" cy="1420920"/>
          </a:xfrm>
          <a:prstGeom prst="rect">
            <a:avLst/>
          </a:prstGeom>
          <a:noFill/>
          <a:ln w="0">
            <a:noFill/>
          </a:ln>
        </p:spPr>
        <p:txBody>
          <a:bodyPr lIns="0" rIns="84600" tIns="42480" bIns="424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5" name="LogoMainW" descr=""/>
          <p:cNvPicPr/>
          <p:nvPr/>
        </p:nvPicPr>
        <p:blipFill>
          <a:blip r:embed="rId3"/>
          <a:stretch/>
        </p:blipFill>
        <p:spPr>
          <a:xfrm>
            <a:off x="914400" y="304920"/>
            <a:ext cx="3297240" cy="1060200"/>
          </a:xfrm>
          <a:prstGeom prst="rect">
            <a:avLst/>
          </a:prstGeom>
          <a:ln w="0">
            <a:noFill/>
          </a:ln>
        </p:spPr>
      </p:pic>
      <p:pic>
        <p:nvPicPr>
          <p:cNvPr id="46" name="LogoEndorsementW" descr=""/>
          <p:cNvPicPr/>
          <p:nvPr/>
        </p:nvPicPr>
        <p:blipFill>
          <a:blip r:embed="rId4"/>
          <a:stretch/>
        </p:blipFill>
        <p:spPr>
          <a:xfrm>
            <a:off x="914400" y="5943600"/>
            <a:ext cx="2498760" cy="463680"/>
          </a:xfrm>
          <a:prstGeom prst="rect">
            <a:avLst/>
          </a:prstGeom>
          <a:ln w="0">
            <a:noFill/>
          </a:ln>
        </p:spPr>
      </p:pic>
      <p:pic>
        <p:nvPicPr>
          <p:cNvPr id="47" name="LogoEndorsementK" descr=""/>
          <p:cNvPicPr/>
          <p:nvPr/>
        </p:nvPicPr>
        <p:blipFill>
          <a:blip r:embed="rId5"/>
          <a:stretch/>
        </p:blipFill>
        <p:spPr>
          <a:xfrm>
            <a:off x="681120" y="6269040"/>
            <a:ext cx="2117520" cy="392040"/>
          </a:xfrm>
          <a:prstGeom prst="rect">
            <a:avLst/>
          </a:prstGeom>
          <a:ln w="0">
            <a:noFill/>
          </a:ln>
        </p:spPr>
      </p:pic>
      <p:pic>
        <p:nvPicPr>
          <p:cNvPr id="48" name="LogoMainK" descr=""/>
          <p:cNvPicPr/>
          <p:nvPr/>
        </p:nvPicPr>
        <p:blipFill>
          <a:blip r:embed="rId6"/>
          <a:stretch/>
        </p:blipFill>
        <p:spPr>
          <a:xfrm>
            <a:off x="681120" y="241200"/>
            <a:ext cx="3297240" cy="10605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79880" y="1604520"/>
            <a:ext cx="86407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70000" indent="0" algn="ctr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5040" indent="125280" algn="ctr">
              <a:spcBef>
                <a:spcPts val="624"/>
              </a:spcBef>
              <a:buClr>
                <a:srgbClr val="000000"/>
              </a:buClr>
              <a:buSzPct val="40000"/>
              <a:buFont typeface="Wingdings" charset="2"/>
              <a:buChar char=""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57320" indent="69840" algn="ctr">
              <a:spcBef>
                <a:spcPts val="624"/>
              </a:spcBef>
              <a:buClr>
                <a:srgbClr val="000000"/>
              </a:buClr>
              <a:buFont typeface="Arial"/>
              <a:buChar char="­"/>
              <a:tabLst>
                <a:tab algn="l" pos="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79600" indent="131760" algn="ctr">
              <a:spcBef>
                <a:spcPts val="587"/>
              </a:spcBef>
              <a:buClr>
                <a:srgbClr val="000000"/>
              </a:buClr>
              <a:buSzPct val="90000"/>
              <a:buFont typeface="Arial"/>
              <a:buChar char="¯"/>
              <a:tabLst>
                <a:tab algn="l" pos="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1479600" indent="131760">
              <a:spcBef>
                <a:spcPts val="476"/>
              </a:spcBef>
              <a:buClr>
                <a:srgbClr val="000000"/>
              </a:buClr>
              <a:buSzPct val="90000"/>
              <a:buFont typeface="Arial"/>
              <a:buChar char="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1479600" indent="131760">
              <a:spcBef>
                <a:spcPts val="476"/>
              </a:spcBef>
              <a:buClr>
                <a:srgbClr val="000000"/>
              </a:buClr>
              <a:buSzPct val="90000"/>
              <a:buFont typeface="Arial"/>
              <a:buChar char="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2200" y="1751040"/>
            <a:ext cx="8363160" cy="152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84600" tIns="42480" bIns="42480" anchor="t">
            <a:no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Estructuración y Pricing de Programas de Reaseguro</a:t>
            </a:r>
            <a:br>
              <a:rPr sz="3200"/>
            </a:br>
            <a:br>
              <a:rPr sz="800"/>
            </a:b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Responsabilidad Civil Auto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20720" y="3584160"/>
            <a:ext cx="4950000" cy="133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greso de Actu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 de Octubre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ula Ferr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at Mia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66560" y="347760"/>
            <a:ext cx="9134640" cy="34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Un Ej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68240" y="1484280"/>
            <a:ext cx="813600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20720" y="1639800"/>
            <a:ext cx="8319960" cy="43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55760" y="1187280"/>
            <a:ext cx="8818560" cy="25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2600" indent="-282600" algn="just">
              <a:lnSpc>
                <a:spcPct val="85000"/>
              </a:lnSpc>
              <a:spcAft>
                <a:spcPts val="1151"/>
              </a:spcAft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Responsabilidad Civil Autos</a:t>
            </a:r>
            <a:r>
              <a:rPr b="0" lang="es-AR" sz="2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85000"/>
              </a:lnSpc>
              <a:spcAft>
                <a:spcPts val="1151"/>
              </a:spcAft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La pregunta es: </a:t>
            </a:r>
            <a:r>
              <a:rPr b="1" i="1" lang="es-ES" sz="2300" spc="-1" strike="noStrike">
                <a:solidFill>
                  <a:srgbClr val="477747"/>
                </a:solidFill>
                <a:latin typeface="Arial"/>
              </a:rPr>
              <a:t>“Cu</a:t>
            </a:r>
            <a:r>
              <a:rPr b="1" i="1" lang="es-AR" sz="2300" spc="-1" strike="noStrike">
                <a:solidFill>
                  <a:srgbClr val="477747"/>
                </a:solidFill>
                <a:latin typeface="Arial"/>
              </a:rPr>
              <a:t>á</a:t>
            </a:r>
            <a:r>
              <a:rPr b="1" i="1" lang="es-ES" sz="2300" spc="-1" strike="noStrike">
                <a:solidFill>
                  <a:srgbClr val="477747"/>
                </a:solidFill>
                <a:latin typeface="Arial"/>
              </a:rPr>
              <a:t>l es el nivel de retención optima para la cobertura de exceso de pérdida?”</a:t>
            </a:r>
            <a:r>
              <a:rPr b="0" i="1" lang="es-ES" sz="2300" spc="-1" strike="noStrike">
                <a:solidFill>
                  <a:srgbClr val="477747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85000"/>
              </a:lnSpc>
              <a:spcAft>
                <a:spcPts val="1151"/>
              </a:spcAft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Consideraciones de contexto </a:t>
            </a:r>
            <a:r>
              <a:rPr b="0" lang="es-AR" sz="23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 entendimiento del problema</a:t>
            </a:r>
            <a:r>
              <a:rPr b="0" lang="es-AR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85000"/>
              </a:lnSpc>
              <a:spcAft>
                <a:spcPts val="1151"/>
              </a:spcAft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Requerimientos de información</a:t>
            </a:r>
            <a:r>
              <a:rPr b="0" lang="es-AR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85000"/>
              </a:lnSpc>
              <a:spcAft>
                <a:spcPts val="1151"/>
              </a:spcAft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Herramienta de simulacion</a:t>
            </a:r>
            <a:r>
              <a:rPr b="0" lang="es-AR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052640" y="3616200"/>
            <a:ext cx="746892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49"/>
              </a:spcAft>
              <a:buClr>
                <a:srgbClr val="7db1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racterización de sinies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249"/>
              </a:spcAft>
              <a:buClr>
                <a:srgbClr val="7db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Análisis de grandes siniestros a través de un modelo de ajust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001"/>
              </a:spcAft>
              <a:buClr>
                <a:srgbClr val="7db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Análisis de siniestros menores, debajo de la rete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buClr>
                <a:srgbClr val="7db1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reación de estructuras de reaseg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buClr>
                <a:srgbClr val="7db1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enchmark Pri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buClr>
                <a:srgbClr val="7db1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nálisis costo - benef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buClr>
                <a:srgbClr val="7db1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lección del nivel de retención opt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928CD-C108-4B35-B674-FF219E56281D}" type="slidenum">
              <a:t>10</a:t>
            </a:fld>
          </a:p>
        </p:txBody>
      </p:sp>
    </p:spTree>
  </p:cSld>
  <p:transition>
    <p:wipe dir="r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5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0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ba76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6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ba76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2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ba76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8" dur="5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ba76b"/>
                                </p:to>
                              </p:animCl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ba76b"/>
                                </p:to>
                              </p:animCl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768240" y="1484280"/>
            <a:ext cx="813600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20720" y="1639800"/>
            <a:ext cx="8319960" cy="43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55400" y="1186920"/>
            <a:ext cx="8018280" cy="35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 algn="just">
              <a:lnSpc>
                <a:spcPct val="90000"/>
              </a:lnSpc>
              <a:spcAft>
                <a:spcPts val="1800"/>
              </a:spcAft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endencia de primas y sinies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90000"/>
              </a:lnSpc>
              <a:spcAft>
                <a:spcPts val="1800"/>
              </a:spcAft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imites de cobertura en los últimos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90000"/>
              </a:lnSpc>
              <a:spcAft>
                <a:spcPts val="1800"/>
              </a:spcAft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mbios legislativos/ practicas. Expectativ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90000"/>
              </a:lnSpc>
              <a:spcAft>
                <a:spcPts val="1800"/>
              </a:spcAft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trón de pago de los sinies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90000"/>
              </a:lnSpc>
              <a:spcAft>
                <a:spcPts val="1800"/>
              </a:spcAft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volución de las reser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90000"/>
              </a:lnSpc>
              <a:spcAft>
                <a:spcPts val="1800"/>
              </a:spcAft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aseguro no proporcional: Indexación de prioridades y limi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66560" y="347760"/>
            <a:ext cx="9134640" cy="34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Cuestiones en el ramo Autos (R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87E66-2DCB-4A0C-949A-22703582A1B8}" type="slidenum">
              <a:t>11</a:t>
            </a:fld>
          </a:p>
        </p:txBody>
      </p:sp>
    </p:spTree>
  </p:cSld>
  <p:transition>
    <p:wipe dir="r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1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6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db1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2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db1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8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db1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4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db1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0" dur="5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db1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4" dur="1" fill="hold"/>
                                  <p:tgtEl>
                                    <p:spTgt spid="26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db1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466560" y="347760"/>
            <a:ext cx="9134640" cy="34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Pasos en el análisis de 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502920" y="1247760"/>
            <a:ext cx="8621640" cy="8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 algn="just">
              <a:spcAft>
                <a:spcPts val="1800"/>
              </a:spcAft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-calculo de los grandes siniestros para considerar la tendencia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just">
              <a:spcAft>
                <a:spcPts val="1800"/>
              </a:spcAft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just">
              <a:spcAft>
                <a:spcPts val="1800"/>
              </a:spcAft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9600" y="4408560"/>
            <a:ext cx="8621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2600" indent="-282600" algn="just">
              <a:lnSpc>
                <a:spcPct val="90000"/>
              </a:lnSpc>
              <a:spcAft>
                <a:spcPts val="1800"/>
              </a:spcAft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imación de frecuencia de grandes siniestros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135080" y="3578400"/>
            <a:ext cx="798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spcAft>
                <a:spcPts val="1100"/>
              </a:spcAft>
              <a:buClr>
                <a:srgbClr val="7db1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ba76b"/>
                </a:solidFill>
                <a:latin typeface="Arial"/>
              </a:rPr>
              <a:t>IBNER: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Los siniestros deben estar calculados a costo </a:t>
            </a:r>
            <a:r>
              <a:rPr b="0" i="1" lang="es-AR" sz="22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ltimo antes de ajustarlos</a:t>
            </a:r>
            <a:r>
              <a:rPr b="0" i="1" lang="es-AR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154160" y="4950000"/>
            <a:ext cx="5337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spcAft>
                <a:spcPts val="1100"/>
              </a:spcAft>
              <a:buClr>
                <a:srgbClr val="7db1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ba76b"/>
                </a:solidFill>
                <a:latin typeface="Arial"/>
              </a:rPr>
              <a:t>IBNR: 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A través de la triangulación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84200" y="2357280"/>
            <a:ext cx="8572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2600" indent="-282600" algn="just">
              <a:spcAft>
                <a:spcPts val="1800"/>
              </a:spcAft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justamiento de los grandes siniestros para encontrar la curva que mejor representa la experiencia pas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95280" y="5659560"/>
            <a:ext cx="86216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2600" indent="-282600" algn="just">
              <a:lnSpc>
                <a:spcPct val="90000"/>
              </a:lnSpc>
              <a:spcAft>
                <a:spcPts val="1800"/>
              </a:spcAft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imación del monto esperado y la variabilidad de todos los siniestros, sin incluir los grandes siniestros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i.e., core los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00AF1-C526-4B23-A31D-5EB423992B83}" type="slidenum">
              <a:t>12</a:t>
            </a:fld>
          </a:p>
        </p:txBody>
      </p:sp>
    </p:spTree>
  </p:cSld>
  <p:transition>
    <p:wipe dir="r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1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ba76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ba76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ba76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4" dur="1" fill="hold"/>
                                  <p:tgtEl>
                                    <p:spTgt spid="27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ba76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466560" y="347760"/>
            <a:ext cx="9134640" cy="34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Proyección de siniestros esperados (Bru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625320" y="1281240"/>
            <a:ext cx="8340840" cy="3862440"/>
            <a:chOff x="625320" y="1281240"/>
            <a:chExt cx="8340840" cy="3862440"/>
          </a:xfrm>
        </p:grpSpPr>
        <p:sp>
          <p:nvSpPr>
            <p:cNvPr id="275" name=""/>
            <p:cNvSpPr/>
            <p:nvPr/>
          </p:nvSpPr>
          <p:spPr>
            <a:xfrm>
              <a:off x="7077240" y="2017800"/>
              <a:ext cx="1876320" cy="3125880"/>
            </a:xfrm>
            <a:prstGeom prst="rect">
              <a:avLst/>
            </a:prstGeom>
            <a:solidFill>
              <a:srgbClr val="ebf3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668920" y="2017800"/>
              <a:ext cx="1311480" cy="3125880"/>
            </a:xfrm>
            <a:prstGeom prst="rect">
              <a:avLst/>
            </a:prstGeom>
            <a:solidFill>
              <a:srgbClr val="fff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984480" y="2017800"/>
              <a:ext cx="1616400" cy="3125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41600" y="2017800"/>
              <a:ext cx="1357200" cy="3125880"/>
            </a:xfrm>
            <a:prstGeom prst="rect">
              <a:avLst/>
            </a:prstGeom>
            <a:solidFill>
              <a:srgbClr val="ff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5320" y="2017800"/>
              <a:ext cx="1822680" cy="3125880"/>
            </a:xfrm>
            <a:prstGeom prst="rect">
              <a:avLst/>
            </a:prstGeom>
            <a:solidFill>
              <a:srgbClr val="ebf3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778800" y="4748040"/>
              <a:ext cx="88560" cy="180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778800" y="4748040"/>
              <a:ext cx="88560" cy="17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778800" y="4765680"/>
              <a:ext cx="7128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778800" y="4765680"/>
              <a:ext cx="71280" cy="172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778800" y="4782960"/>
              <a:ext cx="53640" cy="180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778800" y="4782960"/>
              <a:ext cx="53640" cy="17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778800" y="4800600"/>
              <a:ext cx="3636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778800" y="4800600"/>
              <a:ext cx="36360" cy="17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778800" y="4818240"/>
              <a:ext cx="1872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778800" y="4818240"/>
              <a:ext cx="18720" cy="172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083400" y="1281240"/>
              <a:ext cx="21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645440" y="1281240"/>
              <a:ext cx="21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207480" y="1281240"/>
              <a:ext cx="21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893360" y="1281240"/>
              <a:ext cx="21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(4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733480" y="1479600"/>
              <a:ext cx="962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Unida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330800" y="1479600"/>
              <a:ext cx="89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rima @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788440" y="1479600"/>
              <a:ext cx="1078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Loss Rat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158600" y="1479600"/>
              <a:ext cx="1725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iniestros Bru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292400" y="1720800"/>
              <a:ext cx="48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646000" y="1720800"/>
              <a:ext cx="1102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Exposi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98880" y="1720800"/>
              <a:ext cx="1584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50 Por Unid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753880" y="1720800"/>
              <a:ext cx="1192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e Indust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297560" y="1720800"/>
              <a:ext cx="1463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@ Industry L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261080" y="20620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77160" y="2062080"/>
              <a:ext cx="64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92.9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261080" y="236052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77160" y="2360520"/>
              <a:ext cx="64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94.2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261080" y="265896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89720" y="2658960"/>
              <a:ext cx="697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70,93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37640" y="2658960"/>
              <a:ext cx="576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871360" y="26589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271400" y="2658960"/>
              <a:ext cx="1140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0,639,5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058280" y="2658960"/>
              <a:ext cx="19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269960" y="26589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77160" y="2658960"/>
              <a:ext cx="64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89.9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682760" y="2658960"/>
              <a:ext cx="101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9,564,97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83000" y="2658960"/>
              <a:ext cx="512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646400" y="26589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261080" y="295740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889720" y="2957400"/>
              <a:ext cx="697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90,3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7640" y="2957400"/>
              <a:ext cx="576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71360" y="29574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271400" y="2957400"/>
              <a:ext cx="1140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3,545,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058280" y="2957400"/>
              <a:ext cx="19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269960" y="29574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77160" y="2957400"/>
              <a:ext cx="64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86.2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560720" y="2957400"/>
              <a:ext cx="1140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1,675,79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083360" y="2957400"/>
              <a:ext cx="384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05280" y="29574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261080" y="325584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89720" y="3255840"/>
              <a:ext cx="697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99,3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537640" y="3255840"/>
              <a:ext cx="576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871360" y="32558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271400" y="3255840"/>
              <a:ext cx="1140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4,899,5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058280" y="3255840"/>
              <a:ext cx="19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269960" y="32558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077160" y="3255840"/>
              <a:ext cx="64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86.6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60720" y="3255840"/>
              <a:ext cx="1140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2,902,96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083360" y="3255840"/>
              <a:ext cx="384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505280" y="32558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261080" y="35560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66240" y="355608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09,26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538000" y="3556080"/>
              <a:ext cx="44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29880" y="35560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271400" y="3556080"/>
              <a:ext cx="1140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6,389,4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058280" y="3556080"/>
              <a:ext cx="19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269960" y="35560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77160" y="3556080"/>
              <a:ext cx="64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91.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560720" y="3556080"/>
              <a:ext cx="1140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4,914,4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083360" y="3556080"/>
              <a:ext cx="384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505280" y="35560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26120" y="4038480"/>
              <a:ext cx="1611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2006 Projec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766240" y="403848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120,18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538000" y="4038480"/>
              <a:ext cx="44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729880" y="40384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271400" y="4038480"/>
              <a:ext cx="1140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18,028,39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058280" y="4038480"/>
              <a:ext cx="19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269960" y="40384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077160" y="4038480"/>
              <a:ext cx="64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90.1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560720" y="4038480"/>
              <a:ext cx="1140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16,249,59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83360" y="4038480"/>
              <a:ext cx="384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505280" y="40384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25400" y="4449600"/>
              <a:ext cx="812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td De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199200" y="444960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.9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019360" y="444960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704,04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224840" y="4449600"/>
              <a:ext cx="704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000280" y="44496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25400" y="474804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199200" y="474804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.3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369280" y="474804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.3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25320" y="2001960"/>
              <a:ext cx="8340840" cy="17280"/>
            </a:xfrm>
            <a:prstGeom prst="rect">
              <a:avLst/>
            </a:prstGeom>
            <a:solidFill>
              <a:srgbClr val="6ba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690480" y="5340240"/>
            <a:ext cx="820584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82600" indent="-282600" algn="just">
              <a:lnSpc>
                <a:spcPct val="90000"/>
              </a:lnSpc>
              <a:spcAft>
                <a:spcPts val="1500"/>
              </a:spcAft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unidades de exposición representan números automóviles asegurados para Autos RC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C1CE8-950D-4918-AAF3-64AD69E23258}" type="slidenum">
              <a:t>13</a:t>
            </a:fld>
          </a:p>
        </p:txBody>
      </p:sp>
    </p:spTree>
  </p:cSld>
  <p:transition>
    <p:wipe dir="r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"/>
          <p:cNvGrpSpPr/>
          <p:nvPr/>
        </p:nvGrpSpPr>
        <p:grpSpPr>
          <a:xfrm>
            <a:off x="625320" y="1281240"/>
            <a:ext cx="8340840" cy="3862440"/>
            <a:chOff x="625320" y="1281240"/>
            <a:chExt cx="8340840" cy="3862440"/>
          </a:xfrm>
        </p:grpSpPr>
        <p:sp>
          <p:nvSpPr>
            <p:cNvPr id="373" name=""/>
            <p:cNvSpPr/>
            <p:nvPr/>
          </p:nvSpPr>
          <p:spPr>
            <a:xfrm>
              <a:off x="7077240" y="2017800"/>
              <a:ext cx="1876320" cy="3125880"/>
            </a:xfrm>
            <a:prstGeom prst="rect">
              <a:avLst/>
            </a:prstGeom>
            <a:solidFill>
              <a:srgbClr val="ebf3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668920" y="2017800"/>
              <a:ext cx="1311480" cy="3125880"/>
            </a:xfrm>
            <a:prstGeom prst="rect">
              <a:avLst/>
            </a:prstGeom>
            <a:solidFill>
              <a:srgbClr val="fff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984480" y="2017800"/>
              <a:ext cx="1616400" cy="3125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541600" y="2017800"/>
              <a:ext cx="1357200" cy="3125880"/>
            </a:xfrm>
            <a:prstGeom prst="rect">
              <a:avLst/>
            </a:prstGeom>
            <a:solidFill>
              <a:srgbClr val="ff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25320" y="2017800"/>
              <a:ext cx="1822680" cy="3125880"/>
            </a:xfrm>
            <a:prstGeom prst="rect">
              <a:avLst/>
            </a:prstGeom>
            <a:solidFill>
              <a:srgbClr val="ebf3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778800" y="4748040"/>
              <a:ext cx="88560" cy="180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778800" y="4748040"/>
              <a:ext cx="88560" cy="17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778800" y="4765680"/>
              <a:ext cx="7128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778800" y="4765680"/>
              <a:ext cx="71280" cy="172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778800" y="4782960"/>
              <a:ext cx="53640" cy="180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778800" y="4782960"/>
              <a:ext cx="53640" cy="17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778800" y="4800600"/>
              <a:ext cx="3636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778800" y="4800600"/>
              <a:ext cx="36360" cy="17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778800" y="4818240"/>
              <a:ext cx="1872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778800" y="4818240"/>
              <a:ext cx="18720" cy="172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083400" y="1281240"/>
              <a:ext cx="21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645440" y="1281240"/>
              <a:ext cx="21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207480" y="1281240"/>
              <a:ext cx="21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893360" y="1281240"/>
              <a:ext cx="21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(4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733480" y="1479600"/>
              <a:ext cx="962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Unida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330800" y="1479600"/>
              <a:ext cx="89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rima @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88440" y="1479600"/>
              <a:ext cx="1078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Loss Rat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158600" y="1479600"/>
              <a:ext cx="1725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iniestros Bru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92400" y="1720800"/>
              <a:ext cx="48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646000" y="1720800"/>
              <a:ext cx="1102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Exposi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98880" y="1720800"/>
              <a:ext cx="1584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50 Por Unid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753880" y="1720800"/>
              <a:ext cx="1192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e Indust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297560" y="1720800"/>
              <a:ext cx="1463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@ Industry L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261080" y="20620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77160" y="2062080"/>
              <a:ext cx="64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92.9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261080" y="236052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077160" y="2360520"/>
              <a:ext cx="64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94.2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261080" y="265896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889720" y="2658960"/>
              <a:ext cx="697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70,93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537640" y="2658960"/>
              <a:ext cx="576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871360" y="26589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271400" y="2658960"/>
              <a:ext cx="1140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0,639,5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058280" y="2658960"/>
              <a:ext cx="19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269960" y="26589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077160" y="2658960"/>
              <a:ext cx="64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89.9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682760" y="2658960"/>
              <a:ext cx="101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9,564,97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083000" y="2658960"/>
              <a:ext cx="512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646400" y="26589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61080" y="295740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889720" y="2957400"/>
              <a:ext cx="697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90,3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537640" y="2957400"/>
              <a:ext cx="576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871360" y="29574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271400" y="2957400"/>
              <a:ext cx="1140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3,545,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058280" y="2957400"/>
              <a:ext cx="19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269960" y="29574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077160" y="2957400"/>
              <a:ext cx="64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86.2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560720" y="2957400"/>
              <a:ext cx="1140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1,675,79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083360" y="2957400"/>
              <a:ext cx="384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505280" y="29574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61080" y="325584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889720" y="3255840"/>
              <a:ext cx="697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99,3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37640" y="3255840"/>
              <a:ext cx="576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71360" y="32558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271400" y="3255840"/>
              <a:ext cx="1140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4,899,5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058280" y="3255840"/>
              <a:ext cx="19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269960" y="32558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077160" y="3255840"/>
              <a:ext cx="64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86.6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560720" y="3255840"/>
              <a:ext cx="1140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2,902,96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83360" y="3255840"/>
              <a:ext cx="384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05280" y="32558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261080" y="35560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766240" y="355608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09,26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538000" y="3556080"/>
              <a:ext cx="44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729880" y="35560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271400" y="3556080"/>
              <a:ext cx="1140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6,389,4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058280" y="3556080"/>
              <a:ext cx="19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269960" y="35560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077160" y="3556080"/>
              <a:ext cx="64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91.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560720" y="3556080"/>
              <a:ext cx="1140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4,914,4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083360" y="3556080"/>
              <a:ext cx="384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505280" y="35560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26120" y="4038480"/>
              <a:ext cx="1611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2006 Projec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66240" y="403848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120,18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538000" y="4038480"/>
              <a:ext cx="44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729880" y="40384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271400" y="4038480"/>
              <a:ext cx="1140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18,028,39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58280" y="4038480"/>
              <a:ext cx="19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269960" y="40384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077160" y="4038480"/>
              <a:ext cx="64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90.1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560720" y="4038480"/>
              <a:ext cx="1140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16,249,59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083360" y="4038480"/>
              <a:ext cx="384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505280" y="40384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5400" y="4449600"/>
              <a:ext cx="812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td De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199200" y="444960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.9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019360" y="444960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704,04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224840" y="4449600"/>
              <a:ext cx="704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000280" y="44496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25400" y="474804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199200" y="474804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.3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369280" y="474804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.3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25320" y="2001960"/>
              <a:ext cx="8340840" cy="17280"/>
            </a:xfrm>
            <a:prstGeom prst="rect">
              <a:avLst/>
            </a:prstGeom>
            <a:solidFill>
              <a:srgbClr val="6ba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690480" y="5340240"/>
            <a:ext cx="820584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82600" indent="-282600" algn="just">
              <a:lnSpc>
                <a:spcPct val="90000"/>
              </a:lnSpc>
              <a:spcAft>
                <a:spcPts val="1500"/>
              </a:spcAft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prima es calculada al promedio actual de tasa de 150 por unidad de exposi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66560" y="347760"/>
            <a:ext cx="9134640" cy="34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Proyección de siniestros esperados (Bru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94A7A-4CCD-4847-8AE9-BE60C2A1C957}" type="slidenum">
              <a:t>14</a:t>
            </a:fld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"/>
          <p:cNvGrpSpPr/>
          <p:nvPr/>
        </p:nvGrpSpPr>
        <p:grpSpPr>
          <a:xfrm>
            <a:off x="625320" y="1281240"/>
            <a:ext cx="8340840" cy="3862440"/>
            <a:chOff x="625320" y="1281240"/>
            <a:chExt cx="8340840" cy="3862440"/>
          </a:xfrm>
        </p:grpSpPr>
        <p:sp>
          <p:nvSpPr>
            <p:cNvPr id="472" name=""/>
            <p:cNvSpPr/>
            <p:nvPr/>
          </p:nvSpPr>
          <p:spPr>
            <a:xfrm>
              <a:off x="7077240" y="2017800"/>
              <a:ext cx="1876320" cy="3125880"/>
            </a:xfrm>
            <a:prstGeom prst="rect">
              <a:avLst/>
            </a:prstGeom>
            <a:solidFill>
              <a:srgbClr val="ebf3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668920" y="2017800"/>
              <a:ext cx="1311480" cy="3125880"/>
            </a:xfrm>
            <a:prstGeom prst="rect">
              <a:avLst/>
            </a:prstGeom>
            <a:solidFill>
              <a:srgbClr val="fff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984480" y="2017800"/>
              <a:ext cx="1616400" cy="3125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41600" y="2017800"/>
              <a:ext cx="1357200" cy="3125880"/>
            </a:xfrm>
            <a:prstGeom prst="rect">
              <a:avLst/>
            </a:prstGeom>
            <a:solidFill>
              <a:srgbClr val="ff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25320" y="2017800"/>
              <a:ext cx="1822680" cy="3125880"/>
            </a:xfrm>
            <a:prstGeom prst="rect">
              <a:avLst/>
            </a:prstGeom>
            <a:solidFill>
              <a:srgbClr val="ebf3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778800" y="4748040"/>
              <a:ext cx="88560" cy="180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778800" y="4748040"/>
              <a:ext cx="88560" cy="17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778800" y="4765680"/>
              <a:ext cx="7128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778800" y="4765680"/>
              <a:ext cx="71280" cy="172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778800" y="4782960"/>
              <a:ext cx="53640" cy="180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778800" y="4782960"/>
              <a:ext cx="53640" cy="17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778800" y="4800600"/>
              <a:ext cx="3636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778800" y="4800600"/>
              <a:ext cx="36360" cy="17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778800" y="4818240"/>
              <a:ext cx="1872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778800" y="4818240"/>
              <a:ext cx="18720" cy="172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083400" y="1281240"/>
              <a:ext cx="21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645440" y="1281240"/>
              <a:ext cx="21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07480" y="1281240"/>
              <a:ext cx="21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893360" y="1281240"/>
              <a:ext cx="21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(4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733480" y="1479600"/>
              <a:ext cx="962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Unida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330800" y="1479600"/>
              <a:ext cx="89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rima @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788440" y="1479600"/>
              <a:ext cx="1078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Loss Rat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158600" y="1479600"/>
              <a:ext cx="1725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iniestros Bru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292400" y="1720800"/>
              <a:ext cx="48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646000" y="1720800"/>
              <a:ext cx="1102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Exposi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998880" y="1720800"/>
              <a:ext cx="1584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50 Por Unid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753880" y="1720800"/>
              <a:ext cx="1192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e Indust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297560" y="1720800"/>
              <a:ext cx="1463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@ Industry L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261080" y="20620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77160" y="2062080"/>
              <a:ext cx="64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92.9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261080" y="236052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077160" y="2360520"/>
              <a:ext cx="64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94.2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261080" y="265896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889720" y="2658960"/>
              <a:ext cx="697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70,93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537640" y="2658960"/>
              <a:ext cx="576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871360" y="26589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271400" y="2658960"/>
              <a:ext cx="1140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0,639,5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058280" y="2658960"/>
              <a:ext cx="19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269960" y="26589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077160" y="2658960"/>
              <a:ext cx="64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89.9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682760" y="2658960"/>
              <a:ext cx="101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9,564,97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083000" y="2658960"/>
              <a:ext cx="512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646400" y="26589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261080" y="295740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889720" y="2957400"/>
              <a:ext cx="697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90,3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537640" y="2957400"/>
              <a:ext cx="576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871360" y="29574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271400" y="2957400"/>
              <a:ext cx="1140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3,545,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058280" y="2957400"/>
              <a:ext cx="19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269960" y="29574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077160" y="2957400"/>
              <a:ext cx="64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86.2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560720" y="2957400"/>
              <a:ext cx="1140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1,675,79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083360" y="2957400"/>
              <a:ext cx="384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505280" y="29574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261080" y="325584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889720" y="3255840"/>
              <a:ext cx="697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99,3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537640" y="3255840"/>
              <a:ext cx="576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871360" y="32558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271400" y="3255840"/>
              <a:ext cx="1140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4,899,5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058280" y="3255840"/>
              <a:ext cx="19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269960" y="32558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77160" y="3255840"/>
              <a:ext cx="64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86.6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560720" y="3255840"/>
              <a:ext cx="1140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2,902,96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083360" y="3255840"/>
              <a:ext cx="384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505280" y="32558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61080" y="35560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766240" y="355608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09,26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538000" y="3556080"/>
              <a:ext cx="44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729880" y="35560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271400" y="3556080"/>
              <a:ext cx="1140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6,389,4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058280" y="3556080"/>
              <a:ext cx="19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269960" y="35560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077160" y="3556080"/>
              <a:ext cx="64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91.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560720" y="3556080"/>
              <a:ext cx="1140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4,914,4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083360" y="3556080"/>
              <a:ext cx="384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505280" y="35560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26120" y="4038480"/>
              <a:ext cx="1611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2006 Projec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766240" y="403848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120,18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538000" y="4038480"/>
              <a:ext cx="44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729880" y="40384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271400" y="4038480"/>
              <a:ext cx="1140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18,028,39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058280" y="4038480"/>
              <a:ext cx="19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269960" y="40384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77160" y="4038480"/>
              <a:ext cx="64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90.1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560720" y="4038480"/>
              <a:ext cx="1140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16,249,59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083360" y="4038480"/>
              <a:ext cx="384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505280" y="40384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25400" y="4449600"/>
              <a:ext cx="812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td De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199200" y="444960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3.9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019360" y="444960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704,04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224840" y="4449600"/>
              <a:ext cx="704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000280" y="44496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25400" y="474804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199200" y="474804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.3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369280" y="474804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.3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25320" y="2001960"/>
              <a:ext cx="8340840" cy="17280"/>
            </a:xfrm>
            <a:prstGeom prst="rect">
              <a:avLst/>
            </a:prstGeom>
            <a:solidFill>
              <a:srgbClr val="6ba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690480" y="5340240"/>
            <a:ext cx="820584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82600" indent="-282600" algn="just">
              <a:lnSpc>
                <a:spcPct val="90000"/>
              </a:lnSpc>
              <a:spcAft>
                <a:spcPts val="1500"/>
              </a:spcAft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utilizaron los ratios de la industria para estimar los siniestros y la variabilidad esper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66560" y="347760"/>
            <a:ext cx="9134640" cy="34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Proyección de siniestros esperados (Bru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CA53B-3D20-4306-A03E-5A976465220D}" type="slidenum">
              <a:t>15</a:t>
            </a:fld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466560" y="347760"/>
            <a:ext cx="9134640" cy="34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Análisis de grandes siniestros - Intens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68240" y="1484280"/>
            <a:ext cx="813600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20720" y="1639800"/>
            <a:ext cx="8319960" cy="43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502920" y="1247760"/>
            <a:ext cx="8582040" cy="28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 algn="just">
              <a:spcAft>
                <a:spcPts val="1800"/>
              </a:spcAft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grandes siniestros son ajustados por inflación y otros factores para estimar su costo final a futuro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Aft>
                <a:spcPts val="1800"/>
              </a:spcAft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utiliza un modelo de ajustamiento que compara dicha información siniestral con varias distribuciones de probabilidad teóricas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017720" y="3505320"/>
            <a:ext cx="7432560" cy="21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90000"/>
              </a:lnSpc>
              <a:spcAft>
                <a:spcPts val="1100"/>
              </a:spcAft>
              <a:buClr>
                <a:srgbClr val="7db1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tas funciones indican cual es la probabilidad de tener siniestros que superen ciertos mont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Aft>
                <a:spcPts val="1100"/>
              </a:spcAft>
              <a:buClr>
                <a:srgbClr val="7db1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 programa busca el mejor ajuste entre las curvas teóricas y la información históric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Aft>
                <a:spcPts val="1100"/>
              </a:spcAft>
              <a:buClr>
                <a:srgbClr val="7db1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Varios test estadísticos y criterios gráficos se utilizan para seleccionar la curva que mejor ajusta</a:t>
            </a: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DD04B-A7A2-4BE3-853B-2DA7AABEB1D3}" type="slidenum">
              <a:t>16</a:t>
            </a:fld>
          </a:p>
        </p:txBody>
      </p:sp>
    </p:spTree>
  </p:cSld>
  <p:transition>
    <p:wipe dir="r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8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3" dur="500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ba76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ba76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23" dur="1" fill="hold"/>
                                  <p:tgtEl>
                                    <p:spTgt spid="5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ba76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768240" y="1484280"/>
            <a:ext cx="813600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20720" y="1639800"/>
            <a:ext cx="8319960" cy="43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BodyText" descr=""/>
          <p:cNvPicPr/>
          <p:nvPr/>
        </p:nvPicPr>
        <p:blipFill>
          <a:blip r:embed="rId1"/>
          <a:stretch/>
        </p:blipFill>
        <p:spPr>
          <a:xfrm>
            <a:off x="747720" y="714240"/>
            <a:ext cx="8177040" cy="61344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777777"/>
            </a:outerShdw>
          </a:effectLst>
        </p:spPr>
      </p:pic>
      <p:sp>
        <p:nvSpPr>
          <p:cNvPr id="578" name=""/>
          <p:cNvSpPr/>
          <p:nvPr/>
        </p:nvSpPr>
        <p:spPr>
          <a:xfrm>
            <a:off x="466560" y="347760"/>
            <a:ext cx="9134640" cy="34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Análisis de grandes siniestros - Intens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722600" y="736560"/>
            <a:ext cx="368280" cy="142920"/>
          </a:xfrm>
          <a:prstGeom prst="rect">
            <a:avLst/>
          </a:prstGeom>
          <a:solidFill>
            <a:srgbClr val="c7dd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7D739-6840-44ED-A126-23D83E8E84AC}" type="slidenum">
              <a:t>17</a:t>
            </a:fld>
          </a:p>
        </p:txBody>
      </p:sp>
    </p:spTree>
  </p:cSld>
  <p:transition>
    <p:wipe dir="r"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747720" y="714240"/>
            <a:ext cx="8153280" cy="61153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777777"/>
            </a:outerShdw>
          </a:effectLst>
        </p:spPr>
      </p:pic>
      <p:sp>
        <p:nvSpPr>
          <p:cNvPr id="581" name=""/>
          <p:cNvSpPr/>
          <p:nvPr/>
        </p:nvSpPr>
        <p:spPr>
          <a:xfrm>
            <a:off x="768240" y="1484280"/>
            <a:ext cx="813600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720720" y="1639800"/>
            <a:ext cx="8319960" cy="43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66560" y="347760"/>
            <a:ext cx="9134640" cy="34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Análisis de grandes siniestros - Intens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722600" y="736560"/>
            <a:ext cx="368280" cy="142920"/>
          </a:xfrm>
          <a:prstGeom prst="rect">
            <a:avLst/>
          </a:prstGeom>
          <a:solidFill>
            <a:srgbClr val="c7dd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099D7-5D9C-4127-A2A9-B6DCD0683772}" type="slidenum">
              <a:t>18</a:t>
            </a:fld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BodyText" descr=""/>
          <p:cNvPicPr/>
          <p:nvPr/>
        </p:nvPicPr>
        <p:blipFill>
          <a:blip r:embed="rId1"/>
          <a:stretch/>
        </p:blipFill>
        <p:spPr>
          <a:xfrm>
            <a:off x="747720" y="714240"/>
            <a:ext cx="8153280" cy="61153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777777"/>
            </a:outerShdw>
          </a:effectLst>
        </p:spPr>
      </p:pic>
      <p:sp>
        <p:nvSpPr>
          <p:cNvPr id="586" name=""/>
          <p:cNvSpPr/>
          <p:nvPr/>
        </p:nvSpPr>
        <p:spPr>
          <a:xfrm>
            <a:off x="768240" y="1484280"/>
            <a:ext cx="813600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20720" y="1639800"/>
            <a:ext cx="8319960" cy="43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66560" y="347760"/>
            <a:ext cx="9134640" cy="34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Análisis de grandes siniestros - Intens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722600" y="736560"/>
            <a:ext cx="368280" cy="142920"/>
          </a:xfrm>
          <a:prstGeom prst="rect">
            <a:avLst/>
          </a:prstGeom>
          <a:solidFill>
            <a:srgbClr val="c7dd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E529E-9B29-4D3B-B8E2-F44A3E51346B}" type="slidenum">
              <a:t>19</a:t>
            </a:fld>
          </a:p>
        </p:txBody>
      </p:sp>
    </p:spTree>
  </p:cSld>
  <p:transition>
    <p:wipe dir="r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8240" y="1484280"/>
            <a:ext cx="813600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20720" y="1639800"/>
            <a:ext cx="8319960" cy="43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6560" y="347400"/>
            <a:ext cx="2129040" cy="34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Contenido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535040"/>
            <a:ext cx="8205480" cy="43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r qué un análisis actuarial en materia de reasegur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é tipo de preguntas se suelen respond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e tecnología y recursos se utilizan para responderl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ómo es el proceso de análisi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 qué informació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ej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F49AB-C591-4BF5-B716-98C2274CD9FE}" type="slidenum">
              <a:t>2</a:t>
            </a:fld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ba76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ba76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ba76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ba76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ba76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0" dur="1" fill="hold"/>
                                  <p:tgtEl>
                                    <p:spTgt spid="9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ba76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768240" y="1484280"/>
            <a:ext cx="813600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20720" y="1639800"/>
            <a:ext cx="8319960" cy="43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/>
          </p:nvPr>
        </p:nvSpPr>
        <p:spPr>
          <a:xfrm>
            <a:off x="502920" y="1204560"/>
            <a:ext cx="8597880" cy="21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 algn="just">
              <a:spcAft>
                <a:spcPts val="1437"/>
              </a:spcAft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El número</a:t>
            </a:r>
            <a:r>
              <a:rPr b="0" lang="es-AR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de grandes siniestros por año es estimado con la misma información que las curvas de intensidad de siniestros</a:t>
            </a:r>
            <a:r>
              <a:rPr b="0" lang="es-AR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Aft>
                <a:spcPts val="1437"/>
              </a:spcAft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Ciertos ajustes se deben hacer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0" algn="just">
              <a:spcAft>
                <a:spcPts val="1437"/>
              </a:spcAft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66560" y="347760"/>
            <a:ext cx="9134640" cy="34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Análisis de grandes siniestros - Frecu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15880" y="4843440"/>
            <a:ext cx="86853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2600" indent="-282600" algn="just">
              <a:lnSpc>
                <a:spcPct val="90000"/>
              </a:lnSpc>
              <a:spcAft>
                <a:spcPts val="1726"/>
              </a:spcAft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Diferentes funciones de probabilidad de n</a:t>
            </a:r>
            <a:r>
              <a:rPr b="0" lang="es-AR" sz="23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mero de siniestros se prueban para representar dichas observacione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14240" y="2695680"/>
            <a:ext cx="85345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just">
              <a:lnSpc>
                <a:spcPct val="85000"/>
              </a:lnSpc>
              <a:spcAft>
                <a:spcPts val="1049"/>
              </a:spcAft>
              <a:buClr>
                <a:srgbClr val="7db1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Exposición: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el número de siniestros de cada año se ajusta para el año proyectado, en proporción al número de exposiciones en los años respectivo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 algn="just">
              <a:lnSpc>
                <a:spcPct val="85000"/>
              </a:lnSpc>
              <a:spcAft>
                <a:spcPts val="1049"/>
              </a:spcAft>
              <a:buClr>
                <a:srgbClr val="7db1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Desarrollo: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el número de grandes siniestros en los últimos años puede crecer por haber todavía siniestros abiertos o por alguna otra raz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6105F-11A0-4C46-A0AB-A8773CC10E4F}" type="slidenum">
              <a:t>20</a:t>
            </a:fld>
          </a:p>
        </p:txBody>
      </p:sp>
    </p:spTree>
  </p:cSld>
  <p:transition>
    <p:wipe dir="r"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4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9" dur="500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ba76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ba76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91" dur="1" fill="hold"/>
                                  <p:tgtEl>
                                    <p:spTgt spid="59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ba76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768240" y="1484280"/>
            <a:ext cx="813600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20720" y="1639800"/>
            <a:ext cx="8319960" cy="43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BodyText" descr=""/>
          <p:cNvPicPr/>
          <p:nvPr/>
        </p:nvPicPr>
        <p:blipFill>
          <a:blip r:embed="rId1"/>
          <a:stretch/>
        </p:blipFill>
        <p:spPr>
          <a:xfrm>
            <a:off x="738360" y="717480"/>
            <a:ext cx="8111880" cy="60832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777777"/>
            </a:outerShdw>
          </a:effectLst>
        </p:spPr>
      </p:pic>
      <p:grpSp>
        <p:nvGrpSpPr>
          <p:cNvPr id="599" name=""/>
          <p:cNvGrpSpPr/>
          <p:nvPr/>
        </p:nvGrpSpPr>
        <p:grpSpPr>
          <a:xfrm>
            <a:off x="1090440" y="3107880"/>
            <a:ext cx="1987560" cy="3043440"/>
            <a:chOff x="1090440" y="3107880"/>
            <a:chExt cx="1987560" cy="3043440"/>
          </a:xfrm>
        </p:grpSpPr>
        <p:sp>
          <p:nvSpPr>
            <p:cNvPr id="600" name=""/>
            <p:cNvSpPr/>
            <p:nvPr/>
          </p:nvSpPr>
          <p:spPr>
            <a:xfrm flipV="1">
              <a:off x="1913040" y="3107880"/>
              <a:ext cx="241200" cy="1741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090440" y="4827600"/>
              <a:ext cx="1987560" cy="1323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111320" y="4949640"/>
              <a:ext cx="1911240" cy="10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Arial"/>
                </a:rPr>
                <a:t>Factores de ajuste por aumento en las exposi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3376440" y="3120840"/>
            <a:ext cx="1987560" cy="3030840"/>
            <a:chOff x="3376440" y="3120840"/>
            <a:chExt cx="1987560" cy="3030840"/>
          </a:xfrm>
        </p:grpSpPr>
        <p:sp>
          <p:nvSpPr>
            <p:cNvPr id="604" name=""/>
            <p:cNvSpPr/>
            <p:nvPr/>
          </p:nvSpPr>
          <p:spPr>
            <a:xfrm>
              <a:off x="3484440" y="4950000"/>
              <a:ext cx="1771920" cy="10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Arial"/>
                </a:rPr>
                <a:t>Factores de ajuste por desarrollo de siniestr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376440" y="4827960"/>
              <a:ext cx="1987560" cy="1323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 flipV="1">
              <a:off x="4046400" y="3120840"/>
              <a:ext cx="317520" cy="171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5227560" y="3146040"/>
            <a:ext cx="2422440" cy="2992680"/>
            <a:chOff x="5227560" y="3146040"/>
            <a:chExt cx="2422440" cy="2992680"/>
          </a:xfrm>
        </p:grpSpPr>
        <p:sp>
          <p:nvSpPr>
            <p:cNvPr id="608" name=""/>
            <p:cNvSpPr/>
            <p:nvPr/>
          </p:nvSpPr>
          <p:spPr>
            <a:xfrm>
              <a:off x="5757840" y="4949640"/>
              <a:ext cx="1771560" cy="10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i="1" lang="es-MX" sz="1800" spc="-1" strike="noStrike">
                  <a:solidFill>
                    <a:srgbClr val="000000"/>
                  </a:solidFill>
                  <a:latin typeface="Arial"/>
                </a:rPr>
                <a:t>ú</a:t>
              </a:r>
              <a:r>
                <a:rPr b="0" i="1" lang="es-ES" sz="1800" spc="-1" strike="noStrike">
                  <a:solidFill>
                    <a:srgbClr val="000000"/>
                  </a:solidFill>
                  <a:latin typeface="Arial"/>
                </a:rPr>
                <a:t>mero final de siniestros de la muestra por añ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662440" y="4814640"/>
              <a:ext cx="1987560" cy="13240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 flipV="1">
              <a:off x="5227560" y="3146040"/>
              <a:ext cx="889200" cy="177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466560" y="347760"/>
            <a:ext cx="9134640" cy="34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Análisis de grandes siniestros - Frecu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722600" y="736560"/>
            <a:ext cx="368280" cy="142920"/>
          </a:xfrm>
          <a:prstGeom prst="rect">
            <a:avLst/>
          </a:prstGeom>
          <a:solidFill>
            <a:srgbClr val="c7dd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FEE59-161E-4B1C-989F-C1891FDB65DF}" type="slidenum">
              <a:t>21</a:t>
            </a:fld>
          </a:p>
        </p:txBody>
      </p:sp>
    </p:spTree>
  </p:cSld>
  <p:transition>
    <p:wipe dir="r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8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768240" y="1484280"/>
            <a:ext cx="813600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11280" y="304920"/>
            <a:ext cx="74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Análisis de grandes siniestros - Frecuenci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15" name="BodyText" descr=""/>
          <p:cNvPicPr/>
          <p:nvPr/>
        </p:nvPicPr>
        <p:blipFill>
          <a:blip r:embed="rId1"/>
          <a:stretch/>
        </p:blipFill>
        <p:spPr>
          <a:xfrm>
            <a:off x="944640" y="771480"/>
            <a:ext cx="7761240" cy="581976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1828800" y="819000"/>
            <a:ext cx="368280" cy="96840"/>
          </a:xfrm>
          <a:prstGeom prst="rect">
            <a:avLst/>
          </a:prstGeom>
          <a:solidFill>
            <a:srgbClr val="c7dd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E2C30-12AE-407B-8F8B-D0A34483219C}" type="slidenum">
              <a:t>22</a:t>
            </a:fld>
          </a:p>
        </p:txBody>
      </p:sp>
    </p:spTree>
  </p:cSld>
  <p:transition>
    <p:wipe dir="r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5513400" y="1603440"/>
            <a:ext cx="1593720" cy="2639880"/>
          </a:xfrm>
          <a:prstGeom prst="rect">
            <a:avLst/>
          </a:prstGeom>
          <a:solidFill>
            <a:srgbClr val="e1e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8264520" y="1603440"/>
            <a:ext cx="1222560" cy="2639880"/>
          </a:xfrm>
          <a:prstGeom prst="rect">
            <a:avLst/>
          </a:prstGeom>
          <a:solidFill>
            <a:srgbClr val="c7dd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137360" y="1603440"/>
            <a:ext cx="1079640" cy="263988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398840" y="1603440"/>
            <a:ext cx="1079640" cy="2639880"/>
          </a:xfrm>
          <a:prstGeom prst="rect">
            <a:avLst/>
          </a:prstGeom>
          <a:solidFill>
            <a:srgbClr val="fff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955960" y="1603440"/>
            <a:ext cx="1407960" cy="263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741320" y="1603440"/>
            <a:ext cx="1165320" cy="2639880"/>
          </a:xfrm>
          <a:prstGeom prst="rect">
            <a:avLst/>
          </a:prstGeom>
          <a:solidFill>
            <a:srgbClr val="ff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12680" y="1603440"/>
            <a:ext cx="1608120" cy="2639880"/>
          </a:xfrm>
          <a:prstGeom prst="rect">
            <a:avLst/>
          </a:prstGeom>
          <a:solidFill>
            <a:srgbClr val="ebf3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219640" y="3944880"/>
            <a:ext cx="7308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219640" y="3944880"/>
            <a:ext cx="73080" cy="14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219640" y="3959280"/>
            <a:ext cx="5868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219640" y="3959280"/>
            <a:ext cx="58680" cy="14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219640" y="3973680"/>
            <a:ext cx="4284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219640" y="3973680"/>
            <a:ext cx="42840" cy="140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219640" y="3987720"/>
            <a:ext cx="2880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219640" y="3987720"/>
            <a:ext cx="28800" cy="15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219640" y="4003560"/>
            <a:ext cx="1440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19640" y="4003560"/>
            <a:ext cx="14400" cy="14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202120" y="1028880"/>
            <a:ext cx="21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528000" y="1028880"/>
            <a:ext cx="21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826520" y="1028880"/>
            <a:ext cx="21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182280" y="1028880"/>
            <a:ext cx="21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7523640" y="1028880"/>
            <a:ext cx="21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8791920" y="1028880"/>
            <a:ext cx="21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782720" y="1192320"/>
            <a:ext cx="107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Unidades 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269520" y="1192320"/>
            <a:ext cx="745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Prima @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79480" y="1192320"/>
            <a:ext cx="906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Loss Rat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573160" y="1192320"/>
            <a:ext cx="1448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Siniestros Brut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278840" y="1192320"/>
            <a:ext cx="73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Grand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8331120" y="1192320"/>
            <a:ext cx="1151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Siniestralida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774360" y="1371600"/>
            <a:ext cx="340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Añ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841400" y="1371600"/>
            <a:ext cx="927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Exposi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993760" y="1371600"/>
            <a:ext cx="1331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150 Por Unida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578840" y="1371600"/>
            <a:ext cx="73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Indust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515560" y="1371600"/>
            <a:ext cx="1600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@ LR de Indust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7248240" y="1371600"/>
            <a:ext cx="842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Siniestr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8604720" y="1371600"/>
            <a:ext cx="57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Bási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07400" y="1663560"/>
            <a:ext cx="42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642560" y="1663560"/>
            <a:ext cx="543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92.9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707400" y="1913040"/>
            <a:ext cx="42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642560" y="1913040"/>
            <a:ext cx="543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94.2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07400" y="2162160"/>
            <a:ext cx="42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016360" y="2162160"/>
            <a:ext cx="587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70,93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153600" y="2162160"/>
            <a:ext cx="96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10,639,57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2560" y="2162160"/>
            <a:ext cx="543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89.9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936400" y="2162160"/>
            <a:ext cx="854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9,564,97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07400" y="2411280"/>
            <a:ext cx="42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016360" y="2411280"/>
            <a:ext cx="587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90,3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153600" y="2411280"/>
            <a:ext cx="96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13,545,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642560" y="2411280"/>
            <a:ext cx="543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86.2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836320" y="2411280"/>
            <a:ext cx="96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11,675,79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07400" y="2662200"/>
            <a:ext cx="42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016360" y="2662200"/>
            <a:ext cx="587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99,33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153600" y="2662200"/>
            <a:ext cx="96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14,899,5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642560" y="2662200"/>
            <a:ext cx="543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86.6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836320" y="2662200"/>
            <a:ext cx="96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12,902,96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07400" y="2911320"/>
            <a:ext cx="42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915920" y="2911320"/>
            <a:ext cx="69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109,26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153600" y="2911320"/>
            <a:ext cx="96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16,389,45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642560" y="2911320"/>
            <a:ext cx="543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91.0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836320" y="2911320"/>
            <a:ext cx="96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14,914,4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182160" y="3281400"/>
            <a:ext cx="152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2006 Proyectad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915920" y="3281400"/>
            <a:ext cx="69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120,18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153600" y="3281400"/>
            <a:ext cx="96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18,028,39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642560" y="3281400"/>
            <a:ext cx="543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90.1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836320" y="3281400"/>
            <a:ext cx="96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16,249,59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7263720" y="3281400"/>
            <a:ext cx="854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7,290,84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8546400" y="3281400"/>
            <a:ext cx="854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8,958,74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97280" y="3695760"/>
            <a:ext cx="68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Std De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742640" y="3695760"/>
            <a:ext cx="43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3.9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095880" y="3695760"/>
            <a:ext cx="69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704,04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263720" y="3695760"/>
            <a:ext cx="854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1,924,25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8705880" y="3695760"/>
            <a:ext cx="69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447,93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98720" y="3944880"/>
            <a:ext cx="264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C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742640" y="3944880"/>
            <a:ext cx="43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4.3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385680" y="3944880"/>
            <a:ext cx="43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4.3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7611120" y="3944880"/>
            <a:ext cx="543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26.4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8995680" y="3944880"/>
            <a:ext cx="43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5.0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12680" y="1606680"/>
            <a:ext cx="9374400" cy="14040"/>
          </a:xfrm>
          <a:prstGeom prst="rect">
            <a:avLst/>
          </a:prstGeom>
          <a:solidFill>
            <a:srgbClr val="6ba7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87280" y="4610160"/>
            <a:ext cx="902484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82600" indent="-282600" algn="just">
              <a:lnSpc>
                <a:spcPct val="90000"/>
              </a:lnSpc>
              <a:spcAft>
                <a:spcPts val="1250"/>
              </a:spcAft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l análisis de frecuencia y costo esperado, estimamos que del total de siniestros, 7.300.000 corresponden a grandes siniestros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85800" y="5286240"/>
            <a:ext cx="8163000" cy="13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90000"/>
              </a:lnSpc>
              <a:spcAft>
                <a:spcPts val="499"/>
              </a:spcAft>
              <a:buClr>
                <a:srgbClr val="7db1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Promedio de grandes siniestros es 153.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Aft>
                <a:spcPts val="499"/>
              </a:spcAft>
              <a:buClr>
                <a:srgbClr val="7db1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El número esperado de siniestros para el 2005 es 47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Aft>
                <a:spcPts val="499"/>
              </a:spcAft>
              <a:buClr>
                <a:srgbClr val="7db1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Total esperado de grandes siniestros es 153,500 x 47.7 = 7,3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66560" y="187200"/>
            <a:ext cx="8872560" cy="34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Black"/>
              </a:rPr>
              <a:t>Separación de siniestros brutos esperados en dos componentes: grandes siniestros y siniestralidad bás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B8A2B-ED8E-4DA4-9DA7-77E61F34F29B}" type="slidenum">
              <a:t>23</a:t>
            </a:fld>
          </a:p>
        </p:txBody>
      </p:sp>
    </p:spTree>
  </p:cSld>
  <p:transition>
    <p:wipe dir="r"/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2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7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5513400" y="1603440"/>
            <a:ext cx="1593720" cy="2639880"/>
          </a:xfrm>
          <a:prstGeom prst="rect">
            <a:avLst/>
          </a:prstGeom>
          <a:solidFill>
            <a:srgbClr val="e1e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8264520" y="1603440"/>
            <a:ext cx="1222560" cy="2639880"/>
          </a:xfrm>
          <a:prstGeom prst="rect">
            <a:avLst/>
          </a:prstGeom>
          <a:solidFill>
            <a:srgbClr val="c7dd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7137360" y="1603440"/>
            <a:ext cx="1079640" cy="263988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398840" y="1603440"/>
            <a:ext cx="1079640" cy="2639880"/>
          </a:xfrm>
          <a:prstGeom prst="rect">
            <a:avLst/>
          </a:prstGeom>
          <a:solidFill>
            <a:srgbClr val="fff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955960" y="1603440"/>
            <a:ext cx="1407960" cy="263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741320" y="1603440"/>
            <a:ext cx="1165320" cy="2639880"/>
          </a:xfrm>
          <a:prstGeom prst="rect">
            <a:avLst/>
          </a:prstGeom>
          <a:solidFill>
            <a:srgbClr val="ff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12680" y="1603440"/>
            <a:ext cx="1608120" cy="2639880"/>
          </a:xfrm>
          <a:prstGeom prst="rect">
            <a:avLst/>
          </a:prstGeom>
          <a:solidFill>
            <a:srgbClr val="ebf3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219640" y="3944880"/>
            <a:ext cx="7308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219640" y="3944880"/>
            <a:ext cx="73080" cy="14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219640" y="3959280"/>
            <a:ext cx="5868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219640" y="3959280"/>
            <a:ext cx="58680" cy="14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219640" y="3973680"/>
            <a:ext cx="4284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219640" y="3973680"/>
            <a:ext cx="42840" cy="140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5219640" y="3987720"/>
            <a:ext cx="2880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19640" y="3987720"/>
            <a:ext cx="28800" cy="15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219640" y="4003560"/>
            <a:ext cx="1440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219640" y="4003560"/>
            <a:ext cx="14400" cy="14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202120" y="1028880"/>
            <a:ext cx="21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528000" y="1028880"/>
            <a:ext cx="21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826520" y="1028880"/>
            <a:ext cx="21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82280" y="1028880"/>
            <a:ext cx="21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7523640" y="1028880"/>
            <a:ext cx="21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8791920" y="1028880"/>
            <a:ext cx="21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782720" y="1192320"/>
            <a:ext cx="107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Unidades 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269520" y="1192320"/>
            <a:ext cx="745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Prima @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479480" y="1192320"/>
            <a:ext cx="906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Loss Rat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573160" y="1192320"/>
            <a:ext cx="1448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Siniestros Brut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7278840" y="1192320"/>
            <a:ext cx="73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Grand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8331120" y="1192320"/>
            <a:ext cx="1151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Siniestralida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774360" y="1371600"/>
            <a:ext cx="340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Añ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841400" y="1371600"/>
            <a:ext cx="927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Exposi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993760" y="1371600"/>
            <a:ext cx="1331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150 Por Unida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578840" y="1371600"/>
            <a:ext cx="73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Indust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515560" y="1371600"/>
            <a:ext cx="1600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@ LR de Indust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248240" y="1371600"/>
            <a:ext cx="842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Siniestr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8604720" y="1371600"/>
            <a:ext cx="57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Basi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707400" y="1663560"/>
            <a:ext cx="42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642560" y="1663560"/>
            <a:ext cx="543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92.9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707400" y="1913040"/>
            <a:ext cx="42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642560" y="1913040"/>
            <a:ext cx="543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94.2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707400" y="2162160"/>
            <a:ext cx="42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016360" y="2162160"/>
            <a:ext cx="587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70,93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153600" y="2162160"/>
            <a:ext cx="96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10,639,57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642560" y="2162160"/>
            <a:ext cx="543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89.9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936400" y="2162160"/>
            <a:ext cx="854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9,564,97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07400" y="2411280"/>
            <a:ext cx="42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016360" y="2411280"/>
            <a:ext cx="587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90,3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153600" y="2411280"/>
            <a:ext cx="96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13,545,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642560" y="2411280"/>
            <a:ext cx="543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86.2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5836320" y="2411280"/>
            <a:ext cx="96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11,675,79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07400" y="2662200"/>
            <a:ext cx="42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2016360" y="2662200"/>
            <a:ext cx="587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99,33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3153600" y="2662200"/>
            <a:ext cx="96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14,899,5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642560" y="2662200"/>
            <a:ext cx="543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86.6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836320" y="2662200"/>
            <a:ext cx="96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12,902,96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707400" y="2911320"/>
            <a:ext cx="42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1915920" y="2911320"/>
            <a:ext cx="69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109,26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153600" y="2911320"/>
            <a:ext cx="96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16,389,45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642560" y="2911320"/>
            <a:ext cx="543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91.0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836320" y="2911320"/>
            <a:ext cx="96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14,914,4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182160" y="3281400"/>
            <a:ext cx="152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2006 Proyectad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915920" y="3281400"/>
            <a:ext cx="69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120,18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153600" y="3281400"/>
            <a:ext cx="96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18,028,39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642560" y="3281400"/>
            <a:ext cx="543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90.1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836320" y="3281400"/>
            <a:ext cx="96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16,249,59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7263720" y="3281400"/>
            <a:ext cx="854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7,290,84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8546400" y="3281400"/>
            <a:ext cx="854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8,958,74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97280" y="3695760"/>
            <a:ext cx="68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Std De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742640" y="3695760"/>
            <a:ext cx="43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3.9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095880" y="3695760"/>
            <a:ext cx="69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704,04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7263720" y="3695760"/>
            <a:ext cx="854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1,924,25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8705880" y="3695760"/>
            <a:ext cx="69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447,93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98720" y="3944880"/>
            <a:ext cx="264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C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4742640" y="3944880"/>
            <a:ext cx="43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4.3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385680" y="3944880"/>
            <a:ext cx="43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4.3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7611120" y="3944880"/>
            <a:ext cx="543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26.4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8995680" y="3944880"/>
            <a:ext cx="43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5.0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112680" y="1606680"/>
            <a:ext cx="9374400" cy="14040"/>
          </a:xfrm>
          <a:prstGeom prst="rect">
            <a:avLst/>
          </a:prstGeom>
          <a:solidFill>
            <a:srgbClr val="6ba7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87280" y="4610160"/>
            <a:ext cx="9024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82600" indent="-282600" algn="just">
              <a:lnSpc>
                <a:spcPct val="90000"/>
              </a:lnSpc>
              <a:spcAft>
                <a:spcPts val="1250"/>
              </a:spcAft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o implica que la diferencia será l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iniestralidad básica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66560" y="187200"/>
            <a:ext cx="8872560" cy="34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Black"/>
              </a:rPr>
              <a:t>Separación de siniestros brutos esperados en dos componentes: grandes siniestros y siniestralidad bás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F4A26-0001-4153-AD5E-57F96B2B330A}" type="slidenum">
              <a:t>24</a:t>
            </a:fld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5513400" y="1603440"/>
            <a:ext cx="1593720" cy="2639880"/>
          </a:xfrm>
          <a:prstGeom prst="rect">
            <a:avLst/>
          </a:prstGeom>
          <a:solidFill>
            <a:srgbClr val="e1e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8264520" y="1603440"/>
            <a:ext cx="1222560" cy="2639880"/>
          </a:xfrm>
          <a:prstGeom prst="rect">
            <a:avLst/>
          </a:prstGeom>
          <a:solidFill>
            <a:srgbClr val="c7dd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7137360" y="1603440"/>
            <a:ext cx="1079640" cy="263988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4398840" y="1603440"/>
            <a:ext cx="1079640" cy="2639880"/>
          </a:xfrm>
          <a:prstGeom prst="rect">
            <a:avLst/>
          </a:prstGeom>
          <a:solidFill>
            <a:srgbClr val="fff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955960" y="1603440"/>
            <a:ext cx="1407960" cy="263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741320" y="1603440"/>
            <a:ext cx="1165320" cy="2639880"/>
          </a:xfrm>
          <a:prstGeom prst="rect">
            <a:avLst/>
          </a:prstGeom>
          <a:solidFill>
            <a:srgbClr val="ff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12680" y="1603440"/>
            <a:ext cx="1608120" cy="2639880"/>
          </a:xfrm>
          <a:prstGeom prst="rect">
            <a:avLst/>
          </a:prstGeom>
          <a:solidFill>
            <a:srgbClr val="ebf3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219640" y="3944880"/>
            <a:ext cx="7308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219640" y="3944880"/>
            <a:ext cx="73080" cy="14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219640" y="3959280"/>
            <a:ext cx="5868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219640" y="3959280"/>
            <a:ext cx="58680" cy="14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219640" y="3973680"/>
            <a:ext cx="4284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219640" y="3973680"/>
            <a:ext cx="42840" cy="140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219640" y="3987720"/>
            <a:ext cx="2880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219640" y="3987720"/>
            <a:ext cx="28800" cy="15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219640" y="4003560"/>
            <a:ext cx="1440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219640" y="4003560"/>
            <a:ext cx="14400" cy="14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202120" y="1028880"/>
            <a:ext cx="21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528000" y="1028880"/>
            <a:ext cx="21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826520" y="1028880"/>
            <a:ext cx="21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6182280" y="1028880"/>
            <a:ext cx="21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7523640" y="1028880"/>
            <a:ext cx="21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8791920" y="1028880"/>
            <a:ext cx="21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782720" y="1192320"/>
            <a:ext cx="107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Unidades 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3269520" y="1192320"/>
            <a:ext cx="745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Prima @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479480" y="1192320"/>
            <a:ext cx="906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Loss Rat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5573160" y="1192320"/>
            <a:ext cx="1448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Siniestros Brut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278840" y="1192320"/>
            <a:ext cx="73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Grand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8331120" y="1192320"/>
            <a:ext cx="1151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Siniestralida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74360" y="1371600"/>
            <a:ext cx="340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Añ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1841400" y="1371600"/>
            <a:ext cx="927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Exposi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2993760" y="1371600"/>
            <a:ext cx="1331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150 Por Unida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4578840" y="1371600"/>
            <a:ext cx="73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Indust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515560" y="1371600"/>
            <a:ext cx="1600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@ LR de Indust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248240" y="1371600"/>
            <a:ext cx="842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Siniestr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8604720" y="1371600"/>
            <a:ext cx="57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Basi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707400" y="1663560"/>
            <a:ext cx="42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642560" y="1663560"/>
            <a:ext cx="543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92.9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707400" y="1913040"/>
            <a:ext cx="42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642560" y="1913040"/>
            <a:ext cx="543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94.2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707400" y="2162160"/>
            <a:ext cx="42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016360" y="2162160"/>
            <a:ext cx="587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70,93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153600" y="2162160"/>
            <a:ext cx="96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10,639,57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4642560" y="2162160"/>
            <a:ext cx="543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89.9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936400" y="2162160"/>
            <a:ext cx="854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9,564,97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707400" y="2411280"/>
            <a:ext cx="42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016360" y="2411280"/>
            <a:ext cx="587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90,3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153600" y="2411280"/>
            <a:ext cx="96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13,545,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4642560" y="2411280"/>
            <a:ext cx="543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86.2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836320" y="2411280"/>
            <a:ext cx="96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11,675,79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707400" y="2662200"/>
            <a:ext cx="42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2016360" y="2662200"/>
            <a:ext cx="587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99,33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153600" y="2662200"/>
            <a:ext cx="96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14,899,5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4642560" y="2662200"/>
            <a:ext cx="543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86.6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836320" y="2662200"/>
            <a:ext cx="96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12,902,96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707400" y="2911320"/>
            <a:ext cx="42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915920" y="2911320"/>
            <a:ext cx="69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109,26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153600" y="2911320"/>
            <a:ext cx="96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16,389,45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4642560" y="2911320"/>
            <a:ext cx="543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91.0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836320" y="2911320"/>
            <a:ext cx="96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14,914,4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82160" y="3281400"/>
            <a:ext cx="152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2006 Proyectad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915920" y="3281400"/>
            <a:ext cx="69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120,18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3153600" y="3281400"/>
            <a:ext cx="96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18,028,39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642560" y="3281400"/>
            <a:ext cx="543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90.1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5836320" y="3281400"/>
            <a:ext cx="96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16,249,59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63720" y="3281400"/>
            <a:ext cx="854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7,290,84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8546400" y="3281400"/>
            <a:ext cx="854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8,958,74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97280" y="3695760"/>
            <a:ext cx="68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Std De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4742640" y="3695760"/>
            <a:ext cx="43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3.9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6095880" y="3695760"/>
            <a:ext cx="69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704,04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263720" y="3695760"/>
            <a:ext cx="854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1,924,25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705880" y="3695760"/>
            <a:ext cx="69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447,93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198720" y="3944880"/>
            <a:ext cx="264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C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4742640" y="3944880"/>
            <a:ext cx="43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4.3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385680" y="3944880"/>
            <a:ext cx="43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4.3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7611120" y="3944880"/>
            <a:ext cx="543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26.4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8995680" y="3944880"/>
            <a:ext cx="43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5.0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112680" y="1606680"/>
            <a:ext cx="9374400" cy="14040"/>
          </a:xfrm>
          <a:prstGeom prst="rect">
            <a:avLst/>
          </a:prstGeom>
          <a:solidFill>
            <a:srgbClr val="6ba7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287280" y="4638600"/>
            <a:ext cx="90248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82600" indent="-282600" algn="just">
              <a:lnSpc>
                <a:spcPct val="90000"/>
              </a:lnSpc>
              <a:spcAft>
                <a:spcPts val="1250"/>
              </a:spcAft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siniestralidad básica en general tien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enor variabilida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que la de grandes siniestros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7720" y="528336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90000"/>
              </a:lnSpc>
              <a:spcAft>
                <a:spcPts val="499"/>
              </a:spcAft>
              <a:buClr>
                <a:srgbClr val="7db1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Se estimo que será mayor a la variabilidad de la industria dado que los datos contables suelen ser mas “uniform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66560" y="187200"/>
            <a:ext cx="8872560" cy="34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Black"/>
              </a:rPr>
              <a:t>Separación de siniestros brutos esperados en dos componentes: grandes siniestros y siniestralidad bás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5B301-EAE8-4890-BA3E-6D9DE11AF3BB}" type="slidenum">
              <a:t>25</a:t>
            </a:fld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9" name=""/>
          <p:cNvGrpSpPr/>
          <p:nvPr/>
        </p:nvGrpSpPr>
        <p:grpSpPr>
          <a:xfrm>
            <a:off x="747720" y="3510000"/>
            <a:ext cx="4294080" cy="1653840"/>
            <a:chOff x="747720" y="3510000"/>
            <a:chExt cx="4294080" cy="1653840"/>
          </a:xfrm>
        </p:grpSpPr>
        <p:sp>
          <p:nvSpPr>
            <p:cNvPr id="860" name=""/>
            <p:cNvSpPr/>
            <p:nvPr/>
          </p:nvSpPr>
          <p:spPr>
            <a:xfrm>
              <a:off x="747720" y="3510000"/>
              <a:ext cx="4294080" cy="1653840"/>
            </a:xfrm>
            <a:prstGeom prst="rect">
              <a:avLst/>
            </a:prstGeom>
            <a:solidFill>
              <a:srgbClr val="ebf3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33400" y="3554280"/>
              <a:ext cx="4145040" cy="1466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1520" indent="-101520">
                <a:lnSpc>
                  <a:spcPct val="95000"/>
                </a:lnSpc>
                <a:spcAft>
                  <a:spcPts val="561"/>
                </a:spcAft>
                <a:buClr>
                  <a:srgbClr val="44704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Para grandes siniestr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01520" indent="-101520">
                <a:lnSpc>
                  <a:spcPct val="95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Los grandes siniestros son simulados individualmente de manera que varias estructuras de reaseguro XL se puedan aplicar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2" name="PlaceHolder 1"/>
          <p:cNvSpPr>
            <a:spLocks noGrp="1"/>
          </p:cNvSpPr>
          <p:nvPr>
            <p:ph/>
          </p:nvPr>
        </p:nvSpPr>
        <p:spPr>
          <a:xfrm>
            <a:off x="471600" y="3100320"/>
            <a:ext cx="409896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 algn="just">
              <a:lnSpc>
                <a:spcPct val="95000"/>
              </a:lnSpc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Creamos dos </a:t>
            </a: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“loss causes”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466560" y="187200"/>
            <a:ext cx="8877600" cy="34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Parametrizando el Modelo de Simul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67560" y="1084320"/>
            <a:ext cx="721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Ya estamos listos pa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47044"/>
                </a:solidFill>
                <a:latin typeface="Arial"/>
              </a:rPr>
              <a:t>traer los parámetros a un modelo de simulacio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465120" y="2004840"/>
            <a:ext cx="913608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2600" indent="-282600" algn="just">
              <a:lnSpc>
                <a:spcPct val="95000"/>
              </a:lnSpc>
              <a:spcAft>
                <a:spcPts val="388"/>
              </a:spcAft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Creamos experiencia siniestral usando </a:t>
            </a: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“loss causes”</a:t>
            </a: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263520">
              <a:lnSpc>
                <a:spcPct val="95000"/>
              </a:lnSpc>
              <a:spcAft>
                <a:spcPts val="374"/>
              </a:spcAft>
              <a:buClr>
                <a:srgbClr val="7db17d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Un “loss cause” es simplemente una combinación de distribución de intensidad, un número esperado de siniestros y un perfil o limite de poliza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471600" y="5386320"/>
            <a:ext cx="82058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2600" indent="-282600" algn="just">
              <a:spcAft>
                <a:spcPts val="1312"/>
              </a:spcAft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También introducimos información financiera como la prima bruta y los gastos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(asumidos en un 10% de la prima brut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Aft>
                <a:spcPts val="1312"/>
              </a:spcAft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234040" y="3510000"/>
            <a:ext cx="3959280" cy="1653840"/>
            <a:chOff x="5234040" y="3510000"/>
            <a:chExt cx="3959280" cy="1653840"/>
          </a:xfrm>
        </p:grpSpPr>
        <p:sp>
          <p:nvSpPr>
            <p:cNvPr id="868" name=""/>
            <p:cNvSpPr/>
            <p:nvPr/>
          </p:nvSpPr>
          <p:spPr>
            <a:xfrm>
              <a:off x="5234040" y="3510000"/>
              <a:ext cx="3959280" cy="1653840"/>
            </a:xfrm>
            <a:prstGeom prst="rect">
              <a:avLst/>
            </a:prstGeom>
            <a:solidFill>
              <a:srgbClr val="c7d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292720" y="3554280"/>
              <a:ext cx="3570120" cy="1466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1520" indent="-101520">
                <a:lnSpc>
                  <a:spcPct val="95000"/>
                </a:lnSpc>
                <a:spcAft>
                  <a:spcPts val="561"/>
                </a:spcAft>
                <a:buClr>
                  <a:srgbClr val="ffffff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Para la siniestralidad bás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01520" indent="-101520">
                <a:lnSpc>
                  <a:spcPct val="95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La siniestralidad básica es simulada en el total ya que no se cede a ninguna estructura de reaseguro propuesta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59418-0F80-404B-9BB9-771E35717229}" type="slidenum">
              <a:t>26</a:t>
            </a:fld>
          </a:p>
        </p:txBody>
      </p:sp>
    </p:spTree>
  </p:cSld>
  <p:transition>
    <p:wipe dir="r"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0" dur="500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3" dur="500"/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8" dur="5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2" dur="500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0" name="BodyText" descr=""/>
          <p:cNvPicPr/>
          <p:nvPr/>
        </p:nvPicPr>
        <p:blipFill>
          <a:blip r:embed="rId1"/>
          <a:stretch/>
        </p:blipFill>
        <p:spPr>
          <a:xfrm>
            <a:off x="947880" y="996840"/>
            <a:ext cx="7696080" cy="57708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99999"/>
            </a:outerShdw>
          </a:effectLst>
        </p:spPr>
      </p:pic>
      <p:sp>
        <p:nvSpPr>
          <p:cNvPr id="871" name=""/>
          <p:cNvSpPr/>
          <p:nvPr/>
        </p:nvSpPr>
        <p:spPr>
          <a:xfrm>
            <a:off x="946080" y="1736640"/>
            <a:ext cx="1656000" cy="781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2575080" y="2268360"/>
            <a:ext cx="5719680" cy="2484720"/>
            <a:chOff x="2575080" y="2268360"/>
            <a:chExt cx="5719680" cy="2484720"/>
          </a:xfrm>
        </p:grpSpPr>
        <p:sp>
          <p:nvSpPr>
            <p:cNvPr id="873" name=""/>
            <p:cNvSpPr/>
            <p:nvPr/>
          </p:nvSpPr>
          <p:spPr>
            <a:xfrm flipH="1" flipV="1">
              <a:off x="2575080" y="2268360"/>
              <a:ext cx="3192480" cy="1260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284800" y="3346560"/>
              <a:ext cx="3009960" cy="1406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505480" y="3591000"/>
              <a:ext cx="2566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ff0000"/>
                  </a:solidFill>
                  <a:latin typeface="Arial"/>
                </a:rPr>
                <a:t>Este grupo representa la </a:t>
              </a:r>
              <a:r>
                <a:rPr b="1" i="1" lang="es-ES" sz="1800" spc="-1" strike="noStrike">
                  <a:solidFill>
                    <a:srgbClr val="ff0000"/>
                  </a:solidFill>
                  <a:latin typeface="Arial"/>
                </a:rPr>
                <a:t>siniestralidad bruta</a:t>
              </a:r>
              <a:r>
                <a:rPr b="0" i="1" lang="es-ES" sz="1800" spc="-1" strike="noStrike">
                  <a:solidFill>
                    <a:srgbClr val="ff0000"/>
                  </a:solidFill>
                  <a:latin typeface="Arial"/>
                </a:rPr>
                <a:t> en dos componen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6" name=""/>
          <p:cNvSpPr/>
          <p:nvPr/>
        </p:nvSpPr>
        <p:spPr>
          <a:xfrm>
            <a:off x="466560" y="187200"/>
            <a:ext cx="8877600" cy="34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Parametrizando el Modelo de Simul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 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BB7D9-CBDF-4B06-8F6E-0B0F41B7DC19}" type="slidenum">
              <a:t>27</a:t>
            </a:fld>
          </a:p>
        </p:txBody>
      </p:sp>
    </p:spTree>
  </p:cSld>
  <p:transition>
    <p:wipe dir="r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9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BodyText" descr=""/>
          <p:cNvPicPr/>
          <p:nvPr/>
        </p:nvPicPr>
        <p:blipFill>
          <a:blip r:embed="rId1"/>
          <a:stretch/>
        </p:blipFill>
        <p:spPr>
          <a:xfrm>
            <a:off x="947880" y="996840"/>
            <a:ext cx="7707240" cy="57722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99999"/>
            </a:outerShdw>
          </a:effectLst>
        </p:spPr>
      </p:pic>
      <p:sp>
        <p:nvSpPr>
          <p:cNvPr id="878" name=""/>
          <p:cNvSpPr/>
          <p:nvPr/>
        </p:nvSpPr>
        <p:spPr>
          <a:xfrm>
            <a:off x="768240" y="1484280"/>
            <a:ext cx="813600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720720" y="1639800"/>
            <a:ext cx="8319960" cy="43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466560" y="187200"/>
            <a:ext cx="8877600" cy="34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Parametrizando el Modelo de Simul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ensidad Grandes Sinies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29069-D2D8-4881-B9A8-A5C62220064A}" type="slidenum">
              <a:t>28</a:t>
            </a:fld>
          </a:p>
        </p:txBody>
      </p:sp>
    </p:spTree>
  </p:cSld>
  <p:transition>
    <p:wipe dir="r"/>
  </p:transition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0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6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768240" y="1484280"/>
            <a:ext cx="813600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20720" y="1639800"/>
            <a:ext cx="8319960" cy="43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BodyText" descr=""/>
          <p:cNvPicPr/>
          <p:nvPr/>
        </p:nvPicPr>
        <p:blipFill>
          <a:blip r:embed="rId1"/>
          <a:stretch/>
        </p:blipFill>
        <p:spPr>
          <a:xfrm>
            <a:off x="947880" y="996840"/>
            <a:ext cx="7707240" cy="57722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99999"/>
            </a:outerShdw>
          </a:effectLst>
        </p:spPr>
      </p:pic>
      <p:sp>
        <p:nvSpPr>
          <p:cNvPr id="884" name=""/>
          <p:cNvSpPr/>
          <p:nvPr/>
        </p:nvSpPr>
        <p:spPr>
          <a:xfrm>
            <a:off x="466560" y="187200"/>
            <a:ext cx="8877600" cy="34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Parametrizando el Modelo de Simul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recuencia Grandes Sinies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122F9-35A2-484F-9EC3-8EDD0D23A398}" type="slidenum">
              <a:t>29</a:t>
            </a:fld>
          </a:p>
        </p:txBody>
      </p:sp>
    </p:spTree>
  </p:cSld>
  <p:transition>
    <p:wipe dir="r"/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0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8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68240" y="1484280"/>
            <a:ext cx="813600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20720" y="1639800"/>
            <a:ext cx="8319960" cy="43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6560" y="347400"/>
            <a:ext cx="5857920" cy="34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Por qu</a:t>
            </a:r>
            <a:r>
              <a:rPr b="0" lang="es-AR" sz="2400" spc="-1" strike="noStrike">
                <a:solidFill>
                  <a:srgbClr val="000000"/>
                </a:solidFill>
                <a:latin typeface="Arial Black"/>
              </a:rPr>
              <a:t>é</a:t>
            </a: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 un análisis actuarial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6560" y="1206000"/>
            <a:ext cx="8234640" cy="7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nálisis técni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tiene cada vez mayor importancia en las decisiones de reasegur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8400" y="2211480"/>
            <a:ext cx="8205840" cy="37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2600" indent="-282600">
              <a:lnSpc>
                <a:spcPct val="90000"/>
              </a:lnSpc>
              <a:spcBef>
                <a:spcPts val="1500"/>
              </a:spcBef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erés por parte de las Agencias de Rating y Entes Regulatori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500"/>
              </a:spcBef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erramientas de análisis cada vez más sofisticad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500"/>
              </a:spcBef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yor requerimiento de márgenes técnic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500"/>
              </a:spcBef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mpetencia cada vez más agresiv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500"/>
              </a:spcBef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stemas de seguros en LAC más madur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500"/>
              </a:spcBef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yor interés del Board sobre decisiones de reasegur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500"/>
              </a:spcBef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reaseguradores disponen de similar tecnologí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0D078-837E-4F21-854D-E8F59E98D5FF}" type="slidenum">
              <a:t>3</a:t>
            </a:fld>
          </a:p>
        </p:txBody>
      </p:sp>
    </p:spTree>
  </p:cSld>
  <p:transition>
    <p:wipe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ba76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ba76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ba76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ba76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ba76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ba76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1" dur="1" fill="hold"/>
                                  <p:tgtEl>
                                    <p:spTgt spid="10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ba76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5" name="BodyText" descr=""/>
          <p:cNvPicPr/>
          <p:nvPr/>
        </p:nvPicPr>
        <p:blipFill>
          <a:blip r:embed="rId1"/>
          <a:stretch/>
        </p:blipFill>
        <p:spPr>
          <a:xfrm>
            <a:off x="947880" y="1001880"/>
            <a:ext cx="7707240" cy="57672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99999"/>
            </a:outerShdw>
          </a:effectLst>
        </p:spPr>
      </p:pic>
      <p:sp>
        <p:nvSpPr>
          <p:cNvPr id="886" name=""/>
          <p:cNvSpPr/>
          <p:nvPr/>
        </p:nvSpPr>
        <p:spPr>
          <a:xfrm>
            <a:off x="768240" y="1484280"/>
            <a:ext cx="813600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720720" y="1639800"/>
            <a:ext cx="8319960" cy="43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466560" y="187200"/>
            <a:ext cx="8877600" cy="34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Parametrizando el Modelo de Simul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formación de Primas y Ga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26A2F-B863-43DD-8152-453C02F49662}" type="slidenum">
              <a:t>30</a:t>
            </a:fld>
          </a:p>
        </p:txBody>
      </p:sp>
    </p:spTree>
  </p:cSld>
  <p:transition>
    <p:wipe dir="r"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0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768240" y="1484280"/>
            <a:ext cx="813600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720720" y="1639800"/>
            <a:ext cx="8319960" cy="43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66560" y="347760"/>
            <a:ext cx="9134640" cy="34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Creando estructuras de reaseg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46040" y="1204920"/>
            <a:ext cx="876780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2600" indent="-282600" algn="just">
              <a:lnSpc>
                <a:spcPct val="90000"/>
              </a:lnSpc>
              <a:spcAft>
                <a:spcPts val="1925"/>
              </a:spcAft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ara poder estimar la retencion optima, en nuestro ejemplo, construimos una serie de coberturas de exceso de perdi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12800" y="2279520"/>
            <a:ext cx="844236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90000"/>
              </a:lnSpc>
              <a:spcAft>
                <a:spcPts val="751"/>
              </a:spcAft>
              <a:buClr>
                <a:srgbClr val="7db1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La retención menor es $75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183960">
              <a:lnSpc>
                <a:spcPct val="90000"/>
              </a:lnSpc>
              <a:spcAft>
                <a:spcPts val="499"/>
              </a:spcAft>
              <a:buClr>
                <a:srgbClr val="7db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a es la menor retención que podemos analizar en este ejemplo, dada la información histórica de grandes siniestros que disponiamos para esta carte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183960">
              <a:lnSpc>
                <a:spcPct val="90000"/>
              </a:lnSpc>
              <a:spcAft>
                <a:spcPts val="1500"/>
              </a:spcAft>
              <a:buClr>
                <a:srgbClr val="7db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retención mayor es $25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Aft>
                <a:spcPts val="499"/>
              </a:spcAft>
              <a:buClr>
                <a:srgbClr val="7db1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Vamos a analizar diferentes retenciones aumentando de a $25,000 entre dichos val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559EE-E2E9-4C8C-859D-10BED0B84137}" type="slidenum">
              <a:t>31</a:t>
            </a:fld>
          </a:p>
        </p:txBody>
      </p:sp>
    </p:spTree>
  </p:cSld>
  <p:transition>
    <p:wipe dir="r"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2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2" dur="500"/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8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8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bd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8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768240" y="1484280"/>
            <a:ext cx="813600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20720" y="1639800"/>
            <a:ext cx="8319960" cy="43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BodyText" descr=""/>
          <p:cNvPicPr/>
          <p:nvPr/>
        </p:nvPicPr>
        <p:blipFill>
          <a:blip r:embed="rId1"/>
          <a:stretch/>
        </p:blipFill>
        <p:spPr>
          <a:xfrm>
            <a:off x="947880" y="1001880"/>
            <a:ext cx="7737480" cy="580356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999999"/>
            </a:outerShdw>
          </a:effectLst>
        </p:spPr>
      </p:pic>
      <p:sp>
        <p:nvSpPr>
          <p:cNvPr id="897" name=""/>
          <p:cNvSpPr/>
          <p:nvPr/>
        </p:nvSpPr>
        <p:spPr>
          <a:xfrm>
            <a:off x="987480" y="2414520"/>
            <a:ext cx="1663560" cy="603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2644560" y="2800080"/>
            <a:ext cx="5518440" cy="2470320"/>
            <a:chOff x="2644560" y="2800080"/>
            <a:chExt cx="5518440" cy="2470320"/>
          </a:xfrm>
        </p:grpSpPr>
        <p:sp>
          <p:nvSpPr>
            <p:cNvPr id="899" name=""/>
            <p:cNvSpPr/>
            <p:nvPr/>
          </p:nvSpPr>
          <p:spPr>
            <a:xfrm flipH="1" flipV="1">
              <a:off x="2644560" y="2800080"/>
              <a:ext cx="2912760" cy="1028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502240" y="3054240"/>
              <a:ext cx="2660760" cy="22161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762520" y="3154320"/>
              <a:ext cx="214020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0000"/>
                  </a:solidFill>
                  <a:latin typeface="Arial"/>
                </a:rPr>
                <a:t>Este grupo representa la siniestralidad bruta y también la que corresponde al </a:t>
              </a:r>
              <a:r>
                <a:rPr b="1" lang="es-ES" sz="1800" spc="-1" strike="noStrike">
                  <a:solidFill>
                    <a:srgbClr val="ff0000"/>
                  </a:solidFill>
                  <a:latin typeface="Arial"/>
                </a:rPr>
                <a:t>contrato de reasegur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2" name=""/>
          <p:cNvSpPr/>
          <p:nvPr/>
        </p:nvSpPr>
        <p:spPr>
          <a:xfrm>
            <a:off x="466560" y="187200"/>
            <a:ext cx="8877600" cy="34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Parametrizando el Modelo de Simul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5E4D5-A787-4617-98A3-0A6F21B5FDFA}" type="slidenum">
              <a:t>32</a:t>
            </a:fld>
          </a:p>
        </p:txBody>
      </p:sp>
    </p:spTree>
  </p:cSld>
  <p:transition>
    <p:wipe dir="r"/>
  </p:transition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6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6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768240" y="1484280"/>
            <a:ext cx="813600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720720" y="1639800"/>
            <a:ext cx="8319960" cy="43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BodyText" descr=""/>
          <p:cNvPicPr/>
          <p:nvPr/>
        </p:nvPicPr>
        <p:blipFill>
          <a:blip r:embed="rId1"/>
          <a:stretch/>
        </p:blipFill>
        <p:spPr>
          <a:xfrm>
            <a:off x="947880" y="1001880"/>
            <a:ext cx="7726320" cy="5794200"/>
          </a:xfrm>
          <a:prstGeom prst="rect">
            <a:avLst/>
          </a:prstGeom>
          <a:ln w="0">
            <a:noFill/>
          </a:ln>
        </p:spPr>
      </p:pic>
      <p:sp>
        <p:nvSpPr>
          <p:cNvPr id="906" name=""/>
          <p:cNvSpPr/>
          <p:nvPr/>
        </p:nvSpPr>
        <p:spPr>
          <a:xfrm>
            <a:off x="466560" y="187200"/>
            <a:ext cx="8877600" cy="34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Parametrizando el Modelo de Simul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corporando las características del cont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EB9DF-7583-4C01-88E5-DED0D97E52D6}" type="slidenum">
              <a:t>33</a:t>
            </a:fld>
          </a:p>
        </p:txBody>
      </p:sp>
    </p:spTree>
  </p:cSld>
  <p:transition>
    <p:wipe dir="r"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3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466560" y="347760"/>
            <a:ext cx="9134640" cy="34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Sim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768240" y="1484280"/>
            <a:ext cx="813600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720720" y="1639800"/>
            <a:ext cx="8319960" cy="43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/>
          </p:nvPr>
        </p:nvSpPr>
        <p:spPr>
          <a:xfrm>
            <a:off x="445680" y="1204560"/>
            <a:ext cx="87073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 algn="just">
              <a:lnSpc>
                <a:spcPct val="90000"/>
              </a:lnSpc>
              <a:spcAft>
                <a:spcPts val="1925"/>
              </a:spcAft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n el modelo de simulacion creamos 100,000 escenarios aleatorios de experiencia an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90000"/>
              </a:lnSpc>
              <a:spcAft>
                <a:spcPts val="1925"/>
              </a:spcAft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 modelo va a calcular los recuperos de cada estructura en cada escenari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90000"/>
              </a:lnSpc>
              <a:spcAft>
                <a:spcPts val="1925"/>
              </a:spcAft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 este proceso vamos a poder obtener no solo los siniestros esperados brutos, cedidos y retenidos, sino también la probabilidad de ocurrencia de diferentes niveles de siniestralid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90000"/>
              </a:lnSpc>
              <a:spcAft>
                <a:spcPts val="1925"/>
              </a:spcAft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tas probabilidades son esenciales para estimar precios para cada contrato de reaseguro a compar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90000"/>
              </a:lnSpc>
              <a:spcAft>
                <a:spcPts val="1925"/>
              </a:spcAft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Una vez que los precios de los contratos fueron estimados, podemos estimar el ingreso neto esperado de cada estructura y las probabilidades asociadas a obtener diferentes niveles de rentabilida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00CA4-C650-444F-8A49-E9D9BDE2036C}" type="slidenum">
              <a:t>34</a:t>
            </a:fld>
          </a:p>
        </p:txBody>
      </p:sp>
    </p:spTree>
  </p:cSld>
  <p:transition>
    <p:wipe dir="r"/>
  </p:transition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5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5" dur="500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0" dur="500"/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2b48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6" dur="500"/>
                                        <p:tgtEl>
                                          <p:spTgt spid="9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2b48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2" dur="500"/>
                                        <p:tgtEl>
                                          <p:spTgt spid="9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2b48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8" dur="500"/>
                                        <p:tgtEl>
                                          <p:spTgt spid="9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2b48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2" dur="1" fill="hold"/>
                                  <p:tgtEl>
                                    <p:spTgt spid="9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2b48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/>
          <p:nvPr/>
        </p:nvSpPr>
        <p:spPr>
          <a:xfrm>
            <a:off x="768240" y="1484280"/>
            <a:ext cx="813600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720720" y="1639800"/>
            <a:ext cx="8319960" cy="43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3" name="BodyText" descr=""/>
          <p:cNvPicPr/>
          <p:nvPr/>
        </p:nvPicPr>
        <p:blipFill>
          <a:blip r:embed="rId1"/>
          <a:stretch/>
        </p:blipFill>
        <p:spPr>
          <a:xfrm>
            <a:off x="947880" y="1001880"/>
            <a:ext cx="7707240" cy="5779800"/>
          </a:xfrm>
          <a:prstGeom prst="rect">
            <a:avLst/>
          </a:prstGeom>
          <a:ln w="0">
            <a:noFill/>
          </a:ln>
        </p:spPr>
      </p:pic>
      <p:sp>
        <p:nvSpPr>
          <p:cNvPr id="914" name=""/>
          <p:cNvSpPr/>
          <p:nvPr/>
        </p:nvSpPr>
        <p:spPr>
          <a:xfrm>
            <a:off x="466560" y="144360"/>
            <a:ext cx="8877600" cy="34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Simulación de siniestros </a:t>
            </a:r>
            <a:br>
              <a:rPr sz="20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 de distribución de siniestros ced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91E1A-83D3-4AFD-AF67-2DDF98350789}" type="slidenum">
              <a:t>35</a:t>
            </a:fld>
          </a:p>
        </p:txBody>
      </p:sp>
    </p:spTree>
  </p:cSld>
  <p:transition>
    <p:wipe dir="r"/>
  </p:transition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0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9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"/>
          <p:cNvSpPr/>
          <p:nvPr/>
        </p:nvSpPr>
        <p:spPr>
          <a:xfrm>
            <a:off x="466560" y="144360"/>
            <a:ext cx="8877600" cy="34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Cotización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mo se estiman los preci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1055520" y="1268280"/>
            <a:ext cx="76010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/>
          </p:nvPr>
        </p:nvSpPr>
        <p:spPr>
          <a:xfrm>
            <a:off x="471240" y="1190160"/>
            <a:ext cx="8589960" cy="50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9720" indent="-279720" algn="just">
              <a:lnSpc>
                <a:spcPct val="90000"/>
              </a:lnSpc>
              <a:spcAft>
                <a:spcPts val="2200"/>
              </a:spcAft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Utiliza Cotización en base a Inversión Equivalente 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(“Investment Equivalent Reinsurance Pricing”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 algn="just">
              <a:lnSpc>
                <a:spcPct val="90000"/>
              </a:lnSpc>
              <a:spcAft>
                <a:spcPts val="2200"/>
              </a:spcAft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te procedimiento se basa en mantener capital separadamente para un contrato y el retorno esperado “perdido” al tener ese capital separad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 algn="just">
              <a:lnSpc>
                <a:spcPct val="90000"/>
              </a:lnSpc>
              <a:spcAft>
                <a:spcPts val="550"/>
              </a:spcAft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 calcula el recargo basado e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7280" indent="0" algn="just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Tasa libre de ries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7280" indent="0" algn="just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Tasa de rentabilidad esperada sobre el capit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7280" indent="0" algn="just">
              <a:lnSpc>
                <a:spcPct val="90000"/>
              </a:lnSpc>
              <a:spcAft>
                <a:spcPts val="1749"/>
              </a:spcAft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Nivel de Segur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 algn="just">
              <a:lnSpc>
                <a:spcPct val="90000"/>
              </a:lnSpc>
              <a:spcAft>
                <a:spcPts val="2200"/>
              </a:spcAft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 prima estimada esta basada en los siniestros esperados, el recargo por riesgo calculado, y los gastos de reasegu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 algn="just">
              <a:lnSpc>
                <a:spcPct val="90000"/>
              </a:lnSpc>
              <a:spcAft>
                <a:spcPts val="1925"/>
              </a:spcAft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te precio nos da una referencia objetiva, pero de ninguna manera interpreta los precios de mercad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EEE80-4B53-44ED-A457-15B6C4C983DE}" type="slidenum">
              <a:t>36</a:t>
            </a:fld>
          </a:p>
        </p:txBody>
      </p:sp>
    </p:spTree>
  </p:cSld>
  <p:transition>
    <p:wipe dir="r"/>
  </p:transition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1" dur="500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6" dur="500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bd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2" dur="500"/>
                                        <p:tgtEl>
                                          <p:spTgt spid="9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5" dur="500"/>
                                        <p:tgtEl>
                                          <p:spTgt spid="9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8" dur="500"/>
                                        <p:tgtEl>
                                          <p:spTgt spid="9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1" dur="500"/>
                                        <p:tgtEl>
                                          <p:spTgt spid="9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bd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7" dur="500"/>
                                        <p:tgtEl>
                                          <p:spTgt spid="9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bd91"/>
                                </p:to>
                              </p:animClr>
                              <p:animClr clrSpc="rgb">
                                <p:cBhvr>
                                  <p:cTn id="8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bd91"/>
                                </p:to>
                              </p:animClr>
                              <p:animClr clrSpc="rgb">
                                <p:cBhvr>
                                  <p:cTn id="8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bd91"/>
                                </p:to>
                              </p:animClr>
                              <p:animClr clrSpc="rgb">
                                <p:cBhvr>
                                  <p:cTn id="8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bd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6" dur="500"/>
                                        <p:tgtEl>
                                          <p:spTgt spid="9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bd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80" dur="1" fill="hold"/>
                                  <p:tgtEl>
                                    <p:spTgt spid="91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bd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11280" y="304920"/>
            <a:ext cx="74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Análisis Estadístico &amp; Pricing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Cotizació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9" name="BodyText" descr=""/>
          <p:cNvPicPr/>
          <p:nvPr/>
        </p:nvPicPr>
        <p:blipFill>
          <a:blip r:embed="rId1"/>
          <a:stretch/>
        </p:blipFill>
        <p:spPr>
          <a:xfrm>
            <a:off x="1231920" y="1003320"/>
            <a:ext cx="7338960" cy="5503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19D53-D42C-43DF-A567-5CA74C45C964}" type="slidenum">
              <a:t>37</a:t>
            </a:fld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/>
          <p:nvPr/>
        </p:nvSpPr>
        <p:spPr>
          <a:xfrm>
            <a:off x="466560" y="144360"/>
            <a:ext cx="8877600" cy="34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Comparación de resulta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bajo diferentes estructuras de reaseg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768240" y="1484280"/>
            <a:ext cx="813600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720720" y="1639800"/>
            <a:ext cx="8319960" cy="43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/>
          </p:nvPr>
        </p:nvSpPr>
        <p:spPr>
          <a:xfrm>
            <a:off x="471240" y="1190160"/>
            <a:ext cx="865188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 algn="just">
              <a:spcAft>
                <a:spcPts val="1749"/>
              </a:spcAft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criterio de selección de la mejor estructura será tom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aquella que da el mayor ingreso neto esperado, con la menor volatilidad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Aft>
                <a:spcPts val="1749"/>
              </a:spcAft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tro criterio de decisión es posible y podría llevarnos a otra conclusió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Aft>
                <a:spcPts val="1188"/>
              </a:spcAft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demos comparar gráficamente las distribuciones de ingreso neto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185400" algn="just">
              <a:spcAft>
                <a:spcPts val="1125"/>
              </a:spcAft>
              <a:buClr>
                <a:srgbClr val="a2c8a2"/>
              </a:buClr>
              <a:buSzPct val="6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Generalmente, curvas más agudas indican menor variabilidad del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185400" algn="just">
              <a:spcAft>
                <a:spcPts val="1125"/>
              </a:spcAft>
              <a:buClr>
                <a:srgbClr val="a2c8a2"/>
              </a:buClr>
              <a:buSzPct val="6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urvas que están más desplazadas a la izquierda, indican mayor ingreso esper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4560" indent="-255600" algn="just">
              <a:spcAft>
                <a:spcPts val="1576"/>
              </a:spcAft>
              <a:buClr>
                <a:srgbClr val="a2c8a2"/>
              </a:buClr>
              <a:buSzPct val="60000"/>
              <a:buFont typeface="Arial"/>
              <a:buChar char="•"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n el gráfico, </a:t>
            </a:r>
            <a:r>
              <a:rPr b="1" i="1" lang="es-ES" sz="1800" spc="-1" strike="noStrike">
                <a:solidFill>
                  <a:srgbClr val="447044"/>
                </a:solidFill>
                <a:latin typeface="Arial"/>
              </a:rPr>
              <a:t>perdida negativa = ganancia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!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Aft>
                <a:spcPts val="1250"/>
              </a:spcAft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ste caso, se ve que la curva de resultados sin reaseguro esta bien a la derecha, indicando que la rentabilidad es mínima al no comprar reaseg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B744B-C08E-4843-918F-748FD8BE7BD1}" type="slidenum">
              <a:t>38</a:t>
            </a:fld>
          </a:p>
        </p:txBody>
      </p:sp>
    </p:spTree>
  </p:cSld>
  <p:transition>
    <p:wipe dir="r"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0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7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500"/>
                            </p:stCondLst>
                            <p:childTnLst>
                              <p:par>
                                <p:cTn id="8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7" dur="500"/>
                                        <p:tgtEl>
                                          <p:spTgt spid="9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2" dur="500"/>
                                        <p:tgtEl>
                                          <p:spTgt spid="9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bd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8" dur="500"/>
                                        <p:tgtEl>
                                          <p:spTgt spid="9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1" dur="500"/>
                                        <p:tgtEl>
                                          <p:spTgt spid="9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4" dur="500"/>
                                        <p:tgtEl>
                                          <p:spTgt spid="9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7" dur="500"/>
                                        <p:tgtEl>
                                          <p:spTgt spid="9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bd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3" dur="500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bd91"/>
                                </p:to>
                              </p:animClr>
                              <p:animClr clrSpc="rgb">
                                <p:cBhvr>
                                  <p:cTn id="9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bd91"/>
                                </p:to>
                              </p:animClr>
                              <p:animClr clrSpc="rgb">
                                <p:cBhvr>
                                  <p:cTn id="9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bd91"/>
                                </p:to>
                              </p:animClr>
                              <p:animClr clrSpc="rgb">
                                <p:cBhvr>
                                  <p:cTn id="9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bd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30" dur="1" fill="hold"/>
                                  <p:tgtEl>
                                    <p:spTgt spid="9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bd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BodyText" descr=""/>
          <p:cNvPicPr/>
          <p:nvPr/>
        </p:nvPicPr>
        <p:blipFill>
          <a:blip r:embed="rId1"/>
          <a:stretch/>
        </p:blipFill>
        <p:spPr>
          <a:xfrm>
            <a:off x="947880" y="1001880"/>
            <a:ext cx="7707240" cy="5771880"/>
          </a:xfrm>
          <a:prstGeom prst="rect">
            <a:avLst/>
          </a:prstGeom>
          <a:ln w="0">
            <a:noFill/>
          </a:ln>
        </p:spPr>
      </p:pic>
      <p:sp>
        <p:nvSpPr>
          <p:cNvPr id="925" name=""/>
          <p:cNvSpPr/>
          <p:nvPr/>
        </p:nvSpPr>
        <p:spPr>
          <a:xfrm>
            <a:off x="466560" y="144360"/>
            <a:ext cx="8877600" cy="34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Comparación de resulta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bajo diferentes estructuras de reaseg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56CA6-B3B5-4C18-BA43-7D0AB47CFC43}" type="slidenum">
              <a:t>39</a:t>
            </a:fld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6560" y="190440"/>
            <a:ext cx="6858000" cy="34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Qué tipo de preguntas se suelen hacer en materia de reaseguro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603600" y="2938320"/>
            <a:ext cx="1631880" cy="3519720"/>
            <a:chOff x="3603600" y="2938320"/>
            <a:chExt cx="1631880" cy="3519720"/>
          </a:xfrm>
        </p:grpSpPr>
        <p:sp>
          <p:nvSpPr>
            <p:cNvPr id="106" name=""/>
            <p:cNvSpPr/>
            <p:nvPr/>
          </p:nvSpPr>
          <p:spPr>
            <a:xfrm>
              <a:off x="4475160" y="4181400"/>
              <a:ext cx="587520" cy="819360"/>
            </a:xfrm>
            <a:custGeom>
              <a:avLst/>
              <a:gdLst/>
              <a:ahLst/>
              <a:rect l="l" t="t" r="r" b="b"/>
              <a:pathLst>
                <a:path w="741" h="1033">
                  <a:moveTo>
                    <a:pt x="41" y="0"/>
                  </a:moveTo>
                  <a:lnTo>
                    <a:pt x="193" y="18"/>
                  </a:lnTo>
                  <a:lnTo>
                    <a:pt x="349" y="46"/>
                  </a:lnTo>
                  <a:lnTo>
                    <a:pt x="513" y="138"/>
                  </a:lnTo>
                  <a:lnTo>
                    <a:pt x="630" y="207"/>
                  </a:lnTo>
                  <a:lnTo>
                    <a:pt x="705" y="305"/>
                  </a:lnTo>
                  <a:lnTo>
                    <a:pt x="741" y="362"/>
                  </a:lnTo>
                  <a:lnTo>
                    <a:pt x="670" y="529"/>
                  </a:lnTo>
                  <a:lnTo>
                    <a:pt x="559" y="631"/>
                  </a:lnTo>
                  <a:lnTo>
                    <a:pt x="425" y="706"/>
                  </a:lnTo>
                  <a:lnTo>
                    <a:pt x="355" y="751"/>
                  </a:lnTo>
                  <a:lnTo>
                    <a:pt x="233" y="774"/>
                  </a:lnTo>
                  <a:lnTo>
                    <a:pt x="228" y="820"/>
                  </a:lnTo>
                  <a:lnTo>
                    <a:pt x="321" y="861"/>
                  </a:lnTo>
                  <a:lnTo>
                    <a:pt x="455" y="896"/>
                  </a:lnTo>
                  <a:lnTo>
                    <a:pt x="582" y="965"/>
                  </a:lnTo>
                  <a:lnTo>
                    <a:pt x="531" y="1016"/>
                  </a:lnTo>
                  <a:lnTo>
                    <a:pt x="478" y="1033"/>
                  </a:lnTo>
                  <a:lnTo>
                    <a:pt x="402" y="958"/>
                  </a:lnTo>
                  <a:lnTo>
                    <a:pt x="286" y="912"/>
                  </a:lnTo>
                  <a:lnTo>
                    <a:pt x="193" y="878"/>
                  </a:lnTo>
                  <a:lnTo>
                    <a:pt x="193" y="810"/>
                  </a:lnTo>
                  <a:lnTo>
                    <a:pt x="210" y="736"/>
                  </a:lnTo>
                  <a:lnTo>
                    <a:pt x="268" y="706"/>
                  </a:lnTo>
                  <a:lnTo>
                    <a:pt x="455" y="631"/>
                  </a:lnTo>
                  <a:lnTo>
                    <a:pt x="559" y="517"/>
                  </a:lnTo>
                  <a:lnTo>
                    <a:pt x="635" y="397"/>
                  </a:lnTo>
                  <a:lnTo>
                    <a:pt x="617" y="339"/>
                  </a:lnTo>
                  <a:lnTo>
                    <a:pt x="559" y="270"/>
                  </a:lnTo>
                  <a:lnTo>
                    <a:pt x="420" y="173"/>
                  </a:lnTo>
                  <a:lnTo>
                    <a:pt x="251" y="138"/>
                  </a:lnTo>
                  <a:lnTo>
                    <a:pt x="140" y="132"/>
                  </a:lnTo>
                  <a:lnTo>
                    <a:pt x="41" y="132"/>
                  </a:lnTo>
                  <a:lnTo>
                    <a:pt x="0" y="69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447044"/>
            </a:solidFill>
            <a:ln w="0">
              <a:noFill/>
            </a:ln>
            <a:effectLst>
              <a:outerShdw dist="17819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24160" y="3390840"/>
              <a:ext cx="638280" cy="708120"/>
            </a:xfrm>
            <a:custGeom>
              <a:avLst/>
              <a:gdLst/>
              <a:ahLst/>
              <a:rect l="l" t="t" r="r" b="b"/>
              <a:pathLst>
                <a:path w="806" h="894">
                  <a:moveTo>
                    <a:pt x="420" y="206"/>
                  </a:moveTo>
                  <a:lnTo>
                    <a:pt x="349" y="115"/>
                  </a:lnTo>
                  <a:lnTo>
                    <a:pt x="250" y="46"/>
                  </a:lnTo>
                  <a:lnTo>
                    <a:pt x="162" y="0"/>
                  </a:lnTo>
                  <a:lnTo>
                    <a:pt x="92" y="12"/>
                  </a:lnTo>
                  <a:lnTo>
                    <a:pt x="41" y="64"/>
                  </a:lnTo>
                  <a:lnTo>
                    <a:pt x="0" y="219"/>
                  </a:lnTo>
                  <a:lnTo>
                    <a:pt x="16" y="397"/>
                  </a:lnTo>
                  <a:lnTo>
                    <a:pt x="58" y="568"/>
                  </a:lnTo>
                  <a:lnTo>
                    <a:pt x="104" y="700"/>
                  </a:lnTo>
                  <a:lnTo>
                    <a:pt x="192" y="838"/>
                  </a:lnTo>
                  <a:lnTo>
                    <a:pt x="268" y="894"/>
                  </a:lnTo>
                  <a:lnTo>
                    <a:pt x="372" y="894"/>
                  </a:lnTo>
                  <a:lnTo>
                    <a:pt x="478" y="855"/>
                  </a:lnTo>
                  <a:lnTo>
                    <a:pt x="531" y="756"/>
                  </a:lnTo>
                  <a:lnTo>
                    <a:pt x="559" y="631"/>
                  </a:lnTo>
                  <a:lnTo>
                    <a:pt x="548" y="476"/>
                  </a:lnTo>
                  <a:lnTo>
                    <a:pt x="793" y="494"/>
                  </a:lnTo>
                  <a:lnTo>
                    <a:pt x="806" y="425"/>
                  </a:lnTo>
                  <a:lnTo>
                    <a:pt x="525" y="397"/>
                  </a:lnTo>
                  <a:lnTo>
                    <a:pt x="455" y="236"/>
                  </a:lnTo>
                  <a:lnTo>
                    <a:pt x="420" y="206"/>
                  </a:lnTo>
                  <a:close/>
                </a:path>
              </a:pathLst>
            </a:custGeom>
            <a:solidFill>
              <a:srgbClr val="447044"/>
            </a:solidFill>
            <a:ln w="0">
              <a:noFill/>
            </a:ln>
            <a:effectLst>
              <a:outerShdw dist="17819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03600" y="3208320"/>
              <a:ext cx="735120" cy="1138320"/>
            </a:xfrm>
            <a:custGeom>
              <a:avLst/>
              <a:gdLst/>
              <a:ahLst/>
              <a:rect l="l" t="t" r="r" b="b"/>
              <a:pathLst>
                <a:path w="927" h="1433">
                  <a:moveTo>
                    <a:pt x="541" y="33"/>
                  </a:moveTo>
                  <a:lnTo>
                    <a:pt x="657" y="0"/>
                  </a:lnTo>
                  <a:lnTo>
                    <a:pt x="750" y="5"/>
                  </a:lnTo>
                  <a:lnTo>
                    <a:pt x="821" y="56"/>
                  </a:lnTo>
                  <a:lnTo>
                    <a:pt x="868" y="137"/>
                  </a:lnTo>
                  <a:lnTo>
                    <a:pt x="851" y="222"/>
                  </a:lnTo>
                  <a:lnTo>
                    <a:pt x="786" y="222"/>
                  </a:lnTo>
                  <a:lnTo>
                    <a:pt x="803" y="153"/>
                  </a:lnTo>
                  <a:lnTo>
                    <a:pt x="750" y="92"/>
                  </a:lnTo>
                  <a:lnTo>
                    <a:pt x="699" y="69"/>
                  </a:lnTo>
                  <a:lnTo>
                    <a:pt x="611" y="92"/>
                  </a:lnTo>
                  <a:lnTo>
                    <a:pt x="646" y="160"/>
                  </a:lnTo>
                  <a:lnTo>
                    <a:pt x="657" y="222"/>
                  </a:lnTo>
                  <a:lnTo>
                    <a:pt x="646" y="275"/>
                  </a:lnTo>
                  <a:lnTo>
                    <a:pt x="558" y="298"/>
                  </a:lnTo>
                  <a:lnTo>
                    <a:pt x="465" y="280"/>
                  </a:lnTo>
                  <a:lnTo>
                    <a:pt x="447" y="240"/>
                  </a:lnTo>
                  <a:lnTo>
                    <a:pt x="348" y="349"/>
                  </a:lnTo>
                  <a:lnTo>
                    <a:pt x="290" y="469"/>
                  </a:lnTo>
                  <a:lnTo>
                    <a:pt x="209" y="624"/>
                  </a:lnTo>
                  <a:lnTo>
                    <a:pt x="156" y="762"/>
                  </a:lnTo>
                  <a:lnTo>
                    <a:pt x="133" y="894"/>
                  </a:lnTo>
                  <a:lnTo>
                    <a:pt x="151" y="963"/>
                  </a:lnTo>
                  <a:lnTo>
                    <a:pt x="244" y="1049"/>
                  </a:lnTo>
                  <a:lnTo>
                    <a:pt x="437" y="1123"/>
                  </a:lnTo>
                  <a:lnTo>
                    <a:pt x="541" y="1156"/>
                  </a:lnTo>
                  <a:lnTo>
                    <a:pt x="646" y="1174"/>
                  </a:lnTo>
                  <a:lnTo>
                    <a:pt x="803" y="1238"/>
                  </a:lnTo>
                  <a:lnTo>
                    <a:pt x="919" y="1278"/>
                  </a:lnTo>
                  <a:lnTo>
                    <a:pt x="927" y="1357"/>
                  </a:lnTo>
                  <a:lnTo>
                    <a:pt x="868" y="1416"/>
                  </a:lnTo>
                  <a:lnTo>
                    <a:pt x="798" y="1433"/>
                  </a:lnTo>
                  <a:lnTo>
                    <a:pt x="692" y="1380"/>
                  </a:lnTo>
                  <a:lnTo>
                    <a:pt x="447" y="1255"/>
                  </a:lnTo>
                  <a:lnTo>
                    <a:pt x="244" y="1169"/>
                  </a:lnTo>
                  <a:lnTo>
                    <a:pt x="104" y="1072"/>
                  </a:lnTo>
                  <a:lnTo>
                    <a:pt x="10" y="985"/>
                  </a:lnTo>
                  <a:lnTo>
                    <a:pt x="0" y="881"/>
                  </a:lnTo>
                  <a:lnTo>
                    <a:pt x="51" y="744"/>
                  </a:lnTo>
                  <a:lnTo>
                    <a:pt x="156" y="538"/>
                  </a:lnTo>
                  <a:lnTo>
                    <a:pt x="255" y="367"/>
                  </a:lnTo>
                  <a:lnTo>
                    <a:pt x="378" y="188"/>
                  </a:lnTo>
                  <a:lnTo>
                    <a:pt x="472" y="84"/>
                  </a:lnTo>
                  <a:lnTo>
                    <a:pt x="588" y="33"/>
                  </a:lnTo>
                  <a:lnTo>
                    <a:pt x="541" y="33"/>
                  </a:lnTo>
                  <a:close/>
                </a:path>
              </a:pathLst>
            </a:custGeom>
            <a:solidFill>
              <a:srgbClr val="447044"/>
            </a:solidFill>
            <a:ln w="0">
              <a:noFill/>
            </a:ln>
            <a:effectLst>
              <a:outerShdw dist="17819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97320" y="4151160"/>
              <a:ext cx="384120" cy="1068480"/>
            </a:xfrm>
            <a:custGeom>
              <a:avLst/>
              <a:gdLst/>
              <a:ahLst/>
              <a:rect l="l" t="t" r="r" b="b"/>
              <a:pathLst>
                <a:path w="484" h="1346">
                  <a:moveTo>
                    <a:pt x="30" y="104"/>
                  </a:moveTo>
                  <a:lnTo>
                    <a:pt x="47" y="35"/>
                  </a:lnTo>
                  <a:lnTo>
                    <a:pt x="123" y="0"/>
                  </a:lnTo>
                  <a:lnTo>
                    <a:pt x="192" y="0"/>
                  </a:lnTo>
                  <a:lnTo>
                    <a:pt x="280" y="51"/>
                  </a:lnTo>
                  <a:lnTo>
                    <a:pt x="363" y="173"/>
                  </a:lnTo>
                  <a:lnTo>
                    <a:pt x="421" y="298"/>
                  </a:lnTo>
                  <a:lnTo>
                    <a:pt x="449" y="469"/>
                  </a:lnTo>
                  <a:lnTo>
                    <a:pt x="474" y="670"/>
                  </a:lnTo>
                  <a:lnTo>
                    <a:pt x="484" y="864"/>
                  </a:lnTo>
                  <a:lnTo>
                    <a:pt x="484" y="1116"/>
                  </a:lnTo>
                  <a:lnTo>
                    <a:pt x="449" y="1272"/>
                  </a:lnTo>
                  <a:lnTo>
                    <a:pt x="386" y="1328"/>
                  </a:lnTo>
                  <a:lnTo>
                    <a:pt x="275" y="1346"/>
                  </a:lnTo>
                  <a:lnTo>
                    <a:pt x="158" y="1340"/>
                  </a:lnTo>
                  <a:lnTo>
                    <a:pt x="98" y="1272"/>
                  </a:lnTo>
                  <a:lnTo>
                    <a:pt x="65" y="1152"/>
                  </a:lnTo>
                  <a:lnTo>
                    <a:pt x="35" y="1032"/>
                  </a:lnTo>
                  <a:lnTo>
                    <a:pt x="12" y="813"/>
                  </a:lnTo>
                  <a:lnTo>
                    <a:pt x="0" y="568"/>
                  </a:lnTo>
                  <a:lnTo>
                    <a:pt x="0" y="281"/>
                  </a:lnTo>
                  <a:lnTo>
                    <a:pt x="30" y="155"/>
                  </a:lnTo>
                  <a:lnTo>
                    <a:pt x="30" y="104"/>
                  </a:lnTo>
                  <a:close/>
                </a:path>
              </a:pathLst>
            </a:custGeom>
            <a:solidFill>
              <a:srgbClr val="447044"/>
            </a:solidFill>
            <a:ln w="0">
              <a:noFill/>
            </a:ln>
            <a:effectLst>
              <a:outerShdw dist="17819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21240" y="5110200"/>
              <a:ext cx="714240" cy="1325520"/>
            </a:xfrm>
            <a:custGeom>
              <a:avLst/>
              <a:gdLst/>
              <a:ahLst/>
              <a:rect l="l" t="t" r="r" b="b"/>
              <a:pathLst>
                <a:path w="900" h="1670">
                  <a:moveTo>
                    <a:pt x="104" y="0"/>
                  </a:moveTo>
                  <a:lnTo>
                    <a:pt x="23" y="0"/>
                  </a:lnTo>
                  <a:lnTo>
                    <a:pt x="0" y="120"/>
                  </a:lnTo>
                  <a:lnTo>
                    <a:pt x="58" y="190"/>
                  </a:lnTo>
                  <a:lnTo>
                    <a:pt x="245" y="356"/>
                  </a:lnTo>
                  <a:lnTo>
                    <a:pt x="409" y="568"/>
                  </a:lnTo>
                  <a:lnTo>
                    <a:pt x="514" y="786"/>
                  </a:lnTo>
                  <a:lnTo>
                    <a:pt x="530" y="929"/>
                  </a:lnTo>
                  <a:lnTo>
                    <a:pt x="525" y="1033"/>
                  </a:lnTo>
                  <a:lnTo>
                    <a:pt x="479" y="1268"/>
                  </a:lnTo>
                  <a:lnTo>
                    <a:pt x="419" y="1458"/>
                  </a:lnTo>
                  <a:lnTo>
                    <a:pt x="368" y="1568"/>
                  </a:lnTo>
                  <a:lnTo>
                    <a:pt x="356" y="1636"/>
                  </a:lnTo>
                  <a:lnTo>
                    <a:pt x="409" y="1636"/>
                  </a:lnTo>
                  <a:lnTo>
                    <a:pt x="490" y="1613"/>
                  </a:lnTo>
                  <a:lnTo>
                    <a:pt x="514" y="1619"/>
                  </a:lnTo>
                  <a:lnTo>
                    <a:pt x="683" y="1629"/>
                  </a:lnTo>
                  <a:lnTo>
                    <a:pt x="812" y="1670"/>
                  </a:lnTo>
                  <a:lnTo>
                    <a:pt x="858" y="1647"/>
                  </a:lnTo>
                  <a:lnTo>
                    <a:pt x="900" y="1560"/>
                  </a:lnTo>
                  <a:lnTo>
                    <a:pt x="858" y="1515"/>
                  </a:lnTo>
                  <a:lnTo>
                    <a:pt x="666" y="1509"/>
                  </a:lnTo>
                  <a:lnTo>
                    <a:pt x="530" y="1527"/>
                  </a:lnTo>
                  <a:lnTo>
                    <a:pt x="461" y="1560"/>
                  </a:lnTo>
                  <a:lnTo>
                    <a:pt x="472" y="1481"/>
                  </a:lnTo>
                  <a:lnTo>
                    <a:pt x="542" y="1359"/>
                  </a:lnTo>
                  <a:lnTo>
                    <a:pt x="601" y="1171"/>
                  </a:lnTo>
                  <a:lnTo>
                    <a:pt x="648" y="1010"/>
                  </a:lnTo>
                  <a:lnTo>
                    <a:pt x="613" y="827"/>
                  </a:lnTo>
                  <a:lnTo>
                    <a:pt x="560" y="631"/>
                  </a:lnTo>
                  <a:lnTo>
                    <a:pt x="454" y="407"/>
                  </a:lnTo>
                  <a:lnTo>
                    <a:pt x="303" y="201"/>
                  </a:lnTo>
                  <a:lnTo>
                    <a:pt x="174" y="51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447044"/>
            </a:solidFill>
            <a:ln w="0">
              <a:noFill/>
            </a:ln>
            <a:effectLst>
              <a:outerShdw dist="17819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71960" y="5106960"/>
              <a:ext cx="480960" cy="1351080"/>
            </a:xfrm>
            <a:custGeom>
              <a:avLst/>
              <a:gdLst/>
              <a:ahLst/>
              <a:rect l="l" t="t" r="r" b="b"/>
              <a:pathLst>
                <a:path w="606" h="1701">
                  <a:moveTo>
                    <a:pt x="419" y="0"/>
                  </a:moveTo>
                  <a:lnTo>
                    <a:pt x="344" y="160"/>
                  </a:lnTo>
                  <a:lnTo>
                    <a:pt x="291" y="394"/>
                  </a:lnTo>
                  <a:lnTo>
                    <a:pt x="227" y="654"/>
                  </a:lnTo>
                  <a:lnTo>
                    <a:pt x="169" y="916"/>
                  </a:lnTo>
                  <a:lnTo>
                    <a:pt x="169" y="1013"/>
                  </a:lnTo>
                  <a:lnTo>
                    <a:pt x="227" y="1186"/>
                  </a:lnTo>
                  <a:lnTo>
                    <a:pt x="308" y="1278"/>
                  </a:lnTo>
                  <a:lnTo>
                    <a:pt x="384" y="1392"/>
                  </a:lnTo>
                  <a:lnTo>
                    <a:pt x="437" y="1477"/>
                  </a:lnTo>
                  <a:lnTo>
                    <a:pt x="414" y="1518"/>
                  </a:lnTo>
                  <a:lnTo>
                    <a:pt x="280" y="1535"/>
                  </a:lnTo>
                  <a:lnTo>
                    <a:pt x="63" y="1569"/>
                  </a:lnTo>
                  <a:lnTo>
                    <a:pt x="0" y="1622"/>
                  </a:lnTo>
                  <a:lnTo>
                    <a:pt x="53" y="1667"/>
                  </a:lnTo>
                  <a:lnTo>
                    <a:pt x="174" y="1701"/>
                  </a:lnTo>
                  <a:lnTo>
                    <a:pt x="315" y="1632"/>
                  </a:lnTo>
                  <a:lnTo>
                    <a:pt x="419" y="1586"/>
                  </a:lnTo>
                  <a:lnTo>
                    <a:pt x="553" y="1569"/>
                  </a:lnTo>
                  <a:lnTo>
                    <a:pt x="606" y="1553"/>
                  </a:lnTo>
                  <a:lnTo>
                    <a:pt x="589" y="1495"/>
                  </a:lnTo>
                  <a:lnTo>
                    <a:pt x="437" y="1347"/>
                  </a:lnTo>
                  <a:lnTo>
                    <a:pt x="349" y="1191"/>
                  </a:lnTo>
                  <a:lnTo>
                    <a:pt x="273" y="1087"/>
                  </a:lnTo>
                  <a:lnTo>
                    <a:pt x="263" y="985"/>
                  </a:lnTo>
                  <a:lnTo>
                    <a:pt x="298" y="814"/>
                  </a:lnTo>
                  <a:lnTo>
                    <a:pt x="379" y="636"/>
                  </a:lnTo>
                  <a:lnTo>
                    <a:pt x="467" y="333"/>
                  </a:lnTo>
                  <a:lnTo>
                    <a:pt x="543" y="155"/>
                  </a:lnTo>
                  <a:lnTo>
                    <a:pt x="536" y="51"/>
                  </a:lnTo>
                  <a:lnTo>
                    <a:pt x="467" y="0"/>
                  </a:lnTo>
                  <a:lnTo>
                    <a:pt x="419" y="0"/>
                  </a:lnTo>
                  <a:close/>
                </a:path>
              </a:pathLst>
            </a:custGeom>
            <a:solidFill>
              <a:srgbClr val="447044"/>
            </a:solidFill>
            <a:ln w="0">
              <a:noFill/>
            </a:ln>
            <a:effectLst>
              <a:outerShdw dist="17819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4586400" y="2938320"/>
              <a:ext cx="295200" cy="398520"/>
              <a:chOff x="4586400" y="2938320"/>
              <a:chExt cx="295200" cy="398520"/>
            </a:xfrm>
          </p:grpSpPr>
          <p:sp>
            <p:nvSpPr>
              <p:cNvPr id="113" name=""/>
              <p:cNvSpPr/>
              <p:nvPr/>
            </p:nvSpPr>
            <p:spPr>
              <a:xfrm>
                <a:off x="4643280" y="2938320"/>
                <a:ext cx="238320" cy="276480"/>
              </a:xfrm>
              <a:custGeom>
                <a:avLst/>
                <a:gdLst/>
                <a:ahLst/>
                <a:rect l="l" t="t" r="r" b="b"/>
                <a:pathLst>
                  <a:path w="299" h="349">
                    <a:moveTo>
                      <a:pt x="35" y="15"/>
                    </a:moveTo>
                    <a:lnTo>
                      <a:pt x="116" y="0"/>
                    </a:lnTo>
                    <a:lnTo>
                      <a:pt x="194" y="5"/>
                    </a:lnTo>
                    <a:lnTo>
                      <a:pt x="264" y="38"/>
                    </a:lnTo>
                    <a:lnTo>
                      <a:pt x="299" y="102"/>
                    </a:lnTo>
                    <a:lnTo>
                      <a:pt x="299" y="153"/>
                    </a:lnTo>
                    <a:lnTo>
                      <a:pt x="264" y="222"/>
                    </a:lnTo>
                    <a:lnTo>
                      <a:pt x="204" y="262"/>
                    </a:lnTo>
                    <a:lnTo>
                      <a:pt x="116" y="262"/>
                    </a:lnTo>
                    <a:lnTo>
                      <a:pt x="63" y="296"/>
                    </a:lnTo>
                    <a:lnTo>
                      <a:pt x="46" y="349"/>
                    </a:lnTo>
                    <a:lnTo>
                      <a:pt x="0" y="331"/>
                    </a:lnTo>
                    <a:lnTo>
                      <a:pt x="17" y="262"/>
                    </a:lnTo>
                    <a:lnTo>
                      <a:pt x="81" y="222"/>
                    </a:lnTo>
                    <a:lnTo>
                      <a:pt x="187" y="211"/>
                    </a:lnTo>
                    <a:lnTo>
                      <a:pt x="229" y="171"/>
                    </a:lnTo>
                    <a:lnTo>
                      <a:pt x="239" y="107"/>
                    </a:lnTo>
                    <a:lnTo>
                      <a:pt x="194" y="51"/>
                    </a:lnTo>
                    <a:lnTo>
                      <a:pt x="123" y="51"/>
                    </a:lnTo>
                    <a:lnTo>
                      <a:pt x="46" y="68"/>
                    </a:lnTo>
                    <a:lnTo>
                      <a:pt x="17" y="51"/>
                    </a:lnTo>
                    <a:lnTo>
                      <a:pt x="35" y="15"/>
                    </a:lnTo>
                    <a:close/>
                  </a:path>
                </a:pathLst>
              </a:custGeom>
              <a:solidFill>
                <a:srgbClr val="447044"/>
              </a:solidFill>
              <a:ln w="0">
                <a:noFill/>
              </a:ln>
              <a:effectLst>
                <a:outerShdw dist="17819" dir="2700000" blurRad="0" rotWithShape="0">
                  <a:srgbClr val="eaeae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586400" y="3260880"/>
                <a:ext cx="74520" cy="75960"/>
              </a:xfrm>
              <a:custGeom>
                <a:avLst/>
                <a:gdLst/>
                <a:ahLst/>
                <a:rect l="l" t="t" r="r" b="b"/>
                <a:pathLst>
                  <a:path w="94" h="95">
                    <a:moveTo>
                      <a:pt x="94" y="5"/>
                    </a:moveTo>
                    <a:lnTo>
                      <a:pt x="46" y="0"/>
                    </a:lnTo>
                    <a:lnTo>
                      <a:pt x="15" y="35"/>
                    </a:lnTo>
                    <a:lnTo>
                      <a:pt x="0" y="90"/>
                    </a:lnTo>
                    <a:lnTo>
                      <a:pt x="46" y="95"/>
                    </a:lnTo>
                    <a:lnTo>
                      <a:pt x="85" y="70"/>
                    </a:lnTo>
                    <a:lnTo>
                      <a:pt x="94" y="5"/>
                    </a:lnTo>
                    <a:close/>
                  </a:path>
                </a:pathLst>
              </a:custGeom>
              <a:solidFill>
                <a:srgbClr val="447044"/>
              </a:solidFill>
              <a:ln w="0">
                <a:noFill/>
              </a:ln>
              <a:effectLst>
                <a:outerShdw dist="17819" dir="2700000" blurRad="0" rotWithShape="0">
                  <a:srgbClr val="eaeae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" name=""/>
          <p:cNvGrpSpPr/>
          <p:nvPr/>
        </p:nvGrpSpPr>
        <p:grpSpPr>
          <a:xfrm>
            <a:off x="498600" y="2444760"/>
            <a:ext cx="3222360" cy="1095480"/>
            <a:chOff x="498600" y="2444760"/>
            <a:chExt cx="3222360" cy="1095480"/>
          </a:xfrm>
        </p:grpSpPr>
        <p:sp>
          <p:nvSpPr>
            <p:cNvPr id="116" name=""/>
            <p:cNvSpPr/>
            <p:nvPr/>
          </p:nvSpPr>
          <p:spPr>
            <a:xfrm>
              <a:off x="498600" y="2444760"/>
              <a:ext cx="3222360" cy="1095480"/>
            </a:xfrm>
            <a:custGeom>
              <a:avLst/>
              <a:gdLst/>
              <a:ahLst/>
              <a:rect l="l" t="t" r="r" b="b"/>
              <a:pathLst>
                <a:path w="2030" h="690">
                  <a:moveTo>
                    <a:pt x="1790" y="3"/>
                  </a:moveTo>
                  <a:lnTo>
                    <a:pt x="0" y="0"/>
                  </a:lnTo>
                  <a:lnTo>
                    <a:pt x="0" y="384"/>
                  </a:lnTo>
                  <a:lnTo>
                    <a:pt x="1422" y="386"/>
                  </a:lnTo>
                  <a:lnTo>
                    <a:pt x="2030" y="690"/>
                  </a:lnTo>
                  <a:lnTo>
                    <a:pt x="1558" y="386"/>
                  </a:lnTo>
                  <a:lnTo>
                    <a:pt x="1790" y="387"/>
                  </a:lnTo>
                  <a:lnTo>
                    <a:pt x="1790" y="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a2c8a2"/>
              </a:solidFill>
              <a:round/>
            </a:ln>
            <a:effectLst>
              <a:outerShdw dist="36147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2880" y="2449440"/>
              <a:ext cx="279072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Arial"/>
                </a:rPr>
                <a:t>Cu</a:t>
              </a:r>
              <a:r>
                <a:rPr b="0" i="1" lang="es-AR" sz="1800" spc="-1" strike="noStrike">
                  <a:solidFill>
                    <a:srgbClr val="000000"/>
                  </a:solidFill>
                  <a:latin typeface="Arial"/>
                </a:rPr>
                <a:t>á</a:t>
              </a:r>
              <a:r>
                <a:rPr b="0" i="1" lang="es-ES" sz="1800" spc="-1" strike="noStrike">
                  <a:solidFill>
                    <a:srgbClr val="000000"/>
                  </a:solidFill>
                  <a:latin typeface="Arial"/>
                </a:rPr>
                <a:t>nta volatilidad puedo reducir con el reaseguro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969840" y="1604880"/>
            <a:ext cx="3459240" cy="1579680"/>
            <a:chOff x="969840" y="1604880"/>
            <a:chExt cx="3459240" cy="1579680"/>
          </a:xfrm>
        </p:grpSpPr>
        <p:sp>
          <p:nvSpPr>
            <p:cNvPr id="119" name=""/>
            <p:cNvSpPr/>
            <p:nvPr/>
          </p:nvSpPr>
          <p:spPr>
            <a:xfrm>
              <a:off x="969840" y="1604880"/>
              <a:ext cx="3351240" cy="1579680"/>
            </a:xfrm>
            <a:custGeom>
              <a:avLst/>
              <a:gdLst/>
              <a:ahLst/>
              <a:rect l="l" t="t" r="r" b="b"/>
              <a:pathLst>
                <a:path w="2111" h="995">
                  <a:moveTo>
                    <a:pt x="2111" y="0"/>
                  </a:moveTo>
                  <a:lnTo>
                    <a:pt x="0" y="0"/>
                  </a:lnTo>
                  <a:lnTo>
                    <a:pt x="0" y="387"/>
                  </a:lnTo>
                  <a:lnTo>
                    <a:pt x="1739" y="387"/>
                  </a:lnTo>
                  <a:lnTo>
                    <a:pt x="2037" y="995"/>
                  </a:lnTo>
                  <a:lnTo>
                    <a:pt x="1829" y="387"/>
                  </a:lnTo>
                  <a:lnTo>
                    <a:pt x="2111" y="387"/>
                  </a:lnTo>
                  <a:lnTo>
                    <a:pt x="2111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a2c8a2"/>
              </a:solidFill>
              <a:round/>
            </a:ln>
            <a:effectLst>
              <a:outerShdw dist="36147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003320" y="1617840"/>
              <a:ext cx="34257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i="1" lang="es-AR" sz="1800" spc="-1" strike="noStrike">
                  <a:solidFill>
                    <a:srgbClr val="000000"/>
                  </a:solidFill>
                  <a:latin typeface="Arial"/>
                </a:rPr>
                <a:t>ó</a:t>
              </a:r>
              <a:r>
                <a:rPr b="0" i="1" lang="es-ES" sz="1800" spc="-1" strike="noStrike">
                  <a:solidFill>
                    <a:srgbClr val="000000"/>
                  </a:solidFill>
                  <a:latin typeface="Arial"/>
                </a:rPr>
                <a:t>mo es la estructura actual respecto de otras alternativa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444920" y="1046160"/>
            <a:ext cx="4729320" cy="2087640"/>
            <a:chOff x="4444920" y="1046160"/>
            <a:chExt cx="4729320" cy="2087640"/>
          </a:xfrm>
        </p:grpSpPr>
        <p:sp>
          <p:nvSpPr>
            <p:cNvPr id="122" name=""/>
            <p:cNvSpPr/>
            <p:nvPr/>
          </p:nvSpPr>
          <p:spPr>
            <a:xfrm>
              <a:off x="4444920" y="1046160"/>
              <a:ext cx="4729320" cy="2087640"/>
            </a:xfrm>
            <a:custGeom>
              <a:avLst/>
              <a:gdLst/>
              <a:ahLst/>
              <a:rect l="l" t="t" r="r" b="b"/>
              <a:pathLst>
                <a:path w="2979" h="1315">
                  <a:moveTo>
                    <a:pt x="114" y="0"/>
                  </a:moveTo>
                  <a:lnTo>
                    <a:pt x="2979" y="0"/>
                  </a:lnTo>
                  <a:lnTo>
                    <a:pt x="2979" y="530"/>
                  </a:lnTo>
                  <a:lnTo>
                    <a:pt x="579" y="528"/>
                  </a:lnTo>
                  <a:lnTo>
                    <a:pt x="0" y="1315"/>
                  </a:lnTo>
                  <a:lnTo>
                    <a:pt x="497" y="530"/>
                  </a:lnTo>
                  <a:lnTo>
                    <a:pt x="114" y="53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a2c8a2"/>
              </a:solidFill>
              <a:round/>
            </a:ln>
            <a:effectLst>
              <a:outerShdw dist="36147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699080" y="1046160"/>
              <a:ext cx="440352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Arial"/>
                </a:rPr>
                <a:t>Cu</a:t>
              </a:r>
              <a:r>
                <a:rPr b="0" i="1" lang="es-AR" sz="1800" spc="-1" strike="noStrike">
                  <a:solidFill>
                    <a:srgbClr val="000000"/>
                  </a:solidFill>
                  <a:latin typeface="Arial"/>
                </a:rPr>
                <a:t>á</a:t>
              </a:r>
              <a:r>
                <a:rPr b="0" i="1" lang="es-ES" sz="1800" spc="-1" strike="noStrike">
                  <a:solidFill>
                    <a:srgbClr val="000000"/>
                  </a:solidFill>
                  <a:latin typeface="Arial"/>
                </a:rPr>
                <a:t>l es el capital a riesgo, para cierto nivel de periodo de retorno sin reaseguro y con las diferentes alternativa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876920" y="2062080"/>
            <a:ext cx="3643200" cy="1312920"/>
            <a:chOff x="4876920" y="2062080"/>
            <a:chExt cx="3643200" cy="1312920"/>
          </a:xfrm>
        </p:grpSpPr>
        <p:sp>
          <p:nvSpPr>
            <p:cNvPr id="125" name=""/>
            <p:cNvSpPr/>
            <p:nvPr/>
          </p:nvSpPr>
          <p:spPr>
            <a:xfrm>
              <a:off x="4876920" y="2062080"/>
              <a:ext cx="3522600" cy="1312920"/>
            </a:xfrm>
            <a:custGeom>
              <a:avLst/>
              <a:gdLst/>
              <a:ahLst/>
              <a:rect l="l" t="t" r="r" b="b"/>
              <a:pathLst>
                <a:path w="2219" h="827">
                  <a:moveTo>
                    <a:pt x="372" y="0"/>
                  </a:moveTo>
                  <a:lnTo>
                    <a:pt x="2219" y="0"/>
                  </a:lnTo>
                  <a:lnTo>
                    <a:pt x="2219" y="387"/>
                  </a:lnTo>
                  <a:lnTo>
                    <a:pt x="697" y="387"/>
                  </a:lnTo>
                  <a:lnTo>
                    <a:pt x="0" y="827"/>
                  </a:lnTo>
                  <a:lnTo>
                    <a:pt x="584" y="387"/>
                  </a:lnTo>
                  <a:lnTo>
                    <a:pt x="372" y="387"/>
                  </a:lnTo>
                  <a:lnTo>
                    <a:pt x="37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a2c8a2"/>
              </a:solidFill>
              <a:round/>
            </a:ln>
            <a:effectLst>
              <a:outerShdw dist="36147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11960" y="2079720"/>
              <a:ext cx="3008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Arial"/>
                </a:rPr>
                <a:t>La capacidad que compro es necesaria/eficiente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902120" y="2989440"/>
            <a:ext cx="3122640" cy="639720"/>
            <a:chOff x="4902120" y="2989440"/>
            <a:chExt cx="3122640" cy="639720"/>
          </a:xfrm>
        </p:grpSpPr>
        <p:sp>
          <p:nvSpPr>
            <p:cNvPr id="128" name=""/>
            <p:cNvSpPr/>
            <p:nvPr/>
          </p:nvSpPr>
          <p:spPr>
            <a:xfrm>
              <a:off x="4902120" y="2989440"/>
              <a:ext cx="3103560" cy="639720"/>
            </a:xfrm>
            <a:custGeom>
              <a:avLst/>
              <a:gdLst/>
              <a:ahLst/>
              <a:rect l="l" t="t" r="r" b="b"/>
              <a:pathLst>
                <a:path w="1955" h="403">
                  <a:moveTo>
                    <a:pt x="654" y="0"/>
                  </a:moveTo>
                  <a:lnTo>
                    <a:pt x="1955" y="0"/>
                  </a:lnTo>
                  <a:lnTo>
                    <a:pt x="1955" y="387"/>
                  </a:lnTo>
                  <a:lnTo>
                    <a:pt x="883" y="387"/>
                  </a:lnTo>
                  <a:lnTo>
                    <a:pt x="803" y="387"/>
                  </a:lnTo>
                  <a:lnTo>
                    <a:pt x="654" y="387"/>
                  </a:lnTo>
                  <a:lnTo>
                    <a:pt x="654" y="282"/>
                  </a:lnTo>
                  <a:lnTo>
                    <a:pt x="0" y="403"/>
                  </a:lnTo>
                  <a:lnTo>
                    <a:pt x="656" y="227"/>
                  </a:lnTo>
                  <a:lnTo>
                    <a:pt x="65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a2c8a2"/>
              </a:solidFill>
              <a:round/>
            </a:ln>
            <a:effectLst>
              <a:outerShdw dist="36147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43600" y="3006720"/>
              <a:ext cx="2081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Arial"/>
                </a:rPr>
                <a:t>Cu</a:t>
              </a:r>
              <a:r>
                <a:rPr b="0" i="1" lang="es-AR" sz="1800" spc="-1" strike="noStrike">
                  <a:solidFill>
                    <a:srgbClr val="000000"/>
                  </a:solidFill>
                  <a:latin typeface="Arial"/>
                </a:rPr>
                <a:t>á</a:t>
              </a:r>
              <a:r>
                <a:rPr b="0" i="1" lang="es-E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i="1" lang="es-A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s-ES" sz="1800" spc="-1" strike="noStrike">
                  <a:solidFill>
                    <a:srgbClr val="000000"/>
                  </a:solidFill>
                  <a:latin typeface="Arial"/>
                </a:rPr>
                <a:t>es el nivel de retención optima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4863960" y="3871800"/>
            <a:ext cx="3440160" cy="406080"/>
            <a:chOff x="4863960" y="3871800"/>
            <a:chExt cx="3440160" cy="406080"/>
          </a:xfrm>
        </p:grpSpPr>
        <p:sp>
          <p:nvSpPr>
            <p:cNvPr id="131" name=""/>
            <p:cNvSpPr/>
            <p:nvPr/>
          </p:nvSpPr>
          <p:spPr>
            <a:xfrm>
              <a:off x="4863960" y="3871800"/>
              <a:ext cx="3434040" cy="406080"/>
            </a:xfrm>
            <a:custGeom>
              <a:avLst/>
              <a:gdLst/>
              <a:ahLst/>
              <a:rect l="l" t="t" r="r" b="b"/>
              <a:pathLst>
                <a:path w="2163" h="256">
                  <a:moveTo>
                    <a:pt x="560" y="256"/>
                  </a:moveTo>
                  <a:lnTo>
                    <a:pt x="2163" y="256"/>
                  </a:lnTo>
                  <a:lnTo>
                    <a:pt x="2163" y="0"/>
                  </a:lnTo>
                  <a:lnTo>
                    <a:pt x="560" y="0"/>
                  </a:lnTo>
                  <a:lnTo>
                    <a:pt x="560" y="103"/>
                  </a:lnTo>
                  <a:lnTo>
                    <a:pt x="0" y="23"/>
                  </a:lnTo>
                  <a:lnTo>
                    <a:pt x="562" y="143"/>
                  </a:lnTo>
                  <a:lnTo>
                    <a:pt x="560" y="25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a2c8a2"/>
              </a:solidFill>
              <a:round/>
            </a:ln>
            <a:effectLst>
              <a:outerShdw dist="36147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78360" y="3908160"/>
              <a:ext cx="25257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Arial"/>
                </a:rPr>
                <a:t>El</a:t>
              </a:r>
              <a:r>
                <a:rPr b="0" lang="es-E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s-ES" sz="1800" spc="-1" strike="noStrike">
                  <a:solidFill>
                    <a:srgbClr val="000000"/>
                  </a:solidFill>
                  <a:latin typeface="Arial"/>
                </a:rPr>
                <a:t>costo tiene sentido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838760" y="4098960"/>
            <a:ext cx="4278240" cy="1066680"/>
            <a:chOff x="4838760" y="4098960"/>
            <a:chExt cx="4278240" cy="1066680"/>
          </a:xfrm>
        </p:grpSpPr>
        <p:sp>
          <p:nvSpPr>
            <p:cNvPr id="134" name=""/>
            <p:cNvSpPr/>
            <p:nvPr/>
          </p:nvSpPr>
          <p:spPr>
            <a:xfrm>
              <a:off x="4838760" y="4098960"/>
              <a:ext cx="4233960" cy="1066680"/>
            </a:xfrm>
            <a:custGeom>
              <a:avLst/>
              <a:gdLst/>
              <a:ahLst/>
              <a:rect l="l" t="t" r="r" b="b"/>
              <a:pathLst>
                <a:path w="2667" h="672">
                  <a:moveTo>
                    <a:pt x="450" y="670"/>
                  </a:moveTo>
                  <a:lnTo>
                    <a:pt x="2667" y="672"/>
                  </a:lnTo>
                  <a:lnTo>
                    <a:pt x="2667" y="410"/>
                  </a:lnTo>
                  <a:lnTo>
                    <a:pt x="838" y="410"/>
                  </a:lnTo>
                  <a:lnTo>
                    <a:pt x="0" y="0"/>
                  </a:lnTo>
                  <a:lnTo>
                    <a:pt x="702" y="410"/>
                  </a:lnTo>
                  <a:lnTo>
                    <a:pt x="450" y="410"/>
                  </a:lnTo>
                  <a:lnTo>
                    <a:pt x="450" y="67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a2c8a2"/>
              </a:solidFill>
              <a:round/>
            </a:ln>
            <a:effectLst>
              <a:outerShdw dist="36147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11960" y="4784760"/>
              <a:ext cx="36050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Arial"/>
                </a:rPr>
                <a:t>Cu</a:t>
              </a:r>
              <a:r>
                <a:rPr b="0" i="1" lang="es-AR" sz="1800" spc="-1" strike="noStrike">
                  <a:solidFill>
                    <a:srgbClr val="000000"/>
                  </a:solidFill>
                  <a:latin typeface="Arial"/>
                </a:rPr>
                <a:t>á</a:t>
              </a:r>
              <a:r>
                <a:rPr b="0" i="1" lang="es-ES" sz="1800" spc="-1" strike="noStrike">
                  <a:solidFill>
                    <a:srgbClr val="000000"/>
                  </a:solidFill>
                  <a:latin typeface="Arial"/>
                </a:rPr>
                <a:t>l es la probabilidad de ruina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44204-6663-49F5-BD7E-F2B25B56EC0F}" type="slidenum">
              <a:t>4</a:t>
            </a:fld>
          </a:p>
        </p:txBody>
      </p:sp>
    </p:spTree>
  </p:cSld>
  <p:transition>
    <p:wipe dir="r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466560" y="347760"/>
            <a:ext cx="9134640" cy="34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Selección de la retención Opt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7356600" y="1603440"/>
            <a:ext cx="1850760" cy="2482920"/>
          </a:xfrm>
          <a:prstGeom prst="rect">
            <a:avLst/>
          </a:prstGeom>
          <a:solidFill>
            <a:srgbClr val="c7dd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070600" y="1603440"/>
            <a:ext cx="1850760" cy="248292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827440" y="1603440"/>
            <a:ext cx="1593720" cy="2482920"/>
          </a:xfrm>
          <a:prstGeom prst="rect">
            <a:avLst/>
          </a:prstGeom>
          <a:solidFill>
            <a:srgbClr val="ff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469800" y="1603440"/>
            <a:ext cx="1793880" cy="2482920"/>
          </a:xfrm>
          <a:prstGeom prst="rect">
            <a:avLst/>
          </a:prstGeom>
          <a:solidFill>
            <a:srgbClr val="ebf3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925360" y="1049400"/>
            <a:ext cx="139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greso N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126040" y="1049400"/>
            <a:ext cx="1803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svío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7817400" y="1049400"/>
            <a:ext cx="80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830520" y="1297080"/>
            <a:ext cx="114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116520" y="1297080"/>
            <a:ext cx="1015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pe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5339160" y="1297080"/>
            <a:ext cx="1373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greso n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7604280" y="1297080"/>
            <a:ext cx="146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ima Ced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795960" y="1600200"/>
            <a:ext cx="1116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750 xs 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3212280" y="160020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630,4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471280" y="1600200"/>
            <a:ext cx="101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,430,5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7974720" y="160020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80,4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7242120" y="1600200"/>
            <a:ext cx="115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795960" y="1905120"/>
            <a:ext cx="1116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775 xs 2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212280" y="190512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653,4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5471280" y="1905120"/>
            <a:ext cx="101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,382,3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7974720" y="190512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719,8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7242120" y="1905120"/>
            <a:ext cx="115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795960" y="2209680"/>
            <a:ext cx="1116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800 xs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212280" y="220968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672,7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5471280" y="2209680"/>
            <a:ext cx="101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,327,3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7974720" y="220968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897,0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7242120" y="2209680"/>
            <a:ext cx="115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795960" y="2513160"/>
            <a:ext cx="1116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825 xs 1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3212280" y="251316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691,2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5471280" y="2513160"/>
            <a:ext cx="101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,263,5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7777800" y="2513160"/>
            <a:ext cx="101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,121,1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795960" y="2817720"/>
            <a:ext cx="1116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850 xs 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3212280" y="281772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711,0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471280" y="2817720"/>
            <a:ext cx="101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,188,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7777800" y="2817720"/>
            <a:ext cx="101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,408,8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795960" y="3425760"/>
            <a:ext cx="1116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900 xs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3212280" y="342576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720,2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668200" y="342576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983,2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7777800" y="3425760"/>
            <a:ext cx="101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,343,2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867240" y="3728880"/>
            <a:ext cx="98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925 xs 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212280" y="372888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699,3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668200" y="372888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840,3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7777800" y="3728880"/>
            <a:ext cx="101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,120,7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17360" y="1582560"/>
            <a:ext cx="9358560" cy="17640"/>
          </a:xfrm>
          <a:prstGeom prst="rect">
            <a:avLst/>
          </a:prstGeom>
          <a:solidFill>
            <a:srgbClr val="447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471600" y="4365720"/>
            <a:ext cx="8580240" cy="18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82600" indent="-282600" algn="just">
              <a:lnSpc>
                <a:spcPct val="90000"/>
              </a:lnSpc>
              <a:spcAft>
                <a:spcPts val="1749"/>
              </a:spcAft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tabla muestra resultados técnicos esperados para cada nivel de retenció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185400" algn="just">
              <a:lnSpc>
                <a:spcPct val="90000"/>
              </a:lnSpc>
              <a:spcAft>
                <a:spcPts val="1250"/>
              </a:spcAft>
              <a:buClr>
                <a:srgbClr val="a2c8a2"/>
              </a:buClr>
              <a:buSzPct val="6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El ingreso neto se define como la prima bruta menos la prima cedida estimada para cada estructura menos los siniestros retenidos y los gast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1" name=""/>
          <p:cNvGrpSpPr/>
          <p:nvPr/>
        </p:nvGrpSpPr>
        <p:grpSpPr>
          <a:xfrm>
            <a:off x="795960" y="3121200"/>
            <a:ext cx="7995960" cy="274680"/>
            <a:chOff x="795960" y="3121200"/>
            <a:chExt cx="7995960" cy="274680"/>
          </a:xfrm>
        </p:grpSpPr>
        <p:sp>
          <p:nvSpPr>
            <p:cNvPr id="972" name=""/>
            <p:cNvSpPr/>
            <p:nvPr/>
          </p:nvSpPr>
          <p:spPr>
            <a:xfrm>
              <a:off x="795960" y="3121200"/>
              <a:ext cx="1116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875 xs 1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212280" y="312120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725,0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471280" y="3121200"/>
              <a:ext cx="101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,096,8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777800" y="3121200"/>
              <a:ext cx="101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,796,3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471600" y="3116160"/>
            <a:ext cx="8715240" cy="284040"/>
            <a:chOff x="471600" y="3116160"/>
            <a:chExt cx="8715240" cy="284040"/>
          </a:xfrm>
        </p:grpSpPr>
        <p:sp>
          <p:nvSpPr>
            <p:cNvPr id="977" name=""/>
            <p:cNvSpPr/>
            <p:nvPr/>
          </p:nvSpPr>
          <p:spPr>
            <a:xfrm>
              <a:off x="471600" y="3143160"/>
              <a:ext cx="8715240" cy="257040"/>
            </a:xfrm>
            <a:prstGeom prst="rect">
              <a:avLst/>
            </a:prstGeom>
            <a:solidFill>
              <a:srgbClr val="447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8" name=""/>
            <p:cNvGrpSpPr/>
            <p:nvPr/>
          </p:nvGrpSpPr>
          <p:grpSpPr>
            <a:xfrm>
              <a:off x="796320" y="3116160"/>
              <a:ext cx="7995600" cy="274680"/>
              <a:chOff x="796320" y="3116160"/>
              <a:chExt cx="7995600" cy="274680"/>
            </a:xfrm>
          </p:grpSpPr>
          <p:sp>
            <p:nvSpPr>
              <p:cNvPr id="979" name=""/>
              <p:cNvSpPr/>
              <p:nvPr/>
            </p:nvSpPr>
            <p:spPr>
              <a:xfrm>
                <a:off x="796320" y="3116160"/>
                <a:ext cx="1140840" cy="2746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ffffff"/>
                    </a:solidFill>
                    <a:latin typeface="Arial"/>
                  </a:rPr>
                  <a:t>875 xs 12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212280" y="3116160"/>
                <a:ext cx="823680" cy="2746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ffffff"/>
                    </a:solidFill>
                    <a:latin typeface="Arial"/>
                  </a:rPr>
                  <a:t>725,01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471280" y="3116160"/>
                <a:ext cx="1014120" cy="2746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ffffff"/>
                    </a:solidFill>
                    <a:latin typeface="Arial"/>
                  </a:rPr>
                  <a:t>1,096,82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7777800" y="3116160"/>
                <a:ext cx="1014120" cy="2746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ffffff"/>
                    </a:solidFill>
                    <a:latin typeface="Arial"/>
                  </a:rPr>
                  <a:t>1,796,3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9D36D-0291-4DE2-9CAC-6ABA1AE0DE57}" type="slidenum">
              <a:t>40</a:t>
            </a:fld>
          </a:p>
        </p:txBody>
      </p:sp>
    </p:spTree>
  </p:cSld>
  <p:transition>
    <p:wipe dir="r"/>
  </p:transition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7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2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"/>
          <p:cNvSpPr/>
          <p:nvPr/>
        </p:nvSpPr>
        <p:spPr>
          <a:xfrm>
            <a:off x="7356600" y="1603440"/>
            <a:ext cx="1850760" cy="2482920"/>
          </a:xfrm>
          <a:prstGeom prst="rect">
            <a:avLst/>
          </a:prstGeom>
          <a:solidFill>
            <a:srgbClr val="c7dd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5070600" y="1603440"/>
            <a:ext cx="1850760" cy="248292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827440" y="1603440"/>
            <a:ext cx="1593720" cy="2482920"/>
          </a:xfrm>
          <a:prstGeom prst="rect">
            <a:avLst/>
          </a:prstGeom>
          <a:solidFill>
            <a:srgbClr val="ff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69800" y="1603440"/>
            <a:ext cx="1793880" cy="2482920"/>
          </a:xfrm>
          <a:prstGeom prst="rect">
            <a:avLst/>
          </a:prstGeom>
          <a:solidFill>
            <a:srgbClr val="ebf3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2925360" y="1049400"/>
            <a:ext cx="139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greso N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5126040" y="1049400"/>
            <a:ext cx="1803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svío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7819200" y="1049400"/>
            <a:ext cx="100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ta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830520" y="1297080"/>
            <a:ext cx="114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3116520" y="1297080"/>
            <a:ext cx="1015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pe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5339160" y="1297080"/>
            <a:ext cx="1373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greso n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7604280" y="1297080"/>
            <a:ext cx="146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ima Ced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795960" y="1600200"/>
            <a:ext cx="1116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750 xs 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212280" y="160020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630,4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5471280" y="1600200"/>
            <a:ext cx="101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,430,5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7974720" y="160020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80,4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242120" y="1600200"/>
            <a:ext cx="115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95960" y="1905120"/>
            <a:ext cx="1116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775 xs 2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3212280" y="190512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653,4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471280" y="1905120"/>
            <a:ext cx="101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,382,3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7974720" y="190512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719,8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7242120" y="1905120"/>
            <a:ext cx="115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795960" y="2209680"/>
            <a:ext cx="1116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800 xs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3212280" y="220968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672,7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5471280" y="2209680"/>
            <a:ext cx="101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,327,3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7974720" y="220968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897,0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7242120" y="2209680"/>
            <a:ext cx="115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795960" y="2513160"/>
            <a:ext cx="1116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825 xs 1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3212280" y="251316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691,2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5471280" y="2513160"/>
            <a:ext cx="101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,263,5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7777800" y="2513160"/>
            <a:ext cx="101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,121,1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795960" y="2817720"/>
            <a:ext cx="1116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850 xs 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3212280" y="281772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711,0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471280" y="2817720"/>
            <a:ext cx="101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,188,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777800" y="2817720"/>
            <a:ext cx="101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,408,8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795960" y="3425760"/>
            <a:ext cx="1116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900 xs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3212280" y="342576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720,2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5668200" y="342576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983,2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7777800" y="3425760"/>
            <a:ext cx="101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,343,2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867240" y="3728880"/>
            <a:ext cx="98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925 xs 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212280" y="372888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699,3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5668200" y="372888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840,3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7777800" y="3728880"/>
            <a:ext cx="101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,120,7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17360" y="1582560"/>
            <a:ext cx="9358560" cy="17640"/>
          </a:xfrm>
          <a:prstGeom prst="rect">
            <a:avLst/>
          </a:prstGeom>
          <a:solidFill>
            <a:srgbClr val="447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471600" y="4365720"/>
            <a:ext cx="8580240" cy="18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82600" indent="-282600" algn="just">
              <a:lnSpc>
                <a:spcPct val="90000"/>
              </a:lnSpc>
              <a:spcAft>
                <a:spcPts val="1749"/>
              </a:spcAft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tenciones de 150,000 o mas no serian optimas: el ingreso esperado disminuye cuando el desvío estándar (incertidumbre) aument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90000"/>
              </a:lnSpc>
              <a:spcAft>
                <a:spcPts val="1749"/>
              </a:spcAft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estructura con retención de 125,000 maximiza el ingreso esperado pero la volatilidad es mayor respecto a las otras dos alternativas con menores retencion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466560" y="347760"/>
            <a:ext cx="9134640" cy="34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Selección de la retención Opt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8" name=""/>
          <p:cNvGrpSpPr/>
          <p:nvPr/>
        </p:nvGrpSpPr>
        <p:grpSpPr>
          <a:xfrm>
            <a:off x="471600" y="3116160"/>
            <a:ext cx="8715240" cy="284040"/>
            <a:chOff x="471600" y="3116160"/>
            <a:chExt cx="8715240" cy="284040"/>
          </a:xfrm>
        </p:grpSpPr>
        <p:sp>
          <p:nvSpPr>
            <p:cNvPr id="1029" name=""/>
            <p:cNvSpPr/>
            <p:nvPr/>
          </p:nvSpPr>
          <p:spPr>
            <a:xfrm>
              <a:off x="471600" y="3143160"/>
              <a:ext cx="8715240" cy="257040"/>
            </a:xfrm>
            <a:prstGeom prst="rect">
              <a:avLst/>
            </a:prstGeom>
            <a:solidFill>
              <a:srgbClr val="447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"/>
            <p:cNvGrpSpPr/>
            <p:nvPr/>
          </p:nvGrpSpPr>
          <p:grpSpPr>
            <a:xfrm>
              <a:off x="796320" y="3116160"/>
              <a:ext cx="7995600" cy="274680"/>
              <a:chOff x="796320" y="3116160"/>
              <a:chExt cx="7995600" cy="274680"/>
            </a:xfrm>
          </p:grpSpPr>
          <p:sp>
            <p:nvSpPr>
              <p:cNvPr id="1031" name=""/>
              <p:cNvSpPr/>
              <p:nvPr/>
            </p:nvSpPr>
            <p:spPr>
              <a:xfrm>
                <a:off x="796320" y="3116160"/>
                <a:ext cx="1140840" cy="2746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ffffff"/>
                    </a:solidFill>
                    <a:latin typeface="Arial"/>
                  </a:rPr>
                  <a:t>875 xs 12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212280" y="3116160"/>
                <a:ext cx="823680" cy="2746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ffffff"/>
                    </a:solidFill>
                    <a:latin typeface="Arial"/>
                  </a:rPr>
                  <a:t>725,01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471280" y="3116160"/>
                <a:ext cx="1014120" cy="2746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ffffff"/>
                    </a:solidFill>
                    <a:latin typeface="Arial"/>
                  </a:rPr>
                  <a:t>1,096,82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777800" y="3116160"/>
                <a:ext cx="1014120" cy="2746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ffffff"/>
                    </a:solidFill>
                    <a:latin typeface="Arial"/>
                  </a:rPr>
                  <a:t>1,796,3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58FD9-0D6A-4123-A60F-19FAF1E55054}" type="slidenum">
              <a:t>41</a:t>
            </a:fld>
          </a:p>
        </p:txBody>
      </p: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7356600" y="1603440"/>
            <a:ext cx="1850760" cy="2482920"/>
          </a:xfrm>
          <a:prstGeom prst="rect">
            <a:avLst/>
          </a:prstGeom>
          <a:solidFill>
            <a:srgbClr val="c7dd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5070600" y="1603440"/>
            <a:ext cx="1850760" cy="248292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827440" y="1603440"/>
            <a:ext cx="1593720" cy="2482920"/>
          </a:xfrm>
          <a:prstGeom prst="rect">
            <a:avLst/>
          </a:prstGeom>
          <a:solidFill>
            <a:srgbClr val="ff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69800" y="1603440"/>
            <a:ext cx="1793880" cy="2482920"/>
          </a:xfrm>
          <a:prstGeom prst="rect">
            <a:avLst/>
          </a:prstGeom>
          <a:solidFill>
            <a:srgbClr val="ebf3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925360" y="1049400"/>
            <a:ext cx="139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greso N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126040" y="1049400"/>
            <a:ext cx="1803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svío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7819200" y="1049400"/>
            <a:ext cx="100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ta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830520" y="1297080"/>
            <a:ext cx="114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116520" y="1297080"/>
            <a:ext cx="1015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pe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5339160" y="1297080"/>
            <a:ext cx="1373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greso n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7604280" y="1297080"/>
            <a:ext cx="146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ima Ced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795960" y="1600200"/>
            <a:ext cx="1116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750 xs 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212280" y="160020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630,4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5471280" y="1600200"/>
            <a:ext cx="101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,430,5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7974720" y="160020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80,4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7242120" y="1600200"/>
            <a:ext cx="115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795960" y="1905120"/>
            <a:ext cx="1116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775 xs 2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212280" y="190512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653,4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5471280" y="1905120"/>
            <a:ext cx="101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,382,3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7974720" y="190512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719,8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7242120" y="1905120"/>
            <a:ext cx="115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795960" y="2209680"/>
            <a:ext cx="1116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800 xs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3212280" y="220968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672,7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5471280" y="2209680"/>
            <a:ext cx="101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,327,3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7974720" y="220968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897,0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7242120" y="2209680"/>
            <a:ext cx="115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795960" y="2513160"/>
            <a:ext cx="1116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825 xs 1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212280" y="251316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691,2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471280" y="2513160"/>
            <a:ext cx="101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,263,5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7777800" y="2513160"/>
            <a:ext cx="101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,121,1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795960" y="2817720"/>
            <a:ext cx="1116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850 xs 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212280" y="281772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711,0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5471280" y="2817720"/>
            <a:ext cx="101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,188,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777800" y="2817720"/>
            <a:ext cx="101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,408,8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795960" y="3425760"/>
            <a:ext cx="1116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900 xs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3212280" y="342576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720,2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5668200" y="342576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983,2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7777800" y="3425760"/>
            <a:ext cx="101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,343,2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867240" y="3728880"/>
            <a:ext cx="98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925 xs 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3212280" y="372888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699,3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5668200" y="372888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840,3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7777800" y="3728880"/>
            <a:ext cx="101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,120,7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117360" y="1582560"/>
            <a:ext cx="9358560" cy="17640"/>
          </a:xfrm>
          <a:prstGeom prst="rect">
            <a:avLst/>
          </a:prstGeom>
          <a:solidFill>
            <a:srgbClr val="447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471600" y="4365720"/>
            <a:ext cx="85802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82600" indent="-282600" algn="just">
              <a:lnSpc>
                <a:spcPct val="90000"/>
              </a:lnSpc>
              <a:spcAft>
                <a:spcPts val="1749"/>
              </a:spcAft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beríamos analizar las distribuciones de ingreso neto de esta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timas tres estructuras en mas detall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466560" y="347760"/>
            <a:ext cx="9134640" cy="34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Selección de la retención Opt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0" name=""/>
          <p:cNvGrpSpPr/>
          <p:nvPr/>
        </p:nvGrpSpPr>
        <p:grpSpPr>
          <a:xfrm>
            <a:off x="471600" y="3116160"/>
            <a:ext cx="8715240" cy="284040"/>
            <a:chOff x="471600" y="3116160"/>
            <a:chExt cx="8715240" cy="284040"/>
          </a:xfrm>
        </p:grpSpPr>
        <p:sp>
          <p:nvSpPr>
            <p:cNvPr id="1081" name=""/>
            <p:cNvSpPr/>
            <p:nvPr/>
          </p:nvSpPr>
          <p:spPr>
            <a:xfrm>
              <a:off x="471600" y="3143160"/>
              <a:ext cx="8715240" cy="257040"/>
            </a:xfrm>
            <a:prstGeom prst="rect">
              <a:avLst/>
            </a:prstGeom>
            <a:solidFill>
              <a:srgbClr val="447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2" name=""/>
            <p:cNvGrpSpPr/>
            <p:nvPr/>
          </p:nvGrpSpPr>
          <p:grpSpPr>
            <a:xfrm>
              <a:off x="796320" y="3116160"/>
              <a:ext cx="7995600" cy="274680"/>
              <a:chOff x="796320" y="3116160"/>
              <a:chExt cx="7995600" cy="274680"/>
            </a:xfrm>
          </p:grpSpPr>
          <p:sp>
            <p:nvSpPr>
              <p:cNvPr id="1083" name=""/>
              <p:cNvSpPr/>
              <p:nvPr/>
            </p:nvSpPr>
            <p:spPr>
              <a:xfrm>
                <a:off x="796320" y="3116160"/>
                <a:ext cx="1140840" cy="2746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ffffff"/>
                    </a:solidFill>
                    <a:latin typeface="Arial"/>
                  </a:rPr>
                  <a:t>875 xs 12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3212280" y="3116160"/>
                <a:ext cx="823680" cy="2746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ffffff"/>
                    </a:solidFill>
                    <a:latin typeface="Arial"/>
                  </a:rPr>
                  <a:t>725,01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471280" y="3116160"/>
                <a:ext cx="1014120" cy="2746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ffffff"/>
                    </a:solidFill>
                    <a:latin typeface="Arial"/>
                  </a:rPr>
                  <a:t>1,096,82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777800" y="3116160"/>
                <a:ext cx="1014120" cy="2746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ffffff"/>
                    </a:solidFill>
                    <a:latin typeface="Arial"/>
                  </a:rPr>
                  <a:t>1,796,3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32228-280C-4E28-9AB3-314D22D88AF3}" type="slidenum">
              <a:t>42</a:t>
            </a:fld>
          </a:p>
        </p:txBody>
      </p: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"/>
          <p:cNvSpPr/>
          <p:nvPr/>
        </p:nvSpPr>
        <p:spPr>
          <a:xfrm>
            <a:off x="7032600" y="1127160"/>
            <a:ext cx="2098800" cy="5181480"/>
          </a:xfrm>
          <a:prstGeom prst="rect">
            <a:avLst/>
          </a:prstGeom>
          <a:solidFill>
            <a:srgbClr val="c7dd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832280" y="1127160"/>
            <a:ext cx="2098800" cy="5181480"/>
          </a:xfrm>
          <a:prstGeom prst="rect">
            <a:avLst/>
          </a:prstGeom>
          <a:solidFill>
            <a:srgbClr val="ff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2595600" y="1127160"/>
            <a:ext cx="2098800" cy="518148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95280" y="1127160"/>
            <a:ext cx="2098800" cy="5181480"/>
          </a:xfrm>
          <a:prstGeom prst="rect">
            <a:avLst/>
          </a:prstGeom>
          <a:solidFill>
            <a:srgbClr val="ebf3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833760" y="1182600"/>
            <a:ext cx="13874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ba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107880" y="1182600"/>
            <a:ext cx="11408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875 xs 1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5328720" y="1182600"/>
            <a:ext cx="11408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900 xs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7617600" y="1182600"/>
            <a:ext cx="10141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925 xs 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1091160" y="1527120"/>
            <a:ext cx="733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10.0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3169800" y="1527120"/>
            <a:ext cx="1105560" cy="25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s-ES" sz="1700" spc="-1" strike="noStrike">
                <a:solidFill>
                  <a:srgbClr val="ff3300"/>
                </a:solidFill>
                <a:latin typeface="Arial"/>
              </a:rPr>
              <a:t>2,095,701</a:t>
            </a:r>
            <a:r>
              <a:rPr b="1" lang="es-MX" sz="17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5390640" y="1527120"/>
            <a:ext cx="1105560" cy="25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s-ES" sz="1700" spc="-1" strike="noStrike">
                <a:solidFill>
                  <a:srgbClr val="ff3300"/>
                </a:solidFill>
                <a:latin typeface="Arial"/>
              </a:rPr>
              <a:t>1,950,437</a:t>
            </a:r>
            <a:r>
              <a:rPr b="1" lang="es-MX" sz="17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7594200" y="1527120"/>
            <a:ext cx="1105560" cy="25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s-ES" sz="1700" spc="-1" strike="noStrike">
                <a:solidFill>
                  <a:srgbClr val="ff3300"/>
                </a:solidFill>
                <a:latin typeface="Arial"/>
              </a:rPr>
              <a:t>1,760,116</a:t>
            </a:r>
            <a:r>
              <a:rPr b="1" lang="es-MX" sz="17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1091160" y="1820880"/>
            <a:ext cx="733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20.0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3169800" y="1820880"/>
            <a:ext cx="1105560" cy="25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s-ES" sz="1700" spc="-1" strike="noStrike">
                <a:solidFill>
                  <a:srgbClr val="ff3300"/>
                </a:solidFill>
                <a:latin typeface="Arial"/>
              </a:rPr>
              <a:t>1,657,272</a:t>
            </a:r>
            <a:r>
              <a:rPr b="1" lang="es-MX" sz="17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5390640" y="1820880"/>
            <a:ext cx="1105560" cy="25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s-ES" sz="1700" spc="-1" strike="noStrike">
                <a:solidFill>
                  <a:srgbClr val="ff3300"/>
                </a:solidFill>
                <a:latin typeface="Arial"/>
              </a:rPr>
              <a:t>1,554,064</a:t>
            </a:r>
            <a:r>
              <a:rPr b="1" lang="es-MX" sz="17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7594200" y="1820880"/>
            <a:ext cx="1105560" cy="25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s-ES" sz="1700" spc="-1" strike="noStrike">
                <a:solidFill>
                  <a:srgbClr val="ff3300"/>
                </a:solidFill>
                <a:latin typeface="Arial"/>
              </a:rPr>
              <a:t>1,414,069</a:t>
            </a:r>
            <a:r>
              <a:rPr b="1" lang="es-MX" sz="17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091160" y="2116080"/>
            <a:ext cx="733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25.0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3169800" y="2116080"/>
            <a:ext cx="1105560" cy="25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s-ES" sz="1700" spc="-1" strike="noStrike">
                <a:solidFill>
                  <a:srgbClr val="ff3300"/>
                </a:solidFill>
                <a:latin typeface="Arial"/>
              </a:rPr>
              <a:t>1,487,643</a:t>
            </a:r>
            <a:r>
              <a:rPr b="1" lang="es-MX" sz="17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5390640" y="2116080"/>
            <a:ext cx="1105560" cy="25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s-ES" sz="1700" spc="-1" strike="noStrike">
                <a:solidFill>
                  <a:srgbClr val="ff3300"/>
                </a:solidFill>
                <a:latin typeface="Arial"/>
              </a:rPr>
              <a:t>1,403,430</a:t>
            </a:r>
            <a:r>
              <a:rPr b="1" lang="es-MX" sz="17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7594200" y="2116080"/>
            <a:ext cx="1105560" cy="25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s-ES" sz="1700" spc="-1" strike="noStrike">
                <a:solidFill>
                  <a:srgbClr val="ff3300"/>
                </a:solidFill>
                <a:latin typeface="Arial"/>
              </a:rPr>
              <a:t>1,280,662</a:t>
            </a:r>
            <a:r>
              <a:rPr b="1" lang="es-MX" sz="17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091160" y="2409840"/>
            <a:ext cx="733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40.0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3169800" y="2409840"/>
            <a:ext cx="1105560" cy="25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s-ES" sz="1700" spc="-1" strike="noStrike">
                <a:solidFill>
                  <a:srgbClr val="ff3300"/>
                </a:solidFill>
                <a:latin typeface="Arial"/>
              </a:rPr>
              <a:t>1,044,925</a:t>
            </a:r>
            <a:r>
              <a:rPr b="1" lang="es-MX" sz="17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5390640" y="2409840"/>
            <a:ext cx="1105560" cy="25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s-ES" sz="1700" spc="-1" strike="noStrike">
                <a:solidFill>
                  <a:srgbClr val="ff3300"/>
                </a:solidFill>
                <a:latin typeface="Arial"/>
              </a:rPr>
              <a:t>1,001,592</a:t>
            </a:r>
            <a:r>
              <a:rPr b="1" lang="es-MX" sz="17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7779240" y="2409840"/>
            <a:ext cx="925920" cy="25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s-ES" sz="1700" spc="-1" strike="noStrike">
                <a:solidFill>
                  <a:srgbClr val="ff3300"/>
                </a:solidFill>
                <a:latin typeface="Arial"/>
              </a:rPr>
              <a:t>938,349</a:t>
            </a:r>
            <a:r>
              <a:rPr b="1" lang="es-MX" sz="17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1091160" y="2705040"/>
            <a:ext cx="733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50.0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356280" y="2705040"/>
            <a:ext cx="925920" cy="25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s-ES" sz="1700" spc="-1" strike="noStrike">
                <a:solidFill>
                  <a:srgbClr val="ff3300"/>
                </a:solidFill>
                <a:latin typeface="Arial"/>
              </a:rPr>
              <a:t>767,199</a:t>
            </a:r>
            <a:r>
              <a:rPr b="1" lang="es-MX" sz="17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5577480" y="2705040"/>
            <a:ext cx="925920" cy="25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s-ES" sz="1700" spc="-1" strike="noStrike">
                <a:solidFill>
                  <a:srgbClr val="ff3300"/>
                </a:solidFill>
                <a:latin typeface="Arial"/>
              </a:rPr>
              <a:t>757,372</a:t>
            </a:r>
            <a:r>
              <a:rPr b="1" lang="es-MX" sz="17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7779240" y="2705040"/>
            <a:ext cx="925920" cy="25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s-ES" sz="1700" spc="-1" strike="noStrike">
                <a:solidFill>
                  <a:srgbClr val="ff3300"/>
                </a:solidFill>
                <a:latin typeface="Arial"/>
              </a:rPr>
              <a:t>732,116</a:t>
            </a:r>
            <a:r>
              <a:rPr b="1" lang="es-MX" sz="17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1091160" y="2998800"/>
            <a:ext cx="733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60.0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356280" y="2998800"/>
            <a:ext cx="925920" cy="25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s-ES" sz="1700" spc="-1" strike="noStrike">
                <a:solidFill>
                  <a:srgbClr val="ff3300"/>
                </a:solidFill>
                <a:latin typeface="Arial"/>
              </a:rPr>
              <a:t>491,609</a:t>
            </a:r>
            <a:r>
              <a:rPr b="1" lang="es-MX" sz="17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577480" y="2998800"/>
            <a:ext cx="925920" cy="25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s-ES" sz="1700" spc="-1" strike="noStrike">
                <a:solidFill>
                  <a:srgbClr val="ff3300"/>
                </a:solidFill>
                <a:latin typeface="Arial"/>
              </a:rPr>
              <a:t>506,348</a:t>
            </a:r>
            <a:r>
              <a:rPr b="1" lang="es-MX" sz="17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7779240" y="2998800"/>
            <a:ext cx="925920" cy="25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s-ES" sz="1700" spc="-1" strike="noStrike">
                <a:solidFill>
                  <a:srgbClr val="ff3300"/>
                </a:solidFill>
                <a:latin typeface="Arial"/>
              </a:rPr>
              <a:t>516,850</a:t>
            </a:r>
            <a:r>
              <a:rPr b="1" lang="es-MX" sz="17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1091160" y="3294000"/>
            <a:ext cx="733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75.0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3475440" y="3294000"/>
            <a:ext cx="805320" cy="25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s-ES" sz="1700" spc="-1" strike="noStrike">
                <a:solidFill>
                  <a:srgbClr val="ff3300"/>
                </a:solidFill>
                <a:latin typeface="Arial"/>
              </a:rPr>
              <a:t>13,385</a:t>
            </a:r>
            <a:r>
              <a:rPr b="1" lang="es-MX" sz="17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5696280" y="3294000"/>
            <a:ext cx="805320" cy="25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s-ES" sz="1700" spc="-1" strike="noStrike">
                <a:solidFill>
                  <a:srgbClr val="ff3300"/>
                </a:solidFill>
                <a:latin typeface="Arial"/>
              </a:rPr>
              <a:t>78,100</a:t>
            </a:r>
            <a:r>
              <a:rPr b="1" lang="es-MX" sz="17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7779240" y="3294000"/>
            <a:ext cx="925920" cy="25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s-ES" sz="1700" spc="-1" strike="noStrike">
                <a:solidFill>
                  <a:srgbClr val="ff3300"/>
                </a:solidFill>
                <a:latin typeface="Arial"/>
              </a:rPr>
              <a:t>153,034</a:t>
            </a:r>
            <a:r>
              <a:rPr b="1" lang="es-MX" sz="17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1091160" y="3587760"/>
            <a:ext cx="733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80.0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3412080" y="3587760"/>
            <a:ext cx="782640" cy="25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181,97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5742720" y="3587760"/>
            <a:ext cx="662040" cy="25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92,84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8017200" y="3587760"/>
            <a:ext cx="685080" cy="25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s-ES" sz="1700" spc="-1" strike="noStrike">
                <a:solidFill>
                  <a:srgbClr val="ff3300"/>
                </a:solidFill>
                <a:latin typeface="Arial"/>
              </a:rPr>
              <a:t>5,740</a:t>
            </a:r>
            <a:r>
              <a:rPr b="1" lang="es-MX" sz="17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1091160" y="3882960"/>
            <a:ext cx="733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90.0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3412080" y="3882960"/>
            <a:ext cx="782640" cy="25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142214"/>
                </a:solidFill>
                <a:latin typeface="Arial"/>
              </a:rPr>
              <a:t>707,47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5623560" y="3882960"/>
            <a:ext cx="782640" cy="25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142214"/>
                </a:solidFill>
                <a:latin typeface="Arial"/>
              </a:rPr>
              <a:t>562,28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7833600" y="3882960"/>
            <a:ext cx="782640" cy="25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142214"/>
                </a:solidFill>
                <a:latin typeface="Arial"/>
              </a:rPr>
              <a:t>391,08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1091160" y="4176720"/>
            <a:ext cx="733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95.0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3232080" y="4176720"/>
            <a:ext cx="962280" cy="25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142214"/>
                </a:solidFill>
                <a:latin typeface="Arial"/>
              </a:rPr>
              <a:t>1,151,00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5623560" y="4176720"/>
            <a:ext cx="782640" cy="25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142214"/>
                </a:solidFill>
                <a:latin typeface="Arial"/>
              </a:rPr>
              <a:t>957,02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7833600" y="4176720"/>
            <a:ext cx="782640" cy="25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142214"/>
                </a:solidFill>
                <a:latin typeface="Arial"/>
              </a:rPr>
              <a:t>719,67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091160" y="4471920"/>
            <a:ext cx="733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98.0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3232080" y="4471920"/>
            <a:ext cx="962280" cy="25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142214"/>
                </a:solidFill>
                <a:latin typeface="Arial"/>
              </a:rPr>
              <a:t>1,657,94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5438520" y="4471920"/>
            <a:ext cx="962280" cy="25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142214"/>
                </a:solidFill>
                <a:latin typeface="Arial"/>
              </a:rPr>
              <a:t>1,405,58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7653240" y="4471920"/>
            <a:ext cx="962280" cy="25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142214"/>
                </a:solidFill>
                <a:latin typeface="Arial"/>
              </a:rPr>
              <a:t>1,107,03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091160" y="4765680"/>
            <a:ext cx="733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99.0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3232080" y="4765680"/>
            <a:ext cx="962280" cy="25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142214"/>
                </a:solidFill>
                <a:latin typeface="Arial"/>
              </a:rPr>
              <a:t>2,025,42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5438520" y="4765680"/>
            <a:ext cx="962280" cy="25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142214"/>
                </a:solidFill>
                <a:latin typeface="Arial"/>
              </a:rPr>
              <a:t>1,718,72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7653240" y="4765680"/>
            <a:ext cx="962280" cy="25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142214"/>
                </a:solidFill>
                <a:latin typeface="Arial"/>
              </a:rPr>
              <a:t>1,354,85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091160" y="5060880"/>
            <a:ext cx="733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99.6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232080" y="5060880"/>
            <a:ext cx="962280" cy="25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142214"/>
                </a:solidFill>
                <a:latin typeface="Arial"/>
              </a:rPr>
              <a:t>2,462,96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5438520" y="5060880"/>
            <a:ext cx="962280" cy="25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142214"/>
                </a:solidFill>
                <a:latin typeface="Arial"/>
              </a:rPr>
              <a:t>2,116,43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7653240" y="5060880"/>
            <a:ext cx="962280" cy="25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142214"/>
                </a:solidFill>
                <a:latin typeface="Arial"/>
              </a:rPr>
              <a:t>1,700,23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1091160" y="5354640"/>
            <a:ext cx="733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99.8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3232080" y="5354640"/>
            <a:ext cx="962280" cy="25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142214"/>
                </a:solidFill>
                <a:latin typeface="Arial"/>
              </a:rPr>
              <a:t>2,795,38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5438520" y="5354640"/>
            <a:ext cx="962280" cy="25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142214"/>
                </a:solidFill>
                <a:latin typeface="Arial"/>
              </a:rPr>
              <a:t>2,428,2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7653240" y="5354640"/>
            <a:ext cx="962280" cy="25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142214"/>
                </a:solidFill>
                <a:latin typeface="Arial"/>
              </a:rPr>
              <a:t>1,939,81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1091160" y="5649840"/>
            <a:ext cx="733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99.9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3232080" y="5649840"/>
            <a:ext cx="962280" cy="25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142214"/>
                </a:solidFill>
                <a:latin typeface="Arial"/>
              </a:rPr>
              <a:t>3,103,95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5438520" y="5649840"/>
            <a:ext cx="962280" cy="25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142214"/>
                </a:solidFill>
                <a:latin typeface="Arial"/>
              </a:rPr>
              <a:t>2,685,24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7653240" y="5649840"/>
            <a:ext cx="962280" cy="25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142214"/>
                </a:solidFill>
                <a:latin typeface="Arial"/>
              </a:rPr>
              <a:t>2,155,80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1091160" y="5945040"/>
            <a:ext cx="733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99.99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3232080" y="5945040"/>
            <a:ext cx="962280" cy="25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142214"/>
                </a:solidFill>
                <a:latin typeface="Arial"/>
              </a:rPr>
              <a:t>3,802,04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5438520" y="5945040"/>
            <a:ext cx="962280" cy="25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142214"/>
                </a:solidFill>
                <a:latin typeface="Arial"/>
              </a:rPr>
              <a:t>3,320,38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7653240" y="5945040"/>
            <a:ext cx="962280" cy="25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142214"/>
                </a:solidFill>
                <a:latin typeface="Arial"/>
              </a:rPr>
              <a:t>2,773,09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328680" y="1492200"/>
            <a:ext cx="8901000" cy="1800"/>
          </a:xfrm>
          <a:prstGeom prst="line">
            <a:avLst/>
          </a:prstGeom>
          <a:ln w="0">
            <a:solidFill>
              <a:srgbClr val="447044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466560" y="144360"/>
            <a:ext cx="8877600" cy="34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Selección de la retención Optima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babilidades de Ingreso N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B79D6-8BEC-4FC0-B9CD-BC25F9BC31C2}" type="slidenum">
              <a:t>43</a:t>
            </a:fld>
          </a:p>
        </p:txBody>
      </p:sp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"/>
          <p:cNvSpPr/>
          <p:nvPr/>
        </p:nvSpPr>
        <p:spPr>
          <a:xfrm>
            <a:off x="1817640" y="1082520"/>
            <a:ext cx="1387440" cy="286092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3386160" y="1082520"/>
            <a:ext cx="1387440" cy="2860920"/>
          </a:xfrm>
          <a:prstGeom prst="rect">
            <a:avLst/>
          </a:prstGeom>
          <a:solidFill>
            <a:srgbClr val="ebf3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4940280" y="1082520"/>
            <a:ext cx="1387440" cy="286092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6491160" y="1082520"/>
            <a:ext cx="1387440" cy="2860920"/>
          </a:xfrm>
          <a:prstGeom prst="rect">
            <a:avLst/>
          </a:prstGeom>
          <a:solidFill>
            <a:srgbClr val="ebf3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8032680" y="1082520"/>
            <a:ext cx="1387440" cy="286092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263520" y="1082520"/>
            <a:ext cx="1387440" cy="2860920"/>
          </a:xfrm>
          <a:prstGeom prst="rect">
            <a:avLst/>
          </a:prstGeom>
          <a:solidFill>
            <a:srgbClr val="ebf3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2253240" y="1138320"/>
            <a:ext cx="49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ri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5228640" y="1138320"/>
            <a:ext cx="78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etaRi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6809760" y="1138320"/>
            <a:ext cx="78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etaRi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8347320" y="1138320"/>
            <a:ext cx="753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atio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483120" y="1343160"/>
            <a:ext cx="89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2267640" y="1343160"/>
            <a:ext cx="46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Bru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3776400" y="1343160"/>
            <a:ext cx="60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a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5069160" y="1343160"/>
            <a:ext cx="1140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rima Ced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6738120" y="1343160"/>
            <a:ext cx="933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rima Ne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8150040" y="1343160"/>
            <a:ext cx="114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astos Ne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455400" y="1590840"/>
            <a:ext cx="994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750 xs 2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1982880" y="1590840"/>
            <a:ext cx="101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8,028,3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3649680" y="1590840"/>
            <a:ext cx="902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,802,8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5289480" y="159084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580,4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6656400" y="1590840"/>
            <a:ext cx="101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7,447,9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8436240" y="16160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0.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55400" y="1863720"/>
            <a:ext cx="994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775 xs 2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1982880" y="1870200"/>
            <a:ext cx="101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8,028,3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3649680" y="1870200"/>
            <a:ext cx="902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,802,8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5289480" y="187164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719,8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6656400" y="1870200"/>
            <a:ext cx="101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7,308,5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8436240" y="189216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0.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455400" y="2138400"/>
            <a:ext cx="994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00 xs 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1982880" y="2151000"/>
            <a:ext cx="101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8,028,3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3649680" y="2151000"/>
            <a:ext cx="902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,802,8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5289480" y="215100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97,0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6656400" y="2151000"/>
            <a:ext cx="101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7,131,3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8436240" y="21686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0.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455400" y="2413080"/>
            <a:ext cx="994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25 xs 1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1982880" y="2432160"/>
            <a:ext cx="101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8,028,3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3649680" y="2432160"/>
            <a:ext cx="902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,802,8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5132520" y="2432160"/>
            <a:ext cx="902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,121,1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6656400" y="2432160"/>
            <a:ext cx="101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6,907,2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8436240" y="244620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0.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455400" y="2687760"/>
            <a:ext cx="994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50 xs 1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1982880" y="2711520"/>
            <a:ext cx="101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8,028,3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3649680" y="2711520"/>
            <a:ext cx="902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,802,8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5132520" y="2712960"/>
            <a:ext cx="902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,408,85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6656400" y="2711520"/>
            <a:ext cx="101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6,619,54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8436240" y="272268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0.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7" name=""/>
          <p:cNvGrpSpPr/>
          <p:nvPr/>
        </p:nvGrpSpPr>
        <p:grpSpPr>
          <a:xfrm>
            <a:off x="455400" y="2976480"/>
            <a:ext cx="8556120" cy="267480"/>
            <a:chOff x="455400" y="2976480"/>
            <a:chExt cx="8556120" cy="267480"/>
          </a:xfrm>
        </p:grpSpPr>
        <p:sp>
          <p:nvSpPr>
            <p:cNvPr id="1208" name=""/>
            <p:cNvSpPr/>
            <p:nvPr/>
          </p:nvSpPr>
          <p:spPr>
            <a:xfrm>
              <a:off x="455400" y="2976480"/>
              <a:ext cx="994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875 xs 1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1982880" y="2992320"/>
              <a:ext cx="1015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18,028,39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649680" y="2992320"/>
              <a:ext cx="902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1,802,8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132520" y="2992320"/>
              <a:ext cx="902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1,796,3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656400" y="2992320"/>
              <a:ext cx="1015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16,232,09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8436240" y="300024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11.1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4" name=""/>
          <p:cNvSpPr/>
          <p:nvPr/>
        </p:nvSpPr>
        <p:spPr>
          <a:xfrm>
            <a:off x="455400" y="3236760"/>
            <a:ext cx="994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900 xs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1982880" y="3273480"/>
            <a:ext cx="101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8,028,3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3649680" y="3273480"/>
            <a:ext cx="902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,802,8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5132520" y="3273480"/>
            <a:ext cx="902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2,343,24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6656400" y="3273480"/>
            <a:ext cx="101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5,685,15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8436240" y="327672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1.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455400" y="3554280"/>
            <a:ext cx="881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925 xs 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982880" y="3554280"/>
            <a:ext cx="101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8,028,3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3649680" y="3554280"/>
            <a:ext cx="902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,802,8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5132520" y="3554280"/>
            <a:ext cx="902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3,120,7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6656400" y="3554280"/>
            <a:ext cx="101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4,907,6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8436240" y="355428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2.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54000" y="1576440"/>
            <a:ext cx="9504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4000" y="1576440"/>
            <a:ext cx="95043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449280" y="4264200"/>
            <a:ext cx="860724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82600" indent="-282600" algn="just">
              <a:lnSpc>
                <a:spcPct val="90000"/>
              </a:lnSpc>
              <a:spcAft>
                <a:spcPts val="1749"/>
              </a:spcAft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as estructuras parecen similares en términos de resultado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90000"/>
              </a:lnSpc>
              <a:spcAft>
                <a:spcPts val="1749"/>
              </a:spcAft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tramo 875 xs 125 parece tener un poco mas volatilidad pero no inaceptablemente mayor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90000"/>
              </a:lnSpc>
              <a:spcAft>
                <a:spcPts val="1749"/>
              </a:spcAft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 las tres estructuras, la 875 xs 125 cede menor prima que las demás con menor retención y entonces minimiza el ratio de gastos (estas estructuras no tienen comisión de reasegu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"/>
          <p:cNvGrpSpPr/>
          <p:nvPr/>
        </p:nvGrpSpPr>
        <p:grpSpPr>
          <a:xfrm>
            <a:off x="263520" y="2970360"/>
            <a:ext cx="9151920" cy="285480"/>
            <a:chOff x="263520" y="2970360"/>
            <a:chExt cx="9151920" cy="285480"/>
          </a:xfrm>
        </p:grpSpPr>
        <p:sp>
          <p:nvSpPr>
            <p:cNvPr id="1230" name=""/>
            <p:cNvSpPr/>
            <p:nvPr/>
          </p:nvSpPr>
          <p:spPr>
            <a:xfrm>
              <a:off x="263520" y="2970360"/>
              <a:ext cx="9151920" cy="285480"/>
            </a:xfrm>
            <a:prstGeom prst="rect">
              <a:avLst/>
            </a:prstGeom>
            <a:solidFill>
              <a:srgbClr val="ff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55760" y="2990880"/>
              <a:ext cx="1015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875 xs 1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982880" y="2990880"/>
              <a:ext cx="1015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18,028,39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649680" y="2990880"/>
              <a:ext cx="902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1,802,8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132520" y="2990880"/>
              <a:ext cx="902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1,796,3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656400" y="2990880"/>
              <a:ext cx="1015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16,232,09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8436240" y="299088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11.1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7" name=""/>
          <p:cNvSpPr/>
          <p:nvPr/>
        </p:nvSpPr>
        <p:spPr>
          <a:xfrm>
            <a:off x="466560" y="347760"/>
            <a:ext cx="9134640" cy="34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Selección de la retención Opt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18827-7A0A-4B5A-AC00-5E163A30F367}" type="slidenum">
              <a:t>44</a:t>
            </a:fld>
          </a:p>
        </p:txBody>
      </p:sp>
    </p:spTree>
  </p:cSld>
  <p:transition>
    <p:wipe dir="r"/>
  </p:transition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4" dur="500"/>
                                        <p:tgtEl>
                                          <p:spTgt spid="1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9" dur="500"/>
                                        <p:tgtEl>
                                          <p:spTgt spid="1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4" dur="500"/>
                                        <p:tgtEl>
                                          <p:spTgt spid="1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/>
          <p:nvPr/>
        </p:nvSpPr>
        <p:spPr>
          <a:xfrm>
            <a:off x="471600" y="1104840"/>
            <a:ext cx="8651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2600" indent="-282600" algn="just">
              <a:lnSpc>
                <a:spcPct val="90000"/>
              </a:lnSpc>
              <a:spcAft>
                <a:spcPts val="1925"/>
              </a:spcAft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875 xs 125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es elegida como la estructura optima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/>
          </p:nvPr>
        </p:nvSpPr>
        <p:spPr>
          <a:xfrm>
            <a:off x="747360" y="3958920"/>
            <a:ext cx="79074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Es necesario revisar el análisis considerando también las cotizaciones reales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title"/>
          </p:nvPr>
        </p:nvSpPr>
        <p:spPr>
          <a:xfrm>
            <a:off x="611280" y="304920"/>
            <a:ext cx="74008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Selección de la retención Optim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1" name=""/>
          <p:cNvSpPr/>
          <p:nvPr/>
        </p:nvSpPr>
        <p:spPr>
          <a:xfrm>
            <a:off x="747720" y="1521000"/>
            <a:ext cx="703584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Tiene el mayor ingreso neto espera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Tienen aceptable volat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De las tres estructuras con menor volatilidad es la que da un menor ratio de ga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471600" y="3193920"/>
            <a:ext cx="861372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2600" indent="-282600" algn="just">
              <a:lnSpc>
                <a:spcPct val="90000"/>
              </a:lnSpc>
              <a:spcAft>
                <a:spcPts val="1925"/>
              </a:spcAft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odos este análisis esta basado en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ESTIMACIONE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de la prima de reaseguro para cada estructu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58D08-4BBB-452F-A898-ED9E79B9D6FC}" type="slidenum">
              <a:t>45</a:t>
            </a:fld>
          </a:p>
        </p:txBody>
      </p:sp>
    </p:spTree>
  </p:cSld>
  <p:transition>
    <p:wipe dir="r"/>
  </p:transition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1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1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ba76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1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1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4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ba76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04" dur="1" fill="hold"/>
                                  <p:tgtEl>
                                    <p:spTgt spid="123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/>
          <p:nvPr/>
        </p:nvSpPr>
        <p:spPr>
          <a:xfrm>
            <a:off x="720720" y="804960"/>
            <a:ext cx="7920000" cy="110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720720" y="1639800"/>
            <a:ext cx="8319960" cy="43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/>
          </p:nvPr>
        </p:nvSpPr>
        <p:spPr>
          <a:xfrm>
            <a:off x="2761920" y="2787480"/>
            <a:ext cx="362268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54120" indent="0" algn="ctr">
              <a:spcBef>
                <a:spcPts val="624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0" algn="ctr">
              <a:spcBef>
                <a:spcPts val="624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0" algn="ctr">
              <a:spcBef>
                <a:spcPts val="624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2313000" y="3154320"/>
            <a:ext cx="49615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6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lang="es-ES" sz="6600" spc="-1" strike="noStrike">
                <a:solidFill>
                  <a:srgbClr val="000000"/>
                </a:solidFill>
                <a:latin typeface="Comic Sans MS"/>
              </a:rPr>
              <a:t>Pregunta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0F410-A175-49FA-8A12-407660DA7C93}" type="slidenum">
              <a:t>46</a:t>
            </a:fld>
          </a:p>
        </p:txBody>
      </p:sp>
    </p:spTree>
  </p:cSld>
  <p:transition spd="slow">
    <p:wipe dir="r"/>
  </p:transition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0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1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500"/>
                            </p:stCondLst>
                            <p:childTnLst>
                              <p:par>
                                <p:cTn id="10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720720" y="804960"/>
            <a:ext cx="7920000" cy="110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720720" y="1639800"/>
            <a:ext cx="8319960" cy="43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2365200" y="3154320"/>
            <a:ext cx="388116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6ba76b"/>
                </a:solidFill>
                <a:latin typeface="Comic Sans MS"/>
              </a:rPr>
              <a:t>GRACIAS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599D2-6C38-4C5F-A8A1-DE7F05BB2EC4}" type="slidenum">
              <a:t>47</a:t>
            </a:fld>
          </a:p>
        </p:txBody>
      </p:sp>
    </p:spTree>
  </p:cSld>
  <p:transition spd="slow">
    <p:zoom dir="out"/>
  </p:transition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0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23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500"/>
                            </p:stCondLst>
                            <p:childTnLst>
                              <p:par>
                                <p:cTn id="10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C2DDF-DC55-458B-9A41-7B1890F8DEFA}" type="slidenum">
              <a:t>48</a:t>
            </a:fld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5546880" y="3232080"/>
            <a:ext cx="3108240" cy="2982960"/>
            <a:chOff x="5546880" y="3232080"/>
            <a:chExt cx="3108240" cy="2982960"/>
          </a:xfrm>
        </p:grpSpPr>
        <p:sp>
          <p:nvSpPr>
            <p:cNvPr id="137" name=""/>
            <p:cNvSpPr/>
            <p:nvPr/>
          </p:nvSpPr>
          <p:spPr>
            <a:xfrm>
              <a:off x="5546880" y="3232080"/>
              <a:ext cx="3108240" cy="2982960"/>
            </a:xfrm>
            <a:prstGeom prst="rect">
              <a:avLst/>
            </a:prstGeom>
            <a:solidFill>
              <a:srgbClr val="ebf3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108920" y="4216320"/>
              <a:ext cx="1092240" cy="71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7db17d"/>
                  </a:solidFill>
                  <a:latin typeface="Arial"/>
                </a:rPr>
                <a:t>Fase inici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251240" y="1092240"/>
            <a:ext cx="4403880" cy="2073240"/>
            <a:chOff x="4251240" y="1092240"/>
            <a:chExt cx="4403880" cy="2073240"/>
          </a:xfrm>
        </p:grpSpPr>
        <p:sp>
          <p:nvSpPr>
            <p:cNvPr id="140" name=""/>
            <p:cNvSpPr/>
            <p:nvPr/>
          </p:nvSpPr>
          <p:spPr>
            <a:xfrm>
              <a:off x="4251240" y="1092240"/>
              <a:ext cx="4403880" cy="2073240"/>
            </a:xfrm>
            <a:prstGeom prst="rect">
              <a:avLst/>
            </a:prstGeom>
            <a:solidFill>
              <a:srgbClr val="b5d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100920" y="1806480"/>
              <a:ext cx="2100240" cy="715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Arial"/>
                </a:rPr>
                <a:t>Análi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Arial"/>
                </a:rPr>
                <a:t>Actuari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466560" y="182520"/>
            <a:ext cx="5473800" cy="34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Cu</a:t>
            </a:r>
            <a:r>
              <a:rPr b="0" lang="es-AR" sz="2400" spc="-1" strike="noStrike">
                <a:solidFill>
                  <a:srgbClr val="000000"/>
                </a:solidFill>
                <a:latin typeface="Arial Black"/>
              </a:rPr>
              <a:t>á</a:t>
            </a: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l es el proceso de anális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863640" y="3295800"/>
            <a:ext cx="6661080" cy="3004920"/>
            <a:chOff x="863640" y="3295800"/>
            <a:chExt cx="6661080" cy="3004920"/>
          </a:xfrm>
        </p:grpSpPr>
        <p:sp>
          <p:nvSpPr>
            <p:cNvPr id="144" name=""/>
            <p:cNvSpPr/>
            <p:nvPr/>
          </p:nvSpPr>
          <p:spPr>
            <a:xfrm>
              <a:off x="1897200" y="4140360"/>
              <a:ext cx="4618080" cy="610920"/>
            </a:xfrm>
            <a:custGeom>
              <a:avLst/>
              <a:gdLst/>
              <a:ahLst/>
              <a:rect l="l" t="t" r="r" b="b"/>
              <a:pathLst>
                <a:path w="2890" h="385">
                  <a:moveTo>
                    <a:pt x="0" y="384"/>
                  </a:moveTo>
                  <a:lnTo>
                    <a:pt x="2890" y="385"/>
                  </a:lnTo>
                  <a:lnTo>
                    <a:pt x="2626" y="1"/>
                  </a:lnTo>
                  <a:lnTo>
                    <a:pt x="250" y="0"/>
                  </a:lnTo>
                  <a:lnTo>
                    <a:pt x="0" y="384"/>
                  </a:lnTo>
                  <a:close/>
                </a:path>
              </a:pathLst>
            </a:custGeom>
            <a:gradFill rotWithShape="0">
              <a:gsLst>
                <a:gs pos="0">
                  <a:srgbClr val="d2e4d2"/>
                </a:gs>
                <a:gs pos="100000">
                  <a:srgbClr val="d2e4d2"/>
                </a:gs>
              </a:gsLst>
              <a:lin ang="5400000"/>
            </a:gradFill>
            <a:ln w="38160">
              <a:solidFill>
                <a:srgbClr val="c7ddc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2314080" y="3295800"/>
              <a:ext cx="1849320" cy="782640"/>
            </a:xfrm>
            <a:custGeom>
              <a:avLst/>
              <a:gdLst/>
              <a:ahLst/>
              <a:rect l="l" t="t" r="r" b="b"/>
              <a:pathLst>
                <a:path w="1165" h="493">
                  <a:moveTo>
                    <a:pt x="0" y="489"/>
                  </a:moveTo>
                  <a:lnTo>
                    <a:pt x="1165" y="493"/>
                  </a:lnTo>
                  <a:lnTo>
                    <a:pt x="846" y="0"/>
                  </a:lnTo>
                  <a:lnTo>
                    <a:pt x="4" y="1"/>
                  </a:lnTo>
                  <a:lnTo>
                    <a:pt x="0" y="489"/>
                  </a:lnTo>
                  <a:close/>
                </a:path>
              </a:pathLst>
            </a:custGeom>
            <a:gradFill rotWithShape="0">
              <a:gsLst>
                <a:gs pos="0">
                  <a:srgbClr val="ecf4ec"/>
                </a:gs>
                <a:gs pos="100000">
                  <a:srgbClr val="ecf4ec"/>
                </a:gs>
              </a:gsLst>
              <a:lin ang="5400000"/>
            </a:gradFill>
            <a:ln w="38160">
              <a:solidFill>
                <a:srgbClr val="c7ddc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3640" y="5613480"/>
              <a:ext cx="6661080" cy="687240"/>
            </a:xfrm>
            <a:custGeom>
              <a:avLst/>
              <a:gdLst/>
              <a:ahLst/>
              <a:rect l="l" t="t" r="r" b="b"/>
              <a:pathLst>
                <a:path w="4055" h="433">
                  <a:moveTo>
                    <a:pt x="0" y="433"/>
                  </a:moveTo>
                  <a:lnTo>
                    <a:pt x="4055" y="433"/>
                  </a:lnTo>
                  <a:lnTo>
                    <a:pt x="3768" y="0"/>
                  </a:lnTo>
                  <a:lnTo>
                    <a:pt x="286" y="0"/>
                  </a:lnTo>
                  <a:lnTo>
                    <a:pt x="0" y="433"/>
                  </a:lnTo>
                  <a:close/>
                </a:path>
              </a:pathLst>
            </a:custGeom>
            <a:gradFill rotWithShape="0">
              <a:gsLst>
                <a:gs pos="0">
                  <a:srgbClr val="8dbb8d"/>
                </a:gs>
                <a:gs pos="100000">
                  <a:srgbClr val="8dbb8d"/>
                </a:gs>
              </a:gsLst>
              <a:lin ang="5400000"/>
            </a:gradFill>
            <a:ln w="38160">
              <a:solidFill>
                <a:srgbClr val="c7ddc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11200" y="4829040"/>
              <a:ext cx="5589720" cy="687600"/>
            </a:xfrm>
            <a:custGeom>
              <a:avLst/>
              <a:gdLst/>
              <a:ahLst/>
              <a:rect l="l" t="t" r="r" b="b"/>
              <a:pathLst>
                <a:path w="3457" h="433">
                  <a:moveTo>
                    <a:pt x="0" y="426"/>
                  </a:moveTo>
                  <a:lnTo>
                    <a:pt x="3457" y="433"/>
                  </a:lnTo>
                  <a:lnTo>
                    <a:pt x="3168" y="0"/>
                  </a:lnTo>
                  <a:lnTo>
                    <a:pt x="270" y="0"/>
                  </a:lnTo>
                  <a:lnTo>
                    <a:pt x="0" y="426"/>
                  </a:lnTo>
                  <a:close/>
                </a:path>
              </a:pathLst>
            </a:custGeom>
            <a:gradFill rotWithShape="0">
              <a:gsLst>
                <a:gs pos="0">
                  <a:srgbClr val="c2dac2"/>
                </a:gs>
                <a:gs pos="100000">
                  <a:srgbClr val="c2dac2"/>
                </a:gs>
              </a:gsLst>
              <a:lin ang="5400000"/>
            </a:gradFill>
            <a:ln w="38160">
              <a:solidFill>
                <a:srgbClr val="c7ddc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35360" y="3387600"/>
              <a:ext cx="1217520" cy="531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</a:rPr>
                <a:t>Modelo C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803600" y="5016600"/>
              <a:ext cx="4806720" cy="312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</a:rPr>
                <a:t>Obtención de Información de la Compañí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85960" y="5780160"/>
              <a:ext cx="4807080" cy="312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</a:rPr>
                <a:t>Análisis de las preguntas de la Asegurado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84400" y="4289400"/>
              <a:ext cx="4243320" cy="312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</a:rPr>
                <a:t>Depuración/Formato de la Inform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205520" y="3295800"/>
              <a:ext cx="1849320" cy="782640"/>
            </a:xfrm>
            <a:custGeom>
              <a:avLst/>
              <a:gdLst/>
              <a:ahLst/>
              <a:rect l="l" t="t" r="r" b="b"/>
              <a:pathLst>
                <a:path w="1165" h="493">
                  <a:moveTo>
                    <a:pt x="0" y="489"/>
                  </a:moveTo>
                  <a:lnTo>
                    <a:pt x="1165" y="493"/>
                  </a:lnTo>
                  <a:lnTo>
                    <a:pt x="846" y="0"/>
                  </a:lnTo>
                  <a:lnTo>
                    <a:pt x="4" y="1"/>
                  </a:lnTo>
                  <a:lnTo>
                    <a:pt x="0" y="489"/>
                  </a:lnTo>
                  <a:close/>
                </a:path>
              </a:pathLst>
            </a:custGeom>
            <a:gradFill rotWithShape="0">
              <a:gsLst>
                <a:gs pos="0">
                  <a:srgbClr val="ecf4ec"/>
                </a:gs>
                <a:gs pos="100000">
                  <a:srgbClr val="ecf4ec"/>
                </a:gs>
              </a:gsLst>
              <a:lin ang="5400000"/>
            </a:gradFill>
            <a:ln w="38160">
              <a:solidFill>
                <a:srgbClr val="c7ddc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86440" y="3387600"/>
              <a:ext cx="1606320" cy="531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</a:rPr>
                <a:t>Cotización Bás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2836800" y="1146240"/>
            <a:ext cx="2689200" cy="2098440"/>
            <a:chOff x="2836800" y="1146240"/>
            <a:chExt cx="2689200" cy="2098440"/>
          </a:xfrm>
        </p:grpSpPr>
        <p:sp>
          <p:nvSpPr>
            <p:cNvPr id="155" name=""/>
            <p:cNvSpPr/>
            <p:nvPr/>
          </p:nvSpPr>
          <p:spPr>
            <a:xfrm>
              <a:off x="2836800" y="2278080"/>
              <a:ext cx="2689200" cy="966600"/>
            </a:xfrm>
            <a:custGeom>
              <a:avLst/>
              <a:gdLst/>
              <a:ahLst/>
              <a:rect l="l" t="t" r="r" b="b"/>
              <a:pathLst>
                <a:path w="1714" h="691">
                  <a:moveTo>
                    <a:pt x="0" y="691"/>
                  </a:moveTo>
                  <a:lnTo>
                    <a:pt x="1714" y="691"/>
                  </a:lnTo>
                  <a:lnTo>
                    <a:pt x="1312" y="0"/>
                  </a:lnTo>
                  <a:lnTo>
                    <a:pt x="404" y="0"/>
                  </a:lnTo>
                  <a:lnTo>
                    <a:pt x="0" y="691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fff91"/>
                </a:gs>
              </a:gsLst>
              <a:lin ang="5400000"/>
            </a:gradFill>
            <a:ln w="38160">
              <a:solidFill>
                <a:srgbClr val="c7ddc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72200" y="1146240"/>
              <a:ext cx="1419840" cy="10890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e3"/>
                </a:gs>
                <a:gs pos="100000">
                  <a:srgbClr val="ffffe3"/>
                </a:gs>
              </a:gsLst>
              <a:lin ang="5400000"/>
            </a:gradFill>
            <a:ln w="38160">
              <a:solidFill>
                <a:srgbClr val="c7dd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5760" y="1492200"/>
              <a:ext cx="19087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</a:rPr>
                <a:t>Comparaciones de reasegu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62920" y="2343240"/>
              <a:ext cx="127692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</a:rPr>
                <a:t>Análisis estadístico y pric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8B83B-79AF-43B0-B13C-1F768386F7C5}" type="slidenum">
              <a:t>5</a:t>
            </a:fld>
          </a:p>
        </p:txBody>
      </p:sp>
    </p:spTree>
  </p:cSld>
  <p:transition>
    <p:wipe dir="r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12960" y="1535040"/>
            <a:ext cx="8405640" cy="38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2600" indent="-282600" algn="just">
              <a:lnSpc>
                <a:spcPct val="95000"/>
              </a:lnSpc>
              <a:spcAft>
                <a:spcPts val="2999"/>
              </a:spcAft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misma que se utiliza para cotizar un 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95000"/>
              </a:lnSpc>
              <a:spcAft>
                <a:spcPts val="601"/>
              </a:spcAft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gener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263520">
              <a:lnSpc>
                <a:spcPct val="100000"/>
              </a:lnSpc>
              <a:spcBef>
                <a:spcPts val="689"/>
              </a:spcBef>
              <a:buClr>
                <a:srgbClr val="7db17d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formación cualitativa (posibles cambi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263520">
              <a:lnSpc>
                <a:spcPct val="100000"/>
              </a:lnSpc>
              <a:spcBef>
                <a:spcPts val="689"/>
              </a:spcBef>
              <a:buClr>
                <a:srgbClr val="7db17d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erfiles de riesgo del periodo de estud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263520">
              <a:lnSpc>
                <a:spcPct val="100000"/>
              </a:lnSpc>
              <a:spcBef>
                <a:spcPts val="689"/>
              </a:spcBef>
              <a:buClr>
                <a:srgbClr val="7db17d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formación de siniestros y de su evolución (listado de grandes siniestr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263520">
              <a:lnSpc>
                <a:spcPct val="100000"/>
              </a:lnSpc>
              <a:spcBef>
                <a:spcPts val="689"/>
              </a:spcBef>
              <a:buClr>
                <a:srgbClr val="7db17d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formación sobre la cartera total (los ratios de los últimos añ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263520">
              <a:lnSpc>
                <a:spcPct val="100000"/>
              </a:lnSpc>
              <a:spcBef>
                <a:spcPts val="689"/>
              </a:spcBef>
              <a:buClr>
                <a:srgbClr val="7db17d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tructura y términos actuales de reaseguro. Alternativ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6560" y="347760"/>
            <a:ext cx="6972480" cy="34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Qué información es necesar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8240" y="1484280"/>
            <a:ext cx="8136000" cy="388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01336-DF43-412E-BAE1-47A308E8F822}" type="slidenum">
              <a:t>6</a:t>
            </a:fld>
          </a:p>
        </p:txBody>
      </p:sp>
    </p:spTree>
  </p:cSld>
  <p:transition>
    <p:wipe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2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5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8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1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4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7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ba76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1" dur="1" fill="hold"/>
                                  <p:tgtEl>
                                    <p:spTgt spid="1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ba76b"/>
                                </p:to>
                              </p:animClr>
                              <p:animClr clrSpc="rgb">
                                <p:cBhvr>
                                  <p:cTn id="212" dur="1" fill="hold"/>
                                  <p:tgtEl>
                                    <p:spTgt spid="1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ba76b"/>
                                </p:to>
                              </p:animClr>
                              <p:animClr clrSpc="rgb">
                                <p:cBhvr>
                                  <p:cTn id="213" dur="1" fill="hold"/>
                                  <p:tgtEl>
                                    <p:spTgt spid="1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ba76b"/>
                                </p:to>
                              </p:animClr>
                              <p:animClr clrSpc="rgb">
                                <p:cBhvr>
                                  <p:cTn id="214" dur="1" fill="hold"/>
                                  <p:tgtEl>
                                    <p:spTgt spid="15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ba76b"/>
                                </p:to>
                              </p:animClr>
                              <p:animClr clrSpc="rgb">
                                <p:cBhvr>
                                  <p:cTn id="215" dur="1" fill="hold"/>
                                  <p:tgtEl>
                                    <p:spTgt spid="15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ba76b"/>
                                </p:to>
                              </p:animClr>
                              <p:animClr clrSpc="rgb">
                                <p:cBhvr>
                                  <p:cTn id="216" dur="1" fill="hold"/>
                                  <p:tgtEl>
                                    <p:spTgt spid="15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ba76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5835240" y="1682280"/>
            <a:ext cx="3570120" cy="1428480"/>
            <a:chOff x="5835240" y="1682280"/>
            <a:chExt cx="3570120" cy="1428480"/>
          </a:xfrm>
        </p:grpSpPr>
        <p:sp>
          <p:nvSpPr>
            <p:cNvPr id="163" name=""/>
            <p:cNvSpPr/>
            <p:nvPr/>
          </p:nvSpPr>
          <p:spPr>
            <a:xfrm>
              <a:off x="7837920" y="1693800"/>
              <a:ext cx="156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robabilid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de Pérdi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 rot="20611800">
              <a:off x="5927760" y="1932120"/>
              <a:ext cx="1898640" cy="92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" name=""/>
          <p:cNvGrpSpPr/>
          <p:nvPr/>
        </p:nvGrpSpPr>
        <p:grpSpPr>
          <a:xfrm>
            <a:off x="6070320" y="2793960"/>
            <a:ext cx="2978280" cy="1086840"/>
            <a:chOff x="6070320" y="2793960"/>
            <a:chExt cx="2978280" cy="1086840"/>
          </a:xfrm>
        </p:grpSpPr>
        <p:sp>
          <p:nvSpPr>
            <p:cNvPr id="166" name=""/>
            <p:cNvSpPr/>
            <p:nvPr/>
          </p:nvSpPr>
          <p:spPr>
            <a:xfrm>
              <a:off x="7839000" y="2793960"/>
              <a:ext cx="1209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Análi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osto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Benefic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" descr=""/>
            <p:cNvPicPr/>
            <p:nvPr/>
          </p:nvPicPr>
          <p:blipFill>
            <a:blip r:embed="rId2"/>
            <a:stretch/>
          </p:blipFill>
          <p:spPr>
            <a:xfrm rot="21400800">
              <a:off x="6095520" y="2903040"/>
              <a:ext cx="1704960" cy="9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8" name=""/>
          <p:cNvGrpSpPr/>
          <p:nvPr/>
        </p:nvGrpSpPr>
        <p:grpSpPr>
          <a:xfrm>
            <a:off x="6140160" y="3926880"/>
            <a:ext cx="3300840" cy="1091880"/>
            <a:chOff x="6140160" y="3926880"/>
            <a:chExt cx="3300840" cy="1091880"/>
          </a:xfrm>
        </p:grpSpPr>
        <p:sp>
          <p:nvSpPr>
            <p:cNvPr id="169" name=""/>
            <p:cNvSpPr/>
            <p:nvPr/>
          </p:nvSpPr>
          <p:spPr>
            <a:xfrm>
              <a:off x="7840080" y="4100400"/>
              <a:ext cx="1600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osto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Reasegur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de referenc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3"/>
            <a:stretch/>
          </p:blipFill>
          <p:spPr>
            <a:xfrm rot="363600">
              <a:off x="6184440" y="4008240"/>
              <a:ext cx="1596960" cy="92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"/>
          <p:cNvGrpSpPr/>
          <p:nvPr/>
        </p:nvGrpSpPr>
        <p:grpSpPr>
          <a:xfrm>
            <a:off x="5819040" y="4795560"/>
            <a:ext cx="3471480" cy="1436760"/>
            <a:chOff x="5819040" y="4795560"/>
            <a:chExt cx="3471480" cy="1436760"/>
          </a:xfrm>
        </p:grpSpPr>
        <p:sp>
          <p:nvSpPr>
            <p:cNvPr id="172" name=""/>
            <p:cNvSpPr/>
            <p:nvPr/>
          </p:nvSpPr>
          <p:spPr>
            <a:xfrm>
              <a:off x="7838640" y="5437080"/>
              <a:ext cx="145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Impacto e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El Bal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" descr=""/>
            <p:cNvPicPr/>
            <p:nvPr/>
          </p:nvPicPr>
          <p:blipFill>
            <a:blip r:embed="rId4"/>
            <a:stretch/>
          </p:blipFill>
          <p:spPr>
            <a:xfrm rot="995400">
              <a:off x="5911560" y="5049360"/>
              <a:ext cx="1914480" cy="9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" name=""/>
          <p:cNvGrpSpPr/>
          <p:nvPr/>
        </p:nvGrpSpPr>
        <p:grpSpPr>
          <a:xfrm>
            <a:off x="192240" y="5362560"/>
            <a:ext cx="2729880" cy="870120"/>
            <a:chOff x="192240" y="5362560"/>
            <a:chExt cx="2729880" cy="870120"/>
          </a:xfrm>
        </p:grpSpPr>
        <p:pic>
          <p:nvPicPr>
            <p:cNvPr id="175" name="BodyText" descr=""/>
            <p:cNvPicPr/>
            <p:nvPr/>
          </p:nvPicPr>
          <p:blipFill>
            <a:blip r:embed="rId5"/>
            <a:stretch/>
          </p:blipFill>
          <p:spPr>
            <a:xfrm>
              <a:off x="192240" y="5362560"/>
              <a:ext cx="874440" cy="8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1135080" y="5483160"/>
              <a:ext cx="176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Incertidumbr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arámetr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633240" y="5467320"/>
              <a:ext cx="2288880" cy="685800"/>
              <a:chOff x="633240" y="5467320"/>
              <a:chExt cx="2288880" cy="685800"/>
            </a:xfrm>
          </p:grpSpPr>
          <p:sp>
            <p:nvSpPr>
              <p:cNvPr id="178" name=""/>
              <p:cNvSpPr/>
              <p:nvPr/>
            </p:nvSpPr>
            <p:spPr>
              <a:xfrm>
                <a:off x="633240" y="5477040"/>
                <a:ext cx="2286360" cy="0"/>
              </a:xfrm>
              <a:prstGeom prst="line">
                <a:avLst/>
              </a:prstGeom>
              <a:ln w="57240">
                <a:solidFill>
                  <a:srgbClr val="e3db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893680" y="5467320"/>
                <a:ext cx="0" cy="685800"/>
              </a:xfrm>
              <a:prstGeom prst="line">
                <a:avLst/>
              </a:prstGeom>
              <a:ln w="57240">
                <a:solidFill>
                  <a:srgbClr val="e3db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893880" y="6153120"/>
                <a:ext cx="2028240" cy="0"/>
              </a:xfrm>
              <a:prstGeom prst="line">
                <a:avLst/>
              </a:prstGeom>
              <a:ln w="57240">
                <a:solidFill>
                  <a:srgbClr val="e3db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1" name=""/>
          <p:cNvGrpSpPr/>
          <p:nvPr/>
        </p:nvGrpSpPr>
        <p:grpSpPr>
          <a:xfrm>
            <a:off x="173160" y="4408560"/>
            <a:ext cx="2744280" cy="869760"/>
            <a:chOff x="173160" y="4408560"/>
            <a:chExt cx="2744280" cy="869760"/>
          </a:xfrm>
        </p:grpSpPr>
        <p:pic>
          <p:nvPicPr>
            <p:cNvPr id="182" name="" descr=""/>
            <p:cNvPicPr/>
            <p:nvPr/>
          </p:nvPicPr>
          <p:blipFill>
            <a:blip r:embed="rId6"/>
            <a:stretch/>
          </p:blipFill>
          <p:spPr>
            <a:xfrm>
              <a:off x="173160" y="4408560"/>
              <a:ext cx="874440" cy="86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1134720" y="4535640"/>
              <a:ext cx="1680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Supuestos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Descu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638280" y="4500720"/>
              <a:ext cx="2279160" cy="685800"/>
              <a:chOff x="638280" y="4500720"/>
              <a:chExt cx="2279160" cy="685800"/>
            </a:xfrm>
          </p:grpSpPr>
          <p:sp>
            <p:nvSpPr>
              <p:cNvPr id="185" name=""/>
              <p:cNvSpPr/>
              <p:nvPr/>
            </p:nvSpPr>
            <p:spPr>
              <a:xfrm>
                <a:off x="638280" y="4510440"/>
                <a:ext cx="2276640" cy="0"/>
              </a:xfrm>
              <a:prstGeom prst="line">
                <a:avLst/>
              </a:prstGeom>
              <a:ln w="57240">
                <a:solidFill>
                  <a:srgbClr val="e3db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889360" y="4500720"/>
                <a:ext cx="0" cy="685800"/>
              </a:xfrm>
              <a:prstGeom prst="line">
                <a:avLst/>
              </a:prstGeom>
              <a:ln w="57240">
                <a:solidFill>
                  <a:srgbClr val="e3db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897840" y="5186520"/>
                <a:ext cx="2019600" cy="0"/>
              </a:xfrm>
              <a:prstGeom prst="line">
                <a:avLst/>
              </a:prstGeom>
              <a:ln w="57240">
                <a:solidFill>
                  <a:srgbClr val="e3db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8" name=""/>
          <p:cNvGrpSpPr/>
          <p:nvPr/>
        </p:nvGrpSpPr>
        <p:grpSpPr>
          <a:xfrm>
            <a:off x="173160" y="3462480"/>
            <a:ext cx="2734560" cy="869760"/>
            <a:chOff x="173160" y="3462480"/>
            <a:chExt cx="2734560" cy="869760"/>
          </a:xfrm>
        </p:grpSpPr>
        <p:pic>
          <p:nvPicPr>
            <p:cNvPr id="189" name="" descr=""/>
            <p:cNvPicPr/>
            <p:nvPr/>
          </p:nvPicPr>
          <p:blipFill>
            <a:blip r:embed="rId7"/>
            <a:stretch/>
          </p:blipFill>
          <p:spPr>
            <a:xfrm>
              <a:off x="173160" y="3462480"/>
              <a:ext cx="874440" cy="86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1134720" y="3618000"/>
              <a:ext cx="1553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Informació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Financi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628560" y="3567240"/>
              <a:ext cx="2279160" cy="685800"/>
              <a:chOff x="628560" y="3567240"/>
              <a:chExt cx="2279160" cy="685800"/>
            </a:xfrm>
          </p:grpSpPr>
          <p:sp>
            <p:nvSpPr>
              <p:cNvPr id="192" name=""/>
              <p:cNvSpPr/>
              <p:nvPr/>
            </p:nvSpPr>
            <p:spPr>
              <a:xfrm>
                <a:off x="628560" y="3576960"/>
                <a:ext cx="2277000" cy="0"/>
              </a:xfrm>
              <a:prstGeom prst="line">
                <a:avLst/>
              </a:prstGeom>
              <a:ln w="57240">
                <a:solidFill>
                  <a:srgbClr val="e3db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879640" y="3567240"/>
                <a:ext cx="0" cy="685800"/>
              </a:xfrm>
              <a:prstGeom prst="line">
                <a:avLst/>
              </a:prstGeom>
              <a:ln w="57240">
                <a:solidFill>
                  <a:srgbClr val="e3db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887760" y="4253040"/>
                <a:ext cx="2019960" cy="0"/>
              </a:xfrm>
              <a:prstGeom prst="line">
                <a:avLst/>
              </a:prstGeom>
              <a:ln w="57240">
                <a:solidFill>
                  <a:srgbClr val="e3db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5" name=""/>
          <p:cNvGrpSpPr/>
          <p:nvPr/>
        </p:nvGrpSpPr>
        <p:grpSpPr>
          <a:xfrm>
            <a:off x="174600" y="2487600"/>
            <a:ext cx="2723760" cy="870120"/>
            <a:chOff x="174600" y="2487600"/>
            <a:chExt cx="2723760" cy="870120"/>
          </a:xfrm>
        </p:grpSpPr>
        <p:pic>
          <p:nvPicPr>
            <p:cNvPr id="196" name="" descr=""/>
            <p:cNvPicPr/>
            <p:nvPr/>
          </p:nvPicPr>
          <p:blipFill>
            <a:blip r:embed="rId8"/>
            <a:stretch/>
          </p:blipFill>
          <p:spPr>
            <a:xfrm>
              <a:off x="174600" y="2487600"/>
              <a:ext cx="874800" cy="8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1135440" y="2608200"/>
              <a:ext cx="138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Estadís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Siniest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619200" y="2590920"/>
              <a:ext cx="2279160" cy="685800"/>
              <a:chOff x="619200" y="2590920"/>
              <a:chExt cx="2279160" cy="685800"/>
            </a:xfrm>
          </p:grpSpPr>
          <p:sp>
            <p:nvSpPr>
              <p:cNvPr id="199" name=""/>
              <p:cNvSpPr/>
              <p:nvPr/>
            </p:nvSpPr>
            <p:spPr>
              <a:xfrm>
                <a:off x="619200" y="2600640"/>
                <a:ext cx="2276640" cy="0"/>
              </a:xfrm>
              <a:prstGeom prst="line">
                <a:avLst/>
              </a:prstGeom>
              <a:ln w="57240">
                <a:solidFill>
                  <a:srgbClr val="e3db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870280" y="2590920"/>
                <a:ext cx="0" cy="685800"/>
              </a:xfrm>
              <a:prstGeom prst="line">
                <a:avLst/>
              </a:prstGeom>
              <a:ln w="57240">
                <a:solidFill>
                  <a:srgbClr val="e3db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878760" y="3276720"/>
                <a:ext cx="2019600" cy="0"/>
              </a:xfrm>
              <a:prstGeom prst="line">
                <a:avLst/>
              </a:prstGeom>
              <a:ln w="57240">
                <a:solidFill>
                  <a:srgbClr val="e3db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2" name=""/>
          <p:cNvGrpSpPr/>
          <p:nvPr/>
        </p:nvGrpSpPr>
        <p:grpSpPr>
          <a:xfrm>
            <a:off x="171360" y="1522440"/>
            <a:ext cx="2732400" cy="869760"/>
            <a:chOff x="171360" y="1522440"/>
            <a:chExt cx="2732400" cy="869760"/>
          </a:xfrm>
        </p:grpSpPr>
        <p:sp>
          <p:nvSpPr>
            <p:cNvPr id="203" name=""/>
            <p:cNvSpPr/>
            <p:nvPr/>
          </p:nvSpPr>
          <p:spPr>
            <a:xfrm>
              <a:off x="1135080" y="1662120"/>
              <a:ext cx="176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Distribu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atastróf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4" name="" descr=""/>
            <p:cNvPicPr/>
            <p:nvPr/>
          </p:nvPicPr>
          <p:blipFill>
            <a:blip r:embed="rId9"/>
            <a:stretch/>
          </p:blipFill>
          <p:spPr>
            <a:xfrm>
              <a:off x="171360" y="1522440"/>
              <a:ext cx="874800" cy="86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5" name=""/>
            <p:cNvGrpSpPr/>
            <p:nvPr/>
          </p:nvGrpSpPr>
          <p:grpSpPr>
            <a:xfrm>
              <a:off x="600120" y="1638360"/>
              <a:ext cx="2279160" cy="685800"/>
              <a:chOff x="600120" y="1638360"/>
              <a:chExt cx="2279160" cy="685800"/>
            </a:xfrm>
          </p:grpSpPr>
          <p:sp>
            <p:nvSpPr>
              <p:cNvPr id="206" name=""/>
              <p:cNvSpPr/>
              <p:nvPr/>
            </p:nvSpPr>
            <p:spPr>
              <a:xfrm>
                <a:off x="600120" y="1648080"/>
                <a:ext cx="2276640" cy="0"/>
              </a:xfrm>
              <a:prstGeom prst="line">
                <a:avLst/>
              </a:prstGeom>
              <a:ln w="57240">
                <a:solidFill>
                  <a:srgbClr val="e3db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851200" y="1638360"/>
                <a:ext cx="0" cy="685800"/>
              </a:xfrm>
              <a:prstGeom prst="line">
                <a:avLst/>
              </a:prstGeom>
              <a:ln w="57240">
                <a:solidFill>
                  <a:srgbClr val="e3db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859680" y="2324160"/>
                <a:ext cx="2019600" cy="0"/>
              </a:xfrm>
              <a:prstGeom prst="line">
                <a:avLst/>
              </a:prstGeom>
              <a:ln w="57240">
                <a:solidFill>
                  <a:srgbClr val="e3db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9" name=""/>
          <p:cNvGrpSpPr/>
          <p:nvPr/>
        </p:nvGrpSpPr>
        <p:grpSpPr>
          <a:xfrm>
            <a:off x="2957400" y="2732040"/>
            <a:ext cx="3211560" cy="2171880"/>
            <a:chOff x="2957400" y="2732040"/>
            <a:chExt cx="3211560" cy="2171880"/>
          </a:xfrm>
        </p:grpSpPr>
        <p:pic>
          <p:nvPicPr>
            <p:cNvPr id="210" name="BodyText" descr=""/>
            <p:cNvPicPr/>
            <p:nvPr/>
          </p:nvPicPr>
          <p:blipFill>
            <a:blip r:embed="rId10"/>
            <a:stretch/>
          </p:blipFill>
          <p:spPr>
            <a:xfrm>
              <a:off x="2957400" y="2732040"/>
              <a:ext cx="3211560" cy="21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3778920" y="3116880"/>
              <a:ext cx="154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is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466560" y="187200"/>
            <a:ext cx="6972480" cy="34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Cuantificación del riesgo en un portafolio y el costo de reducir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5EDF7-CE2E-4CA1-B29E-C88CD6DF63C7}" type="slidenum">
              <a:t>7</a:t>
            </a:fld>
          </a:p>
        </p:txBody>
      </p:sp>
    </p:spTree>
  </p:cSld>
  <p:transition>
    <p:wipe dir="r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28042E-006 -3.7037E-006 C 0.00264 -0.00255 0.00579 -0.00393 0.00827 -0.00671 C 0.01521 -0.01481 0.00612 -0.00949 0.01422 -0.01319 C 0.0205 -0.01991 0.0243 -0.01875 0.03092 -0.02338 C 0.03869 -0.0287 0.03009 -0.025 0.03919 -0.02824 C 0.04266 -0.0331 0.0453 -0.0331 0.04993 -0.03495 C 0.05985 -0.03889 0.06961 -0.04213 0.07969 -0.04491 C 0.08829 -0.04722 0.10598 -0.04838 0.10598 -0.04838 C 0.12632 -0.04699 0.1455 -0.04444 0.16551 -0.04005 C 0.17096 -0.03403 0.17675 -0.02893 0.18337 -0.02662 C 0.18452 -0.025 0.18551 -0.02292 0.18684 -0.02153 C 0.18783 -0.0206 0.18948 -0.02106 0.19047 -0.01991 C 0.19163 -0.01875 0.19196 -0.01667 0.19279 -0.01505 C 0.1956 -0.01018 0.1951 -0.01227 0.19874 -0.00833 C 0.20188 -0.00486 0.20833 0.00162 0.20833 0.00162 C 0.2118 0.00926 0.21726 0.01435 0.22139 0.02176 C 0.22586 0.02963 0.22966 0.03773 0.23561 0.04329 C 0.23909 0.05046 0.24438 0.05556 0.24884 0.06181 C 0.25165 0.06574 0.25463 0.07222 0.25711 0.07662 C 0.25926 0.08588 0.26389 0.09375 0.26786 0.10162 C 0.26934 0.10857 0.27017 0.11667 0.27381 0.12176 C 0.27612 0.13171 0.27596 0.14213 0.2786 0.15162 C 0.28092 0.17523 0.2829 0.19792 0.28456 0.22176 C 0.28472 0.225 0.28522 0.22847 0.28571 0.23171 C 0.28604 0.23403 0.28687 0.23843 0.28687 0.23843 E">
                                      <p:cBhvr>
                                        <p:cTn id="222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23" dur="1" fill="hold">
                                    <p:stCondLst>
                                      <p:cond evt="end">
                                        <p:tn val="221"/>
                                      </p:cond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32804E-006 -2.96296E-006 C 0.00348 -0.01481 0.00546 -0.03032 0.01307 -0.04167 C 0.01555 -0.05139 0.0172 -0.05579 0.02266 -0.06319 C 0.02414 -0.06944 0.02712 -0.07268 0.02977 -0.07824 C 0.03274 -0.0912 0.02828 -0.07569 0.03456 -0.08657 C 0.04117 -0.09815 0.02894 -0.08565 0.03936 -0.09491 C 0.04134 -0.10393 0.04795 -0.11643 0.05357 -0.12153 C 0.0549 -0.12755 0.06201 -0.14028 0.06548 -0.14329 C 0.06779 -0.14838 0.06779 -0.14931 0.07143 -0.15324 C 0.07375 -0.15579 0.07854 -0.15995 0.07854 -0.15995 C 0.08135 -0.16597 0.08896 -0.17268 0.09408 -0.175 C 0.10252 -0.18356 0.11111 -0.19213 0.12137 -0.19491 C 0.12947 -0.20255 0.13922 -0.20347 0.14881 -0.20486 C 0.16121 -0.20972 0.17411 -0.21042 0.18684 -0.21157 C 0.19362 -0.21111 0.2004 -0.21065 0.20718 -0.20995 C 0.21545 -0.20903 0.23215 -0.20671 0.23215 -0.20671 C 0.24008 -0.20278 0.24885 -0.20116 0.25711 -0.19838 C 0.26158 -0.19514 0.26439 -0.19074 0.26902 -0.18819 C 0.27332 -0.18264 0.28026 -0.17431 0.28572 -0.17153 C 0.29068 -0.16481 0.29415 -0.15694 0.29994 -0.15162 C 0.30275 -0.14074 0.29895 -0.15255 0.30589 -0.14167 C 0.30771 -0.13866 0.3087 -0.13449 0.31068 -0.13171 C 0.31267 -0.12893 0.31664 -0.12338 0.31664 -0.12338 C 0.31813 -0.11713 0.32077 -0.11458 0.32259 -0.10833 C 0.32557 -0.09815 0.32705 -0.08727 0.32854 -0.07662 C 0.32771 -0.06412 0.32788 -0.05208 0.32259 -0.04167 C 0.31945 -0.02847 0.31482 -0.01505 0.30953 -0.00324 C 0.3082 0.00417 0.30556 0.0081 0.30357 0.01505 C 0.29795 0.03565 0.29266 0.05972 0.27977 0.07338 C 0.27729 0.08426 0.28076 0.07384 0.27497 0.08009 C 0.27381 0.08125 0.27365 0.08357 0.27266 0.08495 C 0.26902 0.09074 0.26472 0.09607 0.26075 0.10162 C 0.25744 0.10625 0.25066 0.10787 0.24885 0.11343 E">
                                      <p:cBhvr>
                                        <p:cTn id="225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26" dur="1" fill="hold">
                                    <p:stCondLst>
                                      <p:cond evt="end">
                                        <p:tn val="224"/>
                                      </p:cond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0265E-006 -2.59259E-006 C 0.00298 -0.00463 0.00629 -0.00949 0.00828 -0.01505 C 0.0091 -0.01736 0.01175 -0.02755 0.01307 -0.03009 C 0.01687 -0.03727 0.02117 -0.04444 0.02498 -0.05162 C 0.02878 -0.0588 0.03027 -0.06667 0.03572 -0.07176 C 0.03986 -0.08403 0.04415 -0.09722 0.05126 -0.10671 C 0.05523 -0.11806 0.06267 -0.12685 0.06664 -0.13843 C 0.0716 -0.15278 0.0635 -0.13426 0.07028 -0.14676 C 0.07193 -0.15 0.07507 -0.15671 0.07507 -0.15671 C 0.07739 -0.1669 0.08218 -0.17662 0.08698 -0.18495 C 0.0883 -0.1912 0.09409 -0.20162 0.09409 -0.20162 C 0.09591 -0.20972 0.09855 -0.22292 0.1012 -0.23009 C 0.10285 -0.23449 0.10599 -0.24329 0.10599 -0.24329 C 0.10798 -0.25509 0.10632 -0.24769 0.11195 -0.26343 C 0.11277 -0.26574 0.11343 -0.26782 0.11426 -0.27014 C 0.11509 -0.27222 0.11674 -0.27662 0.11674 -0.27662 C 0.11922 -0.2912 0.12484 -0.30833 0.1298 -0.32176 C 0.13228 -0.33634 0.13906 -0.34815 0.14518 -0.35995 C 0.15097 -0.3713 0.14865 -0.36875 0.15708 -0.37662 C 0.15808 -0.37755 0.15857 -0.3794 0.15956 -0.38009 C 0.16238 -0.38218 0.16816 -0.3838 0.17147 -0.38495 C 0.1723 -0.38495 0.18437 -0.38472 0.18817 -0.38171 C 0.19991 -0.37269 0.19065 -0.37662 0.20007 -0.37338 C 0.20404 -0.3706 0.20652 -0.3669 0.21066 -0.36505 C 0.2138 -0.36088 0.21611 -0.35857 0.22025 -0.35671 C 0.2214 -0.35509 0.2224 -0.35301 0.22388 -0.35162 C 0.22488 -0.35069 0.22636 -0.35116 0.22736 -0.35 C 0.22884 -0.34815 0.22951 -0.34514 0.23099 -0.34329 C 0.23612 -0.33704 0.24339 -0.33403 0.24769 -0.32662 C 0.25183 -0.31944 0.25745 -0.31157 0.26076 -0.30347 C 0.26357 -0.29676 0.26787 -0.28611 0.27018 -0.27847 C 0.27183 -0.27292 0.27249 -0.26852 0.27498 -0.26343 C 0.27927 -0.24468 0.27233 -0.27292 0.27861 -0.25347 C 0.28076 -0.24653 0.28159 -0.23889 0.28341 -0.23171 C 0.28572 -0.20417 0.29052 -0.17755 0.29283 -0.15 C 0.29217 -0.1213 0.29713 -0.09931 0.28341 -0.08009 C 0.28291 -0.07847 0.28291 -0.07639 0.28208 -0.075 C 0.2801 -0.07153 0.27531 -0.06782 0.27266 -0.06505 C 0.26869 -0.06065 0.26555 -0.05579 0.26076 -0.05347 C 0.25315 -0.04607 0.24323 -0.04051 0.23447 -0.03681 C 0.2305 -0.03519 0.22785 -0.03218 0.22388 -0.03495 E">
                                      <p:cBhvr>
                                        <p:cTn id="228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29" dur="1" fill="hold">
                                    <p:stCondLst>
                                      <p:cond evt="end">
                                        <p:tn val="227"/>
                                      </p:cond>
                                    </p:stCondLst>
                                  </p:cTn>
                                  <p:tgtEl>
                                    <p:spTgt spid="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7566E-006 3.7037E-006 C 0.00083 -0.00232 0.00149 -0.00463 0.00248 -0.00672 C 0.00347 -0.00857 0.00546 -0.00949 0.00595 -0.01181 C 0.00794 -0.02084 0.00794 -0.03079 0.00959 -0.04005 C 0.01025 -0.04908 0.00943 -0.05857 0.01439 -0.06505 C 0.01554 -0.07176 0.01637 -0.07593 0.01918 -0.08172 C 0.02001 -0.08681 0.02017 -0.0919 0.0215 -0.09676 C 0.02348 -0.1044 0.02728 -0.11274 0.02976 -0.12014 C 0.0334 -0.14283 0.04034 -0.16459 0.04531 -0.18681 C 0.04944 -0.20533 0.0506 -0.22686 0.05837 -0.24329 C 0.06085 -0.25417 0.06184 -0.26852 0.06796 -0.27662 C 0.06945 -0.28473 0.07044 -0.29306 0.07391 -0.3 C 0.07606 -0.30903 0.07755 -0.32315 0.08218 -0.3301 C 0.08317 -0.33704 0.08466 -0.34537 0.08697 -0.35162 C 0.08829 -0.35533 0.09177 -0.36181 0.09177 -0.36181 C 0.09408 -0.37431 0.09855 -0.38287 0.10367 -0.39329 C 0.1126 -0.41158 0.12103 -0.42755 0.13228 -0.44329 C 0.13773 -0.45093 0.14385 -0.46181 0.15129 -0.46505 C 0.15542 -0.47107 0.15625 -0.47315 0.16204 -0.475 C 0.16601 -0.47894 0.16915 -0.4801 0.17394 -0.48172 C 0.187 -0.49399 0.21329 -0.49792 0.22867 -0.5 C 0.23495 -0.49954 0.2414 -0.49954 0.24769 -0.49838 C 0.25645 -0.49676 0.26323 -0.4882 0.2715 -0.48496 C 0.27712 -0.47917 0.28274 -0.47153 0.28935 -0.46829 C 0.29101 -0.46135 0.29514 -0.46019 0.29894 -0.4551 C 0.30622 -0.43426 0.29597 -0.46181 0.3049 -0.44329 C 0.30804 -0.43681 0.31002 -0.42848 0.31316 -0.42176 C 0.31564 -0.4 0.31382 -0.40787 0.3168 -0.39676 C 0.31895 -0.36644 0.3173 -0.33149 0.30721 -0.30348 C 0.30572 -0.29329 0.3044 -0.28496 0.3001 -0.27662 C 0.29878 -0.2676 0.29712 -0.25973 0.29415 -0.25162 C 0.29233 -0.24676 0.28902 -0.24329 0.28704 -0.23843 C 0.28175 -0.2257 0.28241 -0.22223 0.27265 -0.21343 C 0.26951 -0.20649 0.26488 -0.20186 0.25959 -0.19838 C 0.25661 -0.1919 0.25661 -0.19028 0.25 -0.18681 C 0.24884 -0.18611 0.24653 -0.18496 0.24653 -0.18496 E">
                                      <p:cBhvr>
                                        <p:cTn id="231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32" dur="1" fill="hold">
                                    <p:stCondLst>
                                      <p:cond evt="end">
                                        <p:tn val="230"/>
                                      </p:cond>
                                    </p:stCondLst>
                                  </p:cTn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4021E-006 -3.7037E-006 C 0.00199 -0.00277 0.0053 -0.00463 0.00596 -0.00833 C 0.00728 -0.01597 0.00711 -0.01875 0.01191 -0.02314 C 0.01455 -0.03495 0.01753 -0.04768 0.01902 -0.05995 C 0.02133 -0.07754 0.02199 -0.09606 0.02613 -0.11319 C 0.02993 -0.1287 0.03704 -0.14236 0.04051 -0.15833 C 0.04432 -0.17569 0.0468 -0.19398 0.04994 -0.21157 C 0.05143 -0.2199 0.05589 -0.24051 0.05837 -0.24814 C 0.06598 -0.27152 0.05787 -0.2368 0.06432 -0.26319 C 0.06598 -0.27013 0.06614 -0.27801 0.0678 -0.28495 C 0.07325 -0.30787 0.06713 -0.27592 0.07259 -0.30486 C 0.07507 -0.31782 0.0754 -0.32824 0.08086 -0.33981 C 0.08416 -0.35625 0.08929 -0.37106 0.09408 -0.38657 C 0.09656 -0.39467 0.09772 -0.40277 0.10119 -0.40995 C 0.10401 -0.42176 0.10219 -0.41713 0.10599 -0.425 C 0.1088 -0.44051 0.1126 -0.45555 0.11789 -0.4699 C 0.12021 -0.48703 0.12732 -0.50324 0.13327 -0.51828 C 0.14319 -0.54351 0.12996 -0.5125 0.13691 -0.53333 C 0.14055 -0.54421 0.1422 -0.54791 0.14766 -0.55486 C 0.14964 -0.56342 0.15543 -0.57106 0.15956 -0.57824 C 0.17064 -0.59768 0.18122 -0.62037 0.19759 -0.63148 C 0.20437 -0.64166 0.2042 -0.64513 0.21429 -0.65 C 0.21694 -0.65578 0.21908 -0.65787 0.22371 -0.65995 C 0.23149 -0.67013 0.24455 -0.6743 0.2548 -0.67662 C 0.26274 -0.67615 0.27067 -0.67592 0.27861 -0.675 C 0.29299 -0.67338 0.29895 -0.65671 0.30953 -0.64652 C 0.31647 -0.63194 0.32176 -0.61551 0.32738 -0.6 C 0.33201 -0.58726 0.33235 -0.57268 0.33681 -0.55995 C 0.33731 -0.55601 0.33764 -0.55208 0.33813 -0.54814 C 0.33879 -0.54375 0.33979 -0.53935 0.34045 -0.53495 C 0.34127 -0.52939 0.34276 -0.51828 0.34276 -0.51828 C 0.34227 -0.5037 0.34326 -0.47801 0.33929 -0.46157 C 0.33532 -0.4449 0.32209 -0.42638 0.313 -0.41481 C 0.30341 -0.40277 0.29647 -0.38819 0.28572 -0.37824 C 0.28291 -0.37245 0.28092 -0.37037 0.27613 -0.36828 C 0.27166 -0.36157 0.26654 -0.3574 0.26075 -0.35324 C 0.26026 -0.35162 0.25943 -0.34814 0.25943 -0.34814 E">
                                      <p:cBhvr>
                                        <p:cTn id="23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35" dur="1" fill="hold">
                                    <p:stCondLst>
                                      <p:cond evt="end">
                                        <p:tn val="233"/>
                                      </p:cond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path" presetID="2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7 -0.014 0.014 -0.0294 0.021 -0.049 C 0.04 -0.105 0.045 -0.1596 0.031 -0.168 C 0.017 -0.1778 -0.01 -0.1386 -0.029 -0.0826 C -0.039 -0.0532 -0.045 -0.0252 -0.047 -0.0042 C -0.05 0.0126 -0.051 0.0294 -0.051 0.049 C -0.051 0.112 -0.038 0.1638 -0.023 0.1638 C -0.008 0.1638 0.005 0.112 0.005 0.049 C 0.005 0.0196 0.002 -0.0084 -0.003 -0.028 C -0.005 -0.0448 -0.01 -0.063 -0.016 -0.0812 C -0.036 -0.1386 -0.063 -0.1778 -0.077 -0.168 C -0.091 -0.1582 -0.086 -0.105 -0.066 -0.0476 C -0.058 -0.021 -0.047 0.0014 -0.036 0.0168 C -0.028 0.0308 -0.019 0.0434 -0.007 0.056 C 0.029 0.0966 0.065 0.1148 0.075 0.098 C 0.084 0.0812 0.064 0.035 0.028 -0.0042 C 0.013 -0.021 -0.003 -0.0336 -0.016 -0.042 C -0.028 -0.0504 -0.043 -0.0574 -0.059 -0.0616 C -0.103 -0.0756 -0.141 -0.0714 -0.144 -0.049 C -0.148 -0.028 -0.115 0 -0.071 0.014 C -0.051 0.0196 -0.032 0.0224 -0.017 0.021 C -0.004 0.021 0.01 0.0182 0.025 0.014 C 0.069 0 0.102 -0.0294 0.098 -0.0504 C 0.095 -0.0714 0.057 -0.077 0.013 -0.063 C -0.008 -0.056 -0.027 -0.0462 -0.04 -0.035 C -0.051 -0.0266 -0.062 -0.0168 -0.074 -0.0042 C -0.109 0.0364 -0.13 0.0812 -0.12 0.098 C -0.111 0.1148 -0.074 0.0966 -0.039 0.0574 C -0.022 0.0378 -0.008 0.0182 0 0 Z">
                                      <p:cBhvr>
                                        <p:cTn id="238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0"/>
                            </p:stCondLst>
                            <p:childTnLst>
                              <p:par>
                                <p:cTn id="2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327320" y="1847880"/>
            <a:ext cx="6543360" cy="1803240"/>
          </a:xfrm>
          <a:custGeom>
            <a:avLst/>
            <a:gdLst/>
            <a:ahLst/>
            <a:rect l="l" t="t" r="r" b="b"/>
            <a:pathLst>
              <a:path w="3926" h="1136">
                <a:moveTo>
                  <a:pt x="0" y="1136"/>
                </a:moveTo>
                <a:cubicBezTo>
                  <a:pt x="322" y="1117"/>
                  <a:pt x="645" y="1098"/>
                  <a:pt x="972" y="909"/>
                </a:cubicBezTo>
                <a:cubicBezTo>
                  <a:pt x="1299" y="720"/>
                  <a:pt x="1634" y="0"/>
                  <a:pt x="1963" y="0"/>
                </a:cubicBezTo>
                <a:cubicBezTo>
                  <a:pt x="2292" y="0"/>
                  <a:pt x="2618" y="723"/>
                  <a:pt x="2945" y="909"/>
                </a:cubicBezTo>
                <a:cubicBezTo>
                  <a:pt x="3272" y="1095"/>
                  <a:pt x="3756" y="1091"/>
                  <a:pt x="3926" y="1118"/>
                </a:cubicBezTo>
              </a:path>
            </a:pathLst>
          </a:custGeom>
          <a:noFill/>
          <a:ln w="63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83160" y="1852560"/>
            <a:ext cx="0" cy="2505240"/>
          </a:xfrm>
          <a:prstGeom prst="line">
            <a:avLst/>
          </a:prstGeom>
          <a:ln w="50760">
            <a:solidFill>
              <a:srgbClr val="3366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11280" y="4445280"/>
            <a:ext cx="80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266840" y="4354560"/>
            <a:ext cx="690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579280" y="4427640"/>
            <a:ext cx="43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04000" y="4421520"/>
            <a:ext cx="383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24080" y="4437360"/>
            <a:ext cx="43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864080" y="4430880"/>
            <a:ext cx="383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168960" y="5445720"/>
            <a:ext cx="2600280" cy="91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C) Coeficiente de Variación =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Desv. St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432240" y="2924280"/>
            <a:ext cx="3400920" cy="2351880"/>
            <a:chOff x="3432240" y="2924280"/>
            <a:chExt cx="3400920" cy="2351880"/>
          </a:xfrm>
        </p:grpSpPr>
        <p:sp>
          <p:nvSpPr>
            <p:cNvPr id="223" name=""/>
            <p:cNvSpPr/>
            <p:nvPr/>
          </p:nvSpPr>
          <p:spPr>
            <a:xfrm>
              <a:off x="5804280" y="2924280"/>
              <a:ext cx="16560" cy="1406160"/>
            </a:xfrm>
            <a:prstGeom prst="line">
              <a:avLst/>
            </a:prstGeom>
            <a:ln cap="rnd" w="38160">
              <a:solidFill>
                <a:srgbClr val="336699"/>
              </a:solidFill>
              <a:custDash>
                <a:ds d="100000" sp="1000"/>
              </a:custDash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097960" y="4910040"/>
              <a:ext cx="1735200" cy="366120"/>
            </a:xfrm>
            <a:prstGeom prst="rect">
              <a:avLst/>
            </a:prstGeom>
            <a:noFill/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B) Desv. Std.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432240" y="2965320"/>
              <a:ext cx="16560" cy="1406160"/>
            </a:xfrm>
            <a:prstGeom prst="line">
              <a:avLst/>
            </a:prstGeom>
            <a:ln cap="rnd" w="38160">
              <a:solidFill>
                <a:srgbClr val="336699"/>
              </a:solidFill>
              <a:custDash>
                <a:ds d="100000" sp="1000"/>
              </a:custDash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621600" y="3098520"/>
              <a:ext cx="866160" cy="366120"/>
            </a:xfrm>
            <a:prstGeom prst="rect">
              <a:avLst/>
            </a:prstGeom>
            <a:noFill/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4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731480" y="3092400"/>
              <a:ext cx="866160" cy="366120"/>
            </a:xfrm>
            <a:prstGeom prst="rect">
              <a:avLst/>
            </a:prstGeom>
            <a:noFill/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4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14800" y="2276640"/>
            <a:ext cx="80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385440" y="5043600"/>
            <a:ext cx="2464920" cy="1329840"/>
            <a:chOff x="3385440" y="5043600"/>
            <a:chExt cx="2464920" cy="1329840"/>
          </a:xfrm>
        </p:grpSpPr>
        <p:sp>
          <p:nvSpPr>
            <p:cNvPr id="230" name=""/>
            <p:cNvSpPr/>
            <p:nvPr/>
          </p:nvSpPr>
          <p:spPr>
            <a:xfrm>
              <a:off x="4479480" y="5043600"/>
              <a:ext cx="259920" cy="933480"/>
            </a:xfrm>
            <a:prstGeom prst="downArrow">
              <a:avLst>
                <a:gd name="adj1" fmla="val 50000"/>
                <a:gd name="adj2" fmla="val 8978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85440" y="6007320"/>
              <a:ext cx="2464920" cy="36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(A)“Perdida Esperada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6313320" y="2708280"/>
            <a:ext cx="2087640" cy="576360"/>
          </a:xfrm>
          <a:prstGeom prst="rect">
            <a:avLst/>
          </a:prstGeom>
          <a:blipFill rotWithShape="0">
            <a:blip r:embed="rId1">
              <a:alphaModFix amt="62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) Capital a Ries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66560" y="347760"/>
            <a:ext cx="7539120" cy="34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Conceptos que hay detrás … Cuatro med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4C40E-5266-4BAA-BA0F-B3C9D6811C04}" type="slidenum">
              <a:t>8</a:t>
            </a:fld>
          </a:p>
        </p:txBody>
      </p:sp>
    </p:spTree>
  </p:cSld>
  <p:transition>
    <p:wipe dir="r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393920" y="1969920"/>
            <a:ext cx="6543720" cy="1803600"/>
          </a:xfrm>
          <a:custGeom>
            <a:avLst/>
            <a:gdLst/>
            <a:ahLst/>
            <a:rect l="l" t="t" r="r" b="b"/>
            <a:pathLst>
              <a:path w="3926" h="1136">
                <a:moveTo>
                  <a:pt x="0" y="1136"/>
                </a:moveTo>
                <a:cubicBezTo>
                  <a:pt x="322" y="1117"/>
                  <a:pt x="645" y="1098"/>
                  <a:pt x="972" y="909"/>
                </a:cubicBezTo>
                <a:cubicBezTo>
                  <a:pt x="1299" y="720"/>
                  <a:pt x="1634" y="0"/>
                  <a:pt x="1963" y="0"/>
                </a:cubicBezTo>
                <a:cubicBezTo>
                  <a:pt x="2292" y="0"/>
                  <a:pt x="2618" y="723"/>
                  <a:pt x="2945" y="909"/>
                </a:cubicBezTo>
                <a:cubicBezTo>
                  <a:pt x="3272" y="1095"/>
                  <a:pt x="3756" y="1091"/>
                  <a:pt x="3926" y="1118"/>
                </a:cubicBezTo>
              </a:path>
            </a:pathLst>
          </a:custGeom>
          <a:noFill/>
          <a:ln w="63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3659040" y="1974960"/>
            <a:ext cx="2054880" cy="2925720"/>
            <a:chOff x="3659040" y="1974960"/>
            <a:chExt cx="2054880" cy="2925720"/>
          </a:xfrm>
        </p:grpSpPr>
        <p:sp>
          <p:nvSpPr>
            <p:cNvPr id="236" name=""/>
            <p:cNvSpPr/>
            <p:nvPr/>
          </p:nvSpPr>
          <p:spPr>
            <a:xfrm>
              <a:off x="4649760" y="1974960"/>
              <a:ext cx="0" cy="2505240"/>
            </a:xfrm>
            <a:prstGeom prst="line">
              <a:avLst/>
            </a:prstGeom>
            <a:ln w="5076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659040" y="4595760"/>
              <a:ext cx="2054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336699"/>
                  </a:solidFill>
                  <a:latin typeface="Abadi MT Condensed Extra Bold"/>
                </a:rPr>
                <a:t> </a:t>
              </a:r>
              <a:r>
                <a:rPr b="1" lang="es-ES" sz="1400" spc="-1" strike="noStrike">
                  <a:solidFill>
                    <a:srgbClr val="336699"/>
                  </a:solidFill>
                  <a:latin typeface="Abadi MT Condensed Extra Bold"/>
                </a:rPr>
                <a:t>P</a:t>
              </a:r>
              <a:r>
                <a:rPr b="1" lang="es-AR" sz="1400" spc="-1" strike="noStrike">
                  <a:solidFill>
                    <a:srgbClr val="336699"/>
                  </a:solidFill>
                  <a:latin typeface="Abadi MT Condensed Extra Bold"/>
                </a:rPr>
                <a:t>é</a:t>
              </a:r>
              <a:r>
                <a:rPr b="1" lang="es-ES" sz="1400" spc="-1" strike="noStrike">
                  <a:solidFill>
                    <a:srgbClr val="336699"/>
                  </a:solidFill>
                  <a:latin typeface="Abadi MT Condensed Extra Bold"/>
                </a:rPr>
                <a:t>rdida Media = $</a:t>
              </a:r>
              <a:r>
                <a:rPr b="1" lang="es-AR" sz="1400" spc="-1" strike="noStrike">
                  <a:solidFill>
                    <a:srgbClr val="336699"/>
                  </a:solidFill>
                  <a:latin typeface="Abadi MT Condensed Extra Bold"/>
                </a:rPr>
                <a:t> </a:t>
              </a:r>
              <a:r>
                <a:rPr b="1" lang="es-ES" sz="1400" spc="-1" strike="noStrike">
                  <a:solidFill>
                    <a:srgbClr val="336699"/>
                  </a:solidFill>
                  <a:latin typeface="Abadi MT Condensed Extra Bold"/>
                </a:rPr>
                <a:t>5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790640" y="3543480"/>
            <a:ext cx="1830960" cy="2462400"/>
            <a:chOff x="1790640" y="3543480"/>
            <a:chExt cx="1830960" cy="2462400"/>
          </a:xfrm>
        </p:grpSpPr>
        <p:sp>
          <p:nvSpPr>
            <p:cNvPr id="239" name=""/>
            <p:cNvSpPr/>
            <p:nvPr/>
          </p:nvSpPr>
          <p:spPr>
            <a:xfrm>
              <a:off x="2709720" y="3543480"/>
              <a:ext cx="0" cy="2174760"/>
            </a:xfrm>
            <a:prstGeom prst="line">
              <a:avLst/>
            </a:prstGeom>
            <a:ln cap="rnd" w="38160">
              <a:solidFill>
                <a:srgbClr val="336699"/>
              </a:solidFill>
              <a:custDash>
                <a:ds d="100000" sp="1000"/>
              </a:custDash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790640" y="5700960"/>
              <a:ext cx="1830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336699"/>
                  </a:solidFill>
                  <a:latin typeface="Abadi MT Condensed Extra Bold"/>
                </a:rPr>
                <a:t>Std. Dev. = $</a:t>
              </a:r>
              <a:r>
                <a:rPr b="1" lang="es-AR" sz="1400" spc="-1" strike="noStrike">
                  <a:solidFill>
                    <a:srgbClr val="336699"/>
                  </a:solidFill>
                  <a:latin typeface="Abadi MT Condensed Extra Bold"/>
                </a:rPr>
                <a:t> </a:t>
              </a:r>
              <a:r>
                <a:rPr b="1" lang="es-ES" sz="1400" spc="-1" strike="noStrike">
                  <a:solidFill>
                    <a:srgbClr val="336699"/>
                  </a:solidFill>
                  <a:latin typeface="Abadi MT Condensed Extra Bold"/>
                </a:rPr>
                <a:t>30.1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3608280" y="5710320"/>
            <a:ext cx="2035440" cy="304920"/>
            <a:chOff x="3608280" y="5710320"/>
            <a:chExt cx="2035440" cy="304920"/>
          </a:xfrm>
        </p:grpSpPr>
        <p:sp>
          <p:nvSpPr>
            <p:cNvPr id="242" name=""/>
            <p:cNvSpPr/>
            <p:nvPr/>
          </p:nvSpPr>
          <p:spPr>
            <a:xfrm>
              <a:off x="3608280" y="5860800"/>
              <a:ext cx="928800" cy="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70400" y="5710320"/>
              <a:ext cx="1273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6699"/>
                  </a:solidFill>
                  <a:latin typeface="Abadi MT Condensed Extra Bold"/>
                </a:rPr>
                <a:t>CV = 59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1709640" y="1549440"/>
            <a:ext cx="6551640" cy="2482920"/>
          </a:xfrm>
          <a:custGeom>
            <a:avLst/>
            <a:gdLst/>
            <a:ahLst/>
            <a:rect l="l" t="t" r="r" b="b"/>
            <a:pathLst>
              <a:path w="4127" h="1564">
                <a:moveTo>
                  <a:pt x="0" y="1564"/>
                </a:moveTo>
                <a:cubicBezTo>
                  <a:pt x="85" y="1561"/>
                  <a:pt x="343" y="1562"/>
                  <a:pt x="513" y="1546"/>
                </a:cubicBezTo>
                <a:cubicBezTo>
                  <a:pt x="683" y="1530"/>
                  <a:pt x="849" y="1542"/>
                  <a:pt x="1021" y="1468"/>
                </a:cubicBezTo>
                <a:cubicBezTo>
                  <a:pt x="1193" y="1394"/>
                  <a:pt x="1370" y="1338"/>
                  <a:pt x="1544" y="1102"/>
                </a:cubicBezTo>
                <a:cubicBezTo>
                  <a:pt x="1717" y="866"/>
                  <a:pt x="1918" y="104"/>
                  <a:pt x="2060" y="52"/>
                </a:cubicBezTo>
                <a:cubicBezTo>
                  <a:pt x="2203" y="0"/>
                  <a:pt x="2316" y="614"/>
                  <a:pt x="2401" y="790"/>
                </a:cubicBezTo>
                <a:cubicBezTo>
                  <a:pt x="2486" y="966"/>
                  <a:pt x="2478" y="1002"/>
                  <a:pt x="2571" y="1108"/>
                </a:cubicBezTo>
                <a:cubicBezTo>
                  <a:pt x="2664" y="1214"/>
                  <a:pt x="2789" y="1357"/>
                  <a:pt x="2961" y="1426"/>
                </a:cubicBezTo>
                <a:cubicBezTo>
                  <a:pt x="3133" y="1495"/>
                  <a:pt x="3410" y="1503"/>
                  <a:pt x="3604" y="1522"/>
                </a:cubicBezTo>
                <a:cubicBezTo>
                  <a:pt x="3798" y="1541"/>
                  <a:pt x="3962" y="1540"/>
                  <a:pt x="4127" y="1540"/>
                </a:cubicBezTo>
              </a:path>
            </a:pathLst>
          </a:custGeom>
          <a:noFill/>
          <a:ln w="63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4475880" y="1660680"/>
            <a:ext cx="2519640" cy="2760840"/>
            <a:chOff x="4475880" y="1660680"/>
            <a:chExt cx="2519640" cy="2760840"/>
          </a:xfrm>
        </p:grpSpPr>
        <p:sp>
          <p:nvSpPr>
            <p:cNvPr id="246" name=""/>
            <p:cNvSpPr/>
            <p:nvPr/>
          </p:nvSpPr>
          <p:spPr>
            <a:xfrm>
              <a:off x="5010120" y="1660680"/>
              <a:ext cx="0" cy="243828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75880" y="4116600"/>
              <a:ext cx="2519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cc0000"/>
                  </a:solidFill>
                  <a:latin typeface="Abadi MT Condensed Extra Bold"/>
                </a:rPr>
                <a:t>    </a:t>
              </a:r>
              <a:r>
                <a:rPr b="1" lang="es-ES" sz="1400" spc="-1" strike="noStrike">
                  <a:solidFill>
                    <a:srgbClr val="cc0000"/>
                  </a:solidFill>
                  <a:latin typeface="Abadi MT Condensed Extra Bold"/>
                </a:rPr>
                <a:t>P</a:t>
              </a:r>
              <a:r>
                <a:rPr b="1" lang="es-AR" sz="1400" spc="-1" strike="noStrike">
                  <a:solidFill>
                    <a:srgbClr val="cc0000"/>
                  </a:solidFill>
                  <a:latin typeface="Abadi MT Condensed Extra Bold"/>
                </a:rPr>
                <a:t>é</a:t>
              </a:r>
              <a:r>
                <a:rPr b="1" lang="es-ES" sz="1400" spc="-1" strike="noStrike">
                  <a:solidFill>
                    <a:srgbClr val="cc0000"/>
                  </a:solidFill>
                  <a:latin typeface="Abadi MT Condensed Extra Bold"/>
                </a:rPr>
                <a:t>rdida Media = $</a:t>
              </a:r>
              <a:r>
                <a:rPr b="1" lang="es-AR" sz="1400" spc="-1" strike="noStrike">
                  <a:solidFill>
                    <a:srgbClr val="cc0000"/>
                  </a:solidFill>
                  <a:latin typeface="Abadi MT Condensed Extra Bold"/>
                </a:rPr>
                <a:t> </a:t>
              </a:r>
              <a:r>
                <a:rPr b="1" lang="es-ES" sz="1400" spc="-1" strike="noStrike">
                  <a:solidFill>
                    <a:srgbClr val="cc0000"/>
                  </a:solidFill>
                  <a:latin typeface="Abadi MT Condensed Extra Bold"/>
                </a:rPr>
                <a:t>52.1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4749840" y="5081760"/>
            <a:ext cx="2043720" cy="304920"/>
            <a:chOff x="4749840" y="5081760"/>
            <a:chExt cx="2043720" cy="304920"/>
          </a:xfrm>
        </p:grpSpPr>
        <p:sp>
          <p:nvSpPr>
            <p:cNvPr id="249" name=""/>
            <p:cNvSpPr/>
            <p:nvPr/>
          </p:nvSpPr>
          <p:spPr>
            <a:xfrm>
              <a:off x="5821920" y="5081760"/>
              <a:ext cx="971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badi MT Condensed Extra Bold"/>
                </a:rPr>
                <a:t>CV = 3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49840" y="5222880"/>
              <a:ext cx="93024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2808000" y="3708360"/>
            <a:ext cx="1830960" cy="1658880"/>
            <a:chOff x="2808000" y="3708360"/>
            <a:chExt cx="1830960" cy="1658880"/>
          </a:xfrm>
        </p:grpSpPr>
        <p:sp>
          <p:nvSpPr>
            <p:cNvPr id="252" name=""/>
            <p:cNvSpPr/>
            <p:nvPr/>
          </p:nvSpPr>
          <p:spPr>
            <a:xfrm>
              <a:off x="3710160" y="3708360"/>
              <a:ext cx="0" cy="1400040"/>
            </a:xfrm>
            <a:prstGeom prst="line">
              <a:avLst/>
            </a:prstGeom>
            <a:ln w="38160">
              <a:solidFill>
                <a:srgbClr val="cc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08000" y="5062320"/>
              <a:ext cx="1830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c0000"/>
                  </a:solidFill>
                  <a:latin typeface="Abadi MT Condensed Extra Bold"/>
                </a:rPr>
                <a:t>Std. Dev. = $</a:t>
              </a:r>
              <a:r>
                <a:rPr b="1" lang="es-AR" sz="1400" spc="-1" strike="noStrike">
                  <a:solidFill>
                    <a:srgbClr val="cc0000"/>
                  </a:solidFill>
                  <a:latin typeface="Abadi MT Condensed Extra Bold"/>
                </a:rPr>
                <a:t> </a:t>
              </a:r>
              <a:r>
                <a:rPr b="1" lang="es-ES" sz="1400" spc="-1" strike="noStrike">
                  <a:solidFill>
                    <a:srgbClr val="cc0000"/>
                  </a:solidFill>
                  <a:latin typeface="Abadi MT Condensed Extra Bold"/>
                </a:rPr>
                <a:t>17.8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409680" y="1309680"/>
            <a:ext cx="2879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44600" y="1305000"/>
            <a:ext cx="281916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2600" indent="-282600">
              <a:lnSpc>
                <a:spcPct val="85000"/>
              </a:lnSpc>
              <a:spcAft>
                <a:spcPts val="1001"/>
              </a:spcAft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Aumenta la p</a:t>
            </a:r>
            <a:r>
              <a:rPr b="0" lang="es-AR" sz="23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rdida esperad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5000"/>
              </a:lnSpc>
              <a:spcAft>
                <a:spcPts val="1001"/>
              </a:spcAft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Se reduce la volatilidad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5000"/>
              </a:lnSpc>
              <a:spcAft>
                <a:spcPts val="1001"/>
              </a:spcAft>
              <a:buClr>
                <a:srgbClr val="a2c8a2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Se liberara capit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66560" y="347760"/>
            <a:ext cx="9134640" cy="34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Conceptos que hay detrás </a:t>
            </a: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…Qu</a:t>
            </a:r>
            <a:r>
              <a:rPr b="0" lang="es-AR" sz="2400" spc="-1" strike="noStrike">
                <a:solidFill>
                  <a:srgbClr val="000000"/>
                </a:solidFill>
                <a:latin typeface="Arial Black"/>
              </a:rPr>
              <a:t>é</a:t>
            </a: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 har</a:t>
            </a:r>
            <a:r>
              <a:rPr b="0" lang="es-AR" sz="2400" spc="-1" strike="noStrike">
                <a:solidFill>
                  <a:srgbClr val="000000"/>
                </a:solidFill>
                <a:latin typeface="Arial Black"/>
              </a:rPr>
              <a:t>á</a:t>
            </a: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 el reasegur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93F1B-D870-4F8A-A801-5FD9277BE094}" type="slidenum">
              <a:t>9</a:t>
            </a:fld>
          </a:p>
        </p:txBody>
      </p:sp>
    </p:spTree>
  </p:cSld>
  <p:transition>
    <p:wipe dir="r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3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8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ba76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4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ba76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8" dur="1" fill="hold"/>
                                  <p:tgtEl>
                                    <p:spTgt spid="2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ba76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1T19:56:24Z</dcterms:created>
  <dc:creator>Gianna Pratt</dc:creator>
  <dc:description>MMCOA Templates
Marsh &amp; McLennan Companies</dc:description>
  <dc:language>en-US</dc:language>
  <cp:lastModifiedBy>Marsh, Inc.</cp:lastModifiedBy>
  <cp:lastPrinted>2002-01-19T14:37:16Z</cp:lastPrinted>
  <dcterms:modified xsi:type="dcterms:W3CDTF">2006-10-12T19:15:45Z</dcterms:modified>
  <cp:revision>188</cp:revision>
  <dc:subject/>
  <dc:title>MetaRisk: Estructuración y Pricing de Programas de Reaseguro  Casos aplicados a Salud y Aut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OA_FontSize">
    <vt:lpwstr>Medium</vt:lpwstr>
  </property>
  <property fmtid="{D5CDD505-2E9C-101B-9397-08002B2CF9AE}" pid="3" name="MMCOA_OriginalScheme">
    <vt:lpwstr> 1</vt:lpwstr>
  </property>
  <property fmtid="{D5CDD505-2E9C-101B-9397-08002B2CF9AE}" pid="4" name="MMCOA_Template">
    <vt:lpwstr>MMC Medium Fonts.pot</vt:lpwstr>
  </property>
  <property fmtid="{D5CDD505-2E9C-101B-9397-08002B2CF9AE}" pid="5" name="MMCOA_TemplateVersion">
    <vt:lpwstr>3.3</vt:lpwstr>
  </property>
</Properties>
</file>