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907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7640" y="0"/>
            <a:ext cx="2897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96600" y="761760"/>
            <a:ext cx="5391000" cy="373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040" y="4722480"/>
            <a:ext cx="4956120" cy="44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4388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7640" y="9443880"/>
            <a:ext cx="289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9BFAD-F425-43A2-9D18-1CED2772507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880920" y="855720"/>
            <a:ext cx="5034240" cy="348444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05040" y="4710240"/>
            <a:ext cx="498600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C7C3-3CFE-48EE-ABFF-8C97238A1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0F92-AE64-4E83-A18D-60188D495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428E-09FF-4456-A491-96C4A44BC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7E1F-5687-4B61-B1D6-A4B77C6C9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A6C4-6866-4374-A8AF-D9C5B0CF6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82F2-BA43-4686-A1CC-B1F057CF3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5E85-A1BA-4459-A873-3CABFA45E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A515-3D97-4D85-BF4B-181CB6A6F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7EDD-4F23-4F8F-9924-EF85C384D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D3D7-2E6C-4427-BF18-7171E5828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B61C-8D1C-483D-AE60-5127A36A6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D45B-92FC-4E73-82D6-B1A74AFDF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db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 fontScale="96000"/>
          </a:bodyPr>
          <a:p>
            <a:pPr marL="345600" indent="-345600"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8080" indent="-289440"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50200" indent="-230040"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9200" indent="-230040"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067840" indent="-228240">
              <a:spcBef>
                <a:spcPts val="825"/>
              </a:spcBef>
              <a:buClr>
                <a:srgbClr val="000000"/>
              </a:buClr>
              <a:buFont typeface="Times New Roman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067840" indent="-228240">
              <a:spcBef>
                <a:spcPts val="825"/>
              </a:spcBef>
              <a:buClr>
                <a:srgbClr val="000000"/>
              </a:buClr>
              <a:buFont typeface="Times New Roman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067840" indent="-228240">
              <a:spcBef>
                <a:spcPts val="825"/>
              </a:spcBef>
              <a:buClr>
                <a:srgbClr val="000000"/>
              </a:buClr>
              <a:buFont typeface="Times New Roman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248520"/>
            <a:ext cx="1447560" cy="457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38280" y="6248520"/>
            <a:ext cx="3137040" cy="457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7146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C8FAC1CA-2DCD-4E69-8F1C-52757786C5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db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9800" y="1197000"/>
            <a:ext cx="9505800" cy="21844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INTERNATIONAL ACTUARIAL EDUCATION PROGRAMME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848880" y="3885840"/>
            <a:ext cx="8425080" cy="25671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ayk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enos Aires, 19 September 200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8121600" y="5097600"/>
            <a:ext cx="1784520" cy="176040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db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00160" y="404280"/>
            <a:ext cx="94327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Arial"/>
              </a:rPr>
              <a:t>COMMISSIONING TUITION MATERIAL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9163080" cy="4687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ould we use existing text-books if possibl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r commission new materi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should we best define what is sough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 we need a detailed curriculu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r core reading or text-book specific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ould there be on-line tuition for each subjec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db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28680" y="475920"/>
            <a:ext cx="9577440" cy="10191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POSSIBLE SUB-CONTRACTORS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96292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 fontScale="99000"/>
          </a:bodyPr>
          <a:p>
            <a:pPr marL="356400" indent="-3564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vers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56400" indent="-3564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uarial associ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56400" indent="-3564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ropean Actuarial Academ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56400" indent="-3564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uarial instit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56400" indent="-3564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vate tuition provid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56400" indent="-3564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vidual actua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56400" indent="-3564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ms or consortia of actua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db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9800" y="476280"/>
            <a:ext cx="9505800" cy="87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GB" sz="4600" spc="-1" strike="noStrike">
                <a:solidFill>
                  <a:srgbClr val="000000"/>
                </a:solidFill>
                <a:latin typeface="Arial"/>
              </a:rPr>
              <a:t>RELIANCE ON UNIVERSITIES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88520" y="1981080"/>
            <a:ext cx="9288360" cy="4687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do we identify the universities to work wit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uld we rely on ‘new’ universities to examin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scope is there for alliances with existing actuarial universities in teaching/examin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ould we rely on new universities for non-cor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d keep core actuarial more centralis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db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76160" y="404640"/>
            <a:ext cx="8420400" cy="87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GB" sz="4600" spc="-1" strike="noStrike">
                <a:solidFill>
                  <a:srgbClr val="000000"/>
                </a:solidFill>
                <a:latin typeface="Arial"/>
              </a:rPr>
              <a:t>GLOBAL EXAMINATIONS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42680" y="1773000"/>
            <a:ext cx="8962920" cy="4824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intenance of quality is a key requir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lobal examinations would make this eas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mparison with CFA/PRM/F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perience of SoA/CAS/IAAust/UKAP/IAJ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r is this seen as too “anglo” an approac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AA should retain control over content/qua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dministration/marking could be subcontracte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db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72880" y="404280"/>
            <a:ext cx="92887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AA INTERNATIONAL ACTUARIAL EDUCATION PROGRAMME (IAEP)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31800" y="1773360"/>
            <a:ext cx="9074160" cy="5084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 fontScale="99000"/>
          </a:bodyPr>
          <a:p>
            <a:pPr marL="356400" indent="-3564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IAA education 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56400" indent="-3564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ailable in all countries (subject to deman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56400" indent="-3564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ociations may use IAEP to demonstrate that they meet the IAA education 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56400" indent="-3564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may use IAEP in full or in p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56400" indent="-3564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viduals who have passed all of IAEP can be regarded as meeting minimum 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56400" indent="-3564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AA will not award membership or qualif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56400" indent="-3564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will remain a key role for Associ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db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76160" y="404640"/>
            <a:ext cx="8420400" cy="803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ELEMENTS OF IAEP - 1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42680" y="1557000"/>
            <a:ext cx="8962920" cy="5040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llabus and curricul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ition materi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-line tuition arrang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twork of participating univers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ional centres of excell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sibility of universities being accredi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ks with established actuarial univers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db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76160" y="404640"/>
            <a:ext cx="8420400" cy="803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ELEMENTS OF IAEP - 2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42680" y="1557000"/>
            <a:ext cx="8962920" cy="5040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obal examinations in several langu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79400" indent="-301680">
              <a:lnSpc>
                <a:spcPct val="10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English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Spanish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Russia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79400" indent="-301680">
              <a:lnSpc>
                <a:spcPct val="10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rench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Chinese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Arial"/>
              </a:rPr>
              <a:t>– Arabic?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ining Board and network of examin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examinations may be sub-contra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xample to universities or other ent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ministration of examinations sub-contra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lity control by IA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db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6160" y="475920"/>
            <a:ext cx="8420400" cy="8031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PROFESSIONALISM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42680" y="1557000"/>
            <a:ext cx="8962920" cy="5111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sponsibility for professionalism education rests with local actuarial associ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AEP could include professionalism cour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vering generic ethical material based on Code of Conduct of Groupe Consultati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cluding numerous case stud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d maybe a video of Court proceedings in a hypothetical professional negligence case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db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9800" y="333000"/>
            <a:ext cx="95058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INUING PROFESSIONAL DEVELOPMEN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04520" y="1989000"/>
            <a:ext cx="8962920" cy="4680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AEP may also develop CPD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yond the IAA education 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could be used to broaden the education of existing actua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 of IAA education requirements may be CPD for some existing actua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ociations may decide to require some such additional modules for actuarial qualif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db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15440" y="475920"/>
            <a:ext cx="9217080" cy="8031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HOW WILL THIS BE ACHIEVED?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04520" y="1341360"/>
            <a:ext cx="9001080" cy="5400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ding expected from World Bank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some other donor agenc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industry co-financing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AA will set up project team to develop IA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vernance exercised through IEP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 year development ph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 must become self-financ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or funding may be available for pilot projects in particular count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sibly on ongoing basis in some c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db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6160" y="404640"/>
            <a:ext cx="8420400" cy="87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TIMETABLE?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31800" y="1484280"/>
            <a:ext cx="9074160" cy="5113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AA Council agreed to recommendations of Task Force requested in Paris, 28 May 200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EPC to carry out further feasibility stud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ions with World Bank about fund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sible start date for project 1 July 2007(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outputs will be available in ph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ition materials within two yea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inations could start in 3 to 4 yea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db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8680" y="404280"/>
            <a:ext cx="9577440" cy="731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Arial"/>
              </a:rPr>
              <a:t>IAA EDUCATION REQUIREMENT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43040" y="1557000"/>
            <a:ext cx="8889840" cy="5040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s it time for them to be reviewed anywa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ere might they need to be strengthen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79400" indent="-301680">
              <a:lnSpc>
                <a:spcPct val="10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finance and financial economics?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79400" indent="-301680">
              <a:lnSpc>
                <a:spcPct val="10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risk management?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79400" indent="-301680">
              <a:lnSpc>
                <a:spcPct val="10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investments and asset/liability modelling?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re all the important concepts cover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ould we expect some specialis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do we compare to CFA/PRM/FR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2T12:19:42Z</dcterms:created>
  <dc:creator>Phillip Tolley</dc:creator>
  <dc:description/>
  <dc:language>en-US</dc:language>
  <cp:lastModifiedBy>Chris Daykin</cp:lastModifiedBy>
  <dcterms:modified xsi:type="dcterms:W3CDTF">2006-10-13T16:12:53Z</dcterms:modified>
  <cp:revision>90</cp:revision>
  <dc:subject/>
  <dc:title>PowerPoint Presentation</dc:title>
</cp:coreProperties>
</file>