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6F28-CE4E-4BBC-90FE-0776AE0341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amos a ver que implicó la implementación del modelo para zillsa. Las unidades de negocios grandes lo iniciaron en el 2003/2004, nosotros la realizamos durante el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WP: productos con participación en las utilidades, Ej: term life que si el rendimiento es mayor al 4% un porcentaje del exceso se aplica a incrementar la suma asegurada (o se reducen las primas). Por lo general incluyen algún valor garantiz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P: los productos tradicionales que ya conoce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UL : Productos con ahorro donde el cliente compra unidades de un fondo y el valor de la unidad varía en función del rendimiento del activo subyacente. (no existe riesgo de inversió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tocásticos: Monte carlo o Back &amp; s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EA: </a:t>
            </a:r>
            <a:r>
              <a:rPr b="0" lang="es-ES_tradnl" sz="1200" spc="-1" strike="noStrike">
                <a:solidFill>
                  <a:srgbClr val="333399"/>
                </a:solidFill>
                <a:latin typeface="Times New Roman"/>
              </a:rPr>
              <a:t>Para productos donde el flujo de fondos no depende del mercado de capitales o es una función lineal del valor de los activos de una cuenta individual, existe la simplificación práctica del ”certainty equivalent approach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mplifica considerablemente los cálculos ya que se necesita un único escenario (determinístico) para establecer el va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considera una aproximaciòn a Monte Carlo y se usa en negocios donde las opciones o garantías no son significativas y por lo tanto los resultados de un modelo estocástico van a estar alrededor de la media. No tiene en cuenta el tipo de activo ni el comportamiento de los policyhol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Times New Roman"/>
              </a:rPr>
              <a:t>Cálculo determinístico dónde se asume que todos los activos se invierten a la tasa libre de riesgo y los resultados obtenidos se descuentan con las mismas t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NMR cubre lo 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nsurance risk – desarrollo adverso de la mortalidad o mor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tional risk – perdidas por única vez por eventos como fraude, sistemas, juicio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Business risk – Cambios adversos en áreas como gas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el TEV no se contemplaba porque se proyectaba a una tasa mayor que la garantiz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WCS:Se calcula cuál sería la pérdida bajo el peor escenario posible. Ej.: tasa rendimiento 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A14-0808-4152-A8A5-9653502F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8C6-40CF-4657-AFB4-3E23D29A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1A4-088F-420C-8706-7950FCA1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12E-C563-468A-BC82-1180254A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D89-2B3D-462F-B12B-A2105C65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585-C1D0-4428-A3EC-1A2FEEAA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77C-F36A-4C7E-BAF7-3E5F2CE0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909-FC39-4168-A62F-106EB509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D26-8421-4AA3-A146-46222277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64C-E9FE-4632-BF39-D25BF8E9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2A2-8ED1-4DC7-A221-62BD1B9F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AB3-AE4A-4F1D-A2A2-7F1CDB3D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1785-F58A-4870-BD3D-537B2C6D4A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905120"/>
            <a:ext cx="777240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99"/>
                </a:solidFill>
                <a:latin typeface="Times New Roman"/>
              </a:rPr>
              <a:t>Implementación EEV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333399"/>
                </a:solidFill>
                <a:latin typeface="Times New Roman"/>
              </a:rPr>
              <a:t>Experiencia de Zurich International Life – Suc Argen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248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Juliá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Ca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362320"/>
            <a:ext cx="7620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terminación del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Cambios realizados al modelo de T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Impacto de cada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04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termin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371600"/>
            <a:ext cx="8381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lasificación de los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With pro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Non pro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Unit Li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Identificación de Opciones y garant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Elec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Modelos de simulación estoc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Certainty equivalent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304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termin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ZIL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1981080"/>
            <a:ext cx="1143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419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CEA: Cálculo determinístico dónde se asume que todos los activos se invierten a la tasa libre de riesgo y los resultados obtenidos se descuentan con las mismas t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1752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Productos Unit li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71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Modelo elegido:  Certainty equivalent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ambios re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447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Tasa de proyección de los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286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Tasa fija de rendimient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2666880"/>
            <a:ext cx="11430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2286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Curva forward de tasas libre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267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Tasa de descuento con prima de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4648320"/>
            <a:ext cx="11430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4267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Curva forward de tasas libre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657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Tasa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04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ambios re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447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osto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2860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Diferencia entre tasa de rendimiento de activos y tasa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666880"/>
            <a:ext cx="11430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286000"/>
            <a:ext cx="350532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Friction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Valor actual de gastos de inversión + impuestos sobre rendimiento ob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572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Descuento con prima de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952880"/>
            <a:ext cx="11430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4648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Deducción de los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886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ost of non market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304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ambios re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447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Garant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286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No eran contemp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590920"/>
            <a:ext cx="11430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2286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Worst case scenari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Imp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2860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Traditional Embedded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European Embedded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11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191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4191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1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403848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Imp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828800"/>
            <a:ext cx="76197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Rendimiento esperado vs tasa libre de riesgo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-6,4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Tasa de descuento vs tasa libre de riesgo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25,6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Costo de capital vs Frictional cost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4,0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Cost of non market risk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-4,7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Costo de las garantías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AGaramond"/>
              </a:rPr>
              <a:t>	</a:t>
            </a:r>
            <a:r>
              <a:rPr b="0" lang="es-ES" sz="2400" spc="-1" strike="noStrike">
                <a:solidFill>
                  <a:srgbClr val="333399"/>
                </a:solidFill>
                <a:latin typeface="AGaramond"/>
              </a:rPr>
              <a:t>-1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4495680"/>
            <a:ext cx="144792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</a:rPr>
              <a:t>1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23:17:55Z</dcterms:created>
  <dc:creator>Julian</dc:creator>
  <dc:description/>
  <dc:language>en-US</dc:language>
  <cp:lastModifiedBy>C.P.C.E.C.A.B.A.</cp:lastModifiedBy>
  <dcterms:modified xsi:type="dcterms:W3CDTF">2006-10-18T18:12:34Z</dcterms:modified>
  <cp:revision>12</cp:revision>
  <dc:subject/>
  <dc:title>Presentación de PowerPoint</dc:title>
</cp:coreProperties>
</file>