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6276960"/>
          <a:ext cx="9144000" cy="58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276960"/>
                    <a:ext cx="91440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" name=""/>
          <p:cNvGraphicFramePr/>
          <p:nvPr/>
        </p:nvGraphicFramePr>
        <p:xfrm>
          <a:off x="0" y="0"/>
          <a:ext cx="9144000" cy="819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7086600" y="62485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527b"/>
                </a:solidFill>
                <a:latin typeface="Arial"/>
              </a:rPr>
              <a:t>Junio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029200" y="-22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24480" y="-76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Interstate-Light"/>
              </a:rPr>
              <a:t>Arauca Bit AFJ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51460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527b"/>
                </a:solidFill>
                <a:latin typeface="Interstate-Light"/>
              </a:rPr>
              <a:t>4° Congreso Internacional de la Seguridad Soci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"/>
          <p:cNvSpPr/>
          <p:nvPr/>
        </p:nvSpPr>
        <p:spPr>
          <a:xfrm>
            <a:off x="762120" y="1600200"/>
            <a:ext cx="19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527b"/>
                </a:solidFill>
                <a:latin typeface="Interstate-Light"/>
              </a:rPr>
              <a:t>Caso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7" name=""/>
          <p:cNvGrpSpPr/>
          <p:nvPr/>
        </p:nvGrpSpPr>
        <p:grpSpPr>
          <a:xfrm>
            <a:off x="5029200" y="1447920"/>
            <a:ext cx="4114800" cy="809640"/>
            <a:chOff x="5029200" y="1447920"/>
            <a:chExt cx="4114800" cy="809640"/>
          </a:xfrm>
        </p:grpSpPr>
        <p:sp>
          <p:nvSpPr>
            <p:cNvPr id="2458" name=""/>
            <p:cNvSpPr/>
            <p:nvPr/>
          </p:nvSpPr>
          <p:spPr>
            <a:xfrm>
              <a:off x="5111280" y="1800360"/>
              <a:ext cx="3735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527b"/>
                  </a:solidFill>
                  <a:latin typeface="Interstate-Light"/>
                </a:rPr>
                <a:t>Crecimiento del Sueldo 11% an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5029200" y="1447920"/>
              <a:ext cx="4114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527b"/>
                  </a:solidFill>
                  <a:latin typeface="Interstate-Light"/>
                </a:rPr>
                <a:t>Ajuste del Préstamo CVS 10% an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60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305560" cy="4133880"/>
          </a:xfrm>
          <a:prstGeom prst="rect">
            <a:avLst/>
          </a:prstGeom>
          <a:ln w="0">
            <a:noFill/>
          </a:ln>
        </p:spPr>
      </p:pic>
      <p:sp>
        <p:nvSpPr>
          <p:cNvPr id="2461" name=""/>
          <p:cNvSpPr/>
          <p:nvPr/>
        </p:nvSpPr>
        <p:spPr>
          <a:xfrm>
            <a:off x="228600" y="68580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527b"/>
                </a:solidFill>
                <a:latin typeface="Interstate-Light"/>
              </a:rPr>
              <a:t>Inversiones de los Fondos de Pens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2" name=""/>
          <p:cNvSpPr/>
          <p:nvPr/>
        </p:nvSpPr>
        <p:spPr>
          <a:xfrm>
            <a:off x="609480" y="1523880"/>
            <a:ext cx="19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527b"/>
                </a:solidFill>
                <a:latin typeface="Interstate-Light"/>
              </a:rPr>
              <a:t>Caso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3" name=""/>
          <p:cNvGrpSpPr/>
          <p:nvPr/>
        </p:nvGrpSpPr>
        <p:grpSpPr>
          <a:xfrm>
            <a:off x="5334120" y="1447920"/>
            <a:ext cx="4114800" cy="809640"/>
            <a:chOff x="5334120" y="1447920"/>
            <a:chExt cx="4114800" cy="809640"/>
          </a:xfrm>
        </p:grpSpPr>
        <p:sp>
          <p:nvSpPr>
            <p:cNvPr id="2464" name=""/>
            <p:cNvSpPr/>
            <p:nvPr/>
          </p:nvSpPr>
          <p:spPr>
            <a:xfrm>
              <a:off x="5416200" y="1800360"/>
              <a:ext cx="3735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527b"/>
                  </a:solidFill>
                  <a:latin typeface="Interstate-Light"/>
                </a:rPr>
                <a:t>Crecimiento del Sueldo 9% an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5334120" y="1447920"/>
              <a:ext cx="4114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527b"/>
                  </a:solidFill>
                  <a:latin typeface="Interstate-Light"/>
                </a:rPr>
                <a:t>Ajuste del Préstamo CVS 10% an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66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8686800" cy="4324320"/>
          </a:xfrm>
          <a:prstGeom prst="rect">
            <a:avLst/>
          </a:prstGeom>
          <a:ln w="0">
            <a:noFill/>
          </a:ln>
        </p:spPr>
      </p:pic>
      <p:sp>
        <p:nvSpPr>
          <p:cNvPr id="2467" name=""/>
          <p:cNvSpPr/>
          <p:nvPr/>
        </p:nvSpPr>
        <p:spPr>
          <a:xfrm>
            <a:off x="228600" y="68580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527b"/>
                </a:solidFill>
                <a:latin typeface="Interstate-Light"/>
              </a:rPr>
              <a:t>Inversiones de los Fondos de Pens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"/>
          <p:cNvSpPr/>
          <p:nvPr/>
        </p:nvSpPr>
        <p:spPr>
          <a:xfrm>
            <a:off x="0" y="1523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527b"/>
                </a:solidFill>
                <a:latin typeface="Interstate-Light"/>
              </a:rPr>
              <a:t>Evolución de los Saldos de Capital en los tres ca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9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8153280" cy="4057560"/>
          </a:xfrm>
          <a:prstGeom prst="rect">
            <a:avLst/>
          </a:prstGeom>
          <a:ln w="0">
            <a:noFill/>
          </a:ln>
        </p:spPr>
      </p:pic>
      <p:sp>
        <p:nvSpPr>
          <p:cNvPr id="2470" name=""/>
          <p:cNvSpPr/>
          <p:nvPr/>
        </p:nvSpPr>
        <p:spPr>
          <a:xfrm>
            <a:off x="228600" y="68580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527b"/>
                </a:solidFill>
                <a:latin typeface="Interstate-Light"/>
              </a:rPr>
              <a:t>Inversiones de los Fondos de Pens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"/>
          <p:cNvSpPr/>
          <p:nvPr/>
        </p:nvSpPr>
        <p:spPr>
          <a:xfrm>
            <a:off x="228600" y="68580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527b"/>
                </a:solidFill>
                <a:latin typeface="Interstate-Light"/>
              </a:rPr>
              <a:t>Inversiones de los Fondos de Pens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380880" y="228600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buClr>
                <a:srgbClr val="00527b"/>
              </a:buClr>
              <a:buFont typeface="Interstate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527b"/>
                </a:solidFill>
                <a:latin typeface="Interstate-Light"/>
              </a:rPr>
              <a:t>Habilitación legal de un espacio de negociación para emisores calificados e inversores institu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380880" y="419112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buClr>
                <a:srgbClr val="00527b"/>
              </a:buClr>
              <a:buFont typeface="Interstate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527b"/>
                </a:solidFill>
                <a:latin typeface="Interstate-Light"/>
              </a:rPr>
              <a:t>Construcción de una relación de largo pla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380880" y="54100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buClr>
                <a:srgbClr val="00527b"/>
              </a:buClr>
              <a:buFont typeface="Interstate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527b"/>
                </a:solidFill>
                <a:latin typeface="Interstate-Light"/>
              </a:rPr>
              <a:t>Compatibilización de intere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2514600"/>
            <a:ext cx="81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527b"/>
                </a:solidFill>
                <a:latin typeface="Interstate-Light"/>
              </a:rPr>
              <a:t>Inversiones de los Fondos de Pen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68580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527b"/>
                </a:solidFill>
                <a:latin typeface="Interstate-Light"/>
              </a:rPr>
              <a:t>Inversiones de los Fondos de Pens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8108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buClr>
                <a:srgbClr val="00527b"/>
              </a:buClr>
              <a:buFont typeface="Interstate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527b"/>
                </a:solidFill>
                <a:latin typeface="Interstate-Light"/>
              </a:rPr>
              <a:t>Modificación introducida por la reforma previsional “ inciso q 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33526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buClr>
                <a:srgbClr val="00527b"/>
              </a:buClr>
              <a:buFont typeface="Interstate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527b"/>
                </a:solidFill>
                <a:latin typeface="Interstate-Light"/>
              </a:rPr>
              <a:t>Objetivo de la mod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441972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buClr>
                <a:srgbClr val="00527b"/>
              </a:buClr>
              <a:buFont typeface="Interstate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527b"/>
                </a:solidFill>
                <a:latin typeface="Interstate-Light"/>
              </a:rPr>
              <a:t>Implicancias prác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54100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buClr>
                <a:srgbClr val="00527b"/>
              </a:buClr>
              <a:buFont typeface="Interstate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527b"/>
                </a:solidFill>
                <a:latin typeface="Interstate-Light"/>
              </a:rPr>
              <a:t>Requisitos de elegi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68580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527b"/>
                </a:solidFill>
                <a:latin typeface="Interstate-Light"/>
              </a:rPr>
              <a:t>Inversiones de los Fondos de Pens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22096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buClr>
                <a:srgbClr val="00527b"/>
              </a:buClr>
              <a:buFont typeface="Interstate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527b"/>
                </a:solidFill>
                <a:latin typeface="Interstate-Light"/>
              </a:rPr>
              <a:t>Compromiso de las AFJ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289548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buClr>
                <a:srgbClr val="00527b"/>
              </a:buClr>
              <a:buFont typeface="Interstate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527b"/>
                </a:solidFill>
                <a:latin typeface="Interstate-Light"/>
              </a:rPr>
              <a:t>Cooperación en la identificación de proyectos y el diseño de instru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40384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buClr>
                <a:srgbClr val="00527b"/>
              </a:buClr>
              <a:buFont typeface="Interstate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527b"/>
                </a:solidFill>
                <a:latin typeface="Interstate-Light"/>
              </a:rPr>
              <a:t>Papel de la SAFJ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47242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buClr>
                <a:srgbClr val="00527b"/>
              </a:buClr>
              <a:buFont typeface="Interstate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527b"/>
                </a:solidFill>
                <a:latin typeface="Interstate-Light"/>
              </a:rPr>
              <a:t>Intervención de las calificadoras de ries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54100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buClr>
                <a:srgbClr val="00527b"/>
              </a:buClr>
              <a:buFont typeface="Interstate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527b"/>
                </a:solidFill>
                <a:latin typeface="Interstate-Light"/>
              </a:rPr>
              <a:t>Organización del proceso de emi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8600" y="68580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527b"/>
                </a:solidFill>
                <a:latin typeface="Interstate-Light"/>
              </a:rPr>
              <a:t>Inversiones de los Fondos de Pens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438280"/>
            <a:ext cx="8763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buClr>
                <a:srgbClr val="00527b"/>
              </a:buClr>
              <a:buFont typeface="Interstate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527b"/>
                </a:solidFill>
                <a:latin typeface="Interstate-Light"/>
              </a:rPr>
              <a:t>Restricciones vigen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3505320"/>
            <a:ext cx="8763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buClr>
                <a:srgbClr val="00527b"/>
              </a:buClr>
              <a:buFont typeface="Interstate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527b"/>
                </a:solidFill>
                <a:latin typeface="Interstate-Light"/>
              </a:rPr>
              <a:t>La indexación : causa o consecuencia de  la inflación 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4952880"/>
            <a:ext cx="8763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buClr>
                <a:srgbClr val="00527b"/>
              </a:buClr>
              <a:buFont typeface="Interstate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527b"/>
                </a:solidFill>
                <a:latin typeface="Interstate-Light"/>
              </a:rPr>
              <a:t>Necesidad de una moneda de largo plaz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68580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527b"/>
                </a:solidFill>
                <a:latin typeface="Interstate-Light"/>
              </a:rPr>
              <a:t>Inversiones de los Fondos de Pens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2096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buClr>
                <a:srgbClr val="00527b"/>
              </a:buClr>
              <a:buFont typeface="Interstate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527b"/>
                </a:solidFill>
                <a:latin typeface="Interstate-Light"/>
              </a:rPr>
              <a:t>Ajuste por valor produ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33526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buClr>
                <a:srgbClr val="00527b"/>
              </a:buClr>
              <a:buFont typeface="Interstate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527b"/>
                </a:solidFill>
                <a:latin typeface="Interstate-Light"/>
              </a:rPr>
              <a:t>“ </a:t>
            </a:r>
            <a:r>
              <a:rPr b="0" lang="es-MX" sz="3200" spc="-1" strike="noStrike">
                <a:solidFill>
                  <a:srgbClr val="00527b"/>
                </a:solidFill>
                <a:latin typeface="Interstate-Light"/>
              </a:rPr>
              <a:t>Calce ” para el emi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441972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buClr>
                <a:srgbClr val="00527b"/>
              </a:buClr>
              <a:buFont typeface="Interstate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527b"/>
                </a:solidFill>
                <a:latin typeface="Interstate-Light"/>
              </a:rPr>
              <a:t>Desafío de diversificación para las AFJ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54100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buClr>
                <a:srgbClr val="00527b"/>
              </a:buClr>
              <a:buFont typeface="Interstate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527b"/>
                </a:solidFill>
                <a:latin typeface="Interstate-Light"/>
              </a:rPr>
              <a:t>Posibilidad de cobertu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" y="68580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527b"/>
                </a:solidFill>
                <a:latin typeface="Interstate-Light"/>
              </a:rPr>
              <a:t>Inversiones de los Fondos de Pens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2438280"/>
            <a:ext cx="8763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buClr>
                <a:srgbClr val="00527b"/>
              </a:buClr>
              <a:buFont typeface="Interstate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527b"/>
                </a:solidFill>
                <a:latin typeface="Interstate-Light"/>
              </a:rPr>
              <a:t>Un caso particular : ajuste por salario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3733920"/>
            <a:ext cx="8763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buClr>
                <a:srgbClr val="00527b"/>
              </a:buClr>
              <a:buFont typeface="Interstate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527b"/>
                </a:solidFill>
                <a:latin typeface="Interstate-Light"/>
              </a:rPr>
              <a:t>Financiación de hipoteca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4952880"/>
            <a:ext cx="8763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buClr>
                <a:srgbClr val="00527b"/>
              </a:buClr>
              <a:buFont typeface="Interstate-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527b"/>
                </a:solidFill>
                <a:latin typeface="Interstate-Light"/>
              </a:rPr>
              <a:t>Alternativas de diseñ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8600" y="68580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527b"/>
                </a:solidFill>
                <a:latin typeface="Interstate-Light"/>
              </a:rPr>
              <a:t>Inversiones de los Fondos de Pens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971800" y="12952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527b"/>
                </a:solidFill>
                <a:latin typeface="Interstate-Light"/>
              </a:rPr>
              <a:t>Supue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9200" y="1990800"/>
            <a:ext cx="7985160" cy="23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9200" y="2222640"/>
            <a:ext cx="2790720" cy="1158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08480" y="2222640"/>
            <a:ext cx="5195880" cy="11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9200" y="3379680"/>
            <a:ext cx="798516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9200" y="3841920"/>
            <a:ext cx="2790720" cy="1766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08480" y="3841920"/>
            <a:ext cx="5195880" cy="17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19200" y="5607000"/>
            <a:ext cx="798516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2680" y="1828800"/>
            <a:ext cx="233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527b"/>
                </a:solidFill>
                <a:latin typeface="Interstate-Light"/>
              </a:rPr>
              <a:t>Ingreso del Solicita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0960" y="2209680"/>
            <a:ext cx="1100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527b"/>
                </a:solidFill>
                <a:latin typeface="Interstate-Light"/>
              </a:rPr>
              <a:t>Ingreso Bru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934040" y="2260440"/>
            <a:ext cx="610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527b"/>
                </a:solidFill>
                <a:latin typeface="Interstate-Light"/>
              </a:rPr>
              <a:t>2.000,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49320" y="2260440"/>
            <a:ext cx="412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527b"/>
                </a:solidFill>
                <a:latin typeface="Interstate-Light"/>
              </a:rPr>
              <a:t>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919640" y="226044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527b"/>
                </a:solidFill>
                <a:latin typeface="Interstate-Ligh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2438280"/>
            <a:ext cx="106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527b"/>
                </a:solidFill>
                <a:latin typeface="Interstate-Light"/>
              </a:rPr>
              <a:t>Retencion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055360" y="2490840"/>
            <a:ext cx="52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527b"/>
                </a:solidFill>
                <a:latin typeface="Interstate-Light"/>
              </a:rPr>
              <a:t>17,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666880"/>
            <a:ext cx="1227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527b"/>
                </a:solidFill>
                <a:latin typeface="Interstate-Light"/>
              </a:rPr>
              <a:t>Ingreso Ne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934040" y="2722680"/>
            <a:ext cx="610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527b"/>
                </a:solidFill>
                <a:latin typeface="Interstate-Light"/>
              </a:rPr>
              <a:t>1.660,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49320" y="2722680"/>
            <a:ext cx="412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527b"/>
                </a:solidFill>
                <a:latin typeface="Interstate-Light"/>
              </a:rPr>
              <a:t>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919640" y="272268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527b"/>
                </a:solidFill>
                <a:latin typeface="Interstate-Ligh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5440" y="2895480"/>
            <a:ext cx="161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527b"/>
                </a:solidFill>
                <a:latin typeface="Interstate-Light"/>
              </a:rPr>
              <a:t>  </a:t>
            </a:r>
            <a:r>
              <a:rPr b="1" lang="es-AR" sz="1200" spc="-1" strike="noStrike">
                <a:solidFill>
                  <a:srgbClr val="00527b"/>
                </a:solidFill>
                <a:latin typeface="Interstate-Light"/>
              </a:rPr>
              <a:t>% Aplicable a Cuo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055360" y="2954160"/>
            <a:ext cx="52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527b"/>
                </a:solidFill>
                <a:latin typeface="Interstate-Light"/>
              </a:rPr>
              <a:t>25,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5640" y="3124080"/>
            <a:ext cx="94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527b"/>
                </a:solidFill>
                <a:latin typeface="Interstate-Light"/>
              </a:rPr>
              <a:t>Cuota ini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61480" y="3186000"/>
            <a:ext cx="47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527b"/>
                </a:solidFill>
                <a:latin typeface="Interstate-Light"/>
              </a:rPr>
              <a:t>415,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4360" y="3186000"/>
            <a:ext cx="4240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527b"/>
                </a:solidFill>
                <a:latin typeface="Interstate-Light"/>
              </a:rPr>
              <a:t>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48160" y="318600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527b"/>
                </a:solidFill>
                <a:latin typeface="Interstate-Ligh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9680" y="3505320"/>
            <a:ext cx="103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527b"/>
                </a:solidFill>
                <a:latin typeface="Interstate-Light"/>
              </a:rPr>
              <a:t>Préstam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4880" y="3855960"/>
            <a:ext cx="144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527b"/>
                </a:solidFill>
                <a:latin typeface="Interstate-Light"/>
              </a:rPr>
              <a:t>Monto Préstamo $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850160" y="3855960"/>
            <a:ext cx="69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527b"/>
                </a:solidFill>
                <a:latin typeface="Interstate-Light"/>
              </a:rPr>
              <a:t>87.500,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47880" y="3855960"/>
            <a:ext cx="4082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527b"/>
                </a:solidFill>
                <a:latin typeface="Interstate-Light"/>
              </a:rPr>
              <a:t>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876800" y="3855960"/>
            <a:ext cx="4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527b"/>
                </a:solidFill>
                <a:latin typeface="Interstate-Ligh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6600" y="4208400"/>
            <a:ext cx="184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527b"/>
                </a:solidFill>
                <a:latin typeface="Interstate-Light"/>
              </a:rPr>
              <a:t>Estructura del Présta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26360" y="4208400"/>
            <a:ext cx="3225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527b"/>
                </a:solidFill>
                <a:latin typeface="Interstate-Light"/>
              </a:rPr>
              <a:t> </a:t>
            </a:r>
            <a:r>
              <a:rPr b="1" lang="es-AR" sz="1200" spc="-1" strike="noStrike">
                <a:solidFill>
                  <a:srgbClr val="00527b"/>
                </a:solidFill>
                <a:latin typeface="Interstate-Light"/>
              </a:rPr>
              <a:t>Equivalente a un bono ajustable por CV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0440" y="4560840"/>
            <a:ext cx="218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527b"/>
                </a:solidFill>
                <a:latin typeface="Interstate-Light"/>
              </a:rPr>
              <a:t>Cuota Mensual del Présta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29480" y="4560840"/>
            <a:ext cx="1954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527b"/>
                </a:solidFill>
                <a:latin typeface="Interstate-Light"/>
              </a:rPr>
              <a:t> </a:t>
            </a:r>
            <a:r>
              <a:rPr b="1" lang="es-AR" sz="1200" spc="-1" strike="noStrike">
                <a:solidFill>
                  <a:srgbClr val="00527b"/>
                </a:solidFill>
                <a:latin typeface="Interstate-Light"/>
              </a:rPr>
              <a:t>25% del sueldo ajustad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24480" y="4915080"/>
            <a:ext cx="1265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527b"/>
                </a:solidFill>
                <a:latin typeface="Interstate-Light"/>
              </a:rPr>
              <a:t>Cuota de Interé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23200" y="4915080"/>
            <a:ext cx="400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527b"/>
                </a:solidFill>
                <a:latin typeface="Interstate-Light"/>
              </a:rPr>
              <a:t> </a:t>
            </a:r>
            <a:r>
              <a:rPr b="1" lang="es-AR" sz="1200" spc="-1" strike="noStrike">
                <a:solidFill>
                  <a:srgbClr val="00527b"/>
                </a:solidFill>
                <a:latin typeface="Interstate-Light"/>
              </a:rPr>
              <a:t>Cálculo de interés sobre el capital ajustado por CV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9440" y="5267160"/>
            <a:ext cx="181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527b"/>
                </a:solidFill>
                <a:latin typeface="Interstate-Light"/>
              </a:rPr>
              <a:t>Amortización de Cap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93480" y="5267160"/>
            <a:ext cx="2935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527b"/>
                </a:solidFill>
                <a:latin typeface="Interstate-Light"/>
              </a:rPr>
              <a:t> </a:t>
            </a:r>
            <a:r>
              <a:rPr b="1" lang="es-AR" sz="1200" spc="-1" strike="noStrike">
                <a:solidFill>
                  <a:srgbClr val="00527b"/>
                </a:solidFill>
                <a:latin typeface="Interstate-Light"/>
              </a:rPr>
              <a:t>Por diferencia entre pago e interes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03960" y="5645160"/>
            <a:ext cx="45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527b"/>
                </a:solidFill>
                <a:latin typeface="Interstate-Light"/>
              </a:rPr>
              <a:t>T.N.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39240" y="5645160"/>
            <a:ext cx="44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527b"/>
                </a:solidFill>
                <a:latin typeface="Interstate-Light"/>
              </a:rPr>
              <a:t>4,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80560" y="5877000"/>
            <a:ext cx="488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527b"/>
                </a:solidFill>
                <a:latin typeface="Interstate-Light"/>
              </a:rPr>
              <a:t>T.N.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139240" y="5877000"/>
            <a:ext cx="44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527b"/>
                </a:solidFill>
                <a:latin typeface="Interstate-Light"/>
              </a:rPr>
              <a:t>0,3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2212920"/>
            <a:ext cx="1800" cy="117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2212920"/>
            <a:ext cx="17640" cy="117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98760" y="2230560"/>
            <a:ext cx="1800" cy="1157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98760" y="2230560"/>
            <a:ext cx="17640" cy="115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593200" y="2230560"/>
            <a:ext cx="1440" cy="1157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593200" y="2230560"/>
            <a:ext cx="17280" cy="115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833640"/>
            <a:ext cx="1800" cy="2244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3833640"/>
            <a:ext cx="17640" cy="2244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98760" y="3851280"/>
            <a:ext cx="1800" cy="2227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398760" y="3851280"/>
            <a:ext cx="17640" cy="222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593200" y="3851280"/>
            <a:ext cx="1440" cy="2227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593200" y="3851280"/>
            <a:ext cx="17280" cy="222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27120" y="2212920"/>
            <a:ext cx="7983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7120" y="2212920"/>
            <a:ext cx="798336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7120" y="3370320"/>
            <a:ext cx="7983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7120" y="3370320"/>
            <a:ext cx="798336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27120" y="3833640"/>
            <a:ext cx="7983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27120" y="3833640"/>
            <a:ext cx="798336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7120" y="5597640"/>
            <a:ext cx="7983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7120" y="5597640"/>
            <a:ext cx="798336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27120" y="6060960"/>
            <a:ext cx="7983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27120" y="6060960"/>
            <a:ext cx="798336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14400" y="15238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527b"/>
                </a:solidFill>
                <a:latin typeface="Interstate-Light"/>
              </a:rPr>
              <a:t>Caso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562720" y="1447920"/>
            <a:ext cx="3962160" cy="914400"/>
            <a:chOff x="5562720" y="1447920"/>
            <a:chExt cx="3962160" cy="914400"/>
          </a:xfrm>
        </p:grpSpPr>
        <p:sp>
          <p:nvSpPr>
            <p:cNvPr id="136" name=""/>
            <p:cNvSpPr/>
            <p:nvPr/>
          </p:nvSpPr>
          <p:spPr>
            <a:xfrm>
              <a:off x="5562720" y="1447920"/>
              <a:ext cx="3962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00527b"/>
                  </a:solidFill>
                  <a:latin typeface="Interstate-Light"/>
                </a:rPr>
                <a:t>Ajuste del Préstamo CVS 10% an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603760" y="1828800"/>
              <a:ext cx="33840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800" spc="-1" strike="noStrike">
                  <a:solidFill>
                    <a:srgbClr val="00527b"/>
                  </a:solidFill>
                  <a:latin typeface="Interstate-Light"/>
                </a:rPr>
                <a:t> </a:t>
              </a:r>
              <a:r>
                <a:rPr b="0" lang="es-AR" sz="1600" spc="-1" strike="noStrike">
                  <a:solidFill>
                    <a:srgbClr val="00527b"/>
                  </a:solidFill>
                  <a:latin typeface="Interstate-Light"/>
                </a:rPr>
                <a:t>Crecimiento del Sueldo 10% an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1187280" y="6094440"/>
            <a:ext cx="306720" cy="1440"/>
          </a:xfrm>
          <a:prstGeom prst="line">
            <a:avLst/>
          </a:prstGeom>
          <a:ln w="30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01760" y="6087960"/>
            <a:ext cx="7920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66720" y="6014880"/>
            <a:ext cx="50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Suel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65440" y="6094440"/>
            <a:ext cx="306360" cy="1440"/>
          </a:xfrm>
          <a:prstGeom prst="line">
            <a:avLst/>
          </a:prstGeom>
          <a:ln w="30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79920" y="6087960"/>
            <a:ext cx="77760" cy="12960"/>
          </a:xfrm>
          <a:prstGeom prst="rect">
            <a:avLst/>
          </a:prstGeom>
          <a:solidFill>
            <a:srgbClr val="000080"/>
          </a:solidFill>
          <a:ln w="144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44880" y="6014880"/>
            <a:ext cx="44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Am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80240" y="6094440"/>
            <a:ext cx="306360" cy="1440"/>
          </a:xfrm>
          <a:prstGeom prst="line">
            <a:avLst/>
          </a:prstGeom>
          <a:ln w="30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18120" y="6093000"/>
            <a:ext cx="28800" cy="1440"/>
          </a:xfrm>
          <a:prstGeom prst="rect">
            <a:avLst/>
          </a:prstGeom>
          <a:solidFill>
            <a:srgbClr val="ff0000"/>
          </a:solidFill>
          <a:ln w="14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55360" y="6014880"/>
            <a:ext cx="211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Saldo de Capital Eje Dere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80160" y="2133720"/>
            <a:ext cx="8350560" cy="3700080"/>
            <a:chOff x="380160" y="2133720"/>
            <a:chExt cx="8350560" cy="3700080"/>
          </a:xfrm>
        </p:grpSpPr>
        <p:grpSp>
          <p:nvGrpSpPr>
            <p:cNvPr id="148" name=""/>
            <p:cNvGrpSpPr/>
            <p:nvPr/>
          </p:nvGrpSpPr>
          <p:grpSpPr>
            <a:xfrm>
              <a:off x="849960" y="2230920"/>
              <a:ext cx="7337160" cy="3227040"/>
              <a:chOff x="849960" y="2230920"/>
              <a:chExt cx="7337160" cy="3227040"/>
            </a:xfrm>
          </p:grpSpPr>
          <p:sp>
            <p:nvSpPr>
              <p:cNvPr id="149" name=""/>
              <p:cNvSpPr/>
              <p:nvPr/>
            </p:nvSpPr>
            <p:spPr>
              <a:xfrm>
                <a:off x="883800" y="5022360"/>
                <a:ext cx="7303320" cy="14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83800" y="4625640"/>
                <a:ext cx="7303320" cy="10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800" y="4225320"/>
                <a:ext cx="7303320" cy="10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83800" y="3828240"/>
                <a:ext cx="7303320" cy="10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83800" y="3428280"/>
                <a:ext cx="7303320" cy="10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83800" y="3027960"/>
                <a:ext cx="7303320" cy="14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83800" y="2630880"/>
                <a:ext cx="7303320" cy="10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800" y="2230920"/>
                <a:ext cx="7303320" cy="10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83800" y="2230920"/>
                <a:ext cx="1080" cy="3191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49960" y="5422680"/>
                <a:ext cx="338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9960" y="5022360"/>
                <a:ext cx="33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49960" y="4625640"/>
                <a:ext cx="338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49960" y="4225320"/>
                <a:ext cx="338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9960" y="3828240"/>
                <a:ext cx="338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49960" y="3428280"/>
                <a:ext cx="338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9960" y="3027960"/>
                <a:ext cx="33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49960" y="2630880"/>
                <a:ext cx="338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49960" y="2230920"/>
                <a:ext cx="338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800" y="5422680"/>
                <a:ext cx="730332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883800" y="5422680"/>
                <a:ext cx="1080" cy="35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1124640" y="5422680"/>
                <a:ext cx="1080" cy="35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>
                <a:off x="1364040" y="5422680"/>
                <a:ext cx="1440" cy="35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1604880" y="5422680"/>
                <a:ext cx="1080" cy="35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1847160" y="5422680"/>
                <a:ext cx="1440" cy="35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2088360" y="5422680"/>
                <a:ext cx="1080" cy="35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2327760" y="5422680"/>
                <a:ext cx="1440" cy="35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2568600" y="5422680"/>
                <a:ext cx="1080" cy="35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V="1">
                <a:off x="2810880" y="5422680"/>
                <a:ext cx="1440" cy="35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3050640" y="5422680"/>
                <a:ext cx="1080" cy="35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3291480" y="5422680"/>
                <a:ext cx="1440" cy="35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3532320" y="5422680"/>
                <a:ext cx="1440" cy="35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3772080" y="5422680"/>
                <a:ext cx="1080" cy="35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V="1">
                <a:off x="4012560" y="5422680"/>
                <a:ext cx="1440" cy="35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4255560" y="5422680"/>
                <a:ext cx="1080" cy="35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4496040" y="5422680"/>
                <a:ext cx="1440" cy="35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4735800" y="5422680"/>
                <a:ext cx="1080" cy="35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4976640" y="5422680"/>
                <a:ext cx="1080" cy="35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5219280" y="5422680"/>
                <a:ext cx="1080" cy="35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5458320" y="5422680"/>
                <a:ext cx="1440" cy="35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5699520" y="5422680"/>
                <a:ext cx="1080" cy="35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V="1">
                <a:off x="5940360" y="5422680"/>
                <a:ext cx="1080" cy="35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6179760" y="5422680"/>
                <a:ext cx="1080" cy="35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6420960" y="5422680"/>
                <a:ext cx="1080" cy="35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6663240" y="5422680"/>
                <a:ext cx="1080" cy="35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6904080" y="5422680"/>
                <a:ext cx="1080" cy="35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7143480" y="5422680"/>
                <a:ext cx="1440" cy="35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7384320" y="5422680"/>
                <a:ext cx="1080" cy="35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7625520" y="5422680"/>
                <a:ext cx="1080" cy="35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7866360" y="5422680"/>
                <a:ext cx="1080" cy="35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8107200" y="5422680"/>
                <a:ext cx="1440" cy="35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V="1">
                <a:off x="893880" y="5259960"/>
                <a:ext cx="20520" cy="25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14760" y="5260320"/>
                <a:ext cx="17640" cy="10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V="1">
                <a:off x="932400" y="5258520"/>
                <a:ext cx="20160" cy="144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952920" y="5256720"/>
                <a:ext cx="20520" cy="10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973800" y="5257080"/>
                <a:ext cx="19080" cy="10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992880" y="5255640"/>
                <a:ext cx="20520" cy="144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1013760" y="5253840"/>
                <a:ext cx="20520" cy="10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1034640" y="5252400"/>
                <a:ext cx="20520" cy="10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1055160" y="5249520"/>
                <a:ext cx="17280" cy="28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072800" y="5249520"/>
                <a:ext cx="20520" cy="10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1093320" y="5247720"/>
                <a:ext cx="20520" cy="144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1114200" y="5245920"/>
                <a:ext cx="20520" cy="10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1135080" y="5244840"/>
                <a:ext cx="19080" cy="10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154160" y="5245200"/>
                <a:ext cx="20520" cy="10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V="1">
                <a:off x="1175040" y="5243400"/>
                <a:ext cx="20160" cy="144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V="1">
                <a:off x="1195200" y="5241600"/>
                <a:ext cx="17640" cy="10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>
                <a:off x="1213200" y="5240160"/>
                <a:ext cx="20520" cy="144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1234080" y="5236920"/>
                <a:ext cx="20520" cy="25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254600" y="5237280"/>
                <a:ext cx="20520" cy="10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>
                <a:off x="1275480" y="5235480"/>
                <a:ext cx="19080" cy="144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1294560" y="5234040"/>
                <a:ext cx="20520" cy="10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1315440" y="5232600"/>
                <a:ext cx="20160" cy="144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1335960" y="5230800"/>
                <a:ext cx="19440" cy="10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1355400" y="5229360"/>
                <a:ext cx="19080" cy="144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1374480" y="5226120"/>
                <a:ext cx="20520" cy="25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395000" y="5226480"/>
                <a:ext cx="20520" cy="10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>
                <a:off x="1415880" y="5225040"/>
                <a:ext cx="19080" cy="144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V="1">
                <a:off x="1434960" y="5223240"/>
                <a:ext cx="20520" cy="10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1455840" y="5221800"/>
                <a:ext cx="19080" cy="144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>
                <a:off x="1474920" y="5220000"/>
                <a:ext cx="20520" cy="10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>
                <a:off x="1495800" y="5218560"/>
                <a:ext cx="19080" cy="10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>
                <a:off x="1514880" y="5215680"/>
                <a:ext cx="20520" cy="28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1535760" y="5214240"/>
                <a:ext cx="20160" cy="144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1555920" y="5212440"/>
                <a:ext cx="20520" cy="10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1576800" y="5211000"/>
                <a:ext cx="19080" cy="10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V="1">
                <a:off x="1595880" y="5209560"/>
                <a:ext cx="19440" cy="144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1615320" y="5207760"/>
                <a:ext cx="20520" cy="10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1636200" y="5206320"/>
                <a:ext cx="19080" cy="144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655280" y="5206320"/>
                <a:ext cx="20520" cy="144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1676160" y="5203440"/>
                <a:ext cx="20160" cy="28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V="1">
                <a:off x="1696320" y="5201640"/>
                <a:ext cx="20520" cy="10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1717200" y="5200200"/>
                <a:ext cx="17640" cy="10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1735200" y="5198760"/>
                <a:ext cx="20520" cy="144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>
                <a:off x="1755720" y="5196960"/>
                <a:ext cx="20160" cy="10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>
                <a:off x="1776240" y="5195520"/>
                <a:ext cx="20520" cy="144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1797120" y="5192640"/>
                <a:ext cx="19440" cy="25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1816560" y="5189760"/>
                <a:ext cx="20160" cy="28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V="1">
                <a:off x="1837080" y="5187960"/>
                <a:ext cx="20520" cy="144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1857600" y="5186160"/>
                <a:ext cx="17640" cy="10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1875600" y="5184720"/>
                <a:ext cx="20520" cy="10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1896120" y="5182200"/>
                <a:ext cx="20160" cy="28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1916640" y="5180400"/>
                <a:ext cx="20520" cy="144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1937520" y="5178600"/>
                <a:ext cx="19080" cy="10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V="1">
                <a:off x="1956600" y="5177160"/>
                <a:ext cx="20520" cy="10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1977480" y="5175720"/>
                <a:ext cx="20520" cy="144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1998000" y="5173920"/>
                <a:ext cx="17640" cy="10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2016000" y="5172840"/>
                <a:ext cx="20520" cy="144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2036880" y="5169600"/>
                <a:ext cx="20160" cy="28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2057040" y="5166360"/>
                <a:ext cx="20520" cy="25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077920" y="5164920"/>
                <a:ext cx="19080" cy="144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2097000" y="5163480"/>
                <a:ext cx="20520" cy="10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2117880" y="5162040"/>
                <a:ext cx="20520" cy="144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138760" y="5158800"/>
                <a:ext cx="19080" cy="25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2157840" y="5157360"/>
                <a:ext cx="19440" cy="144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2177280" y="5154120"/>
                <a:ext cx="20160" cy="28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2197440" y="5152680"/>
                <a:ext cx="20520" cy="10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2218320" y="5151240"/>
                <a:ext cx="19080" cy="10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2237400" y="5148360"/>
                <a:ext cx="20520" cy="28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2258280" y="5146560"/>
                <a:ext cx="19080" cy="144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2277360" y="5143320"/>
                <a:ext cx="20520" cy="25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>
                <a:off x="2298240" y="5142240"/>
                <a:ext cx="19080" cy="144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2317320" y="5140440"/>
                <a:ext cx="20520" cy="10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2338200" y="5139000"/>
                <a:ext cx="20520" cy="144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2358720" y="5134320"/>
                <a:ext cx="20520" cy="43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2379600" y="5132880"/>
                <a:ext cx="19080" cy="10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2398680" y="5131440"/>
                <a:ext cx="19080" cy="144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2417760" y="5128200"/>
                <a:ext cx="20520" cy="28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2438640" y="5124960"/>
                <a:ext cx="19080" cy="25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2457720" y="5123520"/>
                <a:ext cx="20520" cy="144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2478600" y="5120640"/>
                <a:ext cx="20520" cy="28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2499120" y="5118840"/>
                <a:ext cx="20520" cy="10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>
                <a:off x="2520000" y="5117400"/>
                <a:ext cx="17280" cy="10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2537640" y="5112720"/>
                <a:ext cx="20520" cy="46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2558160" y="5111280"/>
                <a:ext cx="20520" cy="10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2579040" y="5109840"/>
                <a:ext cx="20520" cy="144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2599920" y="5106600"/>
                <a:ext cx="19080" cy="25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2619000" y="5103720"/>
                <a:ext cx="20520" cy="28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2639880" y="5100840"/>
                <a:ext cx="20160" cy="28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2660040" y="5099040"/>
                <a:ext cx="17640" cy="10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2678040" y="5096160"/>
                <a:ext cx="20520" cy="28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2698920" y="5094360"/>
                <a:ext cx="20520" cy="144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2719440" y="5090040"/>
                <a:ext cx="20520" cy="43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V="1">
                <a:off x="2740320" y="5088240"/>
                <a:ext cx="19080" cy="10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2759400" y="5085360"/>
                <a:ext cx="20520" cy="28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V="1">
                <a:off x="2780280" y="5083560"/>
                <a:ext cx="20160" cy="10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>
                <a:off x="2800800" y="5078880"/>
                <a:ext cx="17640" cy="46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V="1">
                <a:off x="2818440" y="5077440"/>
                <a:ext cx="20520" cy="10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2839320" y="5074560"/>
                <a:ext cx="20520" cy="28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2859840" y="5072760"/>
                <a:ext cx="20520" cy="10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2880720" y="5068080"/>
                <a:ext cx="19080" cy="46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2899800" y="5066640"/>
                <a:ext cx="20520" cy="10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2920680" y="5063760"/>
                <a:ext cx="20160" cy="28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2941200" y="5060880"/>
                <a:ext cx="19440" cy="28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2960640" y="5057640"/>
                <a:ext cx="19080" cy="25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2979720" y="5054760"/>
                <a:ext cx="20520" cy="28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V="1">
                <a:off x="3000600" y="5051880"/>
                <a:ext cx="20160" cy="28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3020760" y="5050080"/>
                <a:ext cx="19440" cy="10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040200" y="5045040"/>
                <a:ext cx="20520" cy="46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3061080" y="5042520"/>
                <a:ext cx="19080" cy="28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V="1">
                <a:off x="3080160" y="5040720"/>
                <a:ext cx="20520" cy="10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3101040" y="5036400"/>
                <a:ext cx="19080" cy="43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3120120" y="5033160"/>
                <a:ext cx="20520" cy="28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3141000" y="5031720"/>
                <a:ext cx="20160" cy="10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V="1">
                <a:off x="3161160" y="5028840"/>
                <a:ext cx="20520" cy="28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3182040" y="5024160"/>
                <a:ext cx="17640" cy="43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V="1">
                <a:off x="3200040" y="5021280"/>
                <a:ext cx="20520" cy="28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V="1">
                <a:off x="3220560" y="5018040"/>
                <a:ext cx="20520" cy="28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3241440" y="5016240"/>
                <a:ext cx="19080" cy="10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V="1">
                <a:off x="3260520" y="5011560"/>
                <a:ext cx="20520" cy="46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V="1">
                <a:off x="3281400" y="5008680"/>
                <a:ext cx="20160" cy="28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>
                <a:off x="3301920" y="5005440"/>
                <a:ext cx="20520" cy="25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3322440" y="5000760"/>
                <a:ext cx="17640" cy="46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3340440" y="4997880"/>
                <a:ext cx="20520" cy="25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V="1">
                <a:off x="3360960" y="4995000"/>
                <a:ext cx="20160" cy="28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3381480" y="4993200"/>
                <a:ext cx="20520" cy="144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>
                <a:off x="3402360" y="4988880"/>
                <a:ext cx="19080" cy="43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3421440" y="4985640"/>
                <a:ext cx="20520" cy="28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3442320" y="4982400"/>
                <a:ext cx="20520" cy="28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3462840" y="4978080"/>
                <a:ext cx="17640" cy="43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3480840" y="4974840"/>
                <a:ext cx="20520" cy="28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3501720" y="4971600"/>
                <a:ext cx="20160" cy="25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3521880" y="4966920"/>
                <a:ext cx="20520" cy="46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3542760" y="4964040"/>
                <a:ext cx="19080" cy="25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3561840" y="4961160"/>
                <a:ext cx="20520" cy="28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3582720" y="4954680"/>
                <a:ext cx="20520" cy="61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>
                <a:off x="3603600" y="4951800"/>
                <a:ext cx="19080" cy="28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V="1">
                <a:off x="3622680" y="4948920"/>
                <a:ext cx="19440" cy="28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V="1">
                <a:off x="3642120" y="4944240"/>
                <a:ext cx="20160" cy="43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V="1">
                <a:off x="3662280" y="4941000"/>
                <a:ext cx="20520" cy="28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V="1">
                <a:off x="3683160" y="4938120"/>
                <a:ext cx="19080" cy="25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V="1">
                <a:off x="3702240" y="4933080"/>
                <a:ext cx="20520" cy="46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V="1">
                <a:off x="3723120" y="4929120"/>
                <a:ext cx="20520" cy="43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V="1">
                <a:off x="3744000" y="4924440"/>
                <a:ext cx="19080" cy="43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V="1">
                <a:off x="3763080" y="4921200"/>
                <a:ext cx="19080" cy="28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>
                <a:off x="3782160" y="4918320"/>
                <a:ext cx="20520" cy="28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>
                <a:off x="3803040" y="4912200"/>
                <a:ext cx="20520" cy="57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V="1">
                <a:off x="3823560" y="4909320"/>
                <a:ext cx="19080" cy="28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3842640" y="4906080"/>
                <a:ext cx="20520" cy="28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3863520" y="4901400"/>
                <a:ext cx="19080" cy="43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3882600" y="4897080"/>
                <a:ext cx="20520" cy="43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3883680" y="2828880"/>
              <a:ext cx="4031640" cy="2063160"/>
              <a:chOff x="3883680" y="2828880"/>
              <a:chExt cx="4031640" cy="2063160"/>
            </a:xfrm>
          </p:grpSpPr>
          <p:sp>
            <p:nvSpPr>
              <p:cNvPr id="350" name=""/>
              <p:cNvSpPr/>
              <p:nvPr/>
            </p:nvSpPr>
            <p:spPr>
              <a:xfrm flipV="1">
                <a:off x="3883680" y="4889160"/>
                <a:ext cx="19080" cy="28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3902760" y="4883760"/>
                <a:ext cx="20520" cy="46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3923640" y="4879440"/>
                <a:ext cx="20520" cy="43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3944520" y="4876560"/>
                <a:ext cx="20520" cy="28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V="1">
                <a:off x="3965400" y="4870440"/>
                <a:ext cx="17640" cy="57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3983040" y="4867200"/>
                <a:ext cx="20520" cy="28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4003560" y="4860720"/>
                <a:ext cx="20520" cy="61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4024440" y="4857840"/>
                <a:ext cx="19080" cy="25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V="1">
                <a:off x="4043880" y="4851720"/>
                <a:ext cx="20520" cy="61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4064760" y="4848840"/>
                <a:ext cx="20520" cy="28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V="1">
                <a:off x="4085640" y="4844160"/>
                <a:ext cx="20520" cy="43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4106520" y="4839840"/>
                <a:ext cx="17280" cy="43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4123800" y="4834440"/>
                <a:ext cx="20520" cy="46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4144680" y="4828680"/>
                <a:ext cx="20520" cy="57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4165560" y="4825800"/>
                <a:ext cx="20520" cy="28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4186440" y="4821120"/>
                <a:ext cx="19080" cy="43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4205880" y="4814280"/>
                <a:ext cx="20520" cy="61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4226760" y="4811760"/>
                <a:ext cx="20520" cy="28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4247280" y="4805640"/>
                <a:ext cx="17640" cy="57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>
                <a:off x="4264920" y="4800240"/>
                <a:ext cx="20520" cy="46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4285800" y="4797720"/>
                <a:ext cx="20520" cy="25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4306680" y="4791240"/>
                <a:ext cx="20520" cy="61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V="1">
                <a:off x="4327560" y="4786920"/>
                <a:ext cx="19080" cy="43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4347000" y="4780440"/>
                <a:ext cx="20520" cy="61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V="1">
                <a:off x="4367880" y="4776120"/>
                <a:ext cx="20520" cy="43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V="1">
                <a:off x="4388400" y="4769640"/>
                <a:ext cx="19440" cy="61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4407840" y="4766760"/>
                <a:ext cx="19080" cy="28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>
                <a:off x="4426920" y="4760640"/>
                <a:ext cx="20520" cy="57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4447800" y="4755600"/>
                <a:ext cx="20520" cy="46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V="1">
                <a:off x="4468320" y="4749840"/>
                <a:ext cx="19440" cy="57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V="1">
                <a:off x="4488120" y="4745520"/>
                <a:ext cx="20520" cy="43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4509000" y="4738680"/>
                <a:ext cx="19080" cy="61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4528080" y="4734360"/>
                <a:ext cx="20520" cy="43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4548960" y="4730040"/>
                <a:ext cx="19080" cy="43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4568040" y="4721760"/>
                <a:ext cx="20520" cy="79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4588920" y="4716000"/>
                <a:ext cx="20520" cy="57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4609440" y="4711320"/>
                <a:ext cx="19440" cy="43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4629240" y="4704840"/>
                <a:ext cx="20520" cy="61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4649760" y="4700520"/>
                <a:ext cx="19440" cy="43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4669200" y="4695840"/>
                <a:ext cx="20520" cy="43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4690080" y="4687920"/>
                <a:ext cx="19080" cy="79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V="1">
                <a:off x="4709160" y="4681800"/>
                <a:ext cx="20520" cy="57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V="1">
                <a:off x="4730040" y="4677480"/>
                <a:ext cx="20520" cy="43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V="1">
                <a:off x="4750560" y="4670640"/>
                <a:ext cx="20520" cy="61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V="1">
                <a:off x="4771440" y="4664520"/>
                <a:ext cx="17640" cy="61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4789440" y="4658760"/>
                <a:ext cx="20520" cy="57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4810320" y="4652280"/>
                <a:ext cx="20520" cy="61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V="1">
                <a:off x="4830840" y="4645800"/>
                <a:ext cx="19440" cy="61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>
                <a:off x="4850280" y="4641480"/>
                <a:ext cx="20520" cy="43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V="1">
                <a:off x="4871160" y="4633560"/>
                <a:ext cx="20520" cy="75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V="1">
                <a:off x="4891680" y="4629240"/>
                <a:ext cx="20520" cy="43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4912560" y="4621320"/>
                <a:ext cx="17640" cy="75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4930560" y="4613760"/>
                <a:ext cx="20520" cy="75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4951440" y="4609440"/>
                <a:ext cx="20520" cy="43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4971960" y="4601160"/>
                <a:ext cx="20520" cy="75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>
                <a:off x="4992840" y="4596480"/>
                <a:ext cx="19080" cy="46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5011920" y="4588560"/>
                <a:ext cx="20520" cy="75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5032800" y="4583160"/>
                <a:ext cx="20520" cy="57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5053680" y="4574880"/>
                <a:ext cx="17640" cy="75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5071680" y="4568760"/>
                <a:ext cx="20520" cy="61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5092560" y="4562280"/>
                <a:ext cx="20520" cy="61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5113080" y="4554720"/>
                <a:ext cx="20520" cy="75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>
                <a:off x="5133960" y="4548960"/>
                <a:ext cx="19080" cy="57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5153040" y="4541040"/>
                <a:ext cx="20520" cy="75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5173920" y="4533480"/>
                <a:ext cx="20520" cy="79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5194800" y="4527360"/>
                <a:ext cx="19080" cy="57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5213880" y="4519440"/>
                <a:ext cx="19440" cy="75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5233680" y="4511520"/>
                <a:ext cx="20520" cy="75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V="1">
                <a:off x="5254200" y="4505400"/>
                <a:ext cx="20520" cy="61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V="1">
                <a:off x="5275080" y="4497480"/>
                <a:ext cx="19080" cy="75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V="1">
                <a:off x="5294160" y="4489920"/>
                <a:ext cx="20520" cy="75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5315040" y="4483440"/>
                <a:ext cx="19080" cy="61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5334120" y="4475880"/>
                <a:ext cx="20520" cy="75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5355000" y="4470120"/>
                <a:ext cx="19080" cy="57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V="1">
                <a:off x="5374440" y="4460760"/>
                <a:ext cx="20520" cy="93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5395320" y="4452840"/>
                <a:ext cx="20520" cy="75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>
                <a:off x="5416200" y="4447080"/>
                <a:ext cx="20520" cy="57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5437080" y="4437720"/>
                <a:ext cx="19080" cy="93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V="1">
                <a:off x="5456160" y="4429440"/>
                <a:ext cx="19080" cy="75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5475240" y="4421880"/>
                <a:ext cx="20520" cy="75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V="1">
                <a:off x="5496120" y="4414320"/>
                <a:ext cx="19080" cy="75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5515560" y="4406400"/>
                <a:ext cx="20520" cy="75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V="1">
                <a:off x="5536440" y="4397400"/>
                <a:ext cx="20520" cy="93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V="1">
                <a:off x="5557320" y="4391280"/>
                <a:ext cx="20520" cy="57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>
                <a:off x="5578200" y="4381920"/>
                <a:ext cx="17280" cy="93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5595480" y="4372560"/>
                <a:ext cx="20520" cy="900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>
                <a:off x="5616360" y="4364640"/>
                <a:ext cx="20520" cy="75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>
                <a:off x="5637240" y="4357080"/>
                <a:ext cx="19080" cy="75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>
                <a:off x="5656680" y="4348080"/>
                <a:ext cx="20520" cy="93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V="1">
                <a:off x="5677560" y="4339800"/>
                <a:ext cx="20520" cy="75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V="1">
                <a:off x="5698440" y="4330800"/>
                <a:ext cx="20520" cy="900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V="1">
                <a:off x="5718960" y="4323240"/>
                <a:ext cx="17640" cy="75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5736600" y="4313880"/>
                <a:ext cx="20520" cy="93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>
                <a:off x="5757480" y="4304520"/>
                <a:ext cx="20520" cy="900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5778360" y="4295520"/>
                <a:ext cx="20520" cy="93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V="1">
                <a:off x="5799240" y="4285800"/>
                <a:ext cx="19080" cy="900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V="1">
                <a:off x="5818680" y="4278240"/>
                <a:ext cx="20520" cy="75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V="1">
                <a:off x="5839560" y="4269240"/>
                <a:ext cx="20520" cy="93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V="1">
                <a:off x="5860080" y="4259520"/>
                <a:ext cx="17640" cy="900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V="1">
                <a:off x="5877720" y="4250520"/>
                <a:ext cx="20520" cy="900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V="1">
                <a:off x="5898600" y="4240080"/>
                <a:ext cx="20520" cy="1080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V="1">
                <a:off x="5919480" y="4231800"/>
                <a:ext cx="20520" cy="75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V="1">
                <a:off x="5940360" y="4222800"/>
                <a:ext cx="19080" cy="93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>
                <a:off x="5959440" y="4212000"/>
                <a:ext cx="20520" cy="1080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V="1">
                <a:off x="5980320" y="4202640"/>
                <a:ext cx="20520" cy="900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V="1">
                <a:off x="6001200" y="4193280"/>
                <a:ext cx="19440" cy="93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6020640" y="4182480"/>
                <a:ext cx="19080" cy="1080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6039720" y="4173120"/>
                <a:ext cx="20520" cy="900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6060600" y="4162680"/>
                <a:ext cx="20520" cy="1080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081120" y="4152960"/>
                <a:ext cx="19440" cy="900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6100560" y="4143960"/>
                <a:ext cx="20520" cy="93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6121440" y="4133160"/>
                <a:ext cx="19080" cy="1080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6140880" y="4122360"/>
                <a:ext cx="20520" cy="1044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V="1">
                <a:off x="6161760" y="4113000"/>
                <a:ext cx="19080" cy="93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V="1">
                <a:off x="6180840" y="4102200"/>
                <a:ext cx="20520" cy="1080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V="1">
                <a:off x="6201720" y="4091400"/>
                <a:ext cx="20520" cy="1080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6222240" y="4080600"/>
                <a:ext cx="20520" cy="1080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6243120" y="4069800"/>
                <a:ext cx="19080" cy="1044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V="1">
                <a:off x="6262200" y="4059360"/>
                <a:ext cx="19440" cy="1080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V="1">
                <a:off x="6282000" y="4048200"/>
                <a:ext cx="20520" cy="1080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6302880" y="4037400"/>
                <a:ext cx="19080" cy="1080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V="1">
                <a:off x="6321960" y="4026600"/>
                <a:ext cx="20520" cy="1080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V="1">
                <a:off x="6342840" y="4014360"/>
                <a:ext cx="20520" cy="1224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6363360" y="4003560"/>
                <a:ext cx="20520" cy="1080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6384240" y="3992760"/>
                <a:ext cx="17640" cy="1080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V="1">
                <a:off x="6402240" y="3980160"/>
                <a:ext cx="20520" cy="1224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V="1">
                <a:off x="6423120" y="3969360"/>
                <a:ext cx="20520" cy="1080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V="1">
                <a:off x="6443640" y="3958560"/>
                <a:ext cx="19440" cy="1080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V="1">
                <a:off x="6463080" y="3946320"/>
                <a:ext cx="20520" cy="1224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V="1">
                <a:off x="6483600" y="3934080"/>
                <a:ext cx="20520" cy="1224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6504480" y="3923280"/>
                <a:ext cx="20520" cy="1080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>
                <a:off x="6525360" y="3910320"/>
                <a:ext cx="17640" cy="1260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543360" y="3898440"/>
                <a:ext cx="20520" cy="1224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V="1">
                <a:off x="6564240" y="3887280"/>
                <a:ext cx="20520" cy="1080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V="1">
                <a:off x="6584760" y="3875040"/>
                <a:ext cx="20520" cy="1224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6605640" y="3862800"/>
                <a:ext cx="19080" cy="1224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V="1">
                <a:off x="6624720" y="3849840"/>
                <a:ext cx="20520" cy="1260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6645600" y="3837960"/>
                <a:ext cx="20520" cy="1224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V="1">
                <a:off x="6666480" y="3825720"/>
                <a:ext cx="17640" cy="1224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V="1">
                <a:off x="6684480" y="3811680"/>
                <a:ext cx="20520" cy="136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>
                <a:off x="6705360" y="3799440"/>
                <a:ext cx="20520" cy="1224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>
                <a:off x="6725880" y="3785400"/>
                <a:ext cx="20520" cy="136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V="1">
                <a:off x="6746760" y="3773160"/>
                <a:ext cx="19080" cy="1224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V="1">
                <a:off x="6765840" y="3760920"/>
                <a:ext cx="20520" cy="1224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>
                <a:off x="6786720" y="3746880"/>
                <a:ext cx="20520" cy="136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>
                <a:off x="6807600" y="3732840"/>
                <a:ext cx="19080" cy="136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6826680" y="3718800"/>
                <a:ext cx="19080" cy="133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V="1">
                <a:off x="6846120" y="3706200"/>
                <a:ext cx="20520" cy="1260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6867000" y="3692520"/>
                <a:ext cx="20520" cy="133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V="1">
                <a:off x="6887880" y="3679920"/>
                <a:ext cx="19080" cy="1260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V="1">
                <a:off x="6906960" y="3664800"/>
                <a:ext cx="20520" cy="151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6927840" y="3650760"/>
                <a:ext cx="19080" cy="133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V="1">
                <a:off x="6946920" y="3637080"/>
                <a:ext cx="20520" cy="136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V="1">
                <a:off x="6967800" y="3623040"/>
                <a:ext cx="19080" cy="136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6986880" y="3607920"/>
                <a:ext cx="20520" cy="151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7007760" y="3593880"/>
                <a:ext cx="20520" cy="136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7028640" y="3579840"/>
                <a:ext cx="20520" cy="133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7049520" y="3566160"/>
                <a:ext cx="19080" cy="136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7068960" y="3548520"/>
                <a:ext cx="19080" cy="169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7088040" y="3534840"/>
                <a:ext cx="20520" cy="133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7108920" y="3521160"/>
                <a:ext cx="19080" cy="136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7128000" y="3504240"/>
                <a:ext cx="20520" cy="165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>
                <a:off x="7148880" y="3490560"/>
                <a:ext cx="20520" cy="136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7169760" y="3475080"/>
                <a:ext cx="20520" cy="151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V="1">
                <a:off x="7190640" y="3457440"/>
                <a:ext cx="17280" cy="169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7208280" y="3443760"/>
                <a:ext cx="20520" cy="133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>
                <a:off x="7229160" y="3426480"/>
                <a:ext cx="20520" cy="169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7250040" y="3411360"/>
                <a:ext cx="20520" cy="151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7270920" y="3396240"/>
                <a:ext cx="19080" cy="151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7290000" y="3378600"/>
                <a:ext cx="20520" cy="169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V="1">
                <a:off x="7310880" y="3363480"/>
                <a:ext cx="20520" cy="151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>
                <a:off x="7331400" y="3346560"/>
                <a:ext cx="17640" cy="165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7349400" y="3329280"/>
                <a:ext cx="20520" cy="169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7370280" y="3312720"/>
                <a:ext cx="20520" cy="165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7391160" y="3297240"/>
                <a:ext cx="20520" cy="151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7412040" y="3278520"/>
                <a:ext cx="19080" cy="183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7431120" y="3263400"/>
                <a:ext cx="20520" cy="151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7452000" y="3244320"/>
                <a:ext cx="20520" cy="183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V="1">
                <a:off x="7472520" y="3227040"/>
                <a:ext cx="17640" cy="169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V="1">
                <a:off x="7490520" y="3210840"/>
                <a:ext cx="20520" cy="165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7511400" y="3193200"/>
                <a:ext cx="20520" cy="1692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7532280" y="3174480"/>
                <a:ext cx="20520" cy="183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552800" y="3156120"/>
                <a:ext cx="19440" cy="183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7572240" y="3139560"/>
                <a:ext cx="20520" cy="165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7593120" y="3120480"/>
                <a:ext cx="20520" cy="183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7613640" y="3102120"/>
                <a:ext cx="19440" cy="183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V="1">
                <a:off x="7633440" y="3083400"/>
                <a:ext cx="19080" cy="183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V="1">
                <a:off x="7652520" y="3065040"/>
                <a:ext cx="20520" cy="183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V="1">
                <a:off x="7673400" y="3046320"/>
                <a:ext cx="20520" cy="183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V="1">
                <a:off x="7693920" y="3026520"/>
                <a:ext cx="19440" cy="1980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V="1">
                <a:off x="7713360" y="3007800"/>
                <a:ext cx="20520" cy="183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V="1">
                <a:off x="7733880" y="2989080"/>
                <a:ext cx="19440" cy="183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>
                <a:off x="7753680" y="2969280"/>
                <a:ext cx="20520" cy="1980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V="1">
                <a:off x="7774560" y="2949120"/>
                <a:ext cx="19080" cy="1980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V="1">
                <a:off x="7793640" y="2929320"/>
                <a:ext cx="20520" cy="201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V="1">
                <a:off x="7814520" y="2910240"/>
                <a:ext cx="20520" cy="183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>
                <a:off x="7835040" y="2890440"/>
                <a:ext cx="20520" cy="1980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V="1">
                <a:off x="7855920" y="2870280"/>
                <a:ext cx="19080" cy="1980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V="1">
                <a:off x="7875000" y="2849040"/>
                <a:ext cx="19440" cy="2160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V="1">
                <a:off x="7894800" y="2828880"/>
                <a:ext cx="20520" cy="1980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860400" y="2546280"/>
              <a:ext cx="7316280" cy="2866680"/>
              <a:chOff x="860400" y="2546280"/>
              <a:chExt cx="7316280" cy="2866680"/>
            </a:xfrm>
          </p:grpSpPr>
          <p:sp>
            <p:nvSpPr>
              <p:cNvPr id="551" name=""/>
              <p:cNvSpPr/>
              <p:nvPr/>
            </p:nvSpPr>
            <p:spPr>
              <a:xfrm flipV="1">
                <a:off x="7915320" y="2808720"/>
                <a:ext cx="19440" cy="201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7934760" y="2788200"/>
                <a:ext cx="20520" cy="1980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V="1">
                <a:off x="7955640" y="2766960"/>
                <a:ext cx="20520" cy="2160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V="1">
                <a:off x="7976160" y="2745360"/>
                <a:ext cx="20520" cy="2160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V="1">
                <a:off x="7997040" y="2723400"/>
                <a:ext cx="17640" cy="2124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>
                <a:off x="8015040" y="2702160"/>
                <a:ext cx="20520" cy="2160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V="1">
                <a:off x="8035920" y="2680200"/>
                <a:ext cx="20520" cy="2160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V="1">
                <a:off x="8056440" y="2658600"/>
                <a:ext cx="20520" cy="2160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V="1">
                <a:off x="8077320" y="2638440"/>
                <a:ext cx="19080" cy="1980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V="1">
                <a:off x="8096400" y="2613960"/>
                <a:ext cx="20520" cy="244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V="1">
                <a:off x="8117280" y="2593800"/>
                <a:ext cx="20520" cy="2016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V="1">
                <a:off x="8138160" y="2570760"/>
                <a:ext cx="17640" cy="2304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V="1">
                <a:off x="8156160" y="2546280"/>
                <a:ext cx="20520" cy="24480"/>
              </a:xfrm>
              <a:prstGeom prst="line">
                <a:avLst/>
              </a:prstGeom>
              <a:ln w="302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60400" y="541152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0920" y="5411520"/>
                <a:ext cx="1764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8920" y="541152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919440" y="541152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40320" y="5411520"/>
                <a:ext cx="1908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959400" y="541152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V="1">
                <a:off x="980280" y="540972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001160" y="541008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022040" y="5411520"/>
                <a:ext cx="1728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039680" y="541152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060560" y="541152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081440" y="541152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102320" y="5411520"/>
                <a:ext cx="1908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121400" y="541152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V="1">
                <a:off x="1142280" y="540972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162800" y="5410080"/>
                <a:ext cx="1764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180800" y="541008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201680" y="541008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>
                <a:off x="1222560" y="540828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243440" y="5408280"/>
                <a:ext cx="19080" cy="28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V="1">
                <a:off x="1262520" y="540972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283400" y="541008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303920" y="5410080"/>
                <a:ext cx="1944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323720" y="5410080"/>
                <a:ext cx="1908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342800" y="541008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363680" y="541008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1384560" y="5408280"/>
                <a:ext cx="1908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403640" y="540828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424520" y="5408280"/>
                <a:ext cx="1908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443960" y="540828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1464840" y="5405040"/>
                <a:ext cx="19080" cy="252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483920" y="5405400"/>
                <a:ext cx="20520" cy="432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1504800" y="540828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525320" y="540828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546200" y="5408280"/>
                <a:ext cx="1908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565280" y="5408280"/>
                <a:ext cx="1944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585080" y="540828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1605960" y="5405040"/>
                <a:ext cx="19080" cy="252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625040" y="540540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645920" y="540540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666440" y="540540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687320" y="5405400"/>
                <a:ext cx="1764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1704960" y="540360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725840" y="540360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746720" y="540540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767600" y="5405400"/>
                <a:ext cx="1944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787040" y="540540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V="1">
                <a:off x="1807560" y="540360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28440" y="5403600"/>
                <a:ext cx="1764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46080" y="540360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866960" y="540360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887480" y="540360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908360" y="5403600"/>
                <a:ext cx="1908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927800" y="540360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1948680" y="5400360"/>
                <a:ext cx="20520" cy="28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969560" y="5400360"/>
                <a:ext cx="17640" cy="28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V="1">
                <a:off x="1987200" y="540180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008080" y="540216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028600" y="540216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049480" y="5402160"/>
                <a:ext cx="1908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068920" y="540216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089800" y="540216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110680" y="5402160"/>
                <a:ext cx="1908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129760" y="5402160"/>
                <a:ext cx="1944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V="1">
                <a:off x="2149200" y="540036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169720" y="540036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V="1">
                <a:off x="2190600" y="5398920"/>
                <a:ext cx="1908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210040" y="5399280"/>
                <a:ext cx="20520" cy="28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V="1">
                <a:off x="2230920" y="5400360"/>
                <a:ext cx="1908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250000" y="540036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270880" y="5400360"/>
                <a:ext cx="1908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289960" y="540036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V="1">
                <a:off x="2310840" y="539892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331720" y="539928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352600" y="5399280"/>
                <a:ext cx="1908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372040" y="5399280"/>
                <a:ext cx="1908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391120" y="539928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412000" y="5399280"/>
                <a:ext cx="1908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V="1">
                <a:off x="2431080" y="5394600"/>
                <a:ext cx="20520" cy="432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451960" y="5394600"/>
                <a:ext cx="20520" cy="432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V="1">
                <a:off x="2472840" y="539748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493720" y="5397840"/>
                <a:ext cx="1728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511360" y="539784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532240" y="539784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553120" y="539784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V="1">
                <a:off x="2574000" y="5394600"/>
                <a:ext cx="19080" cy="28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593080" y="539460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613960" y="539460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634480" y="5394600"/>
                <a:ext cx="1764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652480" y="539460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V="1">
                <a:off x="2673360" y="539280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694240" y="539280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V="1">
                <a:off x="2715120" y="5392800"/>
                <a:ext cx="1908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734200" y="539280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755080" y="539280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775600" y="5392800"/>
                <a:ext cx="1764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V="1">
                <a:off x="2793600" y="539100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814480" y="539136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835360" y="539136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856240" y="5391360"/>
                <a:ext cx="1908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875320" y="539136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V="1">
                <a:off x="2896200" y="538956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V="1">
                <a:off x="2916720" y="5387760"/>
                <a:ext cx="1944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936160" y="5388120"/>
                <a:ext cx="19080" cy="28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V="1">
                <a:off x="2955600" y="538956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976480" y="538956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V="1">
                <a:off x="2997000" y="5387760"/>
                <a:ext cx="1944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016440" y="538812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037320" y="5388120"/>
                <a:ext cx="1908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056400" y="538812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077280" y="5388120"/>
                <a:ext cx="1908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3096720" y="538668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117600" y="538704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38120" y="538704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V="1">
                <a:off x="3159000" y="5381640"/>
                <a:ext cx="17640" cy="46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176640" y="5382000"/>
                <a:ext cx="20520" cy="46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V="1">
                <a:off x="3197520" y="538524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218400" y="5385240"/>
                <a:ext cx="1908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237840" y="538524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258720" y="538524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V="1">
                <a:off x="3279240" y="5382000"/>
                <a:ext cx="20520" cy="28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300120" y="5382000"/>
                <a:ext cx="1764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317760" y="538200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338640" y="538200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V="1">
                <a:off x="3359160" y="538020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380040" y="5380560"/>
                <a:ext cx="1908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V="1">
                <a:off x="3399480" y="5377320"/>
                <a:ext cx="20520" cy="28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420360" y="5377320"/>
                <a:ext cx="20520" cy="28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3441240" y="5378760"/>
                <a:ext cx="1764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458880" y="537912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479760" y="537912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V="1">
                <a:off x="3500280" y="537732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521160" y="5377320"/>
                <a:ext cx="1908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540600" y="537732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561480" y="537732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3582360" y="5375520"/>
                <a:ext cx="1908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601440" y="5375880"/>
                <a:ext cx="1944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3620880" y="537588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3641400" y="5371560"/>
                <a:ext cx="20520" cy="432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3662280" y="5371560"/>
                <a:ext cx="19080" cy="432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3681720" y="537408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3702600" y="5371200"/>
                <a:ext cx="20520" cy="252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723480" y="5371560"/>
                <a:ext cx="1908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742560" y="5371560"/>
                <a:ext cx="1908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761640" y="537156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3782520" y="536976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803400" y="5369760"/>
                <a:ext cx="1908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822480" y="536976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3843360" y="5367960"/>
                <a:ext cx="1908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862800" y="536832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V="1">
                <a:off x="3883680" y="5363640"/>
                <a:ext cx="19080" cy="432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3902760" y="5363640"/>
                <a:ext cx="20520" cy="432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3923640" y="536652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3944520" y="536652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3965400" y="5364720"/>
                <a:ext cx="1764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983400" y="536508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V="1">
                <a:off x="4003920" y="536328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4024800" y="5363640"/>
                <a:ext cx="1908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43880" y="536364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4064760" y="5360400"/>
                <a:ext cx="20520" cy="28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4085640" y="536040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4106520" y="5360400"/>
                <a:ext cx="1728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4124160" y="5355360"/>
                <a:ext cx="20520" cy="46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145040" y="5355720"/>
                <a:ext cx="20520" cy="46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4165920" y="5357520"/>
                <a:ext cx="20520" cy="28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186800" y="5357520"/>
                <a:ext cx="1908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205880" y="535752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4226760" y="535572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247280" y="5355720"/>
                <a:ext cx="1764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4265280" y="535392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286160" y="535428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4307040" y="535248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327920" y="5352840"/>
                <a:ext cx="1908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4347000" y="535284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4367880" y="5346360"/>
                <a:ext cx="20520" cy="612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4388400" y="5346720"/>
                <a:ext cx="19440" cy="612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4407840" y="5347440"/>
                <a:ext cx="19080" cy="46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4427280" y="534780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4448160" y="534636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4468680" y="5346720"/>
                <a:ext cx="1944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V="1">
                <a:off x="4488120" y="534492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509000" y="5345280"/>
                <a:ext cx="1908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V="1">
                <a:off x="4528080" y="534348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548960" y="5343480"/>
                <a:ext cx="1908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V="1">
                <a:off x="4568400" y="534168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589280" y="534204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V="1">
                <a:off x="4609800" y="5337360"/>
                <a:ext cx="19440" cy="432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1" name=""/>
            <p:cNvGrpSpPr/>
            <p:nvPr/>
          </p:nvGrpSpPr>
          <p:grpSpPr>
            <a:xfrm>
              <a:off x="824400" y="4827240"/>
              <a:ext cx="7351920" cy="514800"/>
              <a:chOff x="824400" y="4827240"/>
              <a:chExt cx="7351920" cy="514800"/>
            </a:xfrm>
          </p:grpSpPr>
          <p:sp>
            <p:nvSpPr>
              <p:cNvPr id="752" name=""/>
              <p:cNvSpPr/>
              <p:nvPr/>
            </p:nvSpPr>
            <p:spPr>
              <a:xfrm>
                <a:off x="4628880" y="5337720"/>
                <a:ext cx="20520" cy="432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V="1">
                <a:off x="4649400" y="5337720"/>
                <a:ext cx="19440" cy="432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668840" y="533772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V="1">
                <a:off x="4689720" y="5335920"/>
                <a:ext cx="1908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4709160" y="533592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V="1">
                <a:off x="4730040" y="533412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750560" y="533448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V="1">
                <a:off x="4771440" y="5332680"/>
                <a:ext cx="1764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V="1">
                <a:off x="4789080" y="533088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4809960" y="533124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V="1">
                <a:off x="4830480" y="5329440"/>
                <a:ext cx="1944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V="1">
                <a:off x="4849920" y="5323680"/>
                <a:ext cx="20520" cy="576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870800" y="5323680"/>
                <a:ext cx="20520" cy="576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V="1">
                <a:off x="4891680" y="5326560"/>
                <a:ext cx="20520" cy="252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V="1">
                <a:off x="4912560" y="5325120"/>
                <a:ext cx="1764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V="1">
                <a:off x="4930200" y="532332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951080" y="532368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V="1">
                <a:off x="4971600" y="532188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V="1">
                <a:off x="4992480" y="5320080"/>
                <a:ext cx="1908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5011560" y="532044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V="1">
                <a:off x="5032440" y="531864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V="1">
                <a:off x="5053320" y="5317200"/>
                <a:ext cx="1764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071320" y="531720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V="1">
                <a:off x="5092200" y="5309280"/>
                <a:ext cx="20520" cy="756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112720" y="5309640"/>
                <a:ext cx="20520" cy="756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V="1">
                <a:off x="5133600" y="5312880"/>
                <a:ext cx="19080" cy="432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V="1">
                <a:off x="5152680" y="531108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V="1">
                <a:off x="5173560" y="530964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194440" y="5309640"/>
                <a:ext cx="1908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V="1">
                <a:off x="5213880" y="5307840"/>
                <a:ext cx="1944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V="1">
                <a:off x="5233320" y="530640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V="1">
                <a:off x="5253840" y="5303160"/>
                <a:ext cx="20520" cy="252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274720" y="5303520"/>
                <a:ext cx="1908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V="1">
                <a:off x="5293800" y="530208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V="1">
                <a:off x="5314680" y="5300280"/>
                <a:ext cx="1908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V="1">
                <a:off x="5334120" y="5295240"/>
                <a:ext cx="20520" cy="46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355000" y="5295600"/>
                <a:ext cx="19080" cy="46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flipV="1">
                <a:off x="5374080" y="5297400"/>
                <a:ext cx="20520" cy="28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V="1">
                <a:off x="5394960" y="529560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V="1">
                <a:off x="5415840" y="5292360"/>
                <a:ext cx="20520" cy="252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V="1">
                <a:off x="5436720" y="5290920"/>
                <a:ext cx="1908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455800" y="5290920"/>
                <a:ext cx="1908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V="1">
                <a:off x="5475240" y="528948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V="1">
                <a:off x="5496120" y="5288040"/>
                <a:ext cx="1908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V="1">
                <a:off x="5515200" y="528624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V="1">
                <a:off x="5536080" y="528480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V="1">
                <a:off x="5556960" y="5281920"/>
                <a:ext cx="20520" cy="28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flipV="1">
                <a:off x="5577840" y="5278680"/>
                <a:ext cx="17280" cy="28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595480" y="5278680"/>
                <a:ext cx="20520" cy="28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V="1">
                <a:off x="5616360" y="5278680"/>
                <a:ext cx="20520" cy="28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V="1">
                <a:off x="5637240" y="5276880"/>
                <a:ext cx="1908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V="1">
                <a:off x="5656320" y="527580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V="1">
                <a:off x="5677200" y="527400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V="1">
                <a:off x="5698080" y="527256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5718600" y="5269320"/>
                <a:ext cx="17640" cy="252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flipV="1">
                <a:off x="5736240" y="526788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5757120" y="526608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V="1">
                <a:off x="5778000" y="526464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V="1">
                <a:off x="5798880" y="5262840"/>
                <a:ext cx="1908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5818320" y="5255280"/>
                <a:ext cx="20520" cy="756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5839200" y="5255640"/>
                <a:ext cx="20520" cy="756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5859720" y="5256720"/>
                <a:ext cx="17640" cy="612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V="1">
                <a:off x="5877360" y="525528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V="1">
                <a:off x="5898240" y="525384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V="1">
                <a:off x="5919120" y="525204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V="1">
                <a:off x="5940000" y="5250600"/>
                <a:ext cx="1908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V="1">
                <a:off x="5959440" y="5248080"/>
                <a:ext cx="20520" cy="28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V="1">
                <a:off x="5980320" y="524628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V="1">
                <a:off x="6000840" y="5244480"/>
                <a:ext cx="1944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>
                <a:off x="6020280" y="5241600"/>
                <a:ext cx="19080" cy="28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V="1">
                <a:off x="6039360" y="5239800"/>
                <a:ext cx="2052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6060240" y="5232240"/>
                <a:ext cx="20520" cy="756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080760" y="5232600"/>
                <a:ext cx="19440" cy="576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V="1">
                <a:off x="6100560" y="5234040"/>
                <a:ext cx="20520" cy="432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V="1">
                <a:off x="6121440" y="5232240"/>
                <a:ext cx="1908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V="1">
                <a:off x="6140520" y="5229360"/>
                <a:ext cx="20520" cy="28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V="1">
                <a:off x="6161400" y="5227560"/>
                <a:ext cx="1908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V="1">
                <a:off x="6180480" y="5224320"/>
                <a:ext cx="20520" cy="252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V="1">
                <a:off x="6201360" y="522324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V="1">
                <a:off x="6221880" y="5220000"/>
                <a:ext cx="20520" cy="28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V="1">
                <a:off x="6242760" y="5218200"/>
                <a:ext cx="1908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6262200" y="5216760"/>
                <a:ext cx="1944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V="1">
                <a:off x="6281640" y="5213880"/>
                <a:ext cx="20520" cy="28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V="1">
                <a:off x="6302520" y="5205960"/>
                <a:ext cx="19080" cy="756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321600" y="5206320"/>
                <a:ext cx="20520" cy="432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6342480" y="5207760"/>
                <a:ext cx="20520" cy="28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>
                <a:off x="6363000" y="5204520"/>
                <a:ext cx="20520" cy="28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V="1">
                <a:off x="6383880" y="5201280"/>
                <a:ext cx="17640" cy="28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V="1">
                <a:off x="6401880" y="5198040"/>
                <a:ext cx="20520" cy="252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6422760" y="519696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V="1">
                <a:off x="6443280" y="5195160"/>
                <a:ext cx="1944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>
                <a:off x="6462720" y="5190840"/>
                <a:ext cx="20520" cy="432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V="1">
                <a:off x="6483240" y="518904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V="1">
                <a:off x="6504120" y="5185800"/>
                <a:ext cx="20520" cy="28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V="1">
                <a:off x="6525000" y="5184000"/>
                <a:ext cx="1764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V="1">
                <a:off x="6543000" y="5177880"/>
                <a:ext cx="20520" cy="612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563880" y="517824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V="1">
                <a:off x="6584400" y="5175360"/>
                <a:ext cx="20520" cy="432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V="1">
                <a:off x="6605280" y="5173560"/>
                <a:ext cx="1908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V="1">
                <a:off x="6624360" y="5170680"/>
                <a:ext cx="20520" cy="28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V="1">
                <a:off x="6645240" y="5166000"/>
                <a:ext cx="20520" cy="432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V="1">
                <a:off x="6666120" y="5164200"/>
                <a:ext cx="17640" cy="10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V="1">
                <a:off x="6684120" y="5161320"/>
                <a:ext cx="20520" cy="28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V="1">
                <a:off x="6705000" y="5157000"/>
                <a:ext cx="20520" cy="432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V="1">
                <a:off x="6725520" y="515520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V="1">
                <a:off x="6746400" y="5151960"/>
                <a:ext cx="19080" cy="28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V="1">
                <a:off x="6765480" y="5148720"/>
                <a:ext cx="20520" cy="252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V="1">
                <a:off x="6786360" y="5141160"/>
                <a:ext cx="20520" cy="756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807240" y="5141520"/>
                <a:ext cx="19080" cy="252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V="1">
                <a:off x="6826320" y="5139720"/>
                <a:ext cx="19080" cy="432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V="1">
                <a:off x="6845760" y="5136480"/>
                <a:ext cx="20520" cy="28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V="1">
                <a:off x="6866640" y="5133240"/>
                <a:ext cx="20520" cy="28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V="1">
                <a:off x="6887520" y="5130360"/>
                <a:ext cx="19080" cy="252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V="1">
                <a:off x="6906600" y="5127480"/>
                <a:ext cx="20520" cy="28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V="1">
                <a:off x="6927480" y="5122800"/>
                <a:ext cx="19080" cy="432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V="1">
                <a:off x="6946560" y="5119560"/>
                <a:ext cx="20520" cy="28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V="1">
                <a:off x="6967440" y="5116680"/>
                <a:ext cx="19080" cy="28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V="1">
                <a:off x="6986880" y="5112000"/>
                <a:ext cx="20520" cy="432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V="1">
                <a:off x="7007760" y="5108760"/>
                <a:ext cx="20520" cy="28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V="1">
                <a:off x="7028640" y="5100840"/>
                <a:ext cx="20520" cy="756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049520" y="5101200"/>
                <a:ext cx="19080" cy="28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flipV="1">
                <a:off x="7068600" y="5097600"/>
                <a:ext cx="19080" cy="612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flipV="1">
                <a:off x="7087680" y="5094720"/>
                <a:ext cx="20520" cy="28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flipV="1">
                <a:off x="7108560" y="5091480"/>
                <a:ext cx="19080" cy="28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V="1">
                <a:off x="7128000" y="5087160"/>
                <a:ext cx="20520" cy="432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V="1">
                <a:off x="7148880" y="5083920"/>
                <a:ext cx="20520" cy="28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V="1">
                <a:off x="7169760" y="5080680"/>
                <a:ext cx="20520" cy="252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V="1">
                <a:off x="7190640" y="5076000"/>
                <a:ext cx="17280" cy="46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V="1">
                <a:off x="7207920" y="5071680"/>
                <a:ext cx="20520" cy="432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V="1">
                <a:off x="7228800" y="5067000"/>
                <a:ext cx="20520" cy="432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V="1">
                <a:off x="7249680" y="5064120"/>
                <a:ext cx="20520" cy="28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V="1">
                <a:off x="7270560" y="5057280"/>
                <a:ext cx="19080" cy="612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290000" y="505764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V="1">
                <a:off x="7310880" y="5051880"/>
                <a:ext cx="20520" cy="576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V="1">
                <a:off x="7331400" y="5048640"/>
                <a:ext cx="17640" cy="28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V="1">
                <a:off x="7349040" y="5041800"/>
                <a:ext cx="20520" cy="612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flipV="1">
                <a:off x="7369920" y="5038920"/>
                <a:ext cx="20520" cy="28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flipV="1">
                <a:off x="7390800" y="5036040"/>
                <a:ext cx="20520" cy="252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flipV="1">
                <a:off x="7411680" y="5029560"/>
                <a:ext cx="19080" cy="612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V="1">
                <a:off x="7431120" y="5026680"/>
                <a:ext cx="20520" cy="28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flipV="1">
                <a:off x="7452000" y="5020920"/>
                <a:ext cx="20520" cy="576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V="1">
                <a:off x="7472520" y="5017680"/>
                <a:ext cx="17640" cy="28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V="1">
                <a:off x="7490160" y="5013000"/>
                <a:ext cx="20520" cy="432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V="1">
                <a:off x="7511040" y="5005080"/>
                <a:ext cx="20520" cy="792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531920" y="5005080"/>
                <a:ext cx="20520" cy="144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V="1">
                <a:off x="7552440" y="4997160"/>
                <a:ext cx="19440" cy="756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V="1">
                <a:off x="7571880" y="4992840"/>
                <a:ext cx="20520" cy="432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flipV="1">
                <a:off x="7592760" y="4989600"/>
                <a:ext cx="20520" cy="28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V="1">
                <a:off x="7613640" y="4983840"/>
                <a:ext cx="19440" cy="576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V="1">
                <a:off x="7633080" y="4978440"/>
                <a:ext cx="19080" cy="46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V="1">
                <a:off x="7652160" y="4972680"/>
                <a:ext cx="20520" cy="576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V="1">
                <a:off x="7673040" y="4969800"/>
                <a:ext cx="20520" cy="28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V="1">
                <a:off x="7693560" y="4962960"/>
                <a:ext cx="19440" cy="612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V="1">
                <a:off x="7713000" y="4959000"/>
                <a:ext cx="20520" cy="432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flipV="1">
                <a:off x="7733520" y="4952880"/>
                <a:ext cx="19440" cy="576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flipV="1">
                <a:off x="7753320" y="4946040"/>
                <a:ext cx="20520" cy="612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flipV="1">
                <a:off x="7774200" y="4942080"/>
                <a:ext cx="19080" cy="432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flipV="1">
                <a:off x="7793280" y="4936680"/>
                <a:ext cx="20520" cy="46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V="1">
                <a:off x="7814160" y="4931280"/>
                <a:ext cx="20520" cy="576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flipV="1">
                <a:off x="7834680" y="4926600"/>
                <a:ext cx="20520" cy="432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flipV="1">
                <a:off x="7855560" y="4918680"/>
                <a:ext cx="19080" cy="756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V="1">
                <a:off x="7874640" y="4913640"/>
                <a:ext cx="19440" cy="46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flipV="1">
                <a:off x="7894440" y="4907880"/>
                <a:ext cx="20520" cy="576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flipV="1">
                <a:off x="7914960" y="4902840"/>
                <a:ext cx="19440" cy="46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flipV="1">
                <a:off x="7934400" y="4897080"/>
                <a:ext cx="20520" cy="576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flipV="1">
                <a:off x="7955280" y="4890600"/>
                <a:ext cx="20520" cy="612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V="1">
                <a:off x="7975800" y="4884120"/>
                <a:ext cx="20520" cy="612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flipV="1">
                <a:off x="7996680" y="4878720"/>
                <a:ext cx="17640" cy="576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flipV="1">
                <a:off x="8014680" y="4871880"/>
                <a:ext cx="20520" cy="612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flipV="1">
                <a:off x="8035560" y="4867560"/>
                <a:ext cx="20520" cy="432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flipV="1">
                <a:off x="8056080" y="4859640"/>
                <a:ext cx="20520" cy="756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V="1">
                <a:off x="8076960" y="4852080"/>
                <a:ext cx="19080" cy="756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flipV="1">
                <a:off x="8096040" y="4847760"/>
                <a:ext cx="20520" cy="432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flipV="1">
                <a:off x="8116920" y="4839840"/>
                <a:ext cx="20520" cy="756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flipV="1">
                <a:off x="8137800" y="4834800"/>
                <a:ext cx="17640" cy="468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V="1">
                <a:off x="8155800" y="4827240"/>
                <a:ext cx="20520" cy="7560"/>
              </a:xfrm>
              <a:prstGeom prst="line">
                <a:avLst/>
              </a:prstGeom>
              <a:ln w="30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824400" y="5253840"/>
                <a:ext cx="7272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843480" y="525240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862920" y="525240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883440" y="5250960"/>
                <a:ext cx="7416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904320" y="5248080"/>
                <a:ext cx="7416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923400" y="5248080"/>
                <a:ext cx="7272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944280" y="5246280"/>
                <a:ext cx="7272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964080" y="524484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984600" y="5243400"/>
                <a:ext cx="7416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1004040" y="524160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1024560" y="524160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1045440" y="5240160"/>
                <a:ext cx="7416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1066320" y="523836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084320" y="5235840"/>
                <a:ext cx="7380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1104840" y="5235840"/>
                <a:ext cx="7416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1125720" y="523404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1145160" y="5232600"/>
                <a:ext cx="7380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1165680" y="523080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1186560" y="522936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207440" y="5229360"/>
                <a:ext cx="7272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1225440" y="522756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1245960" y="5224680"/>
                <a:ext cx="7416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1266840" y="5223240"/>
                <a:ext cx="7416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1287720" y="522180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"/>
            <p:cNvGrpSpPr/>
            <p:nvPr/>
          </p:nvGrpSpPr>
          <p:grpSpPr>
            <a:xfrm>
              <a:off x="1307160" y="4470840"/>
              <a:ext cx="4086360" cy="762840"/>
              <a:chOff x="1307160" y="4470840"/>
              <a:chExt cx="4086360" cy="762840"/>
            </a:xfrm>
          </p:grpSpPr>
          <p:sp>
            <p:nvSpPr>
              <p:cNvPr id="953" name=""/>
              <p:cNvSpPr/>
              <p:nvPr/>
            </p:nvSpPr>
            <p:spPr>
              <a:xfrm>
                <a:off x="1307160" y="522000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1327680" y="521856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1348560" y="5218560"/>
                <a:ext cx="7272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1366560" y="5217120"/>
                <a:ext cx="7380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387080" y="5213880"/>
                <a:ext cx="7416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1407960" y="5212080"/>
                <a:ext cx="7416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1428840" y="521064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1447920" y="5209200"/>
                <a:ext cx="7416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1468800" y="5207760"/>
                <a:ext cx="7272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489680" y="5206320"/>
                <a:ext cx="7272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1509120" y="520452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1528200" y="5201280"/>
                <a:ext cx="7416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1549080" y="519984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1569960" y="5198400"/>
                <a:ext cx="7380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89040" y="519660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1609920" y="5196600"/>
                <a:ext cx="7272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1630800" y="5195160"/>
                <a:ext cx="7272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1650240" y="519372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1669320" y="5190840"/>
                <a:ext cx="7416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1690200" y="5189040"/>
                <a:ext cx="7380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1711080" y="5187600"/>
                <a:ext cx="7380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1731600" y="518580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1751040" y="5184360"/>
                <a:ext cx="7272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1770480" y="5180040"/>
                <a:ext cx="7416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1791360" y="5178240"/>
                <a:ext cx="7380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810440" y="517680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831320" y="5175360"/>
                <a:ext cx="7380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852200" y="517356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1872720" y="5172120"/>
                <a:ext cx="7416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890720" y="517032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911600" y="5167440"/>
                <a:ext cx="7380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932480" y="516600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951560" y="5164560"/>
                <a:ext cx="7416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972440" y="516276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992960" y="516132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2013840" y="5156640"/>
                <a:ext cx="7272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2031480" y="5155200"/>
                <a:ext cx="7416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2052360" y="5153760"/>
                <a:ext cx="7380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2073240" y="515196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2094120" y="515052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2113560" y="5149080"/>
                <a:ext cx="7380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2134080" y="5144040"/>
                <a:ext cx="7416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2154960" y="5142600"/>
                <a:ext cx="7272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2172600" y="5141520"/>
                <a:ext cx="7416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2193480" y="513972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2214360" y="5138280"/>
                <a:ext cx="7380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2234880" y="5133240"/>
                <a:ext cx="7416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2254680" y="513180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2275200" y="5130360"/>
                <a:ext cx="7272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2296080" y="5128920"/>
                <a:ext cx="7272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2315160" y="512568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2334600" y="5122800"/>
                <a:ext cx="7380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2355120" y="5121000"/>
                <a:ext cx="7416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376000" y="511776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395800" y="5116320"/>
                <a:ext cx="7272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416320" y="5115240"/>
                <a:ext cx="7272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2435760" y="5110200"/>
                <a:ext cx="7380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2456280" y="510876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475720" y="510696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496240" y="5104080"/>
                <a:ext cx="7416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517120" y="5101200"/>
                <a:ext cx="7416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538000" y="5099400"/>
                <a:ext cx="7380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2557440" y="5096520"/>
                <a:ext cx="7272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2576880" y="509472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2597400" y="509148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616840" y="5088960"/>
                <a:ext cx="7380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2637360" y="5085720"/>
                <a:ext cx="7416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658240" y="508392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2679120" y="5081040"/>
                <a:ext cx="7380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697120" y="5077800"/>
                <a:ext cx="7380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2717640" y="507492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2738520" y="507312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2757600" y="5070240"/>
                <a:ext cx="7416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2778480" y="5067000"/>
                <a:ext cx="7416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2799360" y="506376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2820240" y="5062680"/>
                <a:ext cx="7272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2838240" y="5059440"/>
                <a:ext cx="7380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2858760" y="505764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2879640" y="505296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2900520" y="505008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2919600" y="504864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2940480" y="5043960"/>
                <a:ext cx="7380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2961360" y="5040720"/>
                <a:ext cx="7272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979360" y="503892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999880" y="5036400"/>
                <a:ext cx="7416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020760" y="5031360"/>
                <a:ext cx="7416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3041640" y="502992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3060720" y="502668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3081600" y="5023440"/>
                <a:ext cx="7272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3102480" y="5020920"/>
                <a:ext cx="7272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3121560" y="5017680"/>
                <a:ext cx="7380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3141000" y="501444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3161880" y="5010120"/>
                <a:ext cx="7380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3182760" y="500688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3201840" y="5005080"/>
                <a:ext cx="7272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3222720" y="5002200"/>
                <a:ext cx="7272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241800" y="4997160"/>
                <a:ext cx="7416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262680" y="4994640"/>
                <a:ext cx="7380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282120" y="4991400"/>
                <a:ext cx="7416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303000" y="4986720"/>
                <a:ext cx="7380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323880" y="4983840"/>
                <a:ext cx="7380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344400" y="498204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363840" y="4978800"/>
                <a:ext cx="7272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382920" y="4974120"/>
                <a:ext cx="7380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403800" y="497088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423240" y="4968360"/>
                <a:ext cx="7416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444120" y="4963320"/>
                <a:ext cx="7380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465000" y="4960440"/>
                <a:ext cx="7380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485520" y="4957560"/>
                <a:ext cx="7416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503160" y="4952880"/>
                <a:ext cx="7416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524040" y="4949640"/>
                <a:ext cx="7380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544920" y="494460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565440" y="4940280"/>
                <a:ext cx="7416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3585240" y="493704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3605760" y="4934160"/>
                <a:ext cx="7416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3626640" y="4929480"/>
                <a:ext cx="7272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644280" y="4926600"/>
                <a:ext cx="7416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3665160" y="4923360"/>
                <a:ext cx="7380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3686040" y="491724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3706560" y="491400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3726000" y="491076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3746880" y="4906080"/>
                <a:ext cx="7272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3767400" y="4901760"/>
                <a:ext cx="7272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3785400" y="4897080"/>
                <a:ext cx="7416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3806280" y="489384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3826800" y="489096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3847680" y="4884480"/>
                <a:ext cx="7416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3867120" y="4881600"/>
                <a:ext cx="7380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3887640" y="4878720"/>
                <a:ext cx="7272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3908520" y="4872240"/>
                <a:ext cx="7272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3927960" y="486900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3947400" y="4863240"/>
                <a:ext cx="7380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3967920" y="486000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3988800" y="4855320"/>
                <a:ext cx="7416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4007880" y="4850640"/>
                <a:ext cx="7272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4028760" y="4845960"/>
                <a:ext cx="7272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4048560" y="484272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4069080" y="4836960"/>
                <a:ext cx="7416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4088520" y="483372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4109040" y="4827240"/>
                <a:ext cx="7416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4129920" y="482292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4150800" y="4818240"/>
                <a:ext cx="7380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4169880" y="4813560"/>
                <a:ext cx="7272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4189320" y="480888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4210200" y="480420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4229640" y="479988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4250160" y="4793400"/>
                <a:ext cx="7416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4271040" y="4790520"/>
                <a:ext cx="7380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4291920" y="4784400"/>
                <a:ext cx="7380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4309560" y="4779720"/>
                <a:ext cx="7380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4330440" y="477468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4351320" y="4768920"/>
                <a:ext cx="7416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4372200" y="4764240"/>
                <a:ext cx="7380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4391280" y="4759560"/>
                <a:ext cx="7416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4412160" y="475488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4433040" y="4748400"/>
                <a:ext cx="7272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4450680" y="474408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4471200" y="4737960"/>
                <a:ext cx="7416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4492080" y="473328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4512960" y="4727160"/>
                <a:ext cx="7380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4532400" y="472212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4553280" y="4714560"/>
                <a:ext cx="7272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4574160" y="4709880"/>
                <a:ext cx="7272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4591800" y="4704120"/>
                <a:ext cx="7380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4612320" y="469908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4633200" y="4693320"/>
                <a:ext cx="7380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4654080" y="468828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4673520" y="4680720"/>
                <a:ext cx="7416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694400" y="4676040"/>
                <a:ext cx="7272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4715280" y="4669920"/>
                <a:ext cx="7272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4734360" y="466524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4753440" y="465732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774320" y="465300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795200" y="464508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4814640" y="4640760"/>
                <a:ext cx="7272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835520" y="4634280"/>
                <a:ext cx="7272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4854600" y="462816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4875480" y="462204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4894560" y="4614480"/>
                <a:ext cx="7416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4915440" y="460800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4936320" y="4602240"/>
                <a:ext cx="7380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4956840" y="459576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4976640" y="4589280"/>
                <a:ext cx="7272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4995720" y="4583520"/>
                <a:ext cx="7380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5016600" y="4575960"/>
                <a:ext cx="7380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5035680" y="4568040"/>
                <a:ext cx="7380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5056560" y="456300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5077080" y="455544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097960" y="4549680"/>
                <a:ext cx="7416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5115960" y="4541760"/>
                <a:ext cx="7416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5136840" y="4533840"/>
                <a:ext cx="7380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157720" y="452772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5178240" y="4520160"/>
                <a:ext cx="7416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197680" y="4512240"/>
                <a:ext cx="7380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218200" y="450612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239080" y="4498200"/>
                <a:ext cx="7272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257080" y="4490640"/>
                <a:ext cx="7416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5277960" y="448416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298840" y="447660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319360" y="4470840"/>
                <a:ext cx="7416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3" name=""/>
            <p:cNvGrpSpPr/>
            <p:nvPr/>
          </p:nvGrpSpPr>
          <p:grpSpPr>
            <a:xfrm>
              <a:off x="824400" y="2540160"/>
              <a:ext cx="7390440" cy="2875680"/>
              <a:chOff x="824400" y="2540160"/>
              <a:chExt cx="7390440" cy="2875680"/>
            </a:xfrm>
          </p:grpSpPr>
          <p:sp>
            <p:nvSpPr>
              <p:cNvPr id="1154" name=""/>
              <p:cNvSpPr/>
              <p:nvPr/>
            </p:nvSpPr>
            <p:spPr>
              <a:xfrm>
                <a:off x="5338800" y="4462560"/>
                <a:ext cx="7380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5359320" y="4453200"/>
                <a:ext cx="7272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5380200" y="4447440"/>
                <a:ext cx="7272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5399280" y="443916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5419080" y="443016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439600" y="4422240"/>
                <a:ext cx="7416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460480" y="441612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479920" y="440712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5500440" y="4399200"/>
                <a:ext cx="7272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521320" y="4391640"/>
                <a:ext cx="7272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540400" y="4383720"/>
                <a:ext cx="7416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560200" y="437436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580720" y="4365360"/>
                <a:ext cx="7416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601600" y="435888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620680" y="4349880"/>
                <a:ext cx="7272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641560" y="4340520"/>
                <a:ext cx="7272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661000" y="4334400"/>
                <a:ext cx="7380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5681520" y="432504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701320" y="4316040"/>
                <a:ext cx="7380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721840" y="430632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5742720" y="4297320"/>
                <a:ext cx="7416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5763600" y="4289760"/>
                <a:ext cx="7380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782680" y="4280040"/>
                <a:ext cx="7272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801760" y="427104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822640" y="426168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842080" y="4252320"/>
                <a:ext cx="7416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862960" y="424476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883840" y="423396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904720" y="4224600"/>
                <a:ext cx="7272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922360" y="421524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5942880" y="420444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963760" y="4195440"/>
                <a:ext cx="7416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984640" y="4187520"/>
                <a:ext cx="7380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003720" y="417672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024600" y="416736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6045480" y="4156920"/>
                <a:ext cx="7272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6063480" y="4145760"/>
                <a:ext cx="7380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084000" y="413640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104880" y="412560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125760" y="411480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6144840" y="4105440"/>
                <a:ext cx="7416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165720" y="4094640"/>
                <a:ext cx="7272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186600" y="4085640"/>
                <a:ext cx="7272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206040" y="4074840"/>
                <a:ext cx="7380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225120" y="406404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6246000" y="405288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6266880" y="404208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6285960" y="403128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306840" y="4020480"/>
                <a:ext cx="7272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327360" y="4008240"/>
                <a:ext cx="7272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6347160" y="399744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366240" y="398628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6387120" y="397404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408000" y="396324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427080" y="3952440"/>
                <a:ext cx="7272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6447960" y="3940200"/>
                <a:ext cx="7272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467400" y="392796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88280" y="391716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507360" y="3904920"/>
                <a:ext cx="7416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28240" y="3890880"/>
                <a:ext cx="7380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49120" y="3879720"/>
                <a:ext cx="7380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6569640" y="3867480"/>
                <a:ext cx="7416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6589080" y="3855240"/>
                <a:ext cx="7272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6608520" y="384264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6629400" y="383040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6648480" y="3818160"/>
                <a:ext cx="7380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6669360" y="3805920"/>
                <a:ext cx="7380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689880" y="379332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710760" y="3777840"/>
                <a:ext cx="7272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728760" y="3765600"/>
                <a:ext cx="7416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749640" y="3753360"/>
                <a:ext cx="7380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770520" y="373932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791040" y="3727080"/>
                <a:ext cx="7416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810480" y="371304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831000" y="3699000"/>
                <a:ext cx="7416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851880" y="3685320"/>
                <a:ext cx="7272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869520" y="367272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6890400" y="3659040"/>
                <a:ext cx="7380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6911280" y="364500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6932160" y="3629520"/>
                <a:ext cx="7416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6951600" y="361548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6972120" y="3601440"/>
                <a:ext cx="7272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6993000" y="3586320"/>
                <a:ext cx="7272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7012080" y="3572640"/>
                <a:ext cx="7416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7031520" y="355860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7052040" y="354312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7072920" y="3527640"/>
                <a:ext cx="7416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7092360" y="351360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7113240" y="3498120"/>
                <a:ext cx="7272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7134120" y="3482640"/>
                <a:ext cx="7272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7153200" y="3467520"/>
                <a:ext cx="7416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7172640" y="3450240"/>
                <a:ext cx="7380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7193160" y="3436560"/>
                <a:ext cx="7416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7214040" y="342072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7234920" y="3403800"/>
                <a:ext cx="7380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7254360" y="3388320"/>
                <a:ext cx="7272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7273440" y="3371400"/>
                <a:ext cx="7416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7294320" y="335592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313760" y="334044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7334280" y="332208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7355160" y="330660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7376040" y="3289680"/>
                <a:ext cx="7380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7394040" y="327240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7414560" y="3255840"/>
                <a:ext cx="7416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7435440" y="323856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7454520" y="321984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7475400" y="320436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7496280" y="318600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7517160" y="3167280"/>
                <a:ext cx="7272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7535160" y="3150360"/>
                <a:ext cx="7380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7555680" y="3132000"/>
                <a:ext cx="7416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7576560" y="311472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7597440" y="309492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7616520" y="3076200"/>
                <a:ext cx="7416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637400" y="3059280"/>
                <a:ext cx="7380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658280" y="3039120"/>
                <a:ext cx="7272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7675920" y="3018960"/>
                <a:ext cx="7416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7696800" y="300204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7717680" y="298188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7738560" y="2962080"/>
                <a:ext cx="7380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7757640" y="2941560"/>
                <a:ext cx="74160" cy="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7778520" y="2923560"/>
                <a:ext cx="7272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7799400" y="2903040"/>
                <a:ext cx="7272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7818840" y="2883240"/>
                <a:ext cx="7380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7837920" y="2863080"/>
                <a:ext cx="7416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7858800" y="284292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7879680" y="282276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7898760" y="280116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7919640" y="2781000"/>
                <a:ext cx="7272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7940160" y="2759400"/>
                <a:ext cx="7272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7959960" y="2737800"/>
                <a:ext cx="73800" cy="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7979040" y="271764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7999920" y="269604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8020800" y="2674440"/>
                <a:ext cx="73800" cy="1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8041320" y="2652840"/>
                <a:ext cx="7416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8060760" y="2631240"/>
                <a:ext cx="7272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8079840" y="260784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8100720" y="258624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8120160" y="256320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8141040" y="2540160"/>
                <a:ext cx="73800" cy="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824400" y="5403600"/>
                <a:ext cx="7128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843480" y="540360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862920" y="540360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883440" y="540360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904320" y="540360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923400" y="5403600"/>
                <a:ext cx="7128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944280" y="5403600"/>
                <a:ext cx="7128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964080" y="540252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984600" y="540360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1004040" y="540360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1024560" y="540360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1045440" y="5403600"/>
                <a:ext cx="7128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1066320" y="5403600"/>
                <a:ext cx="709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1084320" y="540360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1104840" y="540360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1125720" y="540252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1145160" y="540252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1165680" y="540252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1186560" y="5402520"/>
                <a:ext cx="7128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1207440" y="5400720"/>
                <a:ext cx="709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225440" y="540360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1245960" y="540252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1266840" y="540252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1287720" y="540252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1306800" y="5402520"/>
                <a:ext cx="7128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1327680" y="5402520"/>
                <a:ext cx="7128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1348560" y="5402520"/>
                <a:ext cx="709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1366560" y="5400720"/>
                <a:ext cx="727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1387080" y="5400720"/>
                <a:ext cx="727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1407960" y="5400720"/>
                <a:ext cx="727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1428840" y="5400720"/>
                <a:ext cx="727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1447920" y="5399280"/>
                <a:ext cx="7128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1468800" y="5402520"/>
                <a:ext cx="7128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1489680" y="5400720"/>
                <a:ext cx="709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1508760" y="5400720"/>
                <a:ext cx="727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1528200" y="5400720"/>
                <a:ext cx="727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1549080" y="5400720"/>
                <a:ext cx="727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1569960" y="5400720"/>
                <a:ext cx="727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1589040" y="5399280"/>
                <a:ext cx="7128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1609920" y="5399280"/>
                <a:ext cx="709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1630800" y="5399280"/>
                <a:ext cx="709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1649880" y="539928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1669320" y="539928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1690200" y="539784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1711080" y="539928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1731600" y="5399280"/>
                <a:ext cx="7128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1751040" y="5399280"/>
                <a:ext cx="709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1770120" y="539928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1791000" y="539784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1810080" y="539784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1830960" y="539784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1851840" y="5397840"/>
                <a:ext cx="709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1872720" y="5397840"/>
                <a:ext cx="7128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1890360" y="539784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1911240" y="539784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1932120" y="5392800"/>
                <a:ext cx="727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1951200" y="539784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1972080" y="5394600"/>
                <a:ext cx="72720" cy="1332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1992600" y="5394600"/>
                <a:ext cx="71280" cy="1332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2013480" y="5394600"/>
                <a:ext cx="71280" cy="1332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4" name=""/>
            <p:cNvGrpSpPr/>
            <p:nvPr/>
          </p:nvGrpSpPr>
          <p:grpSpPr>
            <a:xfrm>
              <a:off x="2031840" y="5225040"/>
              <a:ext cx="4084920" cy="183240"/>
              <a:chOff x="2031840" y="5225040"/>
              <a:chExt cx="4084920" cy="183240"/>
            </a:xfrm>
          </p:grpSpPr>
          <p:sp>
            <p:nvSpPr>
              <p:cNvPr id="1355" name=""/>
              <p:cNvSpPr/>
              <p:nvPr/>
            </p:nvSpPr>
            <p:spPr>
              <a:xfrm>
                <a:off x="2031840" y="5394960"/>
                <a:ext cx="72720" cy="1332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2052360" y="5394960"/>
                <a:ext cx="72720" cy="1332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2073240" y="5394960"/>
                <a:ext cx="72720" cy="1332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2094120" y="5394960"/>
                <a:ext cx="72720" cy="1332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2113560" y="5394960"/>
                <a:ext cx="70920" cy="1332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2134080" y="5393160"/>
                <a:ext cx="7128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2154960" y="5393160"/>
                <a:ext cx="7128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2172600" y="539172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2193480" y="5394960"/>
                <a:ext cx="72720" cy="1332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2214360" y="5393160"/>
                <a:ext cx="727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2235240" y="5393160"/>
                <a:ext cx="727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2254680" y="5393160"/>
                <a:ext cx="709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2275200" y="5393160"/>
                <a:ext cx="7128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2296080" y="5391720"/>
                <a:ext cx="7128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2315160" y="539172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2334600" y="539172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2355120" y="539172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2376000" y="539172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2395800" y="5391720"/>
                <a:ext cx="709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2416320" y="5388480"/>
                <a:ext cx="7128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2435760" y="539172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2456280" y="5389920"/>
                <a:ext cx="727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2475720" y="5389920"/>
                <a:ext cx="727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2496240" y="5389920"/>
                <a:ext cx="727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2517120" y="5389920"/>
                <a:ext cx="727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2538000" y="5389920"/>
                <a:ext cx="7128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2557440" y="5388480"/>
                <a:ext cx="7128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2576880" y="538848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2597400" y="538848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2616840" y="538848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2637360" y="538848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2658240" y="5387040"/>
                <a:ext cx="7128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2679120" y="5388480"/>
                <a:ext cx="709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2697120" y="538704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2717640" y="538704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2738520" y="538704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2757600" y="538704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2778480" y="5385240"/>
                <a:ext cx="727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2799360" y="5385240"/>
                <a:ext cx="7128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2820240" y="5385240"/>
                <a:ext cx="709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2838240" y="5385240"/>
                <a:ext cx="727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2858760" y="5385240"/>
                <a:ext cx="727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2879640" y="5382360"/>
                <a:ext cx="727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2900520" y="538092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2919600" y="5385240"/>
                <a:ext cx="7128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2940480" y="5382360"/>
                <a:ext cx="7128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2961360" y="5382360"/>
                <a:ext cx="709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2979360" y="538092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2999880" y="538092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3020760" y="538092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3041640" y="538092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3060720" y="5380920"/>
                <a:ext cx="7128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3081600" y="5379480"/>
                <a:ext cx="709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3102480" y="5379480"/>
                <a:ext cx="709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3121920" y="537948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3141000" y="537624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3161880" y="537948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3182760" y="537768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3201840" y="5377680"/>
                <a:ext cx="7128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3222720" y="5377680"/>
                <a:ext cx="709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3242160" y="537768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3263040" y="537624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3282120" y="537624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3303000" y="537624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3323880" y="537624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3344400" y="5374440"/>
                <a:ext cx="7128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3363840" y="5374440"/>
                <a:ext cx="709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3383280" y="536976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3403800" y="5374440"/>
                <a:ext cx="727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3423240" y="5371560"/>
                <a:ext cx="72720" cy="1332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3444120" y="5371560"/>
                <a:ext cx="72720" cy="1332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3465000" y="5371560"/>
                <a:ext cx="70920" cy="1332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3485520" y="5369760"/>
                <a:ext cx="7128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3503160" y="536976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3524040" y="536976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3544920" y="536976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565800" y="536868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3585240" y="536868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3605760" y="5368680"/>
                <a:ext cx="7128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3626640" y="5365440"/>
                <a:ext cx="7128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3644280" y="536868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3665160" y="5366880"/>
                <a:ext cx="727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3686040" y="536544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3706560" y="536544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3726360" y="5365440"/>
                <a:ext cx="709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3746880" y="5365440"/>
                <a:ext cx="7128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3767760" y="5364000"/>
                <a:ext cx="7128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3785400" y="536400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3806280" y="536400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3826800" y="5360760"/>
                <a:ext cx="72720" cy="1332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847680" y="5360760"/>
                <a:ext cx="72720" cy="1332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3867480" y="5356080"/>
                <a:ext cx="709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3888000" y="5360760"/>
                <a:ext cx="71280" cy="1332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3908880" y="5358960"/>
                <a:ext cx="7128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3927960" y="5358960"/>
                <a:ext cx="727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3947400" y="535752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3967920" y="535752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988800" y="5356080"/>
                <a:ext cx="727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4008240" y="5356080"/>
                <a:ext cx="7128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4029120" y="5356080"/>
                <a:ext cx="7128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4048560" y="535464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4069080" y="535464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4088520" y="535464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4109040" y="5348160"/>
                <a:ext cx="727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4129920" y="535464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4150800" y="5351400"/>
                <a:ext cx="709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4170240" y="5351400"/>
                <a:ext cx="7128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4189320" y="5351400"/>
                <a:ext cx="727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4210200" y="5348160"/>
                <a:ext cx="727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4229640" y="5348160"/>
                <a:ext cx="727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4250160" y="534672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4271040" y="5346720"/>
                <a:ext cx="7128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4291920" y="5345280"/>
                <a:ext cx="709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4309920" y="534528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4330440" y="534528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4351320" y="5340600"/>
                <a:ext cx="727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4372200" y="534528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4391280" y="534240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4412160" y="5342400"/>
                <a:ext cx="7128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4433040" y="5340600"/>
                <a:ext cx="709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4451040" y="5340600"/>
                <a:ext cx="727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4471560" y="5337720"/>
                <a:ext cx="72720" cy="1332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4492440" y="5337720"/>
                <a:ext cx="72720" cy="1332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4513320" y="533592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4532400" y="5335920"/>
                <a:ext cx="7128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4553280" y="5334480"/>
                <a:ext cx="7128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4574160" y="5334480"/>
                <a:ext cx="709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4592160" y="533124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4612680" y="533448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4633560" y="533124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4654440" y="533124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4673520" y="5329800"/>
                <a:ext cx="7128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4694400" y="5329800"/>
                <a:ext cx="709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4715280" y="5326920"/>
                <a:ext cx="70920" cy="1332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4734720" y="5326920"/>
                <a:ext cx="72720" cy="1332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4753800" y="5325120"/>
                <a:ext cx="727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4774680" y="532368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4795560" y="532368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4814640" y="5321880"/>
                <a:ext cx="7128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4835520" y="5317200"/>
                <a:ext cx="709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4854600" y="5321880"/>
                <a:ext cx="727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4875480" y="532044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894920" y="531900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4915800" y="531720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4936680" y="531720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4957200" y="5314320"/>
                <a:ext cx="7128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4976640" y="5312880"/>
                <a:ext cx="709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4995720" y="531288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5016600" y="531144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5036040" y="530964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5056920" y="530964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5077440" y="5302080"/>
                <a:ext cx="7128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5098320" y="5309640"/>
                <a:ext cx="7128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5115960" y="5306400"/>
                <a:ext cx="727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5136840" y="5303880"/>
                <a:ext cx="72720" cy="1332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5157720" y="530208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5178240" y="530208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5198040" y="5300640"/>
                <a:ext cx="709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5218560" y="5298840"/>
                <a:ext cx="7128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5239440" y="5297400"/>
                <a:ext cx="7128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5257080" y="529740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5277960" y="5295600"/>
                <a:ext cx="727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5298840" y="5292720"/>
                <a:ext cx="72720" cy="1332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5319360" y="5288040"/>
                <a:ext cx="727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5339160" y="5292720"/>
                <a:ext cx="70920" cy="1332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5359680" y="5289840"/>
                <a:ext cx="7128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5380560" y="5288040"/>
                <a:ext cx="7128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5399640" y="528660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5419080" y="528516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5439600" y="528516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5460480" y="5281920"/>
                <a:ext cx="72720" cy="1332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5480280" y="5280120"/>
                <a:ext cx="709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5500800" y="5278680"/>
                <a:ext cx="7128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5521680" y="5277600"/>
                <a:ext cx="7128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5540760" y="527580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5560200" y="5272560"/>
                <a:ext cx="727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5580720" y="527580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5601600" y="5272560"/>
                <a:ext cx="727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5621040" y="5269680"/>
                <a:ext cx="7128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5641920" y="5267880"/>
                <a:ext cx="7128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5661360" y="526644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5681880" y="5264640"/>
                <a:ext cx="727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5701320" y="526356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5721840" y="5261760"/>
                <a:ext cx="727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5742720" y="5258880"/>
                <a:ext cx="72720" cy="1332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5763600" y="5257080"/>
                <a:ext cx="709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5783040" y="5255640"/>
                <a:ext cx="7128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5802120" y="5248080"/>
                <a:ext cx="72720" cy="1332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5823000" y="525564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5842080" y="525132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5862960" y="5248080"/>
                <a:ext cx="72720" cy="1332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5883840" y="5246280"/>
                <a:ext cx="7128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5904720" y="5244840"/>
                <a:ext cx="709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5922720" y="524340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943240" y="524160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5964120" y="524016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985000" y="5238360"/>
                <a:ext cx="727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6004080" y="5234040"/>
                <a:ext cx="7128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6024960" y="5232600"/>
                <a:ext cx="7128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6045840" y="5225040"/>
                <a:ext cx="70920" cy="1332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5" name=""/>
            <p:cNvGrpSpPr/>
            <p:nvPr/>
          </p:nvGrpSpPr>
          <p:grpSpPr>
            <a:xfrm>
              <a:off x="860400" y="2204640"/>
              <a:ext cx="7360920" cy="3219120"/>
              <a:chOff x="860400" y="2204640"/>
              <a:chExt cx="7360920" cy="3219120"/>
            </a:xfrm>
          </p:grpSpPr>
          <p:sp>
            <p:nvSpPr>
              <p:cNvPr id="1556" name=""/>
              <p:cNvSpPr/>
              <p:nvPr/>
            </p:nvSpPr>
            <p:spPr>
              <a:xfrm>
                <a:off x="6063840" y="5230800"/>
                <a:ext cx="727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6084360" y="5227560"/>
                <a:ext cx="727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6105240" y="5224680"/>
                <a:ext cx="72720" cy="1332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6126120" y="522180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6145200" y="5220000"/>
                <a:ext cx="7128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6166080" y="5218560"/>
                <a:ext cx="709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6186960" y="5217120"/>
                <a:ext cx="709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6206400" y="5212080"/>
                <a:ext cx="727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6225480" y="521100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6246360" y="520956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6267240" y="520776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6286320" y="5198400"/>
                <a:ext cx="7128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6307200" y="5204520"/>
                <a:ext cx="709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6328080" y="5199840"/>
                <a:ext cx="7128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6347520" y="5196960"/>
                <a:ext cx="727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6366600" y="519552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6387480" y="5190840"/>
                <a:ext cx="72720" cy="1332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6408360" y="518904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6427440" y="5187600"/>
                <a:ext cx="7128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6448320" y="5184720"/>
                <a:ext cx="709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6467760" y="518328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6488640" y="5178240"/>
                <a:ext cx="727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6507720" y="517680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6528600" y="517212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6549480" y="5173560"/>
                <a:ext cx="709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6570000" y="5167440"/>
                <a:ext cx="7128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6589440" y="5166000"/>
                <a:ext cx="709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6608880" y="5162760"/>
                <a:ext cx="727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6629760" y="5159520"/>
                <a:ext cx="727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6648840" y="5157000"/>
                <a:ext cx="72720" cy="1332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6669720" y="515376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6690240" y="5150520"/>
                <a:ext cx="7128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6711120" y="5149080"/>
                <a:ext cx="7128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6729120" y="5144400"/>
                <a:ext cx="727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6750000" y="514152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6770880" y="5133240"/>
                <a:ext cx="727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6791400" y="513828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6810840" y="5131800"/>
                <a:ext cx="709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6831360" y="5128920"/>
                <a:ext cx="7128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6852240" y="5127480"/>
                <a:ext cx="7128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6870240" y="5122800"/>
                <a:ext cx="72720" cy="1332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6891120" y="511956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6911640" y="511668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6932520" y="5112000"/>
                <a:ext cx="72720" cy="1332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951960" y="5108760"/>
                <a:ext cx="709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6972480" y="5105520"/>
                <a:ext cx="7128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6993360" y="5101200"/>
                <a:ext cx="71280" cy="1368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7012440" y="509472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7032240" y="509652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052760" y="5091840"/>
                <a:ext cx="727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7073640" y="508716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7092720" y="5083920"/>
                <a:ext cx="7128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7113600" y="5081040"/>
                <a:ext cx="7128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7134480" y="5076360"/>
                <a:ext cx="7128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7153560" y="5073120"/>
                <a:ext cx="727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7173000" y="507024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7193880" y="506412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7214760" y="506088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7235640" y="5057640"/>
                <a:ext cx="709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254720" y="5050080"/>
                <a:ext cx="7128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7273800" y="5050080"/>
                <a:ext cx="727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7294680" y="5043960"/>
                <a:ext cx="72720" cy="1332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7314120" y="504072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7335000" y="503640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7355880" y="5031360"/>
                <a:ext cx="7128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7376760" y="5028480"/>
                <a:ext cx="709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7394400" y="5023800"/>
                <a:ext cx="727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7414920" y="501912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7435800" y="501444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454880" y="5010120"/>
                <a:ext cx="72720" cy="1332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7475760" y="5005080"/>
                <a:ext cx="727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496640" y="4997520"/>
                <a:ext cx="7128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7517520" y="4997520"/>
                <a:ext cx="709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535520" y="499140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7556040" y="498528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7576920" y="4982040"/>
                <a:ext cx="727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7597800" y="4975920"/>
                <a:ext cx="72720" cy="1332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7616880" y="4971240"/>
                <a:ext cx="7128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7637760" y="4965120"/>
                <a:ext cx="71280" cy="1332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7658640" y="4961880"/>
                <a:ext cx="709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7676280" y="495756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7697160" y="495108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7718040" y="494640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7738920" y="493884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7758000" y="4935600"/>
                <a:ext cx="7128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7778880" y="4929480"/>
                <a:ext cx="709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7799760" y="4924800"/>
                <a:ext cx="709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7819200" y="491868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7838280" y="491256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7859160" y="4906080"/>
                <a:ext cx="727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7880040" y="490176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7899120" y="4895280"/>
                <a:ext cx="7128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7920000" y="4890960"/>
                <a:ext cx="709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7940520" y="4883040"/>
                <a:ext cx="7128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7960320" y="487872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7979400" y="487080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8000280" y="486612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8021160" y="486000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8041680" y="4852080"/>
                <a:ext cx="71280" cy="1368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8061120" y="4845960"/>
                <a:ext cx="709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8080560" y="483984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8101440" y="483372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8120520" y="4827240"/>
                <a:ext cx="72720" cy="1260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8141400" y="4821480"/>
                <a:ext cx="72720" cy="12240"/>
              </a:xfrm>
              <a:prstGeom prst="rect">
                <a:avLst/>
              </a:prstGeom>
              <a:solidFill>
                <a:srgbClr val="000080"/>
              </a:solidFill>
              <a:ln w="14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8187120" y="2204640"/>
                <a:ext cx="1440" cy="3218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8153280" y="5422680"/>
                <a:ext cx="680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8153280" y="4961880"/>
                <a:ext cx="680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8153280" y="4504680"/>
                <a:ext cx="680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8153280" y="4043880"/>
                <a:ext cx="680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8153280" y="3583440"/>
                <a:ext cx="680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8153280" y="3122640"/>
                <a:ext cx="68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8153280" y="2665080"/>
                <a:ext cx="68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8153280" y="2204640"/>
                <a:ext cx="680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 flipV="1">
                <a:off x="860400" y="4612320"/>
                <a:ext cx="20520" cy="61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 flipV="1">
                <a:off x="880920" y="4608000"/>
                <a:ext cx="17640" cy="43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flipV="1">
                <a:off x="898920" y="4601880"/>
                <a:ext cx="20520" cy="57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 flipV="1">
                <a:off x="919440" y="4596840"/>
                <a:ext cx="20520" cy="468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 flipV="1">
                <a:off x="940320" y="4591080"/>
                <a:ext cx="19080" cy="57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 flipV="1">
                <a:off x="959400" y="4585680"/>
                <a:ext cx="20520" cy="468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 flipV="1">
                <a:off x="980280" y="4580280"/>
                <a:ext cx="20520" cy="57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 flipV="1">
                <a:off x="1001160" y="4575600"/>
                <a:ext cx="20520" cy="43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 flipV="1">
                <a:off x="1022040" y="4569120"/>
                <a:ext cx="17280" cy="61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flipV="1">
                <a:off x="1039680" y="4564800"/>
                <a:ext cx="20520" cy="43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 flipV="1">
                <a:off x="1060560" y="4559400"/>
                <a:ext cx="20520" cy="468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 flipV="1">
                <a:off x="1081440" y="4551840"/>
                <a:ext cx="2052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 flipV="1">
                <a:off x="1102320" y="4546080"/>
                <a:ext cx="19080" cy="57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 flipV="1">
                <a:off x="1121400" y="4541760"/>
                <a:ext cx="20520" cy="43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 flipV="1">
                <a:off x="1142280" y="4534920"/>
                <a:ext cx="20520" cy="61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flipV="1">
                <a:off x="1162800" y="4530960"/>
                <a:ext cx="17640" cy="43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 flipV="1">
                <a:off x="1180800" y="4524120"/>
                <a:ext cx="20520" cy="61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 flipV="1">
                <a:off x="1201680" y="4518000"/>
                <a:ext cx="20520" cy="61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 flipV="1">
                <a:off x="1222560" y="4512240"/>
                <a:ext cx="20520" cy="57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 flipV="1">
                <a:off x="1243440" y="4507560"/>
                <a:ext cx="19080" cy="43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 flipV="1">
                <a:off x="1262520" y="4501080"/>
                <a:ext cx="20520" cy="61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 flipV="1">
                <a:off x="1283400" y="4494600"/>
                <a:ext cx="20520" cy="61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 flipV="1">
                <a:off x="1303920" y="4489200"/>
                <a:ext cx="19440" cy="57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 flipV="1">
                <a:off x="1323720" y="4483800"/>
                <a:ext cx="19080" cy="468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 flipV="1">
                <a:off x="1342800" y="4476240"/>
                <a:ext cx="2052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flipV="1">
                <a:off x="1363680" y="4471920"/>
                <a:ext cx="20520" cy="43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flipV="1">
                <a:off x="1384560" y="4465440"/>
                <a:ext cx="19080" cy="61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flipV="1">
                <a:off x="1403640" y="4459680"/>
                <a:ext cx="20520" cy="57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V="1">
                <a:off x="1424520" y="4452840"/>
                <a:ext cx="19080" cy="61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flipV="1">
                <a:off x="1443960" y="4447440"/>
                <a:ext cx="20520" cy="57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flipV="1">
                <a:off x="1464840" y="4440600"/>
                <a:ext cx="19080" cy="61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flipV="1">
                <a:off x="1483920" y="4436640"/>
                <a:ext cx="20520" cy="43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flipV="1">
                <a:off x="1504800" y="4428360"/>
                <a:ext cx="2052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flipV="1">
                <a:off x="1525320" y="4420800"/>
                <a:ext cx="2052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flipV="1">
                <a:off x="1546200" y="4415760"/>
                <a:ext cx="19080" cy="468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V="1">
                <a:off x="1565280" y="4408200"/>
                <a:ext cx="1944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 flipV="1">
                <a:off x="1585080" y="4403880"/>
                <a:ext cx="20520" cy="43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 flipV="1">
                <a:off x="1605960" y="4395960"/>
                <a:ext cx="1908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 flipV="1">
                <a:off x="1625040" y="4391640"/>
                <a:ext cx="20520" cy="43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 flipV="1">
                <a:off x="1645920" y="4383720"/>
                <a:ext cx="2052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flipV="1">
                <a:off x="1666440" y="4379400"/>
                <a:ext cx="20520" cy="43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flipV="1">
                <a:off x="1687320" y="4371480"/>
                <a:ext cx="17640" cy="79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flipV="1">
                <a:off x="1705320" y="4363200"/>
                <a:ext cx="2052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 flipV="1">
                <a:off x="1726200" y="4359240"/>
                <a:ext cx="20520" cy="43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flipV="1">
                <a:off x="1746720" y="4350960"/>
                <a:ext cx="2052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 flipV="1">
                <a:off x="1767600" y="4343400"/>
                <a:ext cx="1944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 flipV="1">
                <a:off x="1787040" y="4336920"/>
                <a:ext cx="20520" cy="61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 flipV="1">
                <a:off x="1807560" y="4331520"/>
                <a:ext cx="20520" cy="57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 flipV="1">
                <a:off x="1828440" y="4324680"/>
                <a:ext cx="17640" cy="61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 flipV="1">
                <a:off x="1846440" y="4317120"/>
                <a:ext cx="2052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 flipV="1">
                <a:off x="1867320" y="4309200"/>
                <a:ext cx="2052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 flipV="1">
                <a:off x="1887840" y="4305240"/>
                <a:ext cx="20520" cy="43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 flipV="1">
                <a:off x="1908720" y="4296960"/>
                <a:ext cx="1908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flipV="1">
                <a:off x="1927800" y="4290840"/>
                <a:ext cx="20520" cy="61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 flipV="1">
                <a:off x="1948680" y="4282920"/>
                <a:ext cx="2052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 flipV="1">
                <a:off x="1969560" y="4275360"/>
                <a:ext cx="1764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flipV="1">
                <a:off x="1987200" y="4268880"/>
                <a:ext cx="20520" cy="61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 flipV="1">
                <a:off x="2008080" y="4261320"/>
                <a:ext cx="2052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 flipV="1">
                <a:off x="2028960" y="4255560"/>
                <a:ext cx="20520" cy="57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 flipV="1">
                <a:off x="2049840" y="4247640"/>
                <a:ext cx="1908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 flipV="1">
                <a:off x="2068920" y="4239720"/>
                <a:ext cx="2052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 flipV="1">
                <a:off x="2089800" y="4233600"/>
                <a:ext cx="20520" cy="61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flipV="1">
                <a:off x="2110680" y="4226040"/>
                <a:ext cx="1908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 flipV="1">
                <a:off x="2129760" y="4218120"/>
                <a:ext cx="1944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 flipV="1">
                <a:off x="2149200" y="4212000"/>
                <a:ext cx="20520" cy="61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flipV="1">
                <a:off x="2169720" y="4204080"/>
                <a:ext cx="2052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flipV="1">
                <a:off x="2190600" y="4198680"/>
                <a:ext cx="19080" cy="57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flipV="1">
                <a:off x="2210040" y="4190400"/>
                <a:ext cx="2052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flipV="1">
                <a:off x="2230920" y="4182840"/>
                <a:ext cx="19080" cy="79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 flipV="1">
                <a:off x="2250000" y="4176720"/>
                <a:ext cx="20520" cy="57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 flipV="1">
                <a:off x="2270880" y="4168800"/>
                <a:ext cx="1908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 flipV="1">
                <a:off x="2289960" y="4160880"/>
                <a:ext cx="2052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 flipV="1">
                <a:off x="2310840" y="4154760"/>
                <a:ext cx="20520" cy="61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 flipV="1">
                <a:off x="2331720" y="4145760"/>
                <a:ext cx="20520" cy="900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 flipV="1">
                <a:off x="2352600" y="4137840"/>
                <a:ext cx="1908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 flipV="1">
                <a:off x="2372040" y="4131720"/>
                <a:ext cx="19080" cy="61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 flipV="1">
                <a:off x="2391120" y="4123800"/>
                <a:ext cx="2052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 flipV="1">
                <a:off x="2412000" y="4114800"/>
                <a:ext cx="19080" cy="93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 flipV="1">
                <a:off x="2431080" y="4108680"/>
                <a:ext cx="20520" cy="57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 flipV="1">
                <a:off x="2451960" y="4100760"/>
                <a:ext cx="2052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 flipV="1">
                <a:off x="2472840" y="4093200"/>
                <a:ext cx="2052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 flipV="1">
                <a:off x="2493720" y="4085280"/>
                <a:ext cx="1728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flipV="1">
                <a:off x="2511360" y="4077720"/>
                <a:ext cx="2052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 flipV="1">
                <a:off x="2532240" y="4069800"/>
                <a:ext cx="2052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 flipV="1">
                <a:off x="2553120" y="4060800"/>
                <a:ext cx="20520" cy="93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 flipV="1">
                <a:off x="2574000" y="4053960"/>
                <a:ext cx="19080" cy="61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 flipV="1">
                <a:off x="2593080" y="4044960"/>
                <a:ext cx="20520" cy="900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6" name=""/>
            <p:cNvGrpSpPr/>
            <p:nvPr/>
          </p:nvGrpSpPr>
          <p:grpSpPr>
            <a:xfrm>
              <a:off x="2613960" y="2782800"/>
              <a:ext cx="4031280" cy="1262160"/>
              <a:chOff x="2613960" y="2782800"/>
              <a:chExt cx="4031280" cy="1262160"/>
            </a:xfrm>
          </p:grpSpPr>
          <p:sp>
            <p:nvSpPr>
              <p:cNvPr id="1757" name=""/>
              <p:cNvSpPr/>
              <p:nvPr/>
            </p:nvSpPr>
            <p:spPr>
              <a:xfrm flipV="1">
                <a:off x="2613960" y="4037400"/>
                <a:ext cx="2052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 flipV="1">
                <a:off x="2634480" y="4031280"/>
                <a:ext cx="17640" cy="61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 flipV="1">
                <a:off x="2652120" y="4021920"/>
                <a:ext cx="20520" cy="900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 flipV="1">
                <a:off x="2673000" y="4014360"/>
                <a:ext cx="2052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 flipV="1">
                <a:off x="2693880" y="4006440"/>
                <a:ext cx="2052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flipV="1">
                <a:off x="2714760" y="3998880"/>
                <a:ext cx="1908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 flipV="1">
                <a:off x="2733840" y="3989880"/>
                <a:ext cx="20520" cy="93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 flipV="1">
                <a:off x="2754720" y="3981600"/>
                <a:ext cx="2052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 flipV="1">
                <a:off x="2775600" y="3974040"/>
                <a:ext cx="1764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 flipV="1">
                <a:off x="2793240" y="3965040"/>
                <a:ext cx="20520" cy="900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 flipV="1">
                <a:off x="2814120" y="3957120"/>
                <a:ext cx="2052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 flipV="1">
                <a:off x="2835000" y="3948120"/>
                <a:ext cx="20520" cy="93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 flipV="1">
                <a:off x="2855880" y="3942000"/>
                <a:ext cx="19080" cy="57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 flipV="1">
                <a:off x="2874960" y="3932640"/>
                <a:ext cx="20520" cy="93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 flipV="1">
                <a:off x="2895840" y="3923280"/>
                <a:ext cx="20520" cy="900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 flipV="1">
                <a:off x="2916360" y="3916800"/>
                <a:ext cx="19440" cy="61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 flipV="1">
                <a:off x="2936160" y="3907800"/>
                <a:ext cx="19080" cy="900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 flipV="1">
                <a:off x="2955240" y="3898800"/>
                <a:ext cx="20520" cy="93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 flipV="1">
                <a:off x="2976120" y="3890520"/>
                <a:ext cx="2052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 flipV="1">
                <a:off x="2996640" y="3882960"/>
                <a:ext cx="1944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 flipV="1">
                <a:off x="3016080" y="3873600"/>
                <a:ext cx="20520" cy="900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 flipV="1">
                <a:off x="3036960" y="3866040"/>
                <a:ext cx="19080" cy="79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 flipV="1">
                <a:off x="3056400" y="3856680"/>
                <a:ext cx="20520" cy="900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 flipV="1">
                <a:off x="3077280" y="3848760"/>
                <a:ext cx="1908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 flipV="1">
                <a:off x="3096360" y="3839760"/>
                <a:ext cx="20520" cy="900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 flipV="1">
                <a:off x="3117240" y="3832200"/>
                <a:ext cx="20520" cy="79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 flipV="1">
                <a:off x="3137760" y="3822480"/>
                <a:ext cx="20520" cy="900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 flipV="1">
                <a:off x="3158640" y="3814920"/>
                <a:ext cx="1764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 flipV="1">
                <a:off x="3176640" y="3805920"/>
                <a:ext cx="20520" cy="900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 flipV="1">
                <a:off x="3197520" y="3796560"/>
                <a:ext cx="20520" cy="93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 flipV="1">
                <a:off x="3218400" y="3788640"/>
                <a:ext cx="1908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flipV="1">
                <a:off x="3237480" y="3780720"/>
                <a:ext cx="2052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 flipV="1">
                <a:off x="3258360" y="3771720"/>
                <a:ext cx="20520" cy="93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 flipV="1">
                <a:off x="3278880" y="3762360"/>
                <a:ext cx="20520" cy="900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 flipV="1">
                <a:off x="3299760" y="3753000"/>
                <a:ext cx="17640" cy="900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 flipV="1">
                <a:off x="3317760" y="3744000"/>
                <a:ext cx="20520" cy="93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 flipV="1">
                <a:off x="3338640" y="3736080"/>
                <a:ext cx="2052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 flipV="1">
                <a:off x="3359160" y="3726720"/>
                <a:ext cx="20520" cy="900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 flipV="1">
                <a:off x="3380040" y="3717720"/>
                <a:ext cx="19080" cy="93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 flipV="1">
                <a:off x="3399120" y="3708360"/>
                <a:ext cx="20520" cy="900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 flipV="1">
                <a:off x="3420000" y="3701880"/>
                <a:ext cx="20520" cy="61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 flipV="1">
                <a:off x="3440880" y="3692880"/>
                <a:ext cx="17640" cy="900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 flipV="1">
                <a:off x="3458880" y="3683880"/>
                <a:ext cx="20520" cy="93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 flipV="1">
                <a:off x="3479760" y="3674160"/>
                <a:ext cx="20520" cy="900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 flipV="1">
                <a:off x="3500280" y="3665160"/>
                <a:ext cx="20520" cy="93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 flipV="1">
                <a:off x="3521160" y="3657240"/>
                <a:ext cx="1908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 flipV="1">
                <a:off x="3540240" y="3647880"/>
                <a:ext cx="20520" cy="900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 flipV="1">
                <a:off x="3561120" y="3638880"/>
                <a:ext cx="20520" cy="93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 flipV="1">
                <a:off x="3582000" y="3629520"/>
                <a:ext cx="19080" cy="900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 flipV="1">
                <a:off x="3601080" y="3620520"/>
                <a:ext cx="19440" cy="93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 flipV="1">
                <a:off x="3620520" y="3612240"/>
                <a:ext cx="2052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 flipV="1">
                <a:off x="3641400" y="3603240"/>
                <a:ext cx="20520" cy="900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 flipV="1">
                <a:off x="3662280" y="3593880"/>
                <a:ext cx="19080" cy="93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 flipV="1">
                <a:off x="3681360" y="3583080"/>
                <a:ext cx="20520" cy="1044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 flipV="1">
                <a:off x="3702240" y="3574080"/>
                <a:ext cx="20520" cy="93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 flipV="1">
                <a:off x="3723120" y="3566160"/>
                <a:ext cx="1908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 flipV="1">
                <a:off x="3742200" y="3556800"/>
                <a:ext cx="19080" cy="900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 flipV="1">
                <a:off x="3761280" y="3547800"/>
                <a:ext cx="20520" cy="93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 flipV="1">
                <a:off x="3782160" y="3538440"/>
                <a:ext cx="20520" cy="900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 flipV="1">
                <a:off x="3803040" y="3529080"/>
                <a:ext cx="19080" cy="93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 flipV="1">
                <a:off x="3822480" y="3521160"/>
                <a:ext cx="2052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 flipV="1">
                <a:off x="3843360" y="3512160"/>
                <a:ext cx="19080" cy="900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 flipV="1">
                <a:off x="3862440" y="3502800"/>
                <a:ext cx="20520" cy="93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flipV="1">
                <a:off x="3883320" y="3493440"/>
                <a:ext cx="19080" cy="900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V="1">
                <a:off x="3902400" y="3484440"/>
                <a:ext cx="20520" cy="93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flipV="1">
                <a:off x="3923280" y="3476160"/>
                <a:ext cx="2052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V="1">
                <a:off x="3944160" y="3467160"/>
                <a:ext cx="20520" cy="900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V="1">
                <a:off x="3965040" y="3458160"/>
                <a:ext cx="17640" cy="93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V="1">
                <a:off x="3983040" y="3447360"/>
                <a:ext cx="20520" cy="1080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 flipV="1">
                <a:off x="4003560" y="3437640"/>
                <a:ext cx="20520" cy="900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 flipV="1">
                <a:off x="4024440" y="3430080"/>
                <a:ext cx="1908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 flipV="1">
                <a:off x="4043520" y="3420720"/>
                <a:ext cx="20520" cy="93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 flipV="1">
                <a:off x="4064400" y="3411360"/>
                <a:ext cx="20520" cy="900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 flipV="1">
                <a:off x="4085280" y="3402360"/>
                <a:ext cx="20520" cy="900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 flipV="1">
                <a:off x="4106160" y="3393360"/>
                <a:ext cx="17280" cy="93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flipV="1">
                <a:off x="4123800" y="3385080"/>
                <a:ext cx="2052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 flipV="1">
                <a:off x="4144680" y="3376080"/>
                <a:ext cx="20520" cy="900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 flipV="1">
                <a:off x="4165560" y="3367080"/>
                <a:ext cx="20520" cy="93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 flipV="1">
                <a:off x="4186440" y="3357360"/>
                <a:ext cx="19080" cy="900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 flipV="1">
                <a:off x="4205520" y="3348360"/>
                <a:ext cx="20520" cy="93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 flipV="1">
                <a:off x="4226400" y="3340440"/>
                <a:ext cx="2052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 flipV="1">
                <a:off x="4246920" y="3331080"/>
                <a:ext cx="17640" cy="900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 flipV="1">
                <a:off x="4264920" y="3322080"/>
                <a:ext cx="20520" cy="93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 flipV="1">
                <a:off x="4285800" y="3312720"/>
                <a:ext cx="20520" cy="900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 flipV="1">
                <a:off x="4306680" y="3303360"/>
                <a:ext cx="20520" cy="93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 flipV="1">
                <a:off x="4327560" y="3295440"/>
                <a:ext cx="1908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 flipV="1">
                <a:off x="4346640" y="3286440"/>
                <a:ext cx="20520" cy="900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 flipV="1">
                <a:off x="4367520" y="3277080"/>
                <a:ext cx="20520" cy="93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 flipV="1">
                <a:off x="4388040" y="3267720"/>
                <a:ext cx="19440" cy="900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 flipV="1">
                <a:off x="4407840" y="3258720"/>
                <a:ext cx="19080" cy="93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 flipV="1">
                <a:off x="4426920" y="3250440"/>
                <a:ext cx="2052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flipV="1">
                <a:off x="4447800" y="3241440"/>
                <a:ext cx="20520" cy="900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 flipV="1">
                <a:off x="4468320" y="3232440"/>
                <a:ext cx="19440" cy="900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 flipV="1">
                <a:off x="4487760" y="3223080"/>
                <a:ext cx="20520" cy="93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 flipV="1">
                <a:off x="4508640" y="3216600"/>
                <a:ext cx="19080" cy="61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flipV="1">
                <a:off x="4528080" y="3207600"/>
                <a:ext cx="20520" cy="900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 flipV="1">
                <a:off x="4548960" y="3198240"/>
                <a:ext cx="19080" cy="93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 flipV="1">
                <a:off x="4568040" y="3188880"/>
                <a:ext cx="20520" cy="900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flipV="1">
                <a:off x="4588920" y="3181320"/>
                <a:ext cx="2052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 flipV="1">
                <a:off x="4609440" y="3171960"/>
                <a:ext cx="19440" cy="900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 flipV="1">
                <a:off x="4628880" y="3164400"/>
                <a:ext cx="20520" cy="79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 flipV="1">
                <a:off x="4649400" y="3154680"/>
                <a:ext cx="19440" cy="900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 flipV="1">
                <a:off x="4668840" y="3147120"/>
                <a:ext cx="2052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 flipV="1">
                <a:off x="4689720" y="3139560"/>
                <a:ext cx="1908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 flipV="1">
                <a:off x="4709160" y="3130200"/>
                <a:ext cx="20520" cy="93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 flipV="1">
                <a:off x="4730040" y="3120840"/>
                <a:ext cx="20520" cy="900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 flipV="1">
                <a:off x="4750560" y="3114720"/>
                <a:ext cx="20520" cy="61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 flipV="1">
                <a:off x="4771440" y="3105360"/>
                <a:ext cx="17640" cy="900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 flipV="1">
                <a:off x="4789080" y="3096360"/>
                <a:ext cx="20520" cy="93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 flipV="1">
                <a:off x="4809960" y="3088080"/>
                <a:ext cx="2052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 flipV="1">
                <a:off x="4830480" y="3080520"/>
                <a:ext cx="1944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 flipV="1">
                <a:off x="4850280" y="3072960"/>
                <a:ext cx="2052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 flipV="1">
                <a:off x="4871160" y="3065040"/>
                <a:ext cx="2052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 flipV="1">
                <a:off x="4891680" y="3057480"/>
                <a:ext cx="2052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 flipV="1">
                <a:off x="4912560" y="3049560"/>
                <a:ext cx="1764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 flipV="1">
                <a:off x="4930200" y="3042000"/>
                <a:ext cx="2052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 flipV="1">
                <a:off x="4951080" y="3034440"/>
                <a:ext cx="2052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 flipV="1">
                <a:off x="4971600" y="3026520"/>
                <a:ext cx="2052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 flipV="1">
                <a:off x="4992480" y="3018960"/>
                <a:ext cx="1908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 flipV="1">
                <a:off x="5011920" y="3012480"/>
                <a:ext cx="20520" cy="61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 flipV="1">
                <a:off x="5032800" y="3003480"/>
                <a:ext cx="20520" cy="900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 flipV="1">
                <a:off x="5053680" y="2995560"/>
                <a:ext cx="1764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 flipV="1">
                <a:off x="5071320" y="2989440"/>
                <a:ext cx="20520" cy="61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 flipV="1">
                <a:off x="5092200" y="2981880"/>
                <a:ext cx="2052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 flipV="1">
                <a:off x="5112720" y="2975400"/>
                <a:ext cx="20520" cy="61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 flipV="1">
                <a:off x="5133600" y="2969640"/>
                <a:ext cx="19080" cy="57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 flipV="1">
                <a:off x="5153040" y="2961720"/>
                <a:ext cx="2052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 flipV="1">
                <a:off x="5173920" y="2955240"/>
                <a:ext cx="20520" cy="61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 flipV="1">
                <a:off x="5194800" y="2947680"/>
                <a:ext cx="1908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 flipV="1">
                <a:off x="5213880" y="2940120"/>
                <a:ext cx="1944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 flipV="1">
                <a:off x="5233320" y="2935800"/>
                <a:ext cx="20520" cy="43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flipV="1">
                <a:off x="5253840" y="2927880"/>
                <a:ext cx="2052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 flipV="1">
                <a:off x="5274720" y="2923560"/>
                <a:ext cx="19080" cy="43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 flipV="1">
                <a:off x="5294160" y="2915280"/>
                <a:ext cx="2052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flipV="1">
                <a:off x="5315040" y="2910600"/>
                <a:ext cx="19080" cy="468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 flipV="1">
                <a:off x="5334120" y="2902680"/>
                <a:ext cx="2052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 flipV="1">
                <a:off x="5355000" y="2898720"/>
                <a:ext cx="19080" cy="43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 flipV="1">
                <a:off x="5374080" y="2891880"/>
                <a:ext cx="20520" cy="61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 flipV="1">
                <a:off x="5394960" y="2887920"/>
                <a:ext cx="20520" cy="43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 flipV="1">
                <a:off x="5415840" y="2879640"/>
                <a:ext cx="2052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 flipV="1">
                <a:off x="5436720" y="2873520"/>
                <a:ext cx="19080" cy="61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 flipV="1">
                <a:off x="5456160" y="2869200"/>
                <a:ext cx="19080" cy="43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 flipV="1">
                <a:off x="5475240" y="2863080"/>
                <a:ext cx="20520" cy="57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 flipV="1">
                <a:off x="5496120" y="2860200"/>
                <a:ext cx="19080" cy="288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 flipV="1">
                <a:off x="5515200" y="2855520"/>
                <a:ext cx="20520" cy="43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 flipV="1">
                <a:off x="5536080" y="2848680"/>
                <a:ext cx="20520" cy="61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 flipV="1">
                <a:off x="5556960" y="2846160"/>
                <a:ext cx="20520" cy="288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 flipV="1">
                <a:off x="5577840" y="2839320"/>
                <a:ext cx="17280" cy="61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 flipV="1">
                <a:off x="5595480" y="2836440"/>
                <a:ext cx="20520" cy="25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 flipV="1">
                <a:off x="5616360" y="2831760"/>
                <a:ext cx="20520" cy="468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 flipV="1">
                <a:off x="5637240" y="2827440"/>
                <a:ext cx="19080" cy="43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 flipV="1">
                <a:off x="5656320" y="2824200"/>
                <a:ext cx="20520" cy="288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 flipV="1">
                <a:off x="5677200" y="2821320"/>
                <a:ext cx="20520" cy="25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 flipV="1">
                <a:off x="5698080" y="2816280"/>
                <a:ext cx="20520" cy="468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 flipV="1">
                <a:off x="5718600" y="2813400"/>
                <a:ext cx="17640" cy="288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 flipV="1">
                <a:off x="5736600" y="2810160"/>
                <a:ext cx="20520" cy="25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 flipV="1">
                <a:off x="5757480" y="2805480"/>
                <a:ext cx="20520" cy="468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 flipV="1">
                <a:off x="5778360" y="2802600"/>
                <a:ext cx="20520" cy="25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 flipV="1">
                <a:off x="5799240" y="2801160"/>
                <a:ext cx="19080" cy="144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 flipV="1">
                <a:off x="5818320" y="2797920"/>
                <a:ext cx="20520" cy="288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 flipV="1">
                <a:off x="5839200" y="2795040"/>
                <a:ext cx="20520" cy="25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 flipV="1">
                <a:off x="5859720" y="2793600"/>
                <a:ext cx="17640" cy="144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 flipV="1">
                <a:off x="5877720" y="2791800"/>
                <a:ext cx="20520" cy="108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 flipV="1">
                <a:off x="5898600" y="2790360"/>
                <a:ext cx="20520" cy="144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 flipV="1">
                <a:off x="5919480" y="2788560"/>
                <a:ext cx="20520" cy="108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flipV="1">
                <a:off x="5940360" y="2787120"/>
                <a:ext cx="19080" cy="108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5959440" y="2787480"/>
                <a:ext cx="20520" cy="108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 flipV="1">
                <a:off x="5980320" y="2785680"/>
                <a:ext cx="20520" cy="144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6000840" y="2785680"/>
                <a:ext cx="19440" cy="144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 flipV="1">
                <a:off x="6020280" y="2782800"/>
                <a:ext cx="19080" cy="288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6039720" y="2782800"/>
                <a:ext cx="20520" cy="144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6060600" y="2782800"/>
                <a:ext cx="20520" cy="144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6081120" y="2782800"/>
                <a:ext cx="19440" cy="288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6100560" y="2785680"/>
                <a:ext cx="20520" cy="144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6121440" y="2785680"/>
                <a:ext cx="19080" cy="144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6140520" y="2785680"/>
                <a:ext cx="20520" cy="144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6161400" y="2785680"/>
                <a:ext cx="19080" cy="144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6180840" y="2787480"/>
                <a:ext cx="20520" cy="108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6201720" y="2788920"/>
                <a:ext cx="20520" cy="108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6222240" y="2790360"/>
                <a:ext cx="20520" cy="144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6243120" y="2792160"/>
                <a:ext cx="19080" cy="108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6262200" y="2793600"/>
                <a:ext cx="19440" cy="43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6281640" y="2797920"/>
                <a:ext cx="20520" cy="144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6302520" y="2799720"/>
                <a:ext cx="19080" cy="288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6321960" y="2802960"/>
                <a:ext cx="20520" cy="25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6342840" y="2805840"/>
                <a:ext cx="20520" cy="468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6363360" y="2810520"/>
                <a:ext cx="20520" cy="25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6384240" y="2813400"/>
                <a:ext cx="17640" cy="61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6401880" y="2819880"/>
                <a:ext cx="20520" cy="288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6422760" y="2822760"/>
                <a:ext cx="20520" cy="43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6443280" y="2827440"/>
                <a:ext cx="19440" cy="61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6463080" y="2833920"/>
                <a:ext cx="20520" cy="43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6483600" y="2838240"/>
                <a:ext cx="2052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6504480" y="2846160"/>
                <a:ext cx="20520" cy="43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6525360" y="2850480"/>
                <a:ext cx="1764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6543000" y="2858400"/>
                <a:ext cx="2052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6563880" y="2865960"/>
                <a:ext cx="20520" cy="61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6584400" y="2872440"/>
                <a:ext cx="2052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6605280" y="2880000"/>
                <a:ext cx="19080" cy="93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6624720" y="2889360"/>
                <a:ext cx="20520" cy="900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7" name=""/>
            <p:cNvGrpSpPr/>
            <p:nvPr/>
          </p:nvGrpSpPr>
          <p:grpSpPr>
            <a:xfrm>
              <a:off x="846720" y="2898720"/>
              <a:ext cx="7329960" cy="2464920"/>
              <a:chOff x="846720" y="2898720"/>
              <a:chExt cx="7329960" cy="2464920"/>
            </a:xfrm>
          </p:grpSpPr>
          <p:sp>
            <p:nvSpPr>
              <p:cNvPr id="1958" name=""/>
              <p:cNvSpPr/>
              <p:nvPr/>
            </p:nvSpPr>
            <p:spPr>
              <a:xfrm>
                <a:off x="6645600" y="2898720"/>
                <a:ext cx="20520" cy="7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6666480" y="2906280"/>
                <a:ext cx="17640" cy="93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6684480" y="2915640"/>
                <a:ext cx="20520" cy="900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6705360" y="2925000"/>
                <a:ext cx="20520" cy="1080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6725880" y="2935800"/>
                <a:ext cx="20520" cy="1080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6746760" y="2946600"/>
                <a:ext cx="19080" cy="1080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6765840" y="2957400"/>
                <a:ext cx="20520" cy="1224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6786720" y="2969640"/>
                <a:ext cx="20520" cy="1080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6807600" y="2980440"/>
                <a:ext cx="19080" cy="1224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6826680" y="2992680"/>
                <a:ext cx="19080" cy="1224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6846120" y="3004920"/>
                <a:ext cx="20520" cy="1368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6867000" y="3018960"/>
                <a:ext cx="20520" cy="151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6887880" y="3034440"/>
                <a:ext cx="19080" cy="1224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6906960" y="3046680"/>
                <a:ext cx="20520" cy="151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6927840" y="3062160"/>
                <a:ext cx="19080" cy="1368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6946920" y="3076200"/>
                <a:ext cx="20520" cy="169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6967800" y="3093480"/>
                <a:ext cx="19080" cy="151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6987240" y="3108960"/>
                <a:ext cx="20520" cy="16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7008120" y="3125520"/>
                <a:ext cx="20520" cy="169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7029000" y="3142800"/>
                <a:ext cx="20520" cy="183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7049880" y="3161520"/>
                <a:ext cx="19080" cy="1980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7068960" y="3181320"/>
                <a:ext cx="19080" cy="16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7088040" y="3198240"/>
                <a:ext cx="20520" cy="201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7108920" y="3218400"/>
                <a:ext cx="19080" cy="1980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7128360" y="3238560"/>
                <a:ext cx="20520" cy="1980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7149240" y="3258360"/>
                <a:ext cx="20520" cy="2160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7170120" y="3280320"/>
                <a:ext cx="20520" cy="2160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7191000" y="3301920"/>
                <a:ext cx="17280" cy="2304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7208280" y="3324960"/>
                <a:ext cx="20520" cy="2304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7229160" y="3348360"/>
                <a:ext cx="20520" cy="2304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7250040" y="3371400"/>
                <a:ext cx="20520" cy="2628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7270920" y="3397680"/>
                <a:ext cx="19080" cy="2484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7290360" y="3422520"/>
                <a:ext cx="20520" cy="2448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7311240" y="3447000"/>
                <a:ext cx="20520" cy="277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7331760" y="3475080"/>
                <a:ext cx="17640" cy="2628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7349400" y="3501360"/>
                <a:ext cx="20520" cy="273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7370280" y="3529080"/>
                <a:ext cx="20520" cy="291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7391160" y="3558600"/>
                <a:ext cx="20520" cy="273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7412040" y="3586320"/>
                <a:ext cx="19080" cy="309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7431120" y="3617280"/>
                <a:ext cx="20520" cy="3060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7452000" y="3648240"/>
                <a:ext cx="20520" cy="3060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7472880" y="3679200"/>
                <a:ext cx="17640" cy="3060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7490520" y="3709800"/>
                <a:ext cx="20520" cy="3384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7511400" y="3744000"/>
                <a:ext cx="20520" cy="3384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7532280" y="3777840"/>
                <a:ext cx="20520" cy="3384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7552800" y="3812040"/>
                <a:ext cx="19440" cy="3708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7572240" y="3849120"/>
                <a:ext cx="20520" cy="3528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7593120" y="3884400"/>
                <a:ext cx="20520" cy="3708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7613640" y="3921480"/>
                <a:ext cx="19440" cy="3708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7633440" y="3958920"/>
                <a:ext cx="19080" cy="399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7652520" y="3998880"/>
                <a:ext cx="20520" cy="385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7673400" y="4037760"/>
                <a:ext cx="20520" cy="4140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7693920" y="4079160"/>
                <a:ext cx="19440" cy="4140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7713360" y="4120920"/>
                <a:ext cx="20520" cy="4140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7733880" y="4162680"/>
                <a:ext cx="19440" cy="4320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7753680" y="4206240"/>
                <a:ext cx="20520" cy="4464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7774560" y="4250880"/>
                <a:ext cx="19080" cy="4428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7793640" y="4295520"/>
                <a:ext cx="20520" cy="4644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7814520" y="4342320"/>
                <a:ext cx="20520" cy="493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7835040" y="4391640"/>
                <a:ext cx="20520" cy="475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7855920" y="4439160"/>
                <a:ext cx="19080" cy="4788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7875000" y="4487400"/>
                <a:ext cx="19440" cy="511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7894800" y="4538520"/>
                <a:ext cx="20520" cy="507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7915320" y="4589280"/>
                <a:ext cx="19440" cy="52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7934760" y="4641840"/>
                <a:ext cx="20520" cy="5400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7955640" y="4696200"/>
                <a:ext cx="20520" cy="5364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7976160" y="4750200"/>
                <a:ext cx="20520" cy="5544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7997040" y="4806000"/>
                <a:ext cx="17640" cy="5688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8015040" y="4862880"/>
                <a:ext cx="20520" cy="601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8035920" y="4923360"/>
                <a:ext cx="20520" cy="5832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8056440" y="4981680"/>
                <a:ext cx="20520" cy="5868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8077320" y="5040720"/>
                <a:ext cx="19080" cy="633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8096400" y="5104080"/>
                <a:ext cx="20520" cy="6156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8117280" y="5165640"/>
                <a:ext cx="20520" cy="6480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8138160" y="5230800"/>
                <a:ext cx="17640" cy="6624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8156160" y="5297400"/>
                <a:ext cx="20520" cy="66240"/>
              </a:xfrm>
              <a:prstGeom prst="line">
                <a:avLst/>
              </a:prstGeom>
              <a:ln w="30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846720" y="4617360"/>
                <a:ext cx="2664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866160" y="4610880"/>
                <a:ext cx="2772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885240" y="460656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906120" y="4600080"/>
                <a:ext cx="2772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926640" y="459540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946080" y="4589280"/>
                <a:ext cx="2628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966600" y="4584600"/>
                <a:ext cx="2664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986400" y="4578480"/>
                <a:ext cx="2772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1006920" y="4573800"/>
                <a:ext cx="2808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1026360" y="456804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1046880" y="4563000"/>
                <a:ext cx="2808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1067760" y="4556880"/>
                <a:ext cx="26640" cy="252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1088640" y="4550760"/>
                <a:ext cx="262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1107720" y="4544280"/>
                <a:ext cx="2664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1127520" y="4539960"/>
                <a:ext cx="2772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1148040" y="4533480"/>
                <a:ext cx="2808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1167480" y="4529160"/>
                <a:ext cx="2772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1188000" y="4523040"/>
                <a:ext cx="2664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1208880" y="4516560"/>
                <a:ext cx="2664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1229760" y="4510440"/>
                <a:ext cx="2628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1247760" y="4505760"/>
                <a:ext cx="2808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1268640" y="4499640"/>
                <a:ext cx="2772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1289160" y="449352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1310040" y="4487400"/>
                <a:ext cx="2808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1329120" y="4482720"/>
                <a:ext cx="2664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1350000" y="4475160"/>
                <a:ext cx="262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1370880" y="4470480"/>
                <a:ext cx="262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1388880" y="446400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1409400" y="4456440"/>
                <a:ext cx="28080" cy="28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1430280" y="445176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1451160" y="4444200"/>
                <a:ext cx="28080" cy="28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1470240" y="4439160"/>
                <a:ext cx="2664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1491120" y="4433400"/>
                <a:ext cx="26280" cy="28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1512000" y="4426920"/>
                <a:ext cx="2628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1532520" y="4419360"/>
                <a:ext cx="2664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1550520" y="441468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1571400" y="440712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1592280" y="440244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1611360" y="4394880"/>
                <a:ext cx="2664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1632240" y="4388400"/>
                <a:ext cx="26280" cy="28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1653120" y="4382280"/>
                <a:ext cx="2628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1672200" y="4376160"/>
                <a:ext cx="28080" cy="28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1691640" y="437004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1712520" y="436212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1733400" y="4357440"/>
                <a:ext cx="262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1754280" y="4349880"/>
                <a:ext cx="262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1773360" y="4342320"/>
                <a:ext cx="262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1792440" y="433584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1813320" y="4329720"/>
                <a:ext cx="2808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1832760" y="432360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1853640" y="431604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1874520" y="4308120"/>
                <a:ext cx="262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1895040" y="4303440"/>
                <a:ext cx="2664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1914480" y="4295520"/>
                <a:ext cx="2628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1933560" y="428976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1954440" y="428184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1973520" y="427428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1994400" y="4267800"/>
                <a:ext cx="262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2015280" y="4260240"/>
                <a:ext cx="262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2036160" y="4252320"/>
                <a:ext cx="26640" cy="28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2053800" y="4246200"/>
                <a:ext cx="2808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2074680" y="4238280"/>
                <a:ext cx="2808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2095560" y="423252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2116080" y="422460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2135520" y="4216680"/>
                <a:ext cx="2628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2156400" y="4210920"/>
                <a:ext cx="262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176920" y="4203000"/>
                <a:ext cx="2664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2194920" y="4195440"/>
                <a:ext cx="28080" cy="28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2215800" y="4188960"/>
                <a:ext cx="2808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2236680" y="4181400"/>
                <a:ext cx="2772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2257200" y="4173480"/>
                <a:ext cx="28080" cy="28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2276640" y="4167360"/>
                <a:ext cx="2628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2297160" y="4159440"/>
                <a:ext cx="2664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2318040" y="4153680"/>
                <a:ext cx="2664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2338920" y="4144320"/>
                <a:ext cx="2628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2356920" y="4136400"/>
                <a:ext cx="2808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2377800" y="4128840"/>
                <a:ext cx="27720" cy="28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2398320" y="412272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2417760" y="4113360"/>
                <a:ext cx="262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2438280" y="4105440"/>
                <a:ext cx="26640" cy="28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2459160" y="4099320"/>
                <a:ext cx="2664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2478600" y="4091760"/>
                <a:ext cx="2808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2498040" y="4082400"/>
                <a:ext cx="28080" cy="28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2518920" y="4076280"/>
                <a:ext cx="2772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2539440" y="4068360"/>
                <a:ext cx="2664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2560320" y="4059360"/>
                <a:ext cx="262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2579400" y="4052880"/>
                <a:ext cx="2664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2599200" y="4043880"/>
                <a:ext cx="2772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2619720" y="403632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2639160" y="402984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2659680" y="4020480"/>
                <a:ext cx="2808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2680560" y="4012560"/>
                <a:ext cx="2664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2701440" y="4003560"/>
                <a:ext cx="26280" cy="28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720520" y="3997440"/>
                <a:ext cx="2664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740320" y="3988080"/>
                <a:ext cx="2772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760840" y="398052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2780280" y="3972600"/>
                <a:ext cx="2772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800800" y="3963240"/>
                <a:ext cx="2664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2821680" y="3955680"/>
                <a:ext cx="2628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2842560" y="3946320"/>
                <a:ext cx="262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2860560" y="3940200"/>
                <a:ext cx="2808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2881440" y="3931200"/>
                <a:ext cx="2772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2901960" y="3921480"/>
                <a:ext cx="2808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2922840" y="3913920"/>
                <a:ext cx="28080" cy="28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2941920" y="3906000"/>
                <a:ext cx="2664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962800" y="3897000"/>
                <a:ext cx="262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2983680" y="3889440"/>
                <a:ext cx="262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3001320" y="3879720"/>
                <a:ext cx="27720" cy="28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3022200" y="3872160"/>
                <a:ext cx="2808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3043080" y="386460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063960" y="385524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3083040" y="3845880"/>
                <a:ext cx="26640" cy="28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3103920" y="3838320"/>
                <a:ext cx="2628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124800" y="3830400"/>
                <a:ext cx="262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3143880" y="382140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3162960" y="3812040"/>
                <a:ext cx="28080" cy="28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3183840" y="3804120"/>
                <a:ext cx="2808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3204720" y="379512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3224160" y="3787200"/>
                <a:ext cx="2664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3245040" y="3777840"/>
                <a:ext cx="26280" cy="28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3265920" y="3770280"/>
                <a:ext cx="262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3285000" y="376092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3304080" y="3751560"/>
                <a:ext cx="2808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3324960" y="374256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8" name=""/>
            <p:cNvGrpSpPr/>
            <p:nvPr/>
          </p:nvGrpSpPr>
          <p:grpSpPr>
            <a:xfrm>
              <a:off x="3346200" y="2781360"/>
              <a:ext cx="4038480" cy="954720"/>
              <a:chOff x="3346200" y="2781360"/>
              <a:chExt cx="4038480" cy="954720"/>
            </a:xfrm>
          </p:grpSpPr>
          <p:sp>
            <p:nvSpPr>
              <p:cNvPr id="2159" name=""/>
              <p:cNvSpPr/>
              <p:nvPr/>
            </p:nvSpPr>
            <p:spPr>
              <a:xfrm>
                <a:off x="3346200" y="3733200"/>
                <a:ext cx="26280" cy="28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3366720" y="3725280"/>
                <a:ext cx="2664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3386160" y="3716280"/>
                <a:ext cx="262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3405240" y="3706920"/>
                <a:ext cx="2808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3426120" y="3699000"/>
                <a:ext cx="28080" cy="28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3445200" y="3691440"/>
                <a:ext cx="2808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3466080" y="368244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3486960" y="3672720"/>
                <a:ext cx="2628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3507480" y="3663720"/>
                <a:ext cx="2664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3527280" y="3656160"/>
                <a:ext cx="262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3546360" y="3646440"/>
                <a:ext cx="2808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3567240" y="363744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3588120" y="3628080"/>
                <a:ext cx="2772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3607200" y="3618720"/>
                <a:ext cx="262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3628080" y="3611160"/>
                <a:ext cx="262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3648600" y="3601800"/>
                <a:ext cx="2664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3666600" y="359244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3687480" y="3581640"/>
                <a:ext cx="2808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3708360" y="357264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3728880" y="3563280"/>
                <a:ext cx="28080" cy="28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3748320" y="3555360"/>
                <a:ext cx="2628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3769200" y="3546360"/>
                <a:ext cx="262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3789720" y="3537000"/>
                <a:ext cx="2664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3807720" y="352764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3828600" y="3518280"/>
                <a:ext cx="28080" cy="28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3849480" y="3510720"/>
                <a:ext cx="2772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3870000" y="350136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3889440" y="3492000"/>
                <a:ext cx="2628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3909960" y="3483000"/>
                <a:ext cx="2664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3930840" y="3475080"/>
                <a:ext cx="2664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3950640" y="3465720"/>
                <a:ext cx="2772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3969720" y="345672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3990600" y="3445560"/>
                <a:ext cx="2772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4011120" y="343656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4030560" y="3427200"/>
                <a:ext cx="26280" cy="28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4051080" y="3419280"/>
                <a:ext cx="2664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4071960" y="3410280"/>
                <a:ext cx="262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4091400" y="3400920"/>
                <a:ext cx="2808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4110840" y="339156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4131360" y="3382200"/>
                <a:ext cx="28080" cy="28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4152240" y="3374640"/>
                <a:ext cx="2664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4173120" y="3365280"/>
                <a:ext cx="262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4192200" y="3355920"/>
                <a:ext cx="2664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4211640" y="3346920"/>
                <a:ext cx="2772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4232160" y="3337560"/>
                <a:ext cx="28080" cy="28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4251960" y="3329640"/>
                <a:ext cx="2772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4272480" y="332064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4293360" y="3311280"/>
                <a:ext cx="2664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4314240" y="3301920"/>
                <a:ext cx="262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4333320" y="3294360"/>
                <a:ext cx="2664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4352760" y="3285000"/>
                <a:ext cx="2772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4373280" y="327564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4394160" y="326664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4413600" y="3257280"/>
                <a:ext cx="2664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4434480" y="3249360"/>
                <a:ext cx="262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4455360" y="3240360"/>
                <a:ext cx="262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4473000" y="3231000"/>
                <a:ext cx="2808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4493520" y="322164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4514400" y="321552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4535280" y="320616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4554720" y="3196800"/>
                <a:ext cx="2664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4575600" y="3187800"/>
                <a:ext cx="262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4596480" y="3178440"/>
                <a:ext cx="26280" cy="28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4614120" y="3170520"/>
                <a:ext cx="2772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4634640" y="316296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4655520" y="315360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4676400" y="3144240"/>
                <a:ext cx="28080" cy="28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4695840" y="3138480"/>
                <a:ext cx="2664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4716720" y="3128760"/>
                <a:ext cx="262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4737600" y="3119760"/>
                <a:ext cx="262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4756680" y="311328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4775760" y="3103920"/>
                <a:ext cx="2808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4796640" y="309492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4817520" y="308700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4836600" y="3078000"/>
                <a:ext cx="26280" cy="252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4857480" y="3071880"/>
                <a:ext cx="262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4878360" y="3063960"/>
                <a:ext cx="262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4897800" y="3054600"/>
                <a:ext cx="28080" cy="28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4916880" y="304848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4937760" y="304092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4958640" y="3031560"/>
                <a:ext cx="26280" cy="28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4979160" y="3025440"/>
                <a:ext cx="2664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4998600" y="3017880"/>
                <a:ext cx="262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5018040" y="3009960"/>
                <a:ext cx="28080" cy="252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5038920" y="3002040"/>
                <a:ext cx="2808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5058000" y="2994120"/>
                <a:ext cx="2808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5078880" y="2986560"/>
                <a:ext cx="28080" cy="28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5099760" y="2980440"/>
                <a:ext cx="262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5120280" y="2974320"/>
                <a:ext cx="2664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5139720" y="2967840"/>
                <a:ext cx="2628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5159160" y="2960280"/>
                <a:ext cx="2808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5180040" y="2952720"/>
                <a:ext cx="28080" cy="28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5200560" y="294660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5220000" y="2939040"/>
                <a:ext cx="262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5240880" y="2934000"/>
                <a:ext cx="2628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5261400" y="2926440"/>
                <a:ext cx="2664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5279400" y="2921760"/>
                <a:ext cx="2808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5300280" y="2913840"/>
                <a:ext cx="2808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5321160" y="2907720"/>
                <a:ext cx="27720" cy="28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5341680" y="290160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5361120" y="2895480"/>
                <a:ext cx="26280" cy="28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5381640" y="2890800"/>
                <a:ext cx="2664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5402520" y="2884680"/>
                <a:ext cx="26640" cy="28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5423400" y="2878560"/>
                <a:ext cx="262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5441040" y="287244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5461920" y="2867760"/>
                <a:ext cx="2772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5482800" y="2861280"/>
                <a:ext cx="2808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5502240" y="2858400"/>
                <a:ext cx="2628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5522760" y="2853720"/>
                <a:ext cx="2664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5543640" y="2847600"/>
                <a:ext cx="2664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5562720" y="284472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5582160" y="283824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5603040" y="2835000"/>
                <a:ext cx="2772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5623560" y="2829240"/>
                <a:ext cx="28080" cy="252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5643360" y="2826000"/>
                <a:ext cx="262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5663880" y="2822760"/>
                <a:ext cx="2664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5684760" y="2819880"/>
                <a:ext cx="2628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5703840" y="281520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5723280" y="2811960"/>
                <a:ext cx="2772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5743800" y="2808720"/>
                <a:ext cx="2808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5764680" y="2804400"/>
                <a:ext cx="2664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5785560" y="2801160"/>
                <a:ext cx="2628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5805000" y="2799720"/>
                <a:ext cx="2664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5824440" y="2795040"/>
                <a:ext cx="27720" cy="252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5844960" y="2793600"/>
                <a:ext cx="2808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5864400" y="2792160"/>
                <a:ext cx="2772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5884920" y="2790360"/>
                <a:ext cx="2664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5905800" y="2788920"/>
                <a:ext cx="262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5926680" y="2787480"/>
                <a:ext cx="262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5944680" y="2785680"/>
                <a:ext cx="2808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5965200" y="2785680"/>
                <a:ext cx="2808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5986080" y="2782440"/>
                <a:ext cx="28080" cy="28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6006960" y="2782440"/>
                <a:ext cx="28080" cy="28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6026040" y="2781360"/>
                <a:ext cx="2664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6046920" y="2781360"/>
                <a:ext cx="262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6067800" y="2781360"/>
                <a:ext cx="262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6085800" y="2782440"/>
                <a:ext cx="27720" cy="28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6106320" y="2782440"/>
                <a:ext cx="28080" cy="28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6127200" y="2782440"/>
                <a:ext cx="28080" cy="28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6148080" y="2782440"/>
                <a:ext cx="28080" cy="28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6167160" y="2785680"/>
                <a:ext cx="2664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6188040" y="2787480"/>
                <a:ext cx="262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6208920" y="2788920"/>
                <a:ext cx="262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6229440" y="2790360"/>
                <a:ext cx="2664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6247440" y="279216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6268320" y="2795040"/>
                <a:ext cx="28080" cy="252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6289200" y="2797920"/>
                <a:ext cx="2808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6308280" y="2801160"/>
                <a:ext cx="2664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6329160" y="2804400"/>
                <a:ext cx="262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6350040" y="2808720"/>
                <a:ext cx="2628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6369120" y="281196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6388560" y="2816640"/>
                <a:ext cx="28080" cy="28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6409440" y="282132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6430320" y="282600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6449400" y="2832120"/>
                <a:ext cx="2628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6470280" y="2836800"/>
                <a:ext cx="262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6491160" y="2844720"/>
                <a:ext cx="262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6510240" y="284904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6529680" y="285696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6550560" y="2863080"/>
                <a:ext cx="28080" cy="252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6571440" y="2871000"/>
                <a:ext cx="262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6591960" y="2878560"/>
                <a:ext cx="2664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6611400" y="2887560"/>
                <a:ext cx="2628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6630480" y="2895480"/>
                <a:ext cx="28080" cy="28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6651360" y="290484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6670800" y="2913840"/>
                <a:ext cx="2808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6691680" y="2923560"/>
                <a:ext cx="262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6712560" y="2934000"/>
                <a:ext cx="2628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6733080" y="2944800"/>
                <a:ext cx="2664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6750720" y="2955600"/>
                <a:ext cx="2808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6771600" y="2967840"/>
                <a:ext cx="2808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6792480" y="2979000"/>
                <a:ext cx="2772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6813000" y="299160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6832800" y="3003840"/>
                <a:ext cx="262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6853680" y="3017880"/>
                <a:ext cx="262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6874200" y="3031560"/>
                <a:ext cx="26640" cy="28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6891840" y="3044160"/>
                <a:ext cx="28080" cy="252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6912720" y="306072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6933600" y="3074760"/>
                <a:ext cx="2772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6954120" y="3091680"/>
                <a:ext cx="2808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6973560" y="3107160"/>
                <a:ext cx="2628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6994440" y="3122640"/>
                <a:ext cx="26640" cy="28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7015320" y="3141000"/>
                <a:ext cx="2664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7036200" y="3159720"/>
                <a:ext cx="2628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7053840" y="3178440"/>
                <a:ext cx="28080" cy="28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7074720" y="3196800"/>
                <a:ext cx="2772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7095240" y="3216960"/>
                <a:ext cx="2808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7114680" y="3235320"/>
                <a:ext cx="26280" cy="28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7135200" y="3257280"/>
                <a:ext cx="2664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7156080" y="3278880"/>
                <a:ext cx="262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7175520" y="330048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7194960" y="332388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7215480" y="334692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7236360" y="336996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7257240" y="3396240"/>
                <a:ext cx="262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7276320" y="3420720"/>
                <a:ext cx="2664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7297200" y="3445560"/>
                <a:ext cx="262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7316640" y="3471840"/>
                <a:ext cx="28080" cy="28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7336080" y="3499560"/>
                <a:ext cx="27720" cy="144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7356600" y="3527640"/>
                <a:ext cx="28080" cy="1080"/>
              </a:xfrm>
              <a:prstGeom prst="rect">
                <a:avLst/>
              </a:prstGeom>
              <a:solidFill>
                <a:srgbClr val="ff0000"/>
              </a:solidFill>
              <a:ln w="144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9" name=""/>
            <p:cNvSpPr/>
            <p:nvPr/>
          </p:nvSpPr>
          <p:spPr>
            <a:xfrm>
              <a:off x="7378200" y="3557520"/>
              <a:ext cx="26640" cy="1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7399080" y="3584880"/>
              <a:ext cx="26280" cy="1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7418160" y="3615840"/>
              <a:ext cx="26640" cy="144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7437600" y="3646800"/>
              <a:ext cx="27720" cy="144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7458120" y="3676320"/>
              <a:ext cx="28080" cy="28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7477560" y="3708720"/>
              <a:ext cx="27720" cy="1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7498440" y="3742920"/>
              <a:ext cx="26640" cy="1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7519320" y="3776760"/>
              <a:ext cx="26280" cy="1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7540200" y="3810960"/>
              <a:ext cx="26280" cy="1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7557840" y="3846240"/>
              <a:ext cx="28080" cy="28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7578360" y="3883320"/>
              <a:ext cx="28080" cy="1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7599240" y="3920400"/>
              <a:ext cx="28080" cy="1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7620120" y="3957480"/>
              <a:ext cx="28080" cy="1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7639200" y="3997440"/>
              <a:ext cx="26640" cy="144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7660080" y="4036680"/>
              <a:ext cx="26280" cy="1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7680960" y="4078080"/>
              <a:ext cx="26280" cy="1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7698960" y="4119840"/>
              <a:ext cx="27720" cy="1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7719480" y="4161600"/>
              <a:ext cx="28080" cy="1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7740360" y="4204800"/>
              <a:ext cx="28080" cy="144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7761240" y="4249800"/>
              <a:ext cx="28080" cy="144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7780320" y="4294440"/>
              <a:ext cx="26640" cy="1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7801200" y="4340880"/>
              <a:ext cx="26280" cy="144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7822080" y="4388760"/>
              <a:ext cx="26280" cy="28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7842600" y="4438080"/>
              <a:ext cx="26640" cy="1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7860600" y="4486320"/>
              <a:ext cx="28080" cy="1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7881480" y="4535640"/>
              <a:ext cx="28080" cy="28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7902360" y="4588200"/>
              <a:ext cx="28080" cy="1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7921440" y="4640760"/>
              <a:ext cx="26280" cy="1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7942320" y="4693320"/>
              <a:ext cx="26280" cy="28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7963200" y="4748760"/>
              <a:ext cx="26280" cy="144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7982640" y="4804560"/>
              <a:ext cx="28080" cy="144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8001720" y="4861800"/>
              <a:ext cx="28080" cy="144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8022600" y="4920480"/>
              <a:ext cx="28080" cy="28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8043480" y="4980960"/>
              <a:ext cx="26280" cy="1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8064000" y="5039280"/>
              <a:ext cx="26640" cy="144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8083440" y="5101560"/>
              <a:ext cx="26280" cy="28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8102880" y="5164920"/>
              <a:ext cx="28080" cy="1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8123760" y="5229720"/>
              <a:ext cx="28080" cy="1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8142840" y="5295960"/>
              <a:ext cx="28080" cy="144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163720" y="5361120"/>
              <a:ext cx="28080" cy="28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692640" y="53517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442800" y="49482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Arial"/>
                </a:rPr>
                <a:t>5.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380160" y="454644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Arial"/>
                </a:rPr>
                <a:t>10.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380160" y="414324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Arial"/>
                </a:rPr>
                <a:t>15.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380160" y="374292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Arial"/>
                </a:rPr>
                <a:t>20.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380160" y="334080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Arial"/>
                </a:rPr>
                <a:t>25.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380160" y="293724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Arial"/>
                </a:rPr>
                <a:t>30.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380160" y="253692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Arial"/>
                </a:rPr>
                <a:t>35.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380160" y="213372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Arial"/>
                </a:rPr>
                <a:t>40.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 rot="16200000">
              <a:off x="687960" y="5584680"/>
              <a:ext cx="34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Arial"/>
                </a:rPr>
                <a:t>Jul-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 rot="16200000">
              <a:off x="930240" y="5584680"/>
              <a:ext cx="34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Arial"/>
                </a:rPr>
                <a:t>Jul-0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 rot="16200000">
              <a:off x="1173600" y="5584680"/>
              <a:ext cx="34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Arial"/>
                </a:rPr>
                <a:t>Jul-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 rot="16200000">
              <a:off x="1414080" y="5584680"/>
              <a:ext cx="34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Arial"/>
                </a:rPr>
                <a:t>Jul-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 rot="16200000">
              <a:off x="1651680" y="5584680"/>
              <a:ext cx="34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Arial"/>
                </a:rPr>
                <a:t>Jul-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 rot="16200000">
              <a:off x="1898280" y="5584680"/>
              <a:ext cx="34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Arial"/>
                </a:rPr>
                <a:t>Jul-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 rot="16200000">
              <a:off x="2138760" y="5584680"/>
              <a:ext cx="34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Arial"/>
                </a:rPr>
                <a:t>Jul-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 rot="16200000">
              <a:off x="2383920" y="5584680"/>
              <a:ext cx="34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Arial"/>
                </a:rPr>
                <a:t>Jul-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 rot="16200000">
              <a:off x="2622960" y="5584680"/>
              <a:ext cx="34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Arial"/>
                </a:rPr>
                <a:t>Jul-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 rot="16200000">
              <a:off x="2866680" y="5584680"/>
              <a:ext cx="34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Arial"/>
                </a:rPr>
                <a:t>Jul-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 rot="16200000">
              <a:off x="3108600" y="5584680"/>
              <a:ext cx="34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Arial"/>
                </a:rPr>
                <a:t>Jul-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 rot="16200000">
              <a:off x="3352320" y="5584680"/>
              <a:ext cx="34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Arial"/>
                </a:rPr>
                <a:t>Jul-1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 rot="16200000">
              <a:off x="3591360" y="5584680"/>
              <a:ext cx="34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Arial"/>
                </a:rPr>
                <a:t>Jul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 rot="16200000">
              <a:off x="3834720" y="5584680"/>
              <a:ext cx="34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Arial"/>
                </a:rPr>
                <a:t>Jul-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 rot="16200000">
              <a:off x="4075560" y="5584680"/>
              <a:ext cx="34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Arial"/>
                </a:rPr>
                <a:t>Jul-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 rot="16200000">
              <a:off x="4317480" y="5584680"/>
              <a:ext cx="34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Arial"/>
                </a:rPr>
                <a:t>Jul-2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 rot="16200000">
              <a:off x="4559400" y="5584680"/>
              <a:ext cx="34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Arial"/>
                </a:rPr>
                <a:t>Jul-2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 rot="16200000">
              <a:off x="4804560" y="5584680"/>
              <a:ext cx="34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Arial"/>
                </a:rPr>
                <a:t>Jul-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 rot="16200000">
              <a:off x="5045040" y="5584680"/>
              <a:ext cx="34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Arial"/>
                </a:rPr>
                <a:t>Jul-2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 rot="16200000">
              <a:off x="5285520" y="5584680"/>
              <a:ext cx="34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Arial"/>
                </a:rPr>
                <a:t>Jul-2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 rot="16200000">
              <a:off x="5527800" y="5584680"/>
              <a:ext cx="34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Arial"/>
                </a:rPr>
                <a:t>Jul-2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 rot="16200000">
              <a:off x="5766840" y="5584680"/>
              <a:ext cx="34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Arial"/>
                </a:rPr>
                <a:t>Jul-2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 rot="16200000">
              <a:off x="6008760" y="5584680"/>
              <a:ext cx="34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Arial"/>
                </a:rPr>
                <a:t>Jul-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 rot="16200000">
              <a:off x="6253920" y="5584680"/>
              <a:ext cx="34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Arial"/>
                </a:rPr>
                <a:t>Jul-3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 rot="16200000">
              <a:off x="6494400" y="5584680"/>
              <a:ext cx="34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Arial"/>
                </a:rPr>
                <a:t>Jul-3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 rot="16200000">
              <a:off x="6733800" y="5584680"/>
              <a:ext cx="34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Arial"/>
                </a:rPr>
                <a:t>Jul-3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 rot="16200000">
              <a:off x="6978960" y="5584680"/>
              <a:ext cx="34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Arial"/>
                </a:rPr>
                <a:t>Jul-3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 rot="16200000">
              <a:off x="7220520" y="5584680"/>
              <a:ext cx="34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Arial"/>
                </a:rPr>
                <a:t>Jul-3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 rot="16200000">
              <a:off x="7465680" y="5584680"/>
              <a:ext cx="34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Arial"/>
                </a:rPr>
                <a:t>Jul-3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 rot="16200000">
              <a:off x="7704720" y="5584680"/>
              <a:ext cx="34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Arial"/>
                </a:rPr>
                <a:t>Jul-3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 rot="16200000">
              <a:off x="7947000" y="5584680"/>
              <a:ext cx="34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Arial"/>
                </a:rPr>
                <a:t>Jul-3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8272800" y="5351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8272800" y="489096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Arial"/>
                </a:rPr>
                <a:t>50.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8274240" y="443196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Arial"/>
                </a:rPr>
                <a:t>100.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8274240" y="397296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Arial"/>
                </a:rPr>
                <a:t>150.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8274240" y="351252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Arial"/>
                </a:rPr>
                <a:t>200.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8274240" y="305208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Arial"/>
                </a:rPr>
                <a:t>250.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8274240" y="259416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Arial"/>
                </a:rPr>
                <a:t>300.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8274240" y="213372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000" spc="-1" strike="noStrike">
                  <a:solidFill>
                    <a:srgbClr val="000000"/>
                  </a:solidFill>
                  <a:latin typeface="Arial"/>
                </a:rPr>
                <a:t>350.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699840" y="5059800"/>
              <a:ext cx="1929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752760" y="507636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751320" y="519552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759600" y="53132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8232120" y="5064120"/>
              <a:ext cx="44244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8284320" y="508284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8281800" y="5200200"/>
              <a:ext cx="64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8291520" y="53193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7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5" name=""/>
          <p:cNvSpPr/>
          <p:nvPr/>
        </p:nvSpPr>
        <p:spPr>
          <a:xfrm>
            <a:off x="228600" y="68580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527b"/>
                </a:solidFill>
                <a:latin typeface="Interstate-Light"/>
              </a:rPr>
              <a:t>Inversiones de los Fondos de Pens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7T13:22:59Z</dcterms:created>
  <dc:creator>arauca</dc:creator>
  <dc:description/>
  <dc:language>en-US</dc:language>
  <cp:lastModifiedBy>C.P.C.E.C.A.B.A</cp:lastModifiedBy>
  <cp:lastPrinted>2005-12-27T14:53:06Z</cp:lastPrinted>
  <dcterms:modified xsi:type="dcterms:W3CDTF">2008-06-19T17:13:31Z</dcterms:modified>
  <cp:revision>239</cp:revision>
  <dc:subject/>
  <dc:title>Sin título de diapositiva</dc:title>
</cp:coreProperties>
</file>