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10F-0AFE-45DB-8F44-D85CC232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EC2-7176-4C6D-B3E0-FB75523C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7AE-05D4-4A4B-9F04-B2D6D6C2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905-17AB-44DA-A26B-7B13941E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5074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75F-3D6A-4CA9-A930-A92B0175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144-713A-4CC7-A77D-B72D39C2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F8C-3DDD-4307-B20A-B544DE81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E8D-C7FC-41CC-BD85-C8C3DBB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50744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7AD-627E-4572-A994-31764D5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E63-07C9-4ED6-BDFB-EDA298D4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0EF-20A6-41E7-94EA-50DE9634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236-6D01-4386-A80E-CADA4FC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831C-8378-41B4-B3CB-75E1EEC41A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295280" cy="83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740640"/>
            <a:ext cx="3701880" cy="117360"/>
          </a:xfrm>
          <a:prstGeom prst="rect">
            <a:avLst/>
          </a:prstGeom>
          <a:solidFill>
            <a:srgbClr val="029d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57600" y="6742080"/>
            <a:ext cx="4381560" cy="114480"/>
          </a:xfrm>
          <a:prstGeom prst="rect">
            <a:avLst/>
          </a:prstGeom>
          <a:solidFill>
            <a:srgbClr val="a6c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4272120"/>
            <a:ext cx="626436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rebuchet MS"/>
              </a:rPr>
              <a:t>Ciudad Autónoma de Buenos Aires, 18 al 20 de Junio de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350532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rebuchet MS"/>
              </a:rPr>
              <a:t>4° Congreso Internacional de la Seguridad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335268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2280"/>
            <a:ext cx="7467480" cy="91440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OS PRECIOS EN ARGENTINA SON INFERIORES A LOS DE L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190600"/>
          <a:ext cx="7417080" cy="37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90600"/>
                    <a:ext cx="741708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114560" y="5719680"/>
            <a:ext cx="712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(*) 5 drogas mas vendidas: Atenolol, Clonazepan, Alprazolam,Ibuprofeno, Enalapril. Primeras 5 marcas comerciales mas vendidas en cada país. Presentaciones similares en unidades y concentración.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recios en U$S ab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211932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52280"/>
            <a:ext cx="7543800" cy="91440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 ARGENTINA ES MAYOR EL ACCESO A LOS MEDICAMENTOS QUE EN LOS PRINCIPALES PAISES DE LATINO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679400"/>
          <a:ext cx="8642160" cy="43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79400"/>
                    <a:ext cx="8642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143000" y="13413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ff"/>
                </a:solidFill>
                <a:latin typeface="Trebuchet MS"/>
              </a:rPr>
              <a:t>Consumo por habitante en unid.  por año (promedio abril 07-abril 0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16765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7543800" cy="91440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rebuchet MS"/>
              </a:rPr>
              <a:t>RELACION ENTRE EL PRECIO DE LOS MEDICAMENTOS Y EL INGRESO PER CAP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1905120"/>
          <a:ext cx="6629400" cy="4064040"/>
        </p:xfrm>
        <a:graphic>
          <a:graphicData uri="http://schemas.openxmlformats.org/drawingml/2006/table">
            <a:tbl>
              <a:tblPr/>
              <a:tblGrid>
                <a:gridCol w="1657080"/>
                <a:gridCol w="1657440"/>
                <a:gridCol w="1657440"/>
                <a:gridCol w="16574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Precio Mix productos U$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   </a:t>
                      </a:r>
                      <a:r>
                        <a:rPr b="1" lang="es-AR" sz="16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Diferencia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I. Per Cápita   U$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Urugu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4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Bra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3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C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8,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.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400" spc="-1" strike="noStrike">
                          <a:solidFill>
                            <a:srgbClr val="0066ff"/>
                          </a:solidFill>
                          <a:latin typeface="Trebuchet MS"/>
                        </a:rPr>
                        <a:t>Pe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6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9,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543800" cy="92088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rebuchet MS"/>
              </a:rPr>
              <a:t>QUIEN PAGA LOS MEDICAMENTO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5120" y="1143000"/>
          <a:ext cx="556236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55623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981080" y="3886200"/>
          <a:ext cx="556272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6200"/>
                    <a:ext cx="55627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rebuchet MS"/>
              </a:rPr>
              <a:t>Incidencia del gasto en medicamentos en la Seguridad Soci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543800" cy="92088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rebuchet MS"/>
              </a:rPr>
              <a:t>CONCLUSION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rebuchet MS"/>
              </a:rPr>
              <a:t>La Seguridad Social en Argentina se relaciona con la cadena farmacéutica a través de esquemas contractuales de características únicas en el mund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rebuchet MS"/>
              </a:rPr>
              <a:t>Dichos esquemas permiten garantizar la accesibilidad de los beneficiarios al medicamento, tanto económica como físic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rebuchet MS"/>
              </a:rPr>
              <a:t>El aporte económico que realiza la cadena farmacéutica a la Seguridad Social es el mayor de América latina y uno de los mas significativos del mund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507440" cy="920880"/>
          </a:xfrm>
          <a:prstGeom prst="rect">
            <a:avLst/>
          </a:prstGeom>
          <a:solidFill>
            <a:srgbClr val="84c6e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Trebuchet MS"/>
              </a:rPr>
              <a:t>CONCLUSION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rebuchet MS"/>
              </a:rPr>
              <a:t>La dispersión del gasto total en medicamentos entre las 20 Obras Sociales mas importantes del país es del orden del 145%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rebuchet MS"/>
              </a:rPr>
              <a:t>La coincidencia de Protocolos y Guias Terapéuticas entre dichas Obras Sociales es inferior al 32%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8:00:45Z</dcterms:created>
  <dc:creator>juane</dc:creator>
  <dc:description/>
  <dc:language>en-US</dc:language>
  <cp:lastModifiedBy>C.P.C.E.C.A.B.A</cp:lastModifiedBy>
  <dcterms:modified xsi:type="dcterms:W3CDTF">2008-06-26T16:07:03Z</dcterms:modified>
  <cp:revision>3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94209167</vt:r8>
  </property>
  <property fmtid="{D5CDD505-2E9C-101B-9397-08002B2CF9AE}" pid="3" name="_AuthorEmail">
    <vt:lpwstr>mlamothe@abeceb.com</vt:lpwstr>
  </property>
  <property fmtid="{D5CDD505-2E9C-101B-9397-08002B2CF9AE}" pid="4" name="_AuthorEmailDisplayName">
    <vt:lpwstr>Mariano Lamothe</vt:lpwstr>
  </property>
  <property fmtid="{D5CDD505-2E9C-101B-9397-08002B2CF9AE}" pid="5" name="_EmailSubject">
    <vt:lpwstr>Presentacion precios</vt:lpwstr>
  </property>
</Properties>
</file>