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02DC-0476-446B-B380-403FA34F48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jemplos de Jubilaciones de privilegi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inistros y Secretarios de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der legisl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MEJORA EN LAS NUEVAS PREST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PECIALMENTE DE TRABAJADORES AUTÓNOMOS O RELACIÓN DE DEPENDENCIA CON SUELDOS A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ÓRMULAS PARAMÉTRICAS DE REPARTO MÁS JU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FLEJAN MEJOR LA HISTORIA LABORAL (AÑOS DE SERVICIO Y REMUNER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DUCCIÓN DE LA LITIGIO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DUJERON LOS JUICIOS, SOBRE TODO POR QUITAS EN LOS BENEFICIOS AL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DUCCIÓN DEL DÉFICIT ACTUA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SIBILIDAD DE ELIMINARLO EN EL FUT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FINCIÓN DE DEFICIT ACTUA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UEDE DEFINIRSE COMO EL VALOR PRESENTE DE LOS DERECHOS ADQUIRIDOS DE LOS JUBILADOS PRESENTES Y FUTUROS, MENOS EL VALOR PRESENTE DE LOS RECURSOS DEL SISTEMA (FONDOS ACTUALES MÁS EL VALOR PRESENTE DE LOS FONDOS A RECAUDAR EN EL FUTU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BLEMA DE LA NUEVA INTERPRETACIÓN DEL ARTÍCULO 168 DE LA LEY 24.24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ARTÍCULO 168 PRIMER PÁRRAFO DEROGA LAS LEYES 18.037/38, SUS MODFICATORIAS Y COMPLEMENTARIAS (CON ALGUNAS EXCEPCIONES NO RELEVA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DECRETO 78/94, REGLAMENTARIO DE DICHO ARTÍCULO, ESTABLECE QUE ... QUEDARÁN DEROGADOS LOS S IGUIENTES REGÍMENES DE JUBILACIONES Y PENSIONES 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E ESTAS DEROGACIONES ESTABAN LOS 4 REGÍMENES MENCIONADOS EN LA DIAPOSI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TA DISPOSICIÓN FUE MUY ATACADA, Y FUE RATIFICADA PARCIALMENTE POR LA LEY 25.6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SU VEZ EL ARTÍCULO QUE SUPRIMÍA HACIA EL FUTURO LAS JUBILACIONES DE PRIVILEGIO DE DIPLOMÁTICOS Y MIEBROS DEL PODER JUDICIAL FUE VETADO POR EL DECRETO 2322/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SIMISMO, SE CONSIDERÓ QUE NO HABÍAN SIDO DEROGADAS LAS JUBIALCIOENS DE PRIVILEGIO DE DOCENTES E INVESTIGADORES CIENTÍFICOS Y TÉC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PERMITE LA “COMPRA” DE JUBILACIONES CON MORATORIAS FICTI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ALMENTE SE INICIÓ ANTES DE LA LEY 26.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AUTORIZÓ LA VUELTA A  REPA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UMENTA LOS COSTOS POR ANTISEL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SPECIALMENTE LA VUELTA A REPARTO EN LOS ÚLTIMOS 5 AÑOS PREVIOS A LA JUBIL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6BA-695A-4E7F-BD63-3D5BE6BB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082-E519-464B-B3A1-A155D85C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C3C-E047-440A-ABFA-FB46C1FA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031-0657-4CEF-9275-D65A22EF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582-C355-4D50-AED1-ADFE0D5B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D4B-335C-425C-BC31-66692F9F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F490-DF69-4CD4-AFA1-20E308DB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A05-84FF-4DDF-A3A7-635CF28D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E4D-0CBC-4D8D-8D95-D51DDD8E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A97-52D5-4FE1-BFFB-4F5D321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0AF-CB51-4D73-80BE-BCAE3623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32E-42AC-4BAF-B01E-56583144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37C-7B20-4E0B-BB07-805839A1D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1c1c1c"/>
                </a:solidFill>
                <a:latin typeface="Arial"/>
              </a:rPr>
              <a:t>ESCENARIOS FUTUROS</a:t>
            </a:r>
            <a:endParaRPr b="0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205704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º CONGRESO INTERNACIONAL DE LA SEGURDI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6576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jo Profesional de Ciencias Económicas de la Ciudad Autónoma de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5029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0 de Junio d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r. Horacio López Sant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1c1c1c"/>
                </a:solidFill>
                <a:latin typeface="Arial"/>
              </a:rPr>
              <a:t>ANTES DE LA LEY 24.241 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999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stema en Qui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éficit de Caja y Actuarial Cre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bilaciones y Pensiones B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rementos de las Prestaciones discriminaban contra beneficiarios de mayore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gencia de regímenes de jubilaciones de privile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general con menores requisitos de edad y añ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13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c1c1c"/>
                </a:solidFill>
                <a:latin typeface="Arial"/>
              </a:rPr>
              <a:t>EFECTOS DE LA ENTRADA EN VIGENCIA DE LA LEY 24.241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99920" y="21337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jora en las nuevas pres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pecialmente en el caso de autón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órmulas paramétricas más ju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nos litigi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ucción del déficit actua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iminación de las jubilaciones de privile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costo actuarial mayor, que pagamos to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c1c1c"/>
                </a:solidFill>
                <a:latin typeface="Arial"/>
              </a:rPr>
              <a:t>RESURRECIÓN DE LAS JUBILACIONES DE PRIVILEGIO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99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nueva interpretación del Artículo 168 de la Ley 24.2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u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plo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vestigadores Científicos y Téc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bien efectúan aportes incrementales, no cubren el costo incremental de los benef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457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c1c1c"/>
                </a:solidFill>
                <a:latin typeface="Arial"/>
              </a:rPr>
              <a:t>OTRAS “MEJORAS” AL SISTEMA LA LEY 26.222 (I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9992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permite la “compra” de jubilaciones con moratorias ficti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umentó la Prestación Adicional por Permanencia de 0,85% a 1,50% por año de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afiliados indecisos son enviados a re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judica especialmente a los más jóv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utorizó la “vuelta a repar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menta los costos por antisel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c1c1c"/>
                </a:solidFill>
                <a:latin typeface="Arial"/>
              </a:rPr>
              <a:t>OTRAS “MEJORAS” AL SISTEMA LA LEY 26.222 (II)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espojó a afiliados de bajos salarios y edades altas de sus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necesidades fi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falsearon las estad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los transfirió a re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les dio un plazo de opción  para permanecer en capitalización menor al que se otorgaba a los demás afiliados para volver a re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 días corridos versus 180 días háb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as estas modificaciones se hicieron sin debate téc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hay – que se sepa – estudios actuariales que las funda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1c1c1c"/>
                </a:solidFill>
                <a:latin typeface="Arial"/>
              </a:rPr>
              <a:t>EFECTOS MACROECONÓMICOS ESPERADOS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99920" y="16765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l déficit de Caja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mento del déficit actuarial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l nivel de inversiones en la econom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la reducción de aportes a recibir en las cuentas de capitalizació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bilidad de llegar a una situación similar a la previa a la sanción de la Ley 24.2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nuevamente en quieb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vo perjuicio a los afil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ción de – mayores – expectativas inflacio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6:24:22Z</dcterms:created>
  <dc:creator>Roberto D Lennox</dc:creator>
  <dc:description/>
  <dc:language>en-US</dc:language>
  <cp:lastModifiedBy>Roberto D Lennox</cp:lastModifiedBy>
  <dcterms:modified xsi:type="dcterms:W3CDTF">2008-06-10T15:02:47Z</dcterms:modified>
  <cp:revision>11</cp:revision>
  <dc:subject/>
  <dc:title>ESCENARIOS FUTUR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3082</vt:lpwstr>
  </property>
</Properties>
</file>