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754-F3C6-46FB-B829-1E375AFB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469-16CB-44BA-B884-9F7FB7F6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DF5-1309-42D9-8674-A8D338FC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723-F7A3-485E-8EAC-C6A19F83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E812-77E2-4148-AC63-5A35EFE0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F55B-439F-41EB-B283-1418827D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448D-941B-45A9-BCC1-3A9AFAE0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F77B-9E22-4E9E-B387-31427733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42AA-3FAE-4E76-BA74-C639AD60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EBE3-9A7F-491A-8759-BE1C378C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9A6B-0554-46B6-A042-C55D1888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C89-E72C-4E6E-AA42-A50E97EB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C0B6-30D5-4D0B-9018-91C4F8CB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39FD-614E-4ED6-810B-ABD65151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63C4-0E3C-4C1A-B58A-DC8CEB14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3201-7D34-4084-A7DD-9D990945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C244-2205-4C4E-9F34-CDC2CFF4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8FE-4A5E-477D-BC21-6680D0CE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194-2C1E-4A2B-9DE2-C3183F0A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14C-1D1A-4F80-92BE-A30550A3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73F-721E-4F67-92E1-D3F33A03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3E8-AFD6-448E-91B9-E2562A89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FFC-09BD-404D-A8BF-8D12DD6A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4C4-8536-4DF8-9103-842258E2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48D2-50F8-4C13-8EAD-CCD4E5117784}" type="slidenum"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0767-E2A9-4335-9184-64DE284BEFBD}" type="slidenum"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7770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CUADRO ANALITICO DE GASTOS Y SUS IMPLICANCI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GENTES DEL SEGURO DE SALU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ASTOS DE FUNCIONAMIENT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Tahoma"/>
              </a:rPr>
              <a:t>RT Nº 11: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 Gastos Específicos de Sectores / gastos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rectos atribuibles a los distintos sectores en que se puede departamentalizar el Ente. Efectuándose por áreas de ubicación geográfica de sedes, por actividad social, benéfica, por tipo de función o servicio, por usuario, etc.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R. </a:t>
            </a:r>
            <a:r>
              <a:rPr b="1" lang="es-AR" sz="2800" spc="-1" strike="noStrike" u="sng">
                <a:solidFill>
                  <a:srgbClr val="ffffff"/>
                </a:solidFill>
                <a:uFillTx/>
                <a:latin typeface="Tahoma"/>
              </a:rPr>
              <a:t>Nº 314/01-SSSalud: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Define por excepción a los gastos como aquellos que sean atribuibles o destinados a los SPMA, es decir qu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sulten apropiables a las PMA u OP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 revistan el carácter de extraordinar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 revistan el carácter de Gastos Financier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¿ CUANDO SE GENERA LA CONTROVERSIA 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Gastos en sueldos de una delegación para Atención de Beneficiarios: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n este caso podría considerarse como un gasto de funcionamiento asignado al área médico asistencial,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si y sólo si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la Entidad brinda prestaciones medico asistenciales propias en dicha delegación y los recursos humanos estuvieran ubicados físicamente en las instalaciones donde se otorgan dichas prestaciones y en contacto directo con el profesional actu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TRAS PARTIDAS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2781360"/>
            <a:ext cx="81471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UESTOS S/ LOS CREDTOS Y DEBITOS BANCARIOS: Debería exponerse por separado dentro de Gastos Financier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UDORES INCOBRABLES: Debería exponerse por separ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STO DE PROMOCION Y DESARROLLO: Debería exponerse por separ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121140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052640"/>
            <a:ext cx="80647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e deberían considerarse dentro del 12% restante del porcentaje establecido por la Ley 2366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NEXO I – RESOLUCION 980/81-IN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4327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Prestaciones Med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Servicios Prop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 Inter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 Laborato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 Radiolog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 Consulto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 Otr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To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Servicios Contra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Prestaciones Farmacéu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Servicios Prop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Servicios Contra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2920" y="1483920"/>
            <a:ext cx="40388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Servicio de Proveedur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Turismo y Recre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Servicios Prop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Servicios Contra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 Otras Prest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Servicios Prop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Servicios Contra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 Gastos de Administr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T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NEXO I – RESOLUCION 980/81-IN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432756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Suel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Carga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Alimentos SM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Alimentos ST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edicamentos SM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Drogas SM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Reactivos SM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aterial Curación SM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aterial Descartable SM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Placas Radiográficas SM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edicamentos Prest. Ambul. Cont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edicamentos Intern. Serv. Cont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Honorarios PM Cont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Prestaciones Laboratorio Cont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Prestaciones Radiológicas Cont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Gtos. Internación  Serv. Cont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Alquiler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Segu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Luz, Gas y Teléfo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0" y="691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Combustibles y Lubrica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Conservación y Repar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Franqueo, Telegramas y Emb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Papelería y Úti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Limpieza y Desinfe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Viáticos y Movi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Fletes y Acarre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Servicios al Pers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Impresos y Publ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Prensa y Difus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Comisiones Banc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Gast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Diferencia de Cotiz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Var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Amortización Bienes de U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Amortización Otros Bie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Previsión para …………………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Previsión para …………………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TOT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NEXO I – MODIFICACIONES ALTERNATIVA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4327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Prestaciones Med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Servicios Prop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* Intern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* Estudios Clín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* Diagnóstico por Imáge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* Consultorios Extern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* Otr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 To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Servicios Contrata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 Prestaciones Farmacéut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Servicios Prop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Servicios Contrata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2920" y="1483920"/>
            <a:ext cx="40388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 Turismo y Recre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Servicios Prop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Servicios Contrata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 Otras Prestacion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Servicios Prop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Servicios Contrata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 Promoción y Desarrol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 Gastos de Administr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TAL GENE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NEXO I – MODIFICACIONES ALTERNATIVA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392720" cy="58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Sueld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Cargas Soci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Alimentos Servicios Propi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Medicamentos y Drogas SM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Material Curación y Descartable SM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Placas Radiográficas e Insumos SM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Honorarios PM Cont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Convenios Globales Cont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Atención Médica Prima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Programas Preventiv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Atención Medica Secunda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Salud Ment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Rehabilit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Odontologí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Óp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Prótesis y Orte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Servicio de Ambula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Alta Complej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Otros Servicios Médicos Cont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Medicamentos Crónic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00720" y="836640"/>
            <a:ext cx="403200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Resto de Medicamen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Alquiler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Segur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Luz, Gas y Teléfo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Combustibles y Lubrica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Conservación y Repar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Franqueo, Telegramas y Emb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Papelería y Úti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Limpieza y Desinfec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Viáticos y Movi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Fletes y Acarre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Servicios al Pers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Impresos y Public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Prensa y Difu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Comisiones Banca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Gastos en Informá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Vari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Amortización Bienes de U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Amortización Otros Bie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TOT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BJE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ahoma"/>
              </a:rPr>
              <a:t>GENERAL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: Obtener una mayor, mejor y más precisa información que brindan los agentes del seguro de salud, según los requerimientos del organismo de control, de modo de optimizar el monitore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ahoma"/>
              </a:rPr>
              <a:t>ESPECIFICO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: Potenciar el análisis de la “inforamcion complementaria” que brindan los EECC en las Notas, Cuadros, Anexos y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a evaluar la gestión y la confección de indicado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ITEMS CONTROVERTIDO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ON AQUELLAS PARTIDAS QUE PUEDEN PROVOCAR DIFERENCIAS DE CRITERIOS EN SU IMPUTACION Y QUE PRODUCEN IMPACTO EN LOS INDICADORES DE EVALUAC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291520" cy="26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OBJETIVO</a:t>
            </a:r>
            <a:br>
              <a:rPr sz="4800"/>
            </a:b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 PRINCIPAL DE LOS AGENTES DEL SEGURO DE SALUD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RINDAR SERVICIOS MEDICO ASISTENCIALES A SU POBLACION BENEFICIARIA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STACIONES MEDICO ASISTENCI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I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Entidad gestiona por si misma el servic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ATAD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Entidad brinda el servicio a través de contratos celebrados con tercer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ARACTERISTICAS DE LOS SERVICIOS MEDICO ASISTENCIALES PROPI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propietario del establecimiento donde se brindan los servicios podría ser o no la Ent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Entidad aporta todo el equipamiento necesario para otorgar el servicio médico-asisten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utilizan recursos humanos propios de la Entida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contratan a profesionales médicos que desarrollan su actividad utilizando la infraestructura mencionada.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ARACTERISTICAS DE LOS SERVICIOS MEDICO ASISTENCIALES CONTRATAD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Entidad lo brinda a través de contratos celebrados con terceros, que pueden ser Profesionales Médicos que atienden en sus consultorios privados o Establecimientos Asistenciales que brindan atención en todas las especialidades o algunas en particu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ASTOS ADMINISTRATIV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096920"/>
            <a:ext cx="87138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 u="sng">
                <a:solidFill>
                  <a:srgbClr val="ffffff"/>
                </a:solidFill>
                <a:uFillTx/>
                <a:latin typeface="Tahoma"/>
              </a:rPr>
              <a:t>RT Nº 11:</a:t>
            </a:r>
            <a:r>
              <a:rPr b="0" lang="es-AR" sz="2500" spc="-1" strike="noStrike">
                <a:solidFill>
                  <a:srgbClr val="ffffff"/>
                </a:solidFill>
                <a:latin typeface="Tahoma"/>
              </a:rPr>
              <a:t> Gastos que fueron realizados por el ente en razón de sus actividades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pero que no son atribuibles a los distintos sectores (deportivos, culturales, benéficos, etc.)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ffffff"/>
                </a:solidFill>
                <a:uFillTx/>
                <a:latin typeface="Tahoma"/>
              </a:rPr>
              <a:t>R. </a:t>
            </a:r>
            <a:r>
              <a:rPr b="1" lang="es-AR" sz="2500" spc="-1" strike="noStrike" u="sng">
                <a:solidFill>
                  <a:srgbClr val="ffffff"/>
                </a:solidFill>
                <a:uFillTx/>
                <a:latin typeface="Tahoma"/>
              </a:rPr>
              <a:t>Nº 83/91-INOS:</a:t>
            </a:r>
            <a:r>
              <a:rPr b="0" lang="es-AR" sz="2500" spc="-1" strike="noStrike">
                <a:solidFill>
                  <a:srgbClr val="ffffff"/>
                </a:solidFill>
                <a:latin typeface="Tahoma"/>
              </a:rPr>
              <a:t> Los que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se originan en la planificación, organización, dirección, coordinación y control de la Obra Social, excluyéndose explícitamente al generado dentro de los efectores propios por tratarse de un costo indirecto de las prestaciones que allí se brinda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ffffff"/>
                </a:solidFill>
                <a:uFillTx/>
                <a:latin typeface="Tahoma"/>
              </a:rPr>
              <a:t>R. </a:t>
            </a:r>
            <a:r>
              <a:rPr b="1" lang="es-AR" sz="2500" spc="-1" strike="noStrike" u="sng">
                <a:solidFill>
                  <a:srgbClr val="ffffff"/>
                </a:solidFill>
                <a:uFillTx/>
                <a:latin typeface="Tahoma"/>
              </a:rPr>
              <a:t>Nº 314/01-SSSalud: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Deben incluirse las amortizaciones (con excepción de aquellas atribuibles a bienes destinados a los SPMA), las comisiones bancarias, los gastos funcionamiento (con excepción de aquellas atribuibles a los SPMA u OPS) y todos los demás gastos que:  No resulten apropiables a los SPMA u OPS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No revistan el carácter de extraordinario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ES" sz="2500" spc="-1" strike="noStrike">
                <a:solidFill>
                  <a:srgbClr val="ffffff"/>
                </a:solidFill>
                <a:latin typeface="Tahoma"/>
              </a:rPr>
              <a:t>No revistan el carácter de Gastos Financier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¿ CUANDO SE GENERA LA CONTROVERSIA 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En aquellos Agentes del Seguro que cuentan con servicios propios y donde las actividades generales originan gastos, generando la duda de incluirlos como gastos de funcionamiento medico asistenciales o como gastos de administración. Por 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Call Center para pedidos de tur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Desarrollo Informátic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00:30:44Z</dcterms:created>
  <dc:creator>Jorge Iglesias</dc:creator>
  <dc:description/>
  <dc:language>en-US</dc:language>
  <cp:lastModifiedBy>C.P.C.E.C.A.B.A</cp:lastModifiedBy>
  <dcterms:modified xsi:type="dcterms:W3CDTF">2008-06-19T12:52:19Z</dcterms:modified>
  <cp:revision>8</cp:revision>
  <dc:subject/>
  <dc:title>EL CUADRO ANALITICO DE GASTOS Y SUS IMPLICANCIAS</dc:title>
</cp:coreProperties>
</file>