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E6E-4391-4A84-A3D3-9123A9D8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631-10B3-4A7A-8830-572226A5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963-31F9-4956-B996-D43C496E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7F5-1EBA-4E38-833D-0638C9AF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1766-8321-475E-9DF4-4E59806B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37F7-FCB9-4B52-B47A-B2242B48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C143-E1F6-49F2-910B-0D80C131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628E-1672-4EB6-9CF1-DB02516E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E785-4770-4189-8809-3653232E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FDCB-9DCB-4F6F-B235-FFE3AB37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5074-A9F2-421B-9963-0107277D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695-81F2-48EE-8933-A72637DA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B58C-B815-4357-BAE0-01814FEE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C31D-D4E0-47C4-B1FC-6B6CB9A0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54C5-784F-43D4-AD94-BC77EE6B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014D-3540-4B28-A3A6-7E179229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0A00-62E3-4392-B720-3A36EFE5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B7B-4003-4EEB-87E3-C8C1FFC1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49A-E244-4BE6-A667-DEA7383D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621-2652-4FA1-AC92-7A33D3EA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276-7AAB-4590-B08B-5D859498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FCE-8FB7-4AF4-B2B1-E8A9904D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1A8-0D9E-4F23-8F86-70B55F6C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019-AE92-4E69-A9CF-E1B924D3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9CDB-28E3-42F4-A11B-C6167994CB6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8BD0-11B4-4D73-998E-7327CADEC6A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ferro@uade.edu.ar" TargetMode="External"/><Relationship Id="rId2" Type="http://schemas.openxmlformats.org/officeDocument/2006/relationships/hyperlink" Target="mailto:gferro@uade.edu.ar" TargetMode="External"/><Relationship Id="rId3" Type="http://schemas.openxmlformats.org/officeDocument/2006/relationships/hyperlink" Target="mailto:gferro@uade.edu.ar" TargetMode="External"/><Relationship Id="rId4" Type="http://schemas.openxmlformats.org/officeDocument/2006/relationships/hyperlink" Target="mailto:gferro@uade.edu.ar" TargetMode="External"/><Relationship Id="rId5" Type="http://schemas.openxmlformats.org/officeDocument/2006/relationships/hyperlink" Target="mailto:gferro@uade.edu.ar" TargetMode="External"/><Relationship Id="rId6" Type="http://schemas.openxmlformats.org/officeDocument/2006/relationships/hyperlink" Target="mailto:gferro@uade.edu.ar" TargetMode="External"/><Relationship Id="rId7" Type="http://schemas.openxmlformats.org/officeDocument/2006/relationships/hyperlink" Target="mailto:gferro@uade.edu.ar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gferro@uade.edu.ar" TargetMode="External"/><Relationship Id="rId2" Type="http://schemas.openxmlformats.org/officeDocument/2006/relationships/hyperlink" Target="mailto:gferro@uade.edu.ar" TargetMode="External"/><Relationship Id="rId3" Type="http://schemas.openxmlformats.org/officeDocument/2006/relationships/hyperlink" Target="mailto:gferro@uade.edu.ar" TargetMode="External"/><Relationship Id="rId4" Type="http://schemas.openxmlformats.org/officeDocument/2006/relationships/hyperlink" Target="mailto:gferro@uade.edu.ar" TargetMode="External"/><Relationship Id="rId5" Type="http://schemas.openxmlformats.org/officeDocument/2006/relationships/hyperlink" Target="mailto:gferro@uade.edu.ar" TargetMode="External"/><Relationship Id="rId6" Type="http://schemas.openxmlformats.org/officeDocument/2006/relationships/hyperlink" Target="mailto:gferro@uade.edu.ar" TargetMode="External"/><Relationship Id="rId7" Type="http://schemas.openxmlformats.org/officeDocument/2006/relationships/hyperlink" Target="mailto:gferro@uade.edu.ar" TargetMode="External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versiones de los fondos de pensión y carteras a partir de índices</a:t>
            </a:r>
            <a:r>
              <a:rPr b="0" lang="es-E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stavo Ferr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o de Economía (FACE/UA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CONICET. </a:t>
            </a:r>
            <a:r>
              <a:rPr b="0" lang="es-ES" sz="2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/>
              </a:rPr>
              <a:t>gferro</a:t>
            </a:r>
            <a:r>
              <a:rPr b="0" lang="es-ES" sz="2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s-ES" sz="2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/>
              </a:rPr>
              <a:t>uade</a:t>
            </a:r>
            <a:r>
              <a:rPr b="0" lang="es-ES" sz="2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s-ES" sz="2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5"/>
              </a:rPr>
              <a:t>edu</a:t>
            </a:r>
            <a:r>
              <a:rPr b="0" lang="es-ES" sz="2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s-ES" sz="2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7"/>
              </a:rPr>
              <a:t>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° Congreso Internacional de la Seguridad Social, OISS y CPCECABA, 13 de junio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31AD-5B87-4584-8619-F4E3836D4A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Rentabilidad y riesgo mensua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870680" cy="40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9D5-1811-4635-9D0E-46B67CF0CB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221304"/>
                </a:solidFill>
                <a:latin typeface="Times New Roman"/>
              </a:rPr>
              <a:t>Correlación entre valores mensuales de cada cartera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1498680"/>
            <a:ext cx="723744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7ED-C13A-42B9-9776-0F18E2E6AD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s de las estrategias pasivas dan buenos rendimientos con una volatilidad relativamente b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rtera de las AFJP da un buen rendimiento promedio mensual, lo consigue con un bajo desvío estándar y rinde por ende un Cuasi-Sharpe atrac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ultados sensibles al período de anális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A53-741C-4E59-A497-89A4F01AF0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Muchas gracias por la atenció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/>
              </a:rPr>
              <a:t>gferro</a:t>
            </a:r>
            <a:r>
              <a:rPr b="0" lang="es-ES" sz="4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s-ES" sz="4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/>
              </a:rPr>
              <a:t>uade</a:t>
            </a:r>
            <a:r>
              <a:rPr b="0" lang="es-ES" sz="4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s-ES" sz="4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5"/>
              </a:rPr>
              <a:t>edu</a:t>
            </a:r>
            <a:r>
              <a:rPr b="0" lang="es-ES" sz="4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s-ES" sz="4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7"/>
              </a:rPr>
              <a:t>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3A36-33F9-412F-B458-B364A200C2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Contexto de las reform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AR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os</a:t>
            </a:r>
            <a:r>
              <a:rPr b="0" lang="es-A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clase de activo, concentración de propiedad, emisor, por instrumento sobre la proporción que de él se mantiene en cartera, </a:t>
            </a:r>
            <a:r>
              <a:rPr b="0" lang="es-AR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sos</a:t>
            </a:r>
            <a:r>
              <a:rPr b="0" lang="es-A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alificación de riesgo y a veces para ciertos instrumen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artera subóptima respecto de cartera teórica? ¿Fondos índice más barato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ciones: otras administradoras, otras carteras existentes, estrategias pasivas (índices), carteras fictici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3AC-A400-4C83-B69D-58FDF8D86F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arar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s rendimientos y riesgos históricos de la cartera promedio del sistema de capitalización en Argentina,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a carteras pasiva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diversa índ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937-BEB5-4453-B638-4CC3561E4D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Estructu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a base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as cart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os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840-C968-4D78-A771-C8A268572C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La base de dato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uota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promedio ponderada AFJP (enero 1995 a septiembre 20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Indice IAMC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bono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deuda pública argentina en p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asa de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azos fijo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en pesos 30-59 días BC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 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744-0710-45B1-AA53-8D6916256E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Las cartera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867800" cy="401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D63-9CC5-473C-8E11-05C70C6335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Correlaciones entre tasas de variació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839000" cy="205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6E4-56B0-4C53-B3DB-E9FB31A0BE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Fondos “acumulados”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870680" cy="418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CB5-81E0-43C9-AB03-52978ED7D3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72640" cy="676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CB0-5E36-447B-B192-311F605825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3:38:34Z</dcterms:created>
  <dc:creator>UADE</dc:creator>
  <dc:description/>
  <dc:language>en-US</dc:language>
  <cp:lastModifiedBy>C.P.C.E.C.A.B.A</cp:lastModifiedBy>
  <dcterms:modified xsi:type="dcterms:W3CDTF">2008-06-26T16:02:40Z</dcterms:modified>
  <cp:revision>7</cp:revision>
  <dc:subject/>
  <dc:title>Inversiones de los fondos de pensión y carteras a partir de índices </dc:title>
</cp:coreProperties>
</file>