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8DD-DB6A-4FAB-8541-C64781FF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6C8-057C-4794-AA9F-3351245F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8F271-05EB-4FC3-8683-88B6BDA8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6B6F9-E883-41DF-B31C-2EE3CE23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5545A-355A-49DE-926D-5A0DD7EE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49A86-684D-49FE-84F1-013FB778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6803F-3B6C-4E16-96B7-F293CA4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B2C78-5FC1-4D18-A0F9-A4A8103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CC842-A83F-4D24-9D85-1CFA7F54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D7007-0395-4609-ADB4-520F9C83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A126D-01A1-4CB0-A1D1-97E0C840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702E5-A7AF-4BBC-B1FF-8E655694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9B1-5863-418D-B09D-F955A5E8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8E69E-ED26-4A22-9696-49091C40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70AFC-46D3-4303-B74E-C563502B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B9AB2-9F9B-4AF0-AC8E-623727E3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D617F-BAB9-445C-96AE-11096A59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8D15E-0BD8-420F-993F-73503014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DAD88-9DFA-4F06-8645-0AAA00A8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E3D92-34B9-4C51-B485-72EACCCC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F21A9-54E4-43F5-B8EA-070222ED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1C13-2137-40F7-81F8-ADF8767D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1E644-D9B6-4ABC-B6D1-95BA1D2B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25B-3BE2-4E51-B8E7-DA57BC60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5B7B2-9A88-4F00-A269-19437CE2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2B338-5963-4311-886C-12FF83D1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5E88B-BA2F-41AB-985D-956F15B9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40C6D-E570-4D36-BAFF-F93FB0C6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385AF-A422-4D96-B77F-9F368783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5FA9F-4044-4F06-8A8A-E877F0F5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055AF-034D-486E-8D39-4E53241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423CF-E951-474C-B43D-D0ECCA93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26039-F821-4AF4-AFF1-84F659B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B43A8-AD8D-416A-A890-E35681DC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7E33-5C69-46F6-8B8C-70965981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66217-A883-435F-9B70-DEBB524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4275E-87AA-4214-85E1-BFC9C5E7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6A9DB-7C1D-4DF0-8D3B-92504442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6A4D-631E-41A3-A0BC-2EECA5FC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BAE0-C2C7-45C2-884E-4A5D7844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8329-FF51-4246-ACE6-1263CA41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3ECE-6E59-4482-817A-634AF660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F147-7754-41B6-B4F1-AEE90C08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CE8F-7201-4242-9803-0658E84C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6E3-7FCB-47DC-A45D-EACA2BBF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691E-538D-4E79-87CB-F40F7F4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B829-8A7F-405D-9E9D-7078ECFA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66AE-8FDF-46FA-97C4-87FBCDB8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135A-78ED-4A86-BC7D-D7F3CE5A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F7EA-1306-4875-AA79-B40C417C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5547-CC27-41DB-A13A-F6C2A1C3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B35A-C529-40E6-AAEA-09AEF5EB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414F-9597-4490-B0CE-249CFE9C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2BA0-7A8E-488D-94AF-87574289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6C29-4FD0-4DB6-9C26-563FF5AF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9B6-9252-423F-8BC8-77D0C484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0714-05C2-4821-8B25-5519AF23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21B0-AE0E-4551-80A0-DEC0E55D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05C2-932D-4D79-ADEA-0E7C125D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821B-F6AB-41AE-B2FF-7F2C2A6D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68D1-5C47-465F-8A43-F36E12FB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11BE-B08C-4D9D-A171-9B58DC9D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943E-4EDA-485A-B9CC-19AD258A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9D007-FD33-44AD-9EC3-B372373A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CE57-45E1-4450-B369-959ACB41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DA6A2-B92B-4F5C-AC84-DF75FC70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241-BF32-40A4-8A1B-426CFCC6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F261-C03C-4AEB-98B9-8EC4A5CE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EF21E-D423-4D13-9E8A-8596FB9B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BB4B1-EB9F-414C-9E2D-4B64930E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2524E-F3F9-4196-96AC-F2BC467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76CA-A65A-4B93-B23C-E2DF3F0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F11A-C94F-44DF-BD66-418F255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A361-1A48-4EBC-8571-70481B5E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FE7C-6076-4038-AB4F-68522FEA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ADCA-FD2D-4324-8F63-67651CE5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6B290-8145-4B1A-BD24-89B528FF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976-1B41-42D5-AA44-F164D65E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1346E-1A7C-4EB0-A829-6579B2AC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2F309-1A5F-4DEE-B25B-95ACB5FF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353D-EEE0-4C27-8351-DB2EB0CC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E950-81DD-46F2-A8F8-400B1A7F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D1155-6C24-48DF-9A99-66DEA6E6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ADEC4-3AA0-4B8E-862E-7D855CA0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78608-A36D-4990-8425-94EA30EB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A934-23E6-4009-AB1D-EB9F1039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6B7A7-C8D2-4950-A1C0-37AE2507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0300-17C4-4ABF-AE00-F4B77E3F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A4A-DA35-4265-B6FC-19F34145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3666-6704-41A2-BF3D-EE72D851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A529A-019D-4CFE-B2EA-DDDC6B6F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85772-16B0-407B-BF00-F3DFB4F1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B71E2-FFD6-41EE-B86C-12CC8F7F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43E53-849C-4771-8B7B-B699BCB2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B381F-DBCF-4A79-AFEC-F439FE6B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564B6-E382-4C08-AA99-5FFF248C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EFF16-D0C2-4690-BFA0-4BA3C22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3EA50-6CDE-4398-BAEB-E28EC94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C1D99-EABE-4C0D-ADBF-CC3FA8C2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C73-66C2-439D-BB6A-A4F6227C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50FF-C164-4C30-AEFA-31DA5005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9A14B-CC26-4D3A-A5DE-3D50BC6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F8CF3-7581-4C89-91BD-A6C1A771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17762-5530-4C17-93D6-C708EEC2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21090-6BEC-4CEA-A0EF-169FC62D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E426E-3E52-4E4A-B77C-C8A2048A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4A539-CC9F-4F9F-9929-E5617CDF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9C388-29BE-44AE-A412-BB4F10D4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BE093-5722-4277-B570-ED73AAB4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1AFD3-1574-44C5-AA6B-B8537033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809-AA31-4995-9777-3D7FE82F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5F79F-62D7-45B1-8925-22D069B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98818-3CF8-47EF-AFE9-4CC5B3BA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FCEC7-0C1E-442F-AF4A-36242768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38434-27DA-4E3D-BAF6-EEEA6E52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8E60-ADC3-43C0-B46F-577F7530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F5A61-96AB-4CFD-94D1-F61C3524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8B760-19D4-4690-BCAC-CEB2487A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216F7-B816-49C0-BEDC-5923FF8D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3AA71-BCA5-498D-917D-2EDD6D8F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E7BDE-B1E1-4120-AE71-F4B74FA2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10E-9004-4F1E-9902-591E0EF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89CB7-7A2D-4FF0-9BA9-094EDFF2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C379-894A-4F69-BF6B-A91BFEEC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33C2E-1FD8-4B16-B02A-B9E851A2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4DB64-98D8-446E-8101-622CEECB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DB7D7-D747-4B13-AB37-EE973C0E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CC969-3FC4-43F8-AF35-D4E63002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0F6BC-41F7-4B46-BF6D-238B70DB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8604B-E5D3-4B57-A0CC-5318E6AA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10B42-B19F-42D4-B8ED-D17AE45F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0309E-528A-4D8F-A717-4AE19FAA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2FA2-4E1C-4BF7-B6FC-79FB7B724DD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B69B-1405-4231-98A4-B64E2F40E23C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B000-3268-4D99-BD48-36CDDC834B7A}" type="slidenum">
              <a:rPr b="0" lang="es-ES_trad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6B62-F9EE-4695-B88C-33CC9F3D0DA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776C-9976-497A-885F-5B36A6D9B2B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BDB2-AD2F-4E40-9506-01F78EA16D0C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1127-7C1C-455F-B6DF-86D519E4A918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240B-D373-409E-892C-D522F8A001D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9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8B09-3352-408C-A1D9-B7A389C57158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4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5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ABC1-97B2-42D6-A8AB-00CA5683AB73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0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51D6-ACCE-40DF-AA4C-98CCC78BB1A9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4 º Congreso Internacion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55640" y="1844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EGURIDAD SO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55640" y="386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Bauhaus 93"/>
              </a:rPr>
              <a:t>CONSEJO C.A.B.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436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unio 200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4211640" y="3141720"/>
            <a:ext cx="923760" cy="89532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67280" y="1628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539640" y="333360"/>
            <a:ext cx="7705800" cy="934920"/>
          </a:xfrm>
          <a:prstGeom prst="rect">
            <a:avLst/>
          </a:prstGeom>
          <a:solidFill>
            <a:srgbClr val="eec85e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anciones Jurisprudencia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-continuació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51280" y="1916280"/>
            <a:ext cx="129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2349360"/>
            <a:ext cx="85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Parafina del Plata_ 02/09/1968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Usandizaga . Perrone y Juliarena S.R.L. 15-10-198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140360" y="3645000"/>
            <a:ext cx="86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4221000"/>
            <a:ext cx="8496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Principio de Inocencia_ art 18 CN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Es necesario tener en cuenta los elemento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0000" y="5229360"/>
            <a:ext cx="1800000" cy="8636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Objetiv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u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84360" y="333360"/>
            <a:ext cx="7705440" cy="934920"/>
          </a:xfrm>
          <a:prstGeom prst="rect">
            <a:avLst/>
          </a:prstGeom>
          <a:solidFill>
            <a:srgbClr val="eec85e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anciones Jurisprudencia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-continuació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95280" y="184464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*Mazza Generoso</a:t>
            </a:r>
            <a:br>
              <a:rPr sz="2400"/>
            </a:b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*Casa Elen Calmide Cloret, Garello.9</a:t>
            </a:r>
            <a:br>
              <a:rPr sz="2400"/>
            </a:b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*Montenegro Hermanos S.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067280" y="3141720"/>
            <a:ext cx="863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4000" y="4005360"/>
            <a:ext cx="8496000" cy="577800"/>
          </a:xfrm>
          <a:prstGeom prst="rect">
            <a:avLst/>
          </a:prstGeom>
          <a:solidFill>
            <a:srgbClr val="aa845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rt. 46 (Dolo) en base a pres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84360" y="333360"/>
            <a:ext cx="7705440" cy="792000"/>
          </a:xfrm>
          <a:prstGeom prst="rect">
            <a:avLst/>
          </a:prstGeom>
          <a:solidFill>
            <a:srgbClr val="eec85e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anciones Jurispru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635280" y="1197000"/>
            <a:ext cx="1727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68360" y="1844640"/>
            <a:ext cx="8351640" cy="647640"/>
          </a:xfrm>
          <a:prstGeom prst="rect">
            <a:avLst/>
          </a:prstGeom>
          <a:solidFill>
            <a:srgbClr val="aa8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*Eutnekian Eduardo s/ Infracción ley 24769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835280" y="2708280"/>
            <a:ext cx="863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03280" y="3500280"/>
            <a:ext cx="1511280" cy="5763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. 4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2781360"/>
            <a:ext cx="863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508720" y="3500280"/>
            <a:ext cx="1439640" cy="5763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116000" y="4941720"/>
            <a:ext cx="2303640" cy="115128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obr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050920" y="429264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084720" y="429264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148360" y="4941720"/>
            <a:ext cx="2232000" cy="115128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obr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tamien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j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4360" y="333360"/>
            <a:ext cx="7705440" cy="115092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Sanciones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aterial Seguridad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95280" y="2421000"/>
            <a:ext cx="8352000" cy="2881080"/>
          </a:xfrm>
          <a:prstGeom prst="rect">
            <a:avLst/>
          </a:prstGeom>
          <a:solidFill>
            <a:srgbClr val="aa845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El Fisco considera que los ilícitos en materia de Seguridad Social son reprochables sólo con la confirmación del hecho objetivo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68360" y="5157720"/>
            <a:ext cx="691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2340000" y="4292640"/>
            <a:ext cx="489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Jurispruden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84360" y="476280"/>
            <a:ext cx="7705440" cy="9367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aturaleza sancionatoria en materia de la Segur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68360" y="5157720"/>
            <a:ext cx="691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492360" y="177336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 I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24000" y="2060640"/>
            <a:ext cx="8208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*A.F. Manfredi S.H. c/ DGI . s/ Imp. Deuda. CFSS 17/05/96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*Universidad Católica” c/ AFIP s/ imp deuda. CFSS 22/04/02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*Liga Deportiva Chacabuco c/ AFIP DGI s/ J. 19/11/02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*Nixor SRL c/ AFIP s/ Imp Deuda- 11/07/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08000" y="5229360"/>
            <a:ext cx="5328000" cy="72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ción de Carácter P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995640" y="3933720"/>
            <a:ext cx="863640" cy="1224000"/>
          </a:xfrm>
          <a:prstGeom prst="downArrow">
            <a:avLst>
              <a:gd name="adj1" fmla="val 50000"/>
              <a:gd name="adj2" fmla="val 35431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920" y="2349360"/>
            <a:ext cx="8569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Deheza Martin c/ DGI . s/ Imp Deuda” CFSS  09/12 96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La Rosita SRL c/ DGI s/ Imp Deuda” 29/08/97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Horizonte Fundación c/ DGI s/ Imp deuda” 24/09/2001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Auwin S.A. c/ AFIP s/ imp Deuda  23/06/200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4360" y="476280"/>
            <a:ext cx="7705440" cy="9367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aturaleza sancionatoria en materia de la Segur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492360" y="170028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 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95640" y="4149720"/>
            <a:ext cx="863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042920" y="5084640"/>
            <a:ext cx="4032360" cy="865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ción de naturaleza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804000" y="5084640"/>
            <a:ext cx="1944720" cy="865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435640" y="5229360"/>
            <a:ext cx="1152360" cy="503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5280" y="2708280"/>
            <a:ext cx="842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Díaz Rodolfo  c/ CASFEC s/ IMP D. 30/12/96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Diesel Oliden S.A. c/ DGI . s/ Imp D. 28/08/98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Fusco Abelardo Dora c/ AFIP s/ Imp Ds. 30/11/99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Confiteria Danubio S.A: c/ AFIP s/ Imp. D. 15/08/0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84360" y="476280"/>
            <a:ext cx="7705440" cy="936720"/>
          </a:xfrm>
          <a:prstGeom prst="rect">
            <a:avLst/>
          </a:prstGeom>
          <a:solidFill>
            <a:srgbClr val="cc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aturaleza sancionatoria en materia de la Segur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492360" y="1916280"/>
            <a:ext cx="1727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 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5157720"/>
            <a:ext cx="4032360" cy="865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 Cíc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24360" y="4292640"/>
            <a:ext cx="863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804000" y="5157720"/>
            <a:ext cx="1944720" cy="865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 de Crit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364000" y="5300640"/>
            <a:ext cx="1152720" cy="50328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333360"/>
            <a:ext cx="8352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en-US" sz="2800" spc="-1" strike="noStrike">
                <a:solidFill>
                  <a:srgbClr val="60597b"/>
                </a:solidFill>
                <a:latin typeface="Arial"/>
              </a:rPr>
              <a:t>Esquemas del Procedimiento de aplicación de Sanciones de Recursos de la Seguridad Soci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08000" y="1413000"/>
            <a:ext cx="47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-Acta Sancion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979640" y="2060640"/>
            <a:ext cx="47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Impu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979640" y="2781360"/>
            <a:ext cx="475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Re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908000" y="3429000"/>
            <a:ext cx="59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Revisión de Impu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908000" y="4076640"/>
            <a:ext cx="59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-Resolución Adm. Defin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908000" y="4724280"/>
            <a:ext cx="59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Apelación CF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908000" y="5373720"/>
            <a:ext cx="59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7- C.S.J.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50920" y="260280"/>
            <a:ext cx="8642160" cy="79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597b"/>
                </a:solidFill>
                <a:latin typeface="Arial"/>
              </a:rPr>
              <a:t>Seguridad Social – Legislación Apli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24000" y="1773360"/>
            <a:ext cx="1800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97b"/>
                </a:solidFill>
                <a:latin typeface="Arial"/>
              </a:rPr>
              <a:t>Ley 14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56000" y="1773360"/>
            <a:ext cx="1800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97b"/>
                </a:solidFill>
                <a:latin typeface="Arial"/>
              </a:rPr>
              <a:t>Ley 17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427640" y="1773360"/>
            <a:ext cx="187164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97b"/>
                </a:solidFill>
                <a:latin typeface="Arial"/>
              </a:rPr>
              <a:t>Ley 221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659640" y="1773360"/>
            <a:ext cx="179856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97b"/>
                </a:solidFill>
                <a:latin typeface="Arial"/>
              </a:rPr>
              <a:t>Ley 24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9640" y="3357720"/>
            <a:ext cx="180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97b"/>
                </a:solidFill>
                <a:latin typeface="Arial"/>
              </a:rPr>
              <a:t>Ley 247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635280" y="3429000"/>
            <a:ext cx="180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97b"/>
                </a:solidFill>
                <a:latin typeface="Arial"/>
              </a:rPr>
              <a:t>Ley 116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59640" y="3429000"/>
            <a:ext cx="187164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97b"/>
                </a:solidFill>
                <a:latin typeface="Arial"/>
              </a:rPr>
              <a:t>Ley 260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332000" y="5157720"/>
            <a:ext cx="633708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0597b"/>
                </a:solidFill>
                <a:latin typeface="Arial"/>
              </a:rPr>
              <a:t>R.G. 1566 =&gt; R.G. (AFIP) 17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564000" y="2492280"/>
            <a:ext cx="64764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0" y="4149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643280" y="1125360"/>
            <a:ext cx="36036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932360" y="1125360"/>
            <a:ext cx="22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1835280" y="1125360"/>
            <a:ext cx="180000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492360" y="1125360"/>
            <a:ext cx="719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1403280" y="1125360"/>
            <a:ext cx="2448000" cy="21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788000" y="1125360"/>
            <a:ext cx="2808360" cy="223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093080" y="4508640"/>
            <a:ext cx="1800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597b"/>
                </a:solidFill>
                <a:latin typeface="Arial"/>
              </a:rPr>
              <a:t>Pres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667640" y="4149720"/>
            <a:ext cx="14436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51308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Naturaleza Jurídica</a:t>
            </a:r>
            <a:br>
              <a:rPr sz="4800"/>
            </a:br>
            <a:r>
              <a:rPr b="0" i="1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Sancion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4000" y="2205000"/>
            <a:ext cx="8569080" cy="1152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odo acto contrario a una norma jurídica es un hecho ilíc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3645000"/>
            <a:ext cx="2843280" cy="50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Ámbito Ci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64000" y="3645000"/>
            <a:ext cx="3203640" cy="50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Ámbito Pe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013360"/>
            <a:ext cx="32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tege interés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651640" y="5013360"/>
            <a:ext cx="2842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tege interés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47640" y="4365720"/>
            <a:ext cx="86364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516720" y="4365720"/>
            <a:ext cx="86364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4360" y="549360"/>
            <a:ext cx="7561080" cy="1079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quidación s/ Procedimien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mposición San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2060640"/>
            <a:ext cx="3168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y 188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55640" y="393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.G. (AFIP) 79/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835280" y="3141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76720" y="2133720"/>
            <a:ext cx="316872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c 507/93 y 2102/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76720" y="3716280"/>
            <a:ext cx="3168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y 116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4724280"/>
            <a:ext cx="3097080" cy="649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ey 38,39 y 40 bis, 41 y 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076720" y="5805360"/>
            <a:ext cx="3168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. 70 y 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65964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659640" y="54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5964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042920" y="162864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7776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mplica procedimiento registrado para aplicar sa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3789360"/>
            <a:ext cx="82090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ES DICTADO POR JUEZ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95280" y="5157720"/>
            <a:ext cx="820908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OLENTA GARANTIA DEL DEBIDO PROCESO AD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42920" y="2852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rocedimiento culmina con “Acta de Infrac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84360" y="333360"/>
            <a:ext cx="7561080" cy="1079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imiento Ley 188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16000" y="476280"/>
            <a:ext cx="6696000" cy="792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A DE INSPECCIÓN Y AN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95280" y="3068640"/>
            <a:ext cx="806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44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ción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lateral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da en ejercicio de la función administrativa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produce efectos jurídicos para las par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9640" y="1700280"/>
            <a:ext cx="8174160" cy="119124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¿CONSTITUYE ACTO ADMINISTRAT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2195640" y="2781360"/>
            <a:ext cx="4824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COMPETENCIA</a:t>
            </a: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 OBJETO</a:t>
            </a: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 VOLUNTAD</a:t>
            </a: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 FOR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900000" y="476280"/>
            <a:ext cx="7417080" cy="792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ACTA DE INSPECCIÓN Y ANEX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58480" y="1773360"/>
            <a:ext cx="8774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bbd71"/>
                </a:solidFill>
                <a:uFillTx/>
                <a:latin typeface="Arial"/>
              </a:rPr>
              <a:t>ELEMENTOS </a:t>
            </a:r>
            <a:r>
              <a:rPr b="1" lang="en-US" sz="2800" spc="-1" strike="noStrike" u="sng">
                <a:solidFill>
                  <a:srgbClr val="dbbd71"/>
                </a:solidFill>
                <a:uFillTx/>
                <a:latin typeface="Arial"/>
              </a:rPr>
              <a:t>ESENCIALES</a:t>
            </a:r>
            <a:r>
              <a:rPr b="1" lang="en-US" sz="2400" spc="-1" strike="noStrike" u="sng">
                <a:solidFill>
                  <a:srgbClr val="dbbd71"/>
                </a:solidFill>
                <a:uFillTx/>
                <a:latin typeface="Arial"/>
              </a:rPr>
              <a:t> DEL ACTO ADMINISTRATIV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042920" y="2276640"/>
            <a:ext cx="6840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dbbd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EFECTOS Y CARACTERES DEL ACTO ADMINISTRATIVO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-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LEGITIMIDAD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-EJECUTIVIDAD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-EJECUTORIEDAD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-ESTABILIDAD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-IMPUGNABILIDAD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00000" y="476280"/>
            <a:ext cx="7417080" cy="7920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ACTA DE INSPECCIÓN Y ANEX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24000" y="404640"/>
            <a:ext cx="8424720" cy="1297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ERIFICACIÓN Y FISCALIZACION DE LOS RECURSOS DE LA SEGUR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156360" y="2781360"/>
            <a:ext cx="251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258920" y="3284640"/>
            <a:ext cx="647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067280" y="3284640"/>
            <a:ext cx="863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948360" y="3284640"/>
            <a:ext cx="863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0920" y="4005360"/>
            <a:ext cx="2593800" cy="718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DEC 618/9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640" y="4005360"/>
            <a:ext cx="2954160" cy="158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400"/>
            </a:br>
            <a:r>
              <a:rPr b="1" lang="es-ES_tradnl" sz="2400" spc="-1" strike="noStrike" u="sng">
                <a:solidFill>
                  <a:srgbClr val="ccecff"/>
                </a:solidFill>
                <a:uFillTx/>
                <a:latin typeface="Arial"/>
              </a:rPr>
              <a:t>RES CONJUNTA</a:t>
            </a:r>
            <a:br>
              <a:rPr sz="2400"/>
            </a:br>
            <a:r>
              <a:rPr b="1" lang="es-ES_tradnl" sz="2400" spc="-1" strike="noStrike" u="sng">
                <a:solidFill>
                  <a:srgbClr val="ccecff"/>
                </a:solidFill>
                <a:uFillTx/>
                <a:latin typeface="Arial"/>
              </a:rPr>
              <a:t>(M.E.O. y S.P.) Y (M.T. y S.S.)  202/9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39640" y="2133720"/>
            <a:ext cx="2232000" cy="936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FIP-D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276720" y="2133720"/>
            <a:ext cx="2447640" cy="936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G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.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2133720"/>
            <a:ext cx="2448000" cy="936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.T. y S.S.</a:t>
            </a:r>
            <a:br>
              <a:rPr sz="2000"/>
            </a:b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ISIT y 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43640" y="4005360"/>
            <a:ext cx="2160720" cy="718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en-US" sz="8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Arial"/>
              </a:rPr>
              <a:t>Ley 25877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900000" y="2349360"/>
            <a:ext cx="7129440" cy="503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Arial"/>
              </a:rPr>
              <a:t>Ley 25.877 (B.O. 19/03/200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995640" y="2924280"/>
            <a:ext cx="863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995640" y="1773360"/>
            <a:ext cx="863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995640" y="4365720"/>
            <a:ext cx="863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68360" y="3500280"/>
            <a:ext cx="792000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istema Integrado de Inspección del Trabajo y de la Seguridad Social (SISIT y 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900000" y="4941720"/>
            <a:ext cx="7058160" cy="433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Facultades Concurrentes MTESS y AF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5661000"/>
            <a:ext cx="151272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1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835280" y="5661000"/>
            <a:ext cx="180000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. MT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5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708360" y="5661000"/>
            <a:ext cx="180036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 MT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580000" y="5661000"/>
            <a:ext cx="165600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 AF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66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308720" y="5661000"/>
            <a:ext cx="158436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G AF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/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00" y="404640"/>
            <a:ext cx="8424720" cy="1297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ERIFICACIÓN Y FISCALIZACION DE LOS RECURSOS DE LA SEGUR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187280" y="476280"/>
            <a:ext cx="66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y 260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87280" y="1700280"/>
            <a:ext cx="6912000" cy="180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CIÓN DE LA EXIST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CUAN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GACIÓN PREV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258920" y="4581360"/>
            <a:ext cx="7056360" cy="10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o de Realidad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1 y 2 ley 11.6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284720" y="3645000"/>
            <a:ext cx="86364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826920" y="2565360"/>
            <a:ext cx="7777440" cy="2016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 presumirá salvo prueba en contrario que todo “trabajo” se realiza en virtud de un contrato laboral pactado por las pa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549360"/>
            <a:ext cx="460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Ley 260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296720" y="1557360"/>
            <a:ext cx="66441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N MATERIA DE SEGURIDA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726920" y="5516640"/>
            <a:ext cx="59886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rt. 23 Ley de Contrato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140360" y="4724280"/>
            <a:ext cx="86328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395280" y="2565360"/>
            <a:ext cx="8353440" cy="3095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) Fecha de ingreso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) Cantidad de personal o remuneraciones declaradas insuficientes para la activida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) Mínimos de conve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42920" y="333360"/>
            <a:ext cx="669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Ley 26063 Art. 5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11280" y="1341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esunciones vinculadas c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08108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anció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95280" y="2781360"/>
            <a:ext cx="8424720" cy="251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s reproche a una conducta contraria a un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ordenamiento juríd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2133720"/>
            <a:ext cx="7777080" cy="3311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inguna de las presunciones de la ley 26.063 podrá ser tenida en cuenta por los jueces en lo penal de los fines de determinar la existencia de un deli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971640" y="260280"/>
            <a:ext cx="66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Ley 26063 Art. 6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1187280" y="2781360"/>
            <a:ext cx="6696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por su a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3780000" y="112536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08108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osiciones Doctrinari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332000" y="2276640"/>
            <a:ext cx="63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oría Penali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55640" y="3429000"/>
            <a:ext cx="777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oría Administrativi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187280" y="4581360"/>
            <a:ext cx="669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Teoría Tributari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468360" y="1197000"/>
            <a:ext cx="7705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ncuentra deferencias sustanciales entre delitos e infra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258920" y="333360"/>
            <a:ext cx="6696000" cy="79200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oría Administrati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68360" y="2276640"/>
            <a:ext cx="7705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l bien jurídico titulado es distinto al del Derecho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68360" y="3933720"/>
            <a:ext cx="806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 algn="ctr"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iene por objeto resarcir al Fisco en el daño causado por el contribuy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8360" y="4724280"/>
            <a:ext cx="7705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n virtud órgano que aplica la s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5589720"/>
            <a:ext cx="7705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Los delitos se verifican por omi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1280" y="3357720"/>
            <a:ext cx="7705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RG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468360" y="1341360"/>
            <a:ext cx="7705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 existe diferencia sustancial entre el ilícito tributario y el ilícito penal comú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258920" y="333360"/>
            <a:ext cx="6696000" cy="79200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oría Pe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8360" y="2421000"/>
            <a:ext cx="806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 existen diferencias en el bien jurídico tute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9640" y="4437000"/>
            <a:ext cx="7705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Se protege de Bienes Juríd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95640" y="3716280"/>
            <a:ext cx="86364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11280" y="1844640"/>
            <a:ext cx="7705800" cy="302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Las infracciones fiscales reconocen fundamento en el poder imperio del estado. Lo que permite sostener que la naturaleza no es penal ni administrativa, sino que es tribut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258920" y="476280"/>
            <a:ext cx="6696000" cy="79200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oría Tributar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116000" y="2852640"/>
            <a:ext cx="66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Jurisprudencia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7528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51280" y="1341360"/>
            <a:ext cx="129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87280" y="1916280"/>
            <a:ext cx="7345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Urraco Antonino c/Troane Francisco - 1988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Lucero Víctor c/ Cossano Carlos_ 1891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Robba Eujenio vs. DGI Imp. Réditos_ 1943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Villa Aufritch y Cia 17-11-1944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Ernani, Luis Castellani c/ Fisco Nacional 1946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067280" y="3860640"/>
            <a:ext cx="863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68360" y="5157720"/>
            <a:ext cx="691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4000" y="4508640"/>
            <a:ext cx="8424720" cy="1944720"/>
          </a:xfrm>
          <a:prstGeom prst="rect">
            <a:avLst/>
          </a:prstGeom>
          <a:solidFill>
            <a:srgbClr val="5e855b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ción Tributaria es de carácter pen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y deferencias entre contravenciones y sancion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sanciones son formales, material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de carácter pena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258920" y="476280"/>
            <a:ext cx="6696000" cy="792000"/>
          </a:xfrm>
          <a:prstGeom prst="rect">
            <a:avLst/>
          </a:prstGeom>
          <a:solidFill>
            <a:srgbClr val="eec85e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Sanciones Jurispru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97528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Guillermo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5:13:57Z</dcterms:created>
  <dc:creator>CESAR</dc:creator>
  <dc:description/>
  <dc:language>en-US</dc:language>
  <cp:lastModifiedBy>Tomas</cp:lastModifiedBy>
  <dcterms:modified xsi:type="dcterms:W3CDTF">2008-06-19T21:17:18Z</dcterms:modified>
  <cp:revision>24</cp:revision>
  <dc:subject/>
  <dc:title>4 º Congreso Internacional</dc:title>
</cp:coreProperties>
</file>