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CD6-E085-400D-BA9F-99DF9D5F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B2B-A8B3-4DFD-853C-7966E555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03B-0601-49B6-A6C3-575D5D7F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293-ED5E-4747-903C-39CE19AB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28B-51F2-41CB-AE98-8C8563B2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B1B-B4AE-46D9-93A9-436F7F6E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D38-35C5-475B-B77D-67DBFAA8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E88-D5F2-4973-96C9-A78F9B4E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EAB-015D-4AA2-A2C9-D3E83382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6A5-8C97-4A72-B1D6-47481D9A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CA9-29AE-4909-88EB-9AA27805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CBE-57DA-42FA-BF90-78EB814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4760" y="6501960"/>
            <a:ext cx="6015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6CE3-EDDC-4F13-91FB-BAE0C4C0D1DE}" type="slidenum">
              <a:rPr b="1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86680" y="404640"/>
            <a:ext cx="854280" cy="331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rociudadaniasocial.org.ar/images/Posts%20Pictures/Balanzas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2133720"/>
            <a:ext cx="77245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Tahoma"/>
              </a:rPr>
              <a:t>Mayor Eficiencia en la gestión de los recursos de las Obra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99"/>
                </a:solidFill>
                <a:latin typeface="Tahoma"/>
              </a:rPr>
              <a:t>Dr. Jorge Día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99"/>
                </a:solidFill>
                <a:latin typeface="Tahoma"/>
              </a:rPr>
              <a:t>Junio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96080" y="990720"/>
            <a:ext cx="1117800" cy="433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81880" y="64771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Otros conceptos que erosionan los Recurs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33520"/>
            <a:ext cx="849636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IVA No Computable (En una Obra Social de Mediana Envergadura, representa casi el 1% de sus ingre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Impuesto a los Débitos y Créditos bancarios (Unicas entidades sujetas al gravámen, en su ti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Aportes a las Cajas de Profesionales del i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Aportes a Colegios Mé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Litigiosidad inde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Recursos de ampa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Carga administrativa impuesta por las autoridades de aplicación (régimen informativo en lo prestacional y fiscal) (Agente de retención de impuestos nacionales y provinci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Gestión administrativa de las Obras Socia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143000"/>
            <a:ext cx="8496360" cy="46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Frente a este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panorama queda claro que la gestión administrativa de las Obras Sociales requiere de la mayor eficiencia para sustentar una economía compleja, con muchos compromisos reglamen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Entender que, desde la fecha de sanción de la Ley de origen, donde fue establecido el 8% de límite del gasto administrativo, se han ido incorporando mayores costos por aplicación de cargas fiscales – no vigentes  en su momento -  y que hoy impactan en esta ecu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Equilibrio en la Gestió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219320"/>
            <a:ext cx="3200400" cy="3057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95280" y="45720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6699"/>
                </a:solidFill>
                <a:latin typeface="Tahoma"/>
              </a:rPr>
              <a:t>Mayor 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6699"/>
                </a:solidFill>
                <a:latin typeface="Tahoma"/>
              </a:rPr>
              <a:t>     </a:t>
            </a:r>
            <a:r>
              <a:rPr b="1" lang="es-AR" sz="1800" spc="-1" strike="noStrike">
                <a:solidFill>
                  <a:srgbClr val="336699"/>
                </a:solidFill>
                <a:latin typeface="Tahoma"/>
              </a:rPr>
              <a:t>en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45720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6699"/>
                </a:solidFill>
                <a:latin typeface="Tahoma"/>
              </a:rPr>
              <a:t>Mantener integ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6699"/>
                </a:solidFill>
                <a:latin typeface="Tahoma"/>
              </a:rPr>
              <a:t>     </a:t>
            </a:r>
            <a:r>
              <a:rPr b="1" lang="es-AR" sz="1800" spc="-1" strike="noStrike">
                <a:solidFill>
                  <a:srgbClr val="336699"/>
                </a:solidFill>
                <a:latin typeface="Tahoma"/>
              </a:rPr>
              <a:t>del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343400"/>
            <a:ext cx="2514600" cy="1143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4419720"/>
            <a:ext cx="304812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96360" y="101520"/>
            <a:ext cx="1447560" cy="590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5560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6699"/>
                </a:solidFill>
                <a:latin typeface="Tahoma"/>
              </a:rPr>
              <a:t>Indicadores de Gest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2637000"/>
            <a:ext cx="1800000" cy="1079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63504" dir="184160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AFILIA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1628640"/>
            <a:ext cx="1800360" cy="1079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63504" dir="184160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PRODUCTIV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RR.HH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1268280"/>
            <a:ext cx="1800000" cy="1079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63504" dir="184160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SOLVENC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1628640"/>
            <a:ext cx="1800360" cy="1079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63504" dir="184160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RESERV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20000" y="2637000"/>
            <a:ext cx="1800000" cy="1079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63504" dir="184160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GASTO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ADMINISTRA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86520" y="3827520"/>
            <a:ext cx="1800360" cy="1079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63504" dir="184160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SUPERAVIT 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(DÉFICIT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OPERATIV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76840" y="4789440"/>
            <a:ext cx="1800360" cy="1079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63504" dir="184160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ANTIG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CREDITOS  X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5300640"/>
            <a:ext cx="1800000" cy="1079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63504" dir="184160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CUENT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POR PAG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4789440"/>
            <a:ext cx="1800360" cy="1079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63504" dir="184160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CAPI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CORRI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3862440"/>
            <a:ext cx="1800000" cy="1079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63504" dir="184160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GAST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PRESTAC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360" y="2933640"/>
            <a:ext cx="1868400" cy="1371600"/>
          </a:xfrm>
          <a:prstGeom prst="octagon">
            <a:avLst>
              <a:gd name="adj" fmla="val 20370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89604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O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56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6699"/>
                </a:solidFill>
                <a:latin typeface="Tahoma"/>
              </a:rPr>
              <a:t>Indicadores de Gestión</a:t>
            </a:r>
            <a:br>
              <a:rPr sz="1400"/>
            </a:br>
            <a:r>
              <a:rPr b="1" lang="es-ES_tradnl" sz="2200" spc="-1" strike="noStrike">
                <a:solidFill>
                  <a:srgbClr val="336699"/>
                </a:solidFill>
                <a:latin typeface="Tahoma"/>
              </a:rPr>
              <a:t>Productividad RR.H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131640" y="1019160"/>
            <a:ext cx="586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cantidad de afiliados que posee la Obra Social por cada uno de sus empleado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96360" y="101520"/>
            <a:ext cx="1447560" cy="590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9640" y="1054080"/>
            <a:ext cx="1800360" cy="647640"/>
          </a:xfrm>
          <a:prstGeom prst="roundRect">
            <a:avLst>
              <a:gd name="adj" fmla="val 14463"/>
            </a:avLst>
          </a:prstGeom>
          <a:solidFill>
            <a:srgbClr val="336699"/>
          </a:solidFill>
          <a:ln w="0">
            <a:noFill/>
          </a:ln>
          <a:effectLst>
            <a:outerShdw dist="81185" dir="1927803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¿ QUÉ MID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3141720"/>
            <a:ext cx="1800360" cy="647640"/>
          </a:xfrm>
          <a:prstGeom prst="roundRect">
            <a:avLst>
              <a:gd name="adj" fmla="val 14463"/>
            </a:avLst>
          </a:prstGeom>
          <a:solidFill>
            <a:srgbClr val="336699"/>
          </a:solidFill>
          <a:ln w="0">
            <a:noFill/>
          </a:ln>
          <a:effectLst>
            <a:outerShdw dist="81185" dir="1927803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¿ CÓMO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CALCUL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4114800"/>
            <a:ext cx="1800360" cy="647640"/>
          </a:xfrm>
          <a:prstGeom prst="roundRect">
            <a:avLst>
              <a:gd name="adj" fmla="val 14463"/>
            </a:avLst>
          </a:prstGeom>
          <a:solidFill>
            <a:srgbClr val="336699"/>
          </a:solidFill>
          <a:ln w="0">
            <a:noFill/>
          </a:ln>
          <a:effectLst>
            <a:outerShdw dist="81185" dir="1927803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CRITERI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ME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2060640"/>
            <a:ext cx="1800360" cy="647640"/>
          </a:xfrm>
          <a:prstGeom prst="roundRect">
            <a:avLst>
              <a:gd name="adj" fmla="val 14463"/>
            </a:avLst>
          </a:prstGeom>
          <a:solidFill>
            <a:srgbClr val="336699"/>
          </a:solidFill>
          <a:ln w="0">
            <a:noFill/>
          </a:ln>
          <a:effectLst>
            <a:outerShdw dist="81185" dir="1927803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¿ POR QUÉ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925640"/>
            <a:ext cx="5867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indicador de la eficiencia operativa; refleja las ganancias de productividad que se obtienen (o se pierden) ante la variación de la base de afiliado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195720" y="3197160"/>
            <a:ext cx="2328840" cy="504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276720" y="4152960"/>
            <a:ext cx="26193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56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6699"/>
                </a:solidFill>
                <a:latin typeface="Tahoma"/>
              </a:rPr>
              <a:t>Indicadores de Gestión </a:t>
            </a:r>
            <a:br>
              <a:rPr sz="1400"/>
            </a:br>
            <a:r>
              <a:rPr b="1" lang="es-ES_tradnl" sz="2200" spc="-1" strike="noStrike">
                <a:solidFill>
                  <a:srgbClr val="336699"/>
                </a:solidFill>
                <a:latin typeface="Tahoma"/>
              </a:rPr>
              <a:t>Productividad RR.HH.  - Perform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96360" y="101520"/>
            <a:ext cx="1447560" cy="590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0280" y="857160"/>
            <a:ext cx="1303200" cy="352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2880" y="857160"/>
            <a:ext cx="1984320" cy="352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46480" y="857160"/>
            <a:ext cx="862200" cy="352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76800" y="857160"/>
            <a:ext cx="1073160" cy="352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8840" y="873000"/>
            <a:ext cx="123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Ejercicio Finalizad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6680" y="1036800"/>
            <a:ext cx="102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el 30 de Juni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5400" y="87300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filiados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10040" y="103680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ro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65840" y="873000"/>
            <a:ext cx="72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Emplead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2200" y="103680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ro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9800" y="873000"/>
            <a:ext cx="58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Nivel de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08120" y="103680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Indic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62480" y="873000"/>
            <a:ext cx="101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untaje en es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44640" y="103680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Indic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45680" y="125424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38200" y="125424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44360" y="17496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75560" y="174960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3.2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19280" y="1749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54880" y="174960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69640" y="1749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44360" y="2008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75560" y="200808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4.7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9280" y="20080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54880" y="20080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69640" y="20080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44360" y="226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75560" y="226548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8.9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9280" y="22654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54880" y="22654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69640" y="22654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44360" y="25225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75560" y="252252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.5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19280" y="25225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54880" y="252252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69640" y="25225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44360" y="27795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75560" y="2779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.2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280" y="2779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54880" y="277956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69640" y="2779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4360" y="30384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75560" y="303840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7.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19280" y="3038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54880" y="303840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69640" y="3038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44360" y="32958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75560" y="329580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8.8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19280" y="32958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54880" y="329580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69640" y="32958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44360" y="35528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75560" y="355284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.6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19280" y="35528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54880" y="355284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69640" y="35528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4360" y="38098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75560" y="380988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.6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19280" y="3809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54880" y="380988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69640" y="3809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44360" y="40687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75560" y="406872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4.2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19280" y="40687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54880" y="406872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25360" y="406872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44360" y="43257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75560" y="43257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0.7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19280" y="43257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54880" y="432576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25360" y="432576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72120" y="1449360"/>
            <a:ext cx="1440" cy="310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72120" y="1449360"/>
            <a:ext cx="11160" cy="310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2040" y="1461960"/>
            <a:ext cx="1440" cy="3090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2040" y="1461960"/>
            <a:ext cx="12600" cy="309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3280" y="1449360"/>
            <a:ext cx="1071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3280" y="1449360"/>
            <a:ext cx="1071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3280" y="4540320"/>
            <a:ext cx="1071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83280" y="4540320"/>
            <a:ext cx="1071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17600" y="4637160"/>
            <a:ext cx="668664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84360" y="5732640"/>
            <a:ext cx="638172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84360" y="5398920"/>
            <a:ext cx="6381720" cy="18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84360" y="5056200"/>
            <a:ext cx="638172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84360" y="4722840"/>
            <a:ext cx="638172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74760" y="5732640"/>
            <a:ext cx="409680" cy="33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08280" y="5056200"/>
            <a:ext cx="409680" cy="1009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41800" y="5732640"/>
            <a:ext cx="399960" cy="33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65600" y="5732640"/>
            <a:ext cx="409680" cy="33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99120" y="5732640"/>
            <a:ext cx="409320" cy="33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32280" y="5398920"/>
            <a:ext cx="409680" cy="6670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65800" y="5398920"/>
            <a:ext cx="409680" cy="6670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99320" y="5056200"/>
            <a:ext cx="409320" cy="1009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32480" y="5056200"/>
            <a:ext cx="399960" cy="1009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56280" y="4722840"/>
            <a:ext cx="409680" cy="134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89800" y="4722840"/>
            <a:ext cx="409680" cy="134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84360" y="4722840"/>
            <a:ext cx="1440" cy="134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55920" y="6066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55920" y="57326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55920" y="53989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55920" y="5056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55920" y="4722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84360" y="6066000"/>
            <a:ext cx="638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584360" y="60656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117880" y="60656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651040" y="60656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184560" y="60656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708360" y="60656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241880" y="60656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775040" y="60656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08560" y="60656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842080" y="60656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75240" y="60656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899400" y="60656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432560" y="606564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966080" y="606564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73840" y="599904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21280" y="5665680"/>
            <a:ext cx="11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21280" y="5332320"/>
            <a:ext cx="11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21280" y="4989600"/>
            <a:ext cx="11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63680" y="465624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56200" y="615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89720" y="615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13520" y="615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46680" y="615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80200" y="615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13720" y="615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46880" y="615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80400" y="615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04200" y="615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37720" y="615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71240" y="615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17600" y="4637160"/>
            <a:ext cx="6686640" cy="17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6486480" y="1833480"/>
            <a:ext cx="2276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43080" y="2365200"/>
            <a:ext cx="8496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Arial"/>
              </a:rPr>
              <a:t>Muchas Gra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Creación de las Obras Socia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447920"/>
            <a:ext cx="8496360" cy="42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Fueron creadas en el año 19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En el año 1995 se promulga la desregulación de las Obras Sociales, con la posibilidad de elección por parte de los afi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En el año 1996 se modifica el sistema para las Obras Sociales de Dirección, se otorga la posibilidad de ser multisecto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Principales tipos de Obras Socia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43080" y="974880"/>
            <a:ext cx="849600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066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523880"/>
            <a:ext cx="761976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Integran el Seguro Nacional de Salud las Obras Soci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Sindic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De Personal de 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De Empres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Principales tipos de Obras Socia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43080" y="974880"/>
            <a:ext cx="849600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219320"/>
            <a:ext cx="7619760" cy="41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Obras Sociales no incluidas en el Sistema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Obras Sociales Provi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Obra Social de la Ciudad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Obras Sociales de las Fuerzas Armadas y de 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Obras Sociales de las Univer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P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Financiamien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838080"/>
            <a:ext cx="8496360" cy="51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Aporte de los trabajadores 3% sobre los hab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Contribución de los empleadores 6% sobre los hab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(Existe un tope de aportes al calcularlos sólo hasta $ 4.8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Aportes de monotributistas (régimen espe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Aportes de personal de servicio doméstico (régimen espe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Beneficiari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914400"/>
            <a:ext cx="849636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Trabajadores en relación de dep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Grupo familiar prim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Beneficiarios adherentes (aporte adicional del 1,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Afiliados volu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Monotribut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Personal de servicio domé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Jubilados que optan por una Obra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Fondo Solidario de Redistribució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19320"/>
            <a:ext cx="849636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Es un Fondo creado para sustentar la solidaridad del sistema, en tanto que todos aportan a su 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El Fondo compensa gastos prestacionales de alto costo y baja inci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Programas de pre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Garantiza la percepción de aporte mínimo por 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Sostiene el funcionamiento de la Superintendencia de Servicios de Salud y de la Administración de Programa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Ingresos Netos de las Obras Socia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00200" y="1143000"/>
            <a:ext cx="5866200" cy="4739400"/>
            <a:chOff x="1600200" y="1143000"/>
            <a:chExt cx="5866200" cy="4739400"/>
          </a:xfrm>
        </p:grpSpPr>
        <p:sp>
          <p:nvSpPr>
            <p:cNvPr id="106" name=""/>
            <p:cNvSpPr/>
            <p:nvPr/>
          </p:nvSpPr>
          <p:spPr>
            <a:xfrm>
              <a:off x="1613520" y="1756440"/>
              <a:ext cx="282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34840" y="1756440"/>
              <a:ext cx="101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47160" y="1756440"/>
              <a:ext cx="961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09440" y="1756440"/>
              <a:ext cx="961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13520" y="2000880"/>
              <a:ext cx="28213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portes y Contribu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34840" y="2000880"/>
              <a:ext cx="10119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47160" y="2000880"/>
              <a:ext cx="961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0,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09440" y="2000880"/>
              <a:ext cx="961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0,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13520" y="2369880"/>
              <a:ext cx="282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34840" y="2369880"/>
              <a:ext cx="101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47160" y="2369880"/>
              <a:ext cx="961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9440" y="2369880"/>
              <a:ext cx="961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13520" y="2614320"/>
              <a:ext cx="2821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l Fondo Solidario de Redistrib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34840" y="2614320"/>
              <a:ext cx="1011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% - 2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47160" y="2614320"/>
              <a:ext cx="961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Arial"/>
                </a:rPr>
                <a:t>-15,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9440" y="2614320"/>
              <a:ext cx="961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Arial"/>
                </a:rPr>
                <a:t>-20,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3520" y="3213360"/>
              <a:ext cx="282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34840" y="3213360"/>
              <a:ext cx="101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7160" y="3213360"/>
              <a:ext cx="961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9440" y="3213360"/>
              <a:ext cx="961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3520" y="3457800"/>
              <a:ext cx="28213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caudación Bru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34840" y="3457800"/>
              <a:ext cx="10119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47160" y="3457800"/>
              <a:ext cx="961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5,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9440" y="3457800"/>
              <a:ext cx="961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0,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3520" y="3826800"/>
              <a:ext cx="282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34840" y="3826800"/>
              <a:ext cx="101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47160" y="3826800"/>
              <a:ext cx="961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9440" y="3826800"/>
              <a:ext cx="961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3520" y="4071600"/>
              <a:ext cx="2821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mp. Débitos y Créditos Banc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34840" y="4071600"/>
              <a:ext cx="1011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,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47160" y="4071600"/>
              <a:ext cx="961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Arial"/>
                </a:rPr>
                <a:t>-0,4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09440" y="4071600"/>
              <a:ext cx="961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Arial"/>
                </a:rPr>
                <a:t>-0,4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13520" y="4670280"/>
              <a:ext cx="282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34840" y="4670280"/>
              <a:ext cx="101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47160" y="4670280"/>
              <a:ext cx="961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9440" y="4670280"/>
              <a:ext cx="961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13520" y="4914720"/>
              <a:ext cx="28213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misiones AF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34840" y="4914720"/>
              <a:ext cx="10119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,2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47160" y="4914720"/>
              <a:ext cx="961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Arial"/>
                </a:rPr>
                <a:t>-0,2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9440" y="4914720"/>
              <a:ext cx="961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Arial"/>
                </a:rPr>
                <a:t>-0,2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13520" y="5283720"/>
              <a:ext cx="2821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34840" y="5283720"/>
              <a:ext cx="1011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47160" y="5283720"/>
              <a:ext cx="961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9440" y="5283720"/>
              <a:ext cx="961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600200" y="1143000"/>
              <a:ext cx="2847960" cy="584280"/>
              <a:chOff x="1600200" y="1143000"/>
              <a:chExt cx="2847960" cy="584280"/>
            </a:xfrm>
          </p:grpSpPr>
          <p:sp>
            <p:nvSpPr>
              <p:cNvPr id="151" name=""/>
              <p:cNvSpPr/>
              <p:nvPr/>
            </p:nvSpPr>
            <p:spPr>
              <a:xfrm>
                <a:off x="1613520" y="1157040"/>
                <a:ext cx="2821320" cy="57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Concep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600200" y="1143000"/>
                <a:ext cx="2847960" cy="58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448520" y="1143000"/>
              <a:ext cx="1038600" cy="584280"/>
              <a:chOff x="4448520" y="1143000"/>
              <a:chExt cx="1038600" cy="584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462200" y="1157040"/>
                <a:ext cx="1011600" cy="57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48520" y="1143000"/>
                <a:ext cx="1038600" cy="58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487480" y="1143000"/>
              <a:ext cx="989640" cy="584280"/>
              <a:chOff x="5487480" y="1143000"/>
              <a:chExt cx="989640" cy="584280"/>
            </a:xfrm>
          </p:grpSpPr>
          <p:sp>
            <p:nvSpPr>
              <p:cNvPr id="157" name=""/>
              <p:cNvSpPr/>
              <p:nvPr/>
            </p:nvSpPr>
            <p:spPr>
              <a:xfrm>
                <a:off x="5501160" y="1157040"/>
                <a:ext cx="961920" cy="57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&lt; $ 1.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7480" y="1143000"/>
                <a:ext cx="989640" cy="58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477480" y="1143000"/>
              <a:ext cx="988920" cy="584280"/>
              <a:chOff x="6477480" y="1143000"/>
              <a:chExt cx="988920" cy="584280"/>
            </a:xfrm>
          </p:grpSpPr>
          <p:sp>
            <p:nvSpPr>
              <p:cNvPr id="160" name=""/>
              <p:cNvSpPr/>
              <p:nvPr/>
            </p:nvSpPr>
            <p:spPr>
              <a:xfrm>
                <a:off x="6490800" y="1157040"/>
                <a:ext cx="961920" cy="57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&gt; $ 1.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77480" y="1143000"/>
                <a:ext cx="988920" cy="58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600200" y="5528520"/>
              <a:ext cx="2847960" cy="353880"/>
              <a:chOff x="1600200" y="5528520"/>
              <a:chExt cx="2847960" cy="353880"/>
            </a:xfrm>
          </p:grpSpPr>
          <p:sp>
            <p:nvSpPr>
              <p:cNvPr id="163" name=""/>
              <p:cNvSpPr/>
              <p:nvPr/>
            </p:nvSpPr>
            <p:spPr>
              <a:xfrm>
                <a:off x="1613520" y="5542560"/>
                <a:ext cx="282132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Recaudación Ne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0200" y="5528520"/>
                <a:ext cx="2847960" cy="35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448520" y="5528520"/>
              <a:ext cx="1038600" cy="353880"/>
              <a:chOff x="4448520" y="5528520"/>
              <a:chExt cx="1038600" cy="353880"/>
            </a:xfrm>
          </p:grpSpPr>
          <p:sp>
            <p:nvSpPr>
              <p:cNvPr id="166" name=""/>
              <p:cNvSpPr/>
              <p:nvPr/>
            </p:nvSpPr>
            <p:spPr>
              <a:xfrm>
                <a:off x="4462200" y="5542560"/>
                <a:ext cx="101160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48520" y="5528520"/>
                <a:ext cx="1038600" cy="35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487480" y="5528520"/>
              <a:ext cx="989640" cy="353880"/>
              <a:chOff x="5487480" y="5528520"/>
              <a:chExt cx="989640" cy="35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5501160" y="5542560"/>
                <a:ext cx="96192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84,36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87480" y="5528520"/>
                <a:ext cx="989640" cy="35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477480" y="5528520"/>
              <a:ext cx="988920" cy="353880"/>
              <a:chOff x="6477480" y="5528520"/>
              <a:chExt cx="988920" cy="353880"/>
            </a:xfrm>
          </p:grpSpPr>
          <p:sp>
            <p:nvSpPr>
              <p:cNvPr id="172" name=""/>
              <p:cNvSpPr/>
              <p:nvPr/>
            </p:nvSpPr>
            <p:spPr>
              <a:xfrm>
                <a:off x="6490800" y="5542560"/>
                <a:ext cx="96192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79,40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7480" y="5528520"/>
                <a:ext cx="988920" cy="35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6699"/>
                </a:solidFill>
                <a:latin typeface="Tahoma"/>
              </a:rPr>
              <a:t>Distribución de Recurs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371600"/>
            <a:ext cx="849636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Mínimo del 80% de los ingresos debe ser destinado al gasto en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Hasta el 8% de los ingresos puede ser destinado a Gastos Administ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Saldo a otras Prestaciones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0:42:28Z</dcterms:created>
  <dc:creator>Carlos</dc:creator>
  <dc:description/>
  <dc:language>en-US</dc:language>
  <cp:lastModifiedBy>Automovil Club Argentino</cp:lastModifiedBy>
  <dcterms:modified xsi:type="dcterms:W3CDTF">2008-06-18T20:18:27Z</dcterms:modified>
  <cp:revision>146</cp:revision>
  <dc:subject/>
  <dc:title>Presentación de PowerPoint</dc:title>
</cp:coreProperties>
</file>