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F9B1-5DE7-44A8-8C02-8ADA6B1F70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169-5B8C-4436-A049-78044779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6CD7-B53E-4EDA-976B-5A95BB8E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1C5F-2866-4CC4-8D77-D6ADC2D2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5B1C-56C3-4159-8128-D3568B6F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389-83F5-4727-BED7-21B76B98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77FB-52B8-4C00-88B8-56BEDB60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794-A32C-499D-AB26-4C81FC12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DB5-52D4-43E2-8094-EE21298B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CE0-F5FE-4A64-BF08-AD15D8FD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B63-B295-49FA-85F6-03CF0C16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B5C-85AB-4DF5-9997-83CACECE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964-D2A8-42DE-AA27-79F6DF00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8507-6009-4B55-8619-4039AD5133B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2060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 (W1)"/>
              </a:rPr>
              <a:t>TRES EJES DE ANALISIS PARA LA GESTION EN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500280"/>
            <a:ext cx="849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3571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bertus Medium (W1)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lbertus Medium (W1)"/>
              </a:rPr>
              <a:t>Gestión Interna en cada sub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3571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bertus Medium (W1)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lbertus Medium (W1)"/>
              </a:rPr>
              <a:t>Gestión Articulada del sistema en la C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3571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bertus Medium (W1)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lbertus Medium (W1)"/>
              </a:rPr>
              <a:t>La Gestión a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170028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 (W1)"/>
              </a:rPr>
              <a:t>GESTION INTER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 (W1)"/>
              </a:rPr>
              <a:t>EN CADA SUB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3645000"/>
            <a:ext cx="7343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bertus Medium (W1)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Pri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bertus Medium (W1)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Segur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bertus Medium (W1)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Esta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141300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 (W1)"/>
              </a:rPr>
              <a:t>LA SALUD DE LA CIU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 (W1)"/>
              </a:rPr>
              <a:t>EN NUM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2852640"/>
            <a:ext cx="7991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bertus Medium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lbertus Medium (W1)"/>
              </a:rPr>
              <a:t>33 Hosp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bertus Medium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lbertus Medium (W1)"/>
              </a:rPr>
              <a:t>41 Centros de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bertus Medium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lbertus Medium (W1)"/>
              </a:rPr>
              <a:t>37 Centros Médicos Bar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bertus Medium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lbertus Medium (W1)"/>
              </a:rPr>
              <a:t>8.000 Camas disponibles (apr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bertus Medium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lbertus Medium (W1)"/>
              </a:rPr>
              <a:t>9 millones de consultas po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bertus Medium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lbertus Medium (W1)"/>
              </a:rPr>
              <a:t>2.533 millones de pesos es el presupuesto 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162864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 (W1)"/>
              </a:rPr>
              <a:t>REFLEXIONES SUBSECTOR EST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492280"/>
            <a:ext cx="83520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¿Son suficientes los establecimientos para satisfacer  la demanda en salu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¿Se han corregido los programas en función del análisis de resultad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¿Es el sistema de administración de recursos eficiente en la facturación y cobro de las compensacio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¿A qué se debe la crisis actual de recursos human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¿Es suficiente la oferta de turnos para la atención ambulator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68360" y="3068640"/>
          <a:ext cx="5256000" cy="350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068640"/>
                    <a:ext cx="525600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1413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 (W1)"/>
              </a:rPr>
              <a:t>Hospi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1640" y="2276640"/>
            <a:ext cx="41036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En el 2007, el total de lo cobrado representó sólo el  65 %  de la facturación de dicho 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5640" y="1484280"/>
            <a:ext cx="7994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 (W1)"/>
              </a:rPr>
              <a:t>GESTION ARTICULADA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213000"/>
            <a:ext cx="6553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33 Hospitales para más de 3 millones de habi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Paradoja del Condado de Sherwoo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716280"/>
            <a:ext cx="3168720" cy="1368360"/>
          </a:xfrm>
          <a:prstGeom prst="downArrowCallout">
            <a:avLst>
              <a:gd name="adj1" fmla="val 40378"/>
              <a:gd name="adj2" fmla="val 57893"/>
              <a:gd name="adj3" fmla="val 37009"/>
              <a:gd name="adj4" fmla="val 348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5640" y="2492280"/>
            <a:ext cx="7994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 (W1)"/>
              </a:rPr>
              <a:t>¿Existen las previsiones necesarias en materia sanitaria para recibir al futu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71640" y="486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Los profesionales en Ciencias Económicas somos quienes estamos mejor preparados para realizar esta t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213000"/>
            <a:ext cx="79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Ya nadie en el mundo discute la necesidad de gestionar los servicios de salud, para la utilización correcta de los recursos, que son siempre es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77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 (W1)"/>
              </a:rPr>
              <a:t>17% de la población de la CABA es mayor de 65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58920" y="2997360"/>
            <a:ext cx="70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 (W1)"/>
              </a:rPr>
              <a:t>LOS PROBLEMAS EN SALUD SE CURAN CON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501336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 (W1)"/>
              </a:rPr>
              <a:t>Muchas Gra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4:05:59Z</dcterms:created>
  <dc:creator>AGomes</dc:creator>
  <dc:description/>
  <dc:language>en-US</dc:language>
  <cp:lastModifiedBy>C.P.C.E.C.A.B.A</cp:lastModifiedBy>
  <dcterms:modified xsi:type="dcterms:W3CDTF">2008-06-20T13:26:30Z</dcterms:modified>
  <cp:revision>8</cp:revision>
  <dc:subject/>
  <dc:title>Diapositiva 1</dc:title>
</cp:coreProperties>
</file>