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</p:sldIdLst>
  <p:sldSz cx="9144000" cy="6858000"/>
  <p:notesSz cx="7077075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DBD-B966-4BF7-BDF0-DB95F6D0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9F0-CD33-40CB-A489-F4A63FE7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A1A-5CE4-45AE-A880-A7914BCB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918-1ED5-4B7A-B5E5-D24CF268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9CBA-DDF5-498D-AF98-E52B7644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40A9-B1A4-454F-88E5-C3EA39F5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3651-8C45-4F9E-9FD2-AB8DD0D6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6A65-AA84-4F73-8915-93EA3FC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FFA9-C0F9-46C2-BA4F-9242AAFD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AE29-BADB-471F-9552-8EB1A153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0E31-B015-410D-A4A3-CAD851A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EB0-38F0-42D9-9F41-3BC2235F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27AE-23F5-4388-BDBC-05CABD8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6F33-2186-49C4-A305-BF0C16F3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46AD-AE5D-4CCC-8BA8-3986EBA8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D83D-BD35-482F-B4D0-42D7E4CE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BC65-BA2B-48AF-A325-327755E1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809-9209-4D47-8248-BF090A6B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D5F-592C-4B19-BBD6-68372DD8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BF9-C9DC-40FC-84E3-B947EA8D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05B-3719-487D-ACE0-4836913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A93-98BD-4F7A-A2FE-D679D37C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08A-E636-4A41-B34F-5A40085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9B1-2369-4209-9C22-AFC54D7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5E9C-A320-4A26-AF18-A9F22B42CF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1173-4743-4E7A-9A1B-3169D0757A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SEGURIDAD SOCIAL CHILE</a:t>
            </a:r>
            <a:br>
              <a:rPr sz="3600"/>
            </a:b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ENSIONES</a:t>
            </a:r>
            <a:br>
              <a:rPr sz="40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4437000"/>
            <a:ext cx="40132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Hugo Cifuentes Lill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0BE1-0B1B-4BA9-B7E2-4B371E681C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Regímenes </a:t>
            </a: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de repar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Distribución  intergeneracional de los ingresos (cotizaciones), se traducen en pensiones para los  beneficiarios actu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quilibrio  en  el  ejercicio  financiero anual:  ingresos  con  total de  gastos por pensiones a pagar, incluidos costos administrativos y  ciertas  reservas  de eventualida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afiliado al cotizar cumple con obligación legal, lo cual, junto al cumplimiento de otros requisitos permitirá acceder a pen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Reg. de reparto simple y con capitales de cobertura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915-DB4E-44FC-A327-08C514F828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66"/>
                </a:solidFill>
                <a:latin typeface="Arial"/>
              </a:rPr>
              <a:t>SUBSECRETARÍA DE PREVISIÓN SOCIAL: ATRIBUCIONES ESPECIFICA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 algn="just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Verdana"/>
              </a:rPr>
              <a:t>ASESORAR AL  MINTRAB EN  SEG. SOCI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 algn="just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Verdana"/>
              </a:rPr>
              <a:t>COORDINAR A  LOS SERV. PÚBLICOS DEL SEC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 algn="just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Verdana"/>
              </a:rPr>
              <a:t>ASISTIR AL MINTRAB EN MATERIAS INTERNACION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 algn="just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Verdana"/>
              </a:rPr>
              <a:t>PROMOVER LA DIVULGACIÓN DEL SISTEMA  Y SUS REFORMAS, ASÍ COMO LA INCORPORACIÓN DE LOS  INDEPENDIENTES A LA SEGURIDAD SOC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 algn="just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Verdana"/>
              </a:rPr>
              <a:t>ADMINISTRAR EL FONDO DE EDUCACIÓN PREVISION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53760" indent="-251280" algn="just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Verdana"/>
              </a:rPr>
              <a:t>ASISTIR ADMINISTRATIVAMENTE A LA C.  USUARI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CBE-DCE9-4AFE-BF92-9D69CA249B3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6666"/>
                </a:solidFill>
                <a:latin typeface="Arial"/>
              </a:rPr>
              <a:t>Comisión de Usuarios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nciones principal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informar a la Subsec. de Previsión y a otros organismos,  sobre  evaluaciones efectuadas al funcionamiento del SPS y proponer  estrategias de educación y difusión en materia de pens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tegración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un representante de  trabajadores; pensionados; instituciones públicas; entidades privadas de pensiones y un académico, que la presidirá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 Subsec. de Previsión  le otorgará la asistencia administrativa para su funcionamient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nciones específicas e integración, forma de elección de sus miembros, régimen de permanencia, etc: reguladas por Reglamento del MINTRAB  y con firma del M. de Haciend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763-87F2-45C2-9CCB-6D8F13FB857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6666"/>
                </a:solidFill>
                <a:latin typeface="Arial"/>
              </a:rPr>
              <a:t>Fondo de Educación Previsional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Objeto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: apoyar financieramente proyectos, programas, actividades y medidas de promoción, educación y difusión del sistema de pension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dministrado por Subsecretaría de Previsión Social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cursos del Fondo se aseguran por la Subsec., se otorgan por concurso, con opinión del C. de Selecció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omité de Selección integrado por Presidente de la Comisión de Usuarios, un Representante de la Subsecretaría de Previsión y un Representante del IPS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50B-ED8D-47CF-9F69-B0EB48156E2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6666"/>
                </a:solidFill>
                <a:latin typeface="Arial"/>
              </a:rPr>
              <a:t>Superintendencia de Pensiones, SUPEN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rganismo público descentralizado, con personalidad  jurídica y patrimonio propio. Se relacionará con el Pdte. Rep. a través de la Subsecretaría de Previsión Social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s la sucesora y continuadora de la SAFP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unciones: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upervigila y fiscaliza del SP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scaliza a IPS: antiguos regímenes de pension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ela que funcione el proceso de calificación de invalidez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12A-F00D-4B78-B8EA-FB4B99AE4EA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6666"/>
                </a:solidFill>
                <a:latin typeface="Arial"/>
              </a:rPr>
              <a:t>SUPEN (1)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- Toma medidas para evitar la morosidad previsional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-   Llevar el  Registro de Asesores Previsional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- Efectúa estudios técnicos y actuariales y asesorar al MINTRAB en la celebración y ejecución de convenios internacionales de seguridad social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- La SUPEN podrá requerir datos personales y la información que fuese necesaria para el ejercicio de sus funciones, tanto a personas naturales como instituciones públicas o privadas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483-1CDA-4475-B3BF-57034667CE6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Instituto de Previsión Social (IPS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io público dependiente del Pdte de la República, a través del MINTRAB: Subs. de Prev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bjet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administración del SPS y los regímenes  previsionales, hoy a cargo del INP, con excepción del seguro de la ley 16.744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ciones y atribuciones principales: Administrar el SPS, las bonificaciones por hijos, otorgar y pagar las asignaciones familiares a los  independientes y celebrar convenios por las CAPR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7D1-6E91-4376-A007-929EA862F16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INSTITUTO DE SEGURIDAD LABORAL, IS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Verdana"/>
              </a:rPr>
              <a:t>Asume las funciones actuales del INP en materia de accidentes del trabajo Y enfermedades profesionales (Ley 16.744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Verdana"/>
              </a:rPr>
              <a:t>El INP desaparece como ente de la seguridad soc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50B-CBD5-486E-B4BC-43E2E992806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CENTROS DE ATENCIÓN PREVISIONAL INTEGRAL (CAPR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0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Forman parte del IPS, con cierta autonom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00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Finalidad principal: atender a  quienes requieren orientación, inform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y tramitación en asuntos previsionales, facilitando a los afiliados y beneficiarios hacer efectivo los derech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199"/>
              </a:spcBef>
              <a:spcAft>
                <a:spcPts val="18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El IPS puede subcontratar con entidades privadas de previsión  que los CAPRI le otorguen servicios   a sus beneficiarios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873-A1B8-47C0-9E16-34C6CED688F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PILAR VOLUNTARIO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APORTE Y  COTIZACION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os afiliados a una AFP (pilar contributivo) pueden directamente o en convenio con su empleador mejorar su saldo en la CCI, por los siguientes mecanism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tizaciones Voluntari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pósitos Conveni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PV y APV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uenta 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CAC-9647-43E9-A697-172DC0FD4C3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CUENTAS DE AHORRO VOLUNTARI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800"/>
              </a:spcBef>
              <a:spcAft>
                <a:spcPts val="18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os afiliados podrán optar por traspasar todo o parte del saldo de los fondos de ahorro voluntario (CUENTA 2) a la de capitalización individ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800"/>
              </a:spcBef>
              <a:spcAft>
                <a:spcPts val="18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Mediante una norma de carácter general la SUPEN  determinará el número máximo de retiro de libre disposición cada año calend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9C1-CBA0-4A88-8B58-D867F9B6088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égimen de Capitalización, RC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 caracteriza por la formación de un capital (SALDO) integrado por las cotizaciones y demás ingresos, incrementados por rentabilidad  obtenida con el correr del tiempo, a objeto de financiar pensiones y otras prestac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apitalización individual y colectiv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n los RCI, el afiliado tiene la titularidad de los recursos que componen el saldo de su cuenta de capitalización individual, C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635-F69F-4C31-8DE0-9CB0E4B890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Ahorro Previsional Voluntario Colectivo, APVC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fundizar los mecanismos de APV: que los ahorros realizados por los trabajadores se complementen por sus emplead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tender los beneficios del APV a los trabajadores de ingresos medi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gualar el beneficio tributario esperado entre trabajadores de distinto nivel salarial y diferentes expectativas de tasa marginal de impues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3D7-A3A2-43D3-B1B2-19EEA4C04CD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APVC (1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Clr>
                <a:srgbClr val="f4f83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e crea al APVC, modalidad adicional al APVI, consistente en ahorro constituido con aportes de los trabajadores y del  empleador para incrementar el saldo de la C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 algn="just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buClr>
                <a:srgbClr val="f4f83e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sta modalidad  se materializa por medio de un contrato suscrito por el empleador, por sí y en representación de los trabajadores, con una AFP o una institución autorizada</a:t>
            </a: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37D-710C-4988-B437-43A8780A546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PVC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El empleador ofrece a sus trabajadores adherir a  uno o más contratos uniformes, sin que sus disposiciones discrimen entre ellos por acceso, alternativa de ahorro u otros aspect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D La SUPEN, la de Valores y Seguros, y de Bancos e Instituciones Financieras dictarán las normas de operación para el APVC  incluyendo requisitos a cumplir por los contratos y planes de ahorro y demás procedimientos necesari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62F-DAA7-4C6B-998F-D27E7AC41BB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VC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APVC se aplica en empresas cuyas relaciones laborales se rijan por el C. del Trabajo.  Los términos del contrato lo define el empleador con la AFP o la I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dministrarán este tipo de ahorro las mismas entidades a cargo del APV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n materia de rebajas tributarias, el afiliado podrá optar: gozar del beneficio tributario al aportar los recursos o al retirarlos, según la oportunidad en que pague el impues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04F-030A-44E5-9051-6481F6A7465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D60-7E98-4BDD-99C0-93654F2D354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T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n los regímenes contributivos, la cotización es la fuente de ingresos fundamental o ún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a cotización es el aporte, obligatorio o no, de afiliados y empleadores, para financiar el régim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a regla: todo trabajador se debe afiliar y  cotiz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tizantes voluntari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95D-58C7-418D-8B42-482E2AFD6F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uantía de la Pens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 los RCI, el monto de la pensión relaciona: cuantía de las remuneraciones imponibles, tasa de reemplazo y saldo disponible en las C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 los regímenes de reparto, el monto de la pensión, relaciona: remuneración imponibles y prestación defini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Reajustabilidad y actualización</a:t>
            </a:r>
            <a:r>
              <a:rPr b="0" lang="es-MX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5B5-D65E-4304-9F58-668200F53E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ministración, Gestión  y Contr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00000" y="2781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r entidades públicas, privadas y mix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Rol del Est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ntrol y fiscalización del sist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137-91DE-41FF-B715-CB6231B762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ol de los actores soci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923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articipación social en la definición de las políticas de seguridad soc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articipación en la gest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xperiencia vigente: Comisión de Usuarios del Seguro de Cesantí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C7D-CB58-4A04-927D-1BB4EADAF6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Evolución de la cobertura por pensiones en Chi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26920" y="28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eyes sociales”, 192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guros sociales profesionales de reparto. Tendencia a la generalización, 1924-198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Necesidad de cambios: proyectos de reformas al año 197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Reforma estructural: RCI, 198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A6F-E230-407B-BF8E-17A341E3CB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1980: Reforma estructu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l Reparto a la Capitalización: R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Régimen de cotizaciones defini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horro individ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Gestión privada con fines de lucr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stado: garante de prestaciones mínimas y control del régimen de C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Tránsito gradual “del antiguo por el nuevo sistema”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391-9E29-4D8C-A043-2806E92420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aracterísticas de los Antiguos Regímenes, IN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s cubiert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nefici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anciamien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ción y gest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sitos para acceder a prestac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8A4-849F-4AED-B591-CE923D6F38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canismo de Transición, 198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ibertad de opción y afiliación oblig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calidad de imponente y los derechos en curso de adquisi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rechos adquiridos y meras expectativ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ono de Reconocimien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A8B-B689-45D5-ADB9-3FAFC5A9C8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guridad Social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junto de medidas y acciones de interés público destinadas a resolver los estados de necesidad que afectan a las personas a través del otorgamiento de prestaciones en dinero o especies, financiadas de forma contributiva y/o presupuestarias y administradas por entidades públicas y/o privada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A54-B3E9-40F5-80C7-03421AD33F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CHILE</a:t>
            </a: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: PENSIONES 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a Marzo 2008</a:t>
            </a: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ntiguos” Regím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Régimen de Capitalización Individual, R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APREDENA - DIPRE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ensiones Asistenciales, PA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M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Otras (exonerados, por gracias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032-1000-48C1-8981-30C204AE18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NSIONES Y REALIDAD ACTUAL 2005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vejecimiento de la pobl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usas: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jores condiciones de vida y sal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- D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sminución de la tasa de nat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envejecimiento de la población, repercute significativamente tanto en los regímenes por capitalización, como en los de reparto y en el costo de la asistencia médica.</a:t>
            </a:r>
            <a:br>
              <a:rPr sz="20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983-C199-42FF-AE2E-B15937A587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CI: situación act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s pensionados del RCI representan cerca del 30% del total, el resto esta compuesto por pensionados: INP,  PASIS y un  resto corresponde a de regímenes espec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s pensionados del RCI, han financiado sus prestaciones principalmente, con el Bono de Reconocimiento y un gran número de ellos, han optado por vejez anticipada. El régimen, en este crucial aspecto, aún no esta consolid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B98-8710-4480-8534-7498275356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CI: situación actual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 año 2005, los &gt; de 60 años alcanzan a casi 2 mill de personas, cerca del 12% de la población. Al 2020, superarán los 3 mill., con el 17% . El 2050 llegarán a 5,7 mill., es decir, un 28%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 el quinquenio 2020/25, los hombres que cumplan 65 años se espera que vivan hasta  86, y las mujeres superarán los 90 años, en promedio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4F7-49A4-484C-BFFA-6D75DCC899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2764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RCI: Situación actual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920" y="246528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La información existente al año 2005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o está asegurado  que la cuantía de las pensiones guarden  adecuada relación con  ingresos promed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porcentaje de afectados por este hecho será superior al 40% de los afiliados cotizantes regular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porcentaje significativo de los afiliados no logrará financiar  pensiones, al menos, mínima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cobertura de pensiones se sitúa en  rangos de principios de los ´70, entre 65 y 70% de los Mayores, pero la tendencia es a la baja en pensiones contributiva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DFD-FEF4-48A8-B3AC-AC9306900F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RCI: Situación actual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s cotizantes regulares son pocos respecto del n° afiliado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pleabilidad de los trabajadores: tendencia a la temporalidad, precariedad y marginalidad (informalidad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rcado laboral: aumento de los independientes, cerca del 30%, sin afiliación obligatori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ja densidad, cuantía de las cotizaciones y cobertura: razón cotizantes/fuerza de trabajo,  situada  en torno al 60%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 el 2005, un 56% de la fuerza laboral cotiza en AFP y la  densidad de sus imposiciones es de 52.4%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E9D-64E9-453E-BB39-6FCE27BD2F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RCI: Situación actual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nivel de las cotizaciones no resiste consideraciones al alza y en cuanto suponga mayor aporte directo del trabajad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APV ha resultado positivo para incrementar el ahorro previsional, pero sólo cubre a los sectores de ingresos altos y medio altos, quienes se benefician con rebajas tributarias. Queda pendiente la incorporación de los segmentos de menores renta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4A8-3B1C-496B-8738-70B769BAF9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27640" y="1124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RCI: Situación actual (5)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GESTIÓN: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opinión pública es dubitativa respecto de la gestión priv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lta de conocimiento y preocupación de afiliados por cos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rreras de entrada comerciales/operativas para crear AFP.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nsación/realidad que las pensiones serán bajas versus rentabilidad alta de las AFP, y que no se traspasan al afiliad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0DA-4E8E-474C-89A1-2039093F7D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RCI: Situación actual (6) 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GEST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asa competencia en costos de AFP, lo que explica sus elevadas rendimientos patrimon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ejidad del sistema y dificultades de acceso a información adecuada para la mayoría de los afilia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E3A-91BA-4849-A044-176317B9CB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FORMA-2008, desafíos fundament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alizar el derecho a la  pens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zar el riesgo de  pobreza en la vejez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nsión: retribución justa al aporte  al país por medio del trabajo productivo/ reproductivo, remunerado/no remunerad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var tasa de reemplazo de las pensiones de vejez  a niveles similares a  países de mayor desarroll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5F9-9936-443A-A6B1-421B600B88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rotección Soci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onjunto de políticas y programas gubernamentales y privados con los que las sociedades dan respuesta a diversas contingencias, a fin de compensar la falta o reducción sustancial de ingresos provenientes del trabajo, brindar asistencia a las familias con hijos y ofrecer atención médica y vivienda a la población. (OIT, 2004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Relación Protección Social y Seg. So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1A2-1906-48CC-831E-7A3DED3346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ORMA-2008, desafío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isar la dispersión de tasas de reemplaz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stener los logros en el tiem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or eficiencia en la gest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encia entre  propuestas y  posibilidades económic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A2C-F854-4854-9A4A-6B99B41F64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bjetivos de los camb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1.- Cambios apuntan a que el sistema otorgue pensiones sostenibles en el tiempo, que asegure  mínimos de sustentabil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2.- Perfeccionar el actual R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3.- Crear un Sistema de Pensiones Solidarios, SPS: Pilar Solid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4.- Mejorar el Pilar Volunt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95C-D81A-421A-B242-BB473857E7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7640" y="1124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FORMA PREVISIONAL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00000" y="2636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ley 20.255 de marzo de 2008 sobre “Reforma del Sistema de Pensiones”, parte de la decisión oficial de mantener e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égimen de Pensiones por vejez, invalidez y sobrevivencia derivado de la capitalización individu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439-1253-42DE-AB09-4E8D35A039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as modificaciones más importantes consisten en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ción del Sistema de Pensiones Solidari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mbios  en la Institucionalidad Públ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ecimiento de normas de equidad de género y incentivo de afiliación de jóve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ificaciones al DL 3500 de 198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C50-38C7-4CE4-A451-8466DEC3D2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3280" y="1124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Principales Cambios al RCI</a:t>
            </a:r>
            <a:r>
              <a:rPr b="1" lang="es-CL" sz="3600" spc="-1" strike="noStrike">
                <a:solidFill>
                  <a:srgbClr val="003366"/>
                </a:solidFill>
                <a:latin typeface="Book Antiqu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entivos para la creación de nuevas AF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Régimen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PV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filiados independientes y volu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erfeccionamiento de beneficios previs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sesores previs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ubcontratación de func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C25-C435-4182-85B9-2666F354C3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Principales Cambios al RCI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Licitación de nuevos afili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ejorar 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Licitación única del 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structura de com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reación de los Centros de Atención Previsional Integral, CAP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7A8-F237-40FF-B40A-434CCA70F0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Observaciones generales sobre la reform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1. La reforma es seria y acuciosa: existen estudios y consulta ciudadana previa y amplios consens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2. Previene y enfrenta mejor  contingencias de  veje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3. No se innova respecto a la esencia del RCI, general y obligatorio, administrado por entidades privadas con fines de lucro,  fortaleciendo la existencia misma del régim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DE8-92D7-4E11-8E0D-AE2E4E384B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Observaciones Grles. sobre la reforma (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or ahora la ley sigue manteniendo al Estado fuera de la gestión de los Fondos de Pensiones, pero se acrecienta el control y fiscalización del régim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e racionaliza la fiscalización por parte del Est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FAC-24A3-4C29-84E9-9CAA121B33F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Observaciones Grles. sobre la reforma (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n materia de inversiones de los fondos de pensiones por parte de las AFP se perfeccionan algunas normas, incluyendo la existencia de un Comité de Inversiones y de un Comité de Resolución de Conflictos de Interé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D95-37C0-4BBB-A23E-E8DD211192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El Sistema de pensiones chileno a partir de marzo de 2008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1A21-D899-405E-9870-545D8459AD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g. Socia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 Contingencias y Prestaciones</a:t>
            </a:r>
            <a:br>
              <a:rPr sz="32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: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nsiones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UD: Atención mé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a y subsidios por enfermedades y accidentes comunes y del trabaj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EMPLEO: seguro de cesantía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 FAMILIA: asignaciones familiares y maternales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ERTE: asignación por muerte.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9D0-D9B8-496D-B5A5-5FE22DF9BD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PERSONAS CUBIERTAS</a:t>
            </a:r>
            <a:br>
              <a:rPr sz="3200"/>
            </a:b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Toda la población: Universalización/gener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1.- Ciudadanos, Resid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2.- Trabajadores: dependientes e independ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3.- Protección a la Famil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9E7-0CF7-4C72-B6A0-5BEBA8CD11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filiación e Inscripción, RC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filiación automática e inscri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mbio de AFP, cotizaciones mal entera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filiación al Régimen de salud: FONASA e ISAP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mpleador e inscri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afili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26B-9711-4C38-A143-9C51D2D626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Cobertura y mujer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:</a:t>
            </a:r>
            <a:br>
              <a:rPr sz="3200"/>
            </a:b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 EQUIDAD DE GÉNE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spcAft>
                <a:spcPts val="18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os cambios demográficos, económicos y sociales influyen: la mujer se integra más al ámbito labor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spcAft>
                <a:spcPts val="1800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xisten diferencias en materia previsional entre la situación de la mujer y el homb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spcAft>
                <a:spcPts val="1800"/>
              </a:spcAft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ngresa más tarde al trabajo y se pensiona a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spcAft>
                <a:spcPts val="1800"/>
              </a:spcAft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xiste brecha remuneracional significativa en su desmedro respecto del hombre, a igual empleo. Por tanto menor capital, en su CCI y con ello pensiones de nivel men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C4C-9AE2-4DB2-895C-3BBE2585CC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ujer y Cober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Menor participación laboral: 38%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2. Menor estabilidad laboral y mayor desemple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3.Mayores “lagunas” prevision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4. Mayor acceso a trabajos inform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5. Diferente formación y especialización respecto al homb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6. Reciben sueldos 30% &lt; que el hombre con igual ocupación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7. Presentan menor disposición a cotiz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8. Cuentan con baja densidad de cotizac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AD5-2ABB-43D8-BAEC-592BF91B06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QUIDAD: LAS REFORMA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66"/>
                </a:solidFill>
                <a:latin typeface="Arial"/>
              </a:rPr>
              <a:t>1.-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eparación del seguro de invalidez y sobrevivencia entre hombres y muje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2.- Compensación económica/ previsional en caso de divorcio o nul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3.- Pensión de sobrevivencia de la mujer al cónyu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4.- Uniformar la cobertura del 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5.- Bonificación por hij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6.-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tización Voluntar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643-5D85-4621-9F72-D8384E63861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50680" y="1220400"/>
            <a:ext cx="77338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1.- Separación del SIS entre hombres y mujeres</a:t>
            </a: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misión a pagar diferenciada por sexo. Costo unitario es sustancialmente menor para las mujeres </a:t>
            </a:r>
            <a:r>
              <a:rPr b="0" lang="es-MX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menor siniestral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icitación del seguro por AFPs en conjun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Más competencia y transpar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volución de sobreprima, diferencia cotizac/prima,  en forma de cotización a su C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392-15D2-438F-AE5B-271D4FC01FD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2.-  Compensación económica/ previsional en caso de divorcio o nulidad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l juez podrá ordenar traspaso de fondos desde la cuenta del cónyuge que deba compensar a la cuenta  del otro cónyuge, de no existir ésta se ingresa a una CCI, que se abrirá al efec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Traspaso no podrá exceder el 50% de recursos acumulados en la CCI y sólo respecto de fondos reunidos durante el matrimon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5E2-F52C-4E56-99D9-2C6604CF59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3.- Pensión de sobrevivencia de la mujer al cónyuge hombre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Igualar derechos y obligaciones entre hombres y muje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recho a pensión de sobrevivencia de mujer a cónyuge no inválido y al padre soltero de hijos reconocidos y que viva a sus expen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ara ser beneficiarios, los cónyuges deben cumplir requisitos de tiempo de matrimonio previo al fallecimiento de la causant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AEC-BE96-4149-A0DE-EE2A416017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46000" y="927000"/>
            <a:ext cx="7743240" cy="12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4.- Uniformar la cobertura del seguro de invalidez y sobrevivencia.</a:t>
            </a: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s afiliadas mujeres mayores de 60 y hasta 65 años de edad no pensionadas, tendrán derecho a pensión de invalidez y al aporte adicional para las pensiones de sobrevivencia que generaren, para lo cual estarán autorizadas para cotiz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F22-96D0-467C-B38E-387A5882B08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5.- Bonificación por hijo nacido vivo.</a:t>
            </a:r>
            <a:br>
              <a:rPr sz="3200"/>
            </a:b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Derecho de la madre biológica y adoptiva. Requisito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dad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65 añ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1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idencia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20 años continuos/discontinuos, contados desde que beneficiaria cumple 20 años de edad. En todo caso, con un lapso no inferior a 4 años de residencia en los últimos 5 años inmediatamente anteriores a la fecha de presentación de la solicitu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1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fili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al RCI o ser beneficiaria de PBSV o que, sin ser afiliada a un régimen previsional, perciba pensión de sobreviv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mienza a regir, 01.07.0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2EF-76D0-4407-A8DB-8E33D63BC79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nsiones: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pectos cla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bertura: Universalización. Identificación de los cotizantes, beneficiarios y situación de la famil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anciamiento: - Capitalización/Reparto, 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contributivo/no contributiv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ón: pública, privada y mix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210-E7C0-4043-BD9F-FE9418A770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Bonificación por hijo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¿En que consiste? Aporte fiscal + tasa de rentabilidad, a depositar en la cuenta individual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¿CÓMO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 HACE EFECTIV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? Se ingresa a 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enta al mes siguiente a cumplir los 65 añ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P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, determina su mon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cedimientos para el otorgamiento del beneficio: Reglamento del MINTRAB  y Hacie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- Se establecen los procedimientos para cálculo del beneficio para PBS y Pensiones con AP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2EA-689C-4C63-834B-81E6F90EF90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COBERTURA DE JOVENES</a:t>
            </a: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: </a:t>
            </a:r>
            <a:br>
              <a:rPr sz="3600"/>
            </a:b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INCENTIVOS PARA LA AFILIACIÓN Y COTIZACIÓ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bsidio a las 24 primeras cotizaciones, continuas y discontinua de trabajadores nuevos (18-35 años), con rentas inferiores a 1,5 veces el IM. Incluy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) Subsidio al empleador del 50% de la cotización de un IM y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) Un aporte a la CCI del afiliado por igual monto y tiemp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os aportes n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o se consideran cotización para el cobro de  comisión por las AF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1FB-370E-4CA8-B422-426458FF69A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COBERTURA DE JOVENES</a:t>
            </a: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: </a:t>
            </a:r>
            <a:br>
              <a:rPr sz="3600"/>
            </a:b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INCENTIVOS PARA LA AFILIACIÓN Y COTIZACIÓN (1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empleador pedirá su aporte al IPS y el trabajador podrá reclamarlo ante la inacción de emplead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os beneficios se otorgan siempre que la remuneración  no excede de 1,5 IMM. Salvo norma especial al respecto: desde mes 13 y hasta 2 IM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porte fiscal aplicación gradual: 07/2009 a 07/201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spcBef>
                <a:spcPts val="14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314-FB38-4FEF-B654-38993814362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OBERTURA: Independie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ara estos efectos se entiende por independientes a quienes no están  subordinados a un empleador y ejercen individualmente una actividad de la cual obtengan ren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 establece la obligación de afiliarse y cotizar en el RCI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 contar del 01/01/2014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A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tualmente cerca del 5% de los trabajadores independientes cotiz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a obligatoriedad no rige para  trabajadores con 50 años (mujer) y 55 años (hombre) de edad o má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A66-0E55-40CD-89CC-82766236ECB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OBERTURA Independient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4.-  El PBS asegura pensión para las personas de menores ingresos, incluidos independient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5.-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o gradual a pensiones de VIS y a APV, en iguales condiciones que los afiliados dependi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6.- Base imponible anual: 80% de  rentas brutas gravadas por el art 42 Nº 2/ Ley de la Renta, del año anterior, con mínimo (IMM) y  tope imponi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D10-6FE9-4EE6-BF93-5DB3BA6C0F0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27640" y="1124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COBERTURA: Independientes (2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7.-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tización obligatoria puede cargarse a retenciones de impuestos. Se admite PPM imputable a pago anu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las AFP, al SII y a la Tesorería, se asignarán funciones en relación con el recaudo, retención y entero de cotizac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 independiente cotizará para  salud.  La renta mensual será la que declare al FONASA o AFP, con base en el IM y tope de 60 UF.  Cada año se efectuará  reliquidación. Estas normas entrarán en aplicación a contar del 7º año de vigencia de la le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741-FF72-4C78-B757-CADCA75B722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COBERTURA: independientes (3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10.-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filiación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 al seguro social contra riesgos del trabajo y enfermedades profesionales,  ley 16.74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11.- Derecho a asignación familiar, encontrándose al día en el pago de sus cotizaciones. Tocará al IPS intervenir, pagándolas anualmente y descontándolas del pago de cotizacion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12.- Asimismo podrán afiliarse a las CCAF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E6B-0C1C-4302-9753-132692F2AB4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Afiliados Voluntar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Objetivo: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p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rmitir a personas que realizan actividades no remuneradas afiliarse y cotizar  en una AFP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 afiliado voluntario efectuará cotizaciones a pesar de no  ejercer actividades remuneradas. Se crea la CCIV. Tendrán cobertura del SIS (igual a la actual cobertura de independiente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ara el cálculo de las cotizaciones y aporte: base IMM, con un  máximo de 60 UF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286-D97F-4150-A02B-CE933A20D1F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Afiliados Voluntario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4.-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e consagra la posibilidad de hacer cotizaciones en cuenta de 3ºs; así,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trabajadores  cuyo cónyuge sea afiliado voluntario pueden efectuarle aportes en la CCIV sin exención tributaria. Se trata de mejorarle las condiciones previsiona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5.- La SUPEN dictará una norma de carácter general para regular todo lo relacionado con la cotización y funcionamiento de la cobertur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6.- Las cotizaciones voluntarias se consideran en igual condición  que  las obligatori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3C3-2D8F-4575-B28F-5E70E9A2D6C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PENSIÓN DE VEJE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Tipos de pensión de vejez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Norm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nticipada Comú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nticipada por desempeño de trabajos pesa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E9D-EA67-4D85-8C86-3B65066A9C1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7640" y="1269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NSION: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cepto y tipo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RESTACION MONETARIA MENSUAL, CAUSADA POR VEJEZ, INVALIDEZ O SOBREVIVENCIA. ES UNA RENTA SUSTITUTIV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VEJEZ: edad (común y anticipada), retiro, jubilación y trabajos pesad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NVALIDEZ: incapacidad permanente, total o parcial, definitiva o transitor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OBREVIVENCIA: muerte del jefe de hogar; viudez, montepío y orfan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22B-EC74-4FBC-B7D4-339E71A972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MODALIDADES DE PENS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MODALIDADES APLICABLES A PENSIONES DE V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Retiro Program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Renta Vitalicia Inmedi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Renta Vitalicia Temporal con Renta Vitalicia Diferi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Renta Vitalicia Inmediata con Retiro Programado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---------------------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xcedentes de libre disposición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5381-A04E-4A8A-8EBA-CE50626554F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CONSTITUCIÓN Y FINANCIAMIENTO DE LAS PENSIONES SALDO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tización y Renta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Bono de Reconocimien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PV + APV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pósito Conveni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horro Voluntario (Cuenta 2)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486-27CF-4939-A6BE-4C72FF9BC95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PENSIÓN DE INVALIDE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3366"/>
                </a:solidFill>
                <a:uFillTx/>
                <a:latin typeface="Arial"/>
              </a:rPr>
              <a:t>Concepto Invalidez</a:t>
            </a: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: Disminución de las fuerzas físicas o síquicas de manera más o menos permanente que causen una incapacida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3366"/>
                </a:solidFill>
                <a:uFillTx/>
                <a:latin typeface="Arial"/>
              </a:rPr>
              <a:t>Clas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Total o Par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Permanente y transito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De primer y segundo dicta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Invalidez por riesgos del trabajo e invalidez comú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826-279A-428E-86F6-26CC854C7B7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PENSIÓN DE INVALIDE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 u="sng">
                <a:solidFill>
                  <a:srgbClr val="003366"/>
                </a:solidFill>
                <a:uFillTx/>
                <a:latin typeface="Arial"/>
              </a:rPr>
              <a:t>CONSTITUCIÓN Y FINANCIAMIENTO DE LAS PENSIONES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demás de lo dicho para pensiones de vejez, corresponde considerar</a:t>
            </a: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l “aporte” de ser insuficiente el saldo de la C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E67-B2BB-4A25-B959-85244B29884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ERFECCIONAMIENTO EN CUANTO A PENSIONES DE INVALIDEZ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reforma estable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bertura seguro invalidez/sobrevivencia, de 60 a 65 años para  mujeres  cotizantes, que se mantengan prestando servici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 Dictamen de declaración de invalidez total tendrá el carácter de definitivo y ún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édico asesor del afiliado en calificación como observador, lo mismo puede hacer la Cía. Segur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icitación SIS por todas las AF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3E4-A1FF-463A-BCBC-B1407F56369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icitación Única del 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Problemas en la configuración actual del 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3366"/>
                </a:solidFill>
                <a:uFillTx/>
                <a:latin typeface="Arial"/>
              </a:rPr>
              <a:t>Equidad de Género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: El costo del seguro es más bajo para las mujeres que para los hombres, debido a que las primeras tienen una menor siniestral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3366"/>
                </a:solidFill>
                <a:uFillTx/>
                <a:latin typeface="Arial"/>
              </a:rPr>
              <a:t>Competencia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: El SIS representan al menos el 50% de los costos operacionales de las AFP. Esto lleva a que el SIS juegue un rol protagónico en los costos de las AF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1C9-09A1-4EB0-8996-F8062D98939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icitación Única del SI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3366"/>
                </a:solidFill>
                <a:uFillTx/>
                <a:latin typeface="Arial"/>
              </a:rPr>
              <a:t>Transparencia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: Actualmente los afiliados no saben cuánto pagan por el 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3366"/>
                </a:solidFill>
                <a:uFillTx/>
                <a:latin typeface="Arial"/>
              </a:rPr>
              <a:t>Cotización de cargo del trabajador: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En el esquema de funcionamiento actual, el trabajador paga una cotización adicional variable, que incluye el costo del 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84F-BC1A-466D-96AE-CE9724F2B9D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icitación Única del SI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3366"/>
                </a:solidFill>
                <a:latin typeface="Arial"/>
              </a:rPr>
              <a:t>Los cambios persiguen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umentar la transparencia en las comisiones que cobran las AFP y el costo del 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orregir la inequidad de géner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Reducir los incentivos a discriminar entre afiliados, considerando que las AFP no asumirían riesgos individuales y evitar que afiliados “más riesgosos” terminen pagando un seguro más car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Regular adecuadamente los riesgos de proveer el seguro de invalidez y sobreviv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9C7-7521-487C-B041-AECD192999D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icitación Única del SI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a Cotización para  el SIS  uniforme, con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utonomía de la prima convenida por AFP y Cías de Segu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as AFPs deben transferir  cotización destinada a financiar el seguro a las Compañías adjudicataria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e existir  diferencia, por sexo , entre la cotización  y la prima necesaria, las AFP  enterarán la diferencia en cada una de las CCI de los  que pagaron una cotización superior a dicha prima.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l empleador estará a cargo de su pago, gradualmen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105-B5CB-41DA-980F-7E7BFC4919A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Mecanismo de Licitación Única del SI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FPs licitarán el SIS en forma conjun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Las Bases de licitación deberán sujetarse a lo dispuesto en una norma emitida por la SUP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Podrán participar en la licitación las Cías de Seguros de Vida  constituidas a la fecha de la licitación.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seguro será  adjudicado a la Cía que presente la mejor oferta económica, pudiendo adjudicarse a más de una de ella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729-7B9D-454B-AC44-CEC7AFDD20F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 pensión un derech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2636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Constitución garantiza el derecho a la seguridad social: El Estado crea, organiza, regula, orienta y controla el sistema de pension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acción del Estado se dirige a garantizar el acceso de todos al goce de prestaciones básicas uniform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612-A1F2-4190-822C-EA28EAA148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ENSIÓN DE SOBREVIVE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3366"/>
                </a:solidFill>
                <a:uFillTx/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: Prestación mensual temporal o vitalicia a favor de las cargas de famili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Beneficiarios</a:t>
            </a: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: cónyuge, hijos cargas de familia, padre o madre de hijos no matrimoniales que vivan a expensa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Situación de los fondos de no existir titulares</a:t>
            </a: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: masa hereditari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Prestaciones por muerte</a:t>
            </a: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: cuota mortuori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9BD-A7F4-4A50-A33E-D66F5F56249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COTIZACION</a:t>
            </a:r>
            <a:br>
              <a:rPr sz="3200"/>
            </a:br>
            <a:r>
              <a:rPr b="1" lang="es-CL" sz="2800" spc="-1" strike="noStrike">
                <a:solidFill>
                  <a:srgbClr val="003366"/>
                </a:solidFill>
                <a:latin typeface="Arial"/>
              </a:rPr>
              <a:t>(obligatoria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oncepto: exacción para fiscal destinada a la CCI para financiar pen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onto 10% + cotización adicional vari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bligación de cotizar del empleador: trabajos pesados y parte de cotización adic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fectos de no cumplir con la obligación de cotiz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E73-2D58-4558-ACAB-D6097475F94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ROL DEL EMPLEA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l empleador debe efectuar  cotizaciones </a:t>
            </a: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(cas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l empleador debe retener, enterar y declarar las cotizaciones de los trabajad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cuentos obligatorios de las remuneraciones: Cotizaciones obligatorias, voluntarias, DC, APV y APV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portunidad del descuento, declaración y entero. Incumplimiento en pago de cotizaciones y término de la relación labor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tregar información a las entidades de prev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Responsabilidad subsidiaria y solidaria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D13-C095-4D35-B031-CD2B6D8229E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INCENTIVAR COT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didas adicionales, como  incentivos para cotiz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) Pago de cotizaciones en período de aplicación seguro de cesantí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) Eliminar distinción entre IM  para trabajadores de casa particular e IM general, de aplicación gradu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) Descontar la comisión fija de la remuneración y no de la C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28F-FE13-42B8-A64F-A5642C581E4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INCENTIVAR COT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) Cotizaciones para trabajadores jóve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)  Cotización del empleador del SIS por sus trabajador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g) Límite máximo de base de cotizaciones (tope imponible) pasa a una reajustabilidad anual y tiene como referencia la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variación del índice de remuneraciones reales determinadas por el 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0C4-3338-4DB7-8DD4-48ACACF4DF3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FONDOS DE PENS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as AFP  invierten las cotizaciones de las CCI que gestionan, conforme el Fondo al que estén asigna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Tipos: Fondos a, b, c, d y 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Garantías de las Inversiones y gestión de los Fon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D51-ECAA-46BD-A647-2DC189DDCBE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CI: Inversión Fondos de Pensio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reforma incluye normas sobre: flexibilidad de la estructura  límites y malla inversiones;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ificación límite de inversiones  extranjero; mayores responsabilidades de la AFP en su gestión; creación del Consejo Técnico de Inversiones. También, se proponen mediciones de riesgo relevantes y modificaciones a la Comisión Clasificadora de Riesg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C31-1E20-4A0A-A667-6BC43AE3DF4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Régimen de Inversión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lexibilizar  reglas de inversión mejora gestión de los Fon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ermitir que las AFP asuman progresivamente una mayor responsabilidad en las decisiones de inversión de los Fon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avorecer que los Fondos tengan mayores espacios de inversión, para una mejor diversificación de las carteras de inversión y la obtención de mejores combinaciones de rentabilidad y ries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Hacer más dinámico el proceso de inversiones, otorgando mayor rol a las AFP en clasificar ries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DC9-029E-4EEB-83C6-653D12E580C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Régimen de Inversió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l Régimen de Inversión se fija por </a:t>
            </a: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RESOLUCION 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 la SUPEN, con la aprobación del Ministerio de Hacien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ECD-A201-4585-B9E3-E836126B6D9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Régimen de Inversión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Se mantienen en la </a:t>
            </a:r>
            <a:r>
              <a:rPr b="1" lang="es-CL" sz="2000" spc="-1" strike="noStrike">
                <a:solidFill>
                  <a:srgbClr val="003366"/>
                </a:solidFill>
                <a:latin typeface="Arial"/>
              </a:rPr>
              <a:t>LEY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5 límites por instrumento: estatales, renta variable, títulos extranjeros, inversión en moneda extranjera no cubierta, instrumentos de mayor riesgo relativ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Límites de inversión por emisor que tienen por objeto evitar que los Fondos adquieran un peso significativo en las decisiones del emisor y permiten resguardar una adecuada formación de precios en el merca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l Régimen de Inversión establecerá otros límites por grupos de instrumentos y por emisor a fin de diversificar los Fondos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0C1-7DAB-403A-AD2B-846F85C6E1C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istemas de pil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lar Míni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Asistencial / no Contributiv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lar Contribu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lar Volun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60B-57D9-4D6E-91BD-39EFD6371C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Régimen de Inversión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Las AFP deberán diseñar e implementar políticas de inversión para sus Fdos. Se sancionará el incumplimiento de las políticas. Deben constituir un Comité de Inversión al interior de los directorios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l Reg. de Inversión podrá contener normas para la regulación de la inversión de los Fondos  en función de la medición del riesgo de las carteras de inversión de cada uno de ellos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6E7-D028-4BB4-835A-1EEFBB33377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Régimen de Inversión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Límite a la Inversión Extranjer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e amplía límite glob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e incorpora un límite por cada tipo de Fondo con el objeto de evitar que se privilegie la cartera de un Fondo por sobre la cartera de otr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D5A-669A-4E54-918B-584BC6897DD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Consejo Técnico de Inversiones (CTI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19320" indent="-304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unciones: 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) Emite pronunciamiento respecto de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aterias del Reg. de Inversiones y realiza propuestas a la regulación de las inversiones de los Fondos; b) El Reg. de Inversión se emitirá previa consulta al C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19320" indent="-304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Integrantes: 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) Un representante del Ejecutivo; b) Uno designado por Consejo Bco. Central; c) Uno por AFPs; y d) Dos designados por decanos Facultad de Economía y Administració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668-1751-47D8-919B-28AB7C5D742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ADMINISTRACIÓN Y GEST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AFP: Soc. Anónimas encargadas de recaudar, invertir y otorgar pensiones a sus afilia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Giro Exclusivo: Las AFPs sólo se encargan del R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aracterísticas: entidades de previsión de orden privado que gestiona el RCI con fines de lucro (Comisión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ntrol y Fiscalización de la AFP: Superintendencia de Pensiones, SUP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01F-D645-40E4-B0D2-6791C778C22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ministradoras de Fondos de Pensiones, AF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iste escasa competencia lo que afecta en definitiva los costos que debe pagar el afiliado. Reforma pretenden aumentar la  compet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 cambia el sistema de cobro de comis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ificaciones en materia de autorregulación y mayor autonomía para decisiones de inversión. Comité de Invers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ité de Resolución de Conflictos de Interé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1E8-6984-4BCE-A251-8C3F4C0D942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icitación de Nuevos Afili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Favorecer la competencia en costos,  con menores comisiones para los afiliado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Contribuir a la creación de nuevas AFP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Resguardar el  patrimonio de los afiliado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La licitación la efectuará la SUPEN para cada 24 mes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Pueden participar todas las AFP existentes y las que están en formació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Es adjudicataria la AFP de menor comisió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E5E-1E15-42DE-9D17-DC1BF73D12A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icitación de Nuevos Afiliado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El nuevo afiliado  durante los primeros 24 meses de su vida laboral, se integra a la AFP licitada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Afiliado  es libre de cambiarse a AFP + barata o de  rentabilidad que compense &gt;+ comisió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Datos históricos enseñan que, en los primeros 24 meses de afiliación,  es más conveniente elegir la AFP de menor comisió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F8A-4A45-4ABD-B0DD-626261E2281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REACIÓN DE NUEVAS AF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propuesta del Ejecutivo se dirigía a permitir que los Bancos chilenos puedan crear AFP, a través de sociedades fil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s Compañías de Seguro fueron autorizadas para crear filiales con tal objeto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2C6-C81F-49F3-972D-3722D858115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AFP: Subcontratación de fun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as AFP, con autorización y control de la SUPEN</a:t>
            </a: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 podrán subcontratar servicio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Las AFP podrán celebrar contratos de prestación de servicios con entidades externa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Cada AFP responde por los servicios que subcontrate y deben ejercer control sobre ello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Arial"/>
              </a:rPr>
              <a:t>La SUPEN fiscalizará funcionamiento de los servicios subcontratados (Supervisión basada en Riesgo)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863-A1F6-4913-93A5-DF123207772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e eliminan comisiones fija por cotización, retiros y por transferencia de sal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ermite cobro de comisiones como % del saldo por administración de cuentas de ahorro voluntario (Cuenta 2). Además, flexibiliza el Nº de giros anuales de la CAV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isminuye a 30 días la antelación requerida para informar rebaja de comis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Estructura de comis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A9F-8C8F-43F1-B754-EE4687C3ACD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nsiones: Régimen Financie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ributivas       - Reparto 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pit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Contribu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istenciales/solidar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8C9-6FDA-46CF-AB47-1ACF653CF6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MODIFICACIONES DL 3500: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ASESORÍA PREVISION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 define y regula la asesoría. Se trata de apoyar a los afiliados en sus decision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sesor prestará  servicios de forma independiente. La SUPEN tendrá un Registro de ell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asesoría a prestar deberá contar del contrato respectivo, celebrado entre el asesor o entidad asesora y el afili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sesor apoya al afiliado y beneficiarios en sus decisiones durante su vida activa, así como en la selección de la modalidad de pen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D62-C5C7-4CCF-B748-7610329F13A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STEMA DEPENSIONES SOLIDARI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ción de un sistema de protección social, cuyo componente fundamental es dar seguridad de ingresos en los años de vejez, para vivir más dignamente y no sentir al final de la vida inseguridad acerca de los recursos con que contará para cubrir gastos básic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EB6-CBD1-4AD4-943C-43DF90BE531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SPS: PILAR SOLIDARIO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“Pilar Solidario” financiado por el Estado es complementario del RC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SPS asegura pensiones básicas solidarias de vejez e invalidez y aportes previsionales de vejez e invalidez y está a cargo del IP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án beneficiarios, cuando se encuentre en aplicación plena, las personas con 65 años de edad, que pertenezcan a los tres primeros quintiles de ingresos (60% de la población) y que acrediten residencia, por un n° de años, según pen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F84-A09F-426B-B3EC-1CCE4425748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PILAR SOLIDARIO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NSION BÁSICA SOLIDARIA DE VEJEZ, P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neficiarios son personas qu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tienen derecho a pensión en ningún Régimen Previs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 reúnan 65 años de e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i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 formen parte de  una familia perteneciente al 60% más pobre de la població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v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rediten 20 años de residencia.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041-440A-4A35-872C-67EDA594901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PILAR SOLIDARIO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ORTE PREV. SOLIDARIO DE VEJEZ, A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ne por finalidad complementar las pensiones contributivas, cuando ellas se encuentran bajo un determinado nivel de pensiones de refer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ere: tener derecho a pensión contributiva, de monto inferior al valor máximo de la pensión con APS y reunir los requisitos exigidos para acceder a PBV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7B4-2F3C-4ADE-AD98-1FABBCE5953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PILAR SOLIDARIO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NSIÓN BÁSICA SOLIDARIA DE INVALIDEZ, PB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nen derecho a ella las personas inváli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declaración de invalidez corresponderá  a las Comisiones Médicas del RC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afiliado debe cumplir c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Tener 18 años de edad y menos de 65 añ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Integrar grupo familiar perteneciente al 60% más pobre de la pobl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Residencia por lapso no inferior a 5 años continuos  anteriores a la fecha de presentación de la solicitu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F21-6848-4149-80EB-94151F7545A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PILAR SOLIDARIO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ORTE PREV. SOLIDARIO DE INVALIDEZ, APSV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n beneficiarios de este aporte las personas  inválidas parciales o totales y que cumplan, además, con los requisitos  establecidos para la PBI y que no perciban pensiones prevision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beneficiario de PBSI o del APS, percibirá el beneficio hasta cumplir 65 años.  A contar de esa fecha podrá acceder a la PBSV o al APSV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27D-457B-42F9-80C2-F9404B66A22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PILAR SOLIDARIO (6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uantía de la 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uantía del aporte solid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ceso de trans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ol del IPS y la SU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ituación de beneficiarios de PASIS y PM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ituación de imponentes régimenes IN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1AC-09F1-4788-9643-55BB80F1638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INSTITUCIONALIDAD PÚBL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Ministerio de Trabajo y Previsión Social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Subsecretaría de Previsión Social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Superintendencia de Pensiones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Superintendencia de Seguridad Social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Instituto de Previsión Socia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Instituto de Seguridad Laboral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isión de Usuarios, 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ejo Consultivo Previsiona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A52-1DAB-4DBD-95FC-0D7D6FC145A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6666"/>
                </a:solidFill>
                <a:latin typeface="Arial"/>
              </a:rPr>
              <a:t>Ministerio del Trabajo y Previsión Social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 refuerza la capacidad ministerial de planificar, supervisar y conducir  la política social que le compete, incluyendo instrumentos de educación para la previsió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bsecretaría de Previsión Soci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órgano de colaboración inmediata del Ministro y coordina la acción de los servicios públicos del área. Le corresponde  velar por el éxito del sistema de pensiones y la educación para la seguridad soc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6BE-1746-4EDC-94A8-EC06FF0852A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8:41:07Z</dcterms:created>
  <dc:creator>Hugo Cifuentes L.</dc:creator>
  <dc:description/>
  <dc:language>en-US</dc:language>
  <cp:lastModifiedBy>Hugo Cifuentes L.</cp:lastModifiedBy>
  <dcterms:modified xsi:type="dcterms:W3CDTF">2008-06-17T13:05:47Z</dcterms:modified>
  <cp:revision>488</cp:revision>
  <dc:subject/>
  <dc:title>SEGURIDAD SOCIAL CHILE PENSIONES </dc:title>
</cp:coreProperties>
</file>