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10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F2C-C98D-4248-81B6-C68497B0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B19-6822-415B-B85B-3B399A55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40C-94E9-42F6-8F64-4A3BB06B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652-4310-403A-ADD6-E751A774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C42-FA4F-4F54-A1FD-E624B1DF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586-B449-4535-A855-73E9ABF9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41C-48F0-4361-A6A8-F7077028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D30-2FBB-4C44-8084-F1284271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FF2-2DE8-4FCF-B722-A9193A0E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407-D8E5-4E59-B877-1BAAD9F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C14-A49F-4E48-9F75-6B4321A6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F25-6B2A-4CC1-AACE-E1BEE85B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9B4B-1B83-4DF6-972C-3C31BED89C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892600"/>
            <a:ext cx="9144000" cy="849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58961" b="74599"/>
          <a:stretch/>
        </p:blipFill>
        <p:spPr>
          <a:xfrm>
            <a:off x="15840" y="3660840"/>
            <a:ext cx="2252520" cy="847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26110" r="40063" b="49733"/>
          <a:stretch/>
        </p:blipFill>
        <p:spPr>
          <a:xfrm>
            <a:off x="2255760" y="3733920"/>
            <a:ext cx="3465720" cy="849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75855" r="40063" b="0"/>
          <a:stretch/>
        </p:blipFill>
        <p:spPr>
          <a:xfrm>
            <a:off x="5672160" y="3732120"/>
            <a:ext cx="3471840" cy="849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781360"/>
            <a:ext cx="9144000" cy="144360"/>
          </a:xfrm>
          <a:prstGeom prst="rect">
            <a:avLst/>
          </a:prstGeom>
          <a:gradFill rotWithShape="0">
            <a:gsLst>
              <a:gs pos="0">
                <a:srgbClr val="cc0000">
                  <a:alpha val="90196"/>
                </a:srgbClr>
              </a:gs>
              <a:gs pos="50000">
                <a:srgbClr val="f1c1c1"/>
              </a:gs>
              <a:gs pos="100000">
                <a:srgbClr val="cc0000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510080"/>
            <a:ext cx="9180360" cy="144360"/>
          </a:xfrm>
          <a:prstGeom prst="rect">
            <a:avLst/>
          </a:prstGeom>
          <a:gradFill rotWithShape="0">
            <a:gsLst>
              <a:gs pos="0">
                <a:srgbClr val="cc0000">
                  <a:alpha val="90196"/>
                </a:srgbClr>
              </a:gs>
              <a:gs pos="50000">
                <a:srgbClr val="f1c1c1"/>
              </a:gs>
              <a:gs pos="100000">
                <a:srgbClr val="cc0000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19440" y="4869000"/>
            <a:ext cx="5616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ANSPARENCIA | EFICIENCIA | INTELIGE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970440" y="2027160"/>
          <a:ext cx="129672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70440" y="2027160"/>
                    <a:ext cx="12967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55640" y="2281320"/>
            <a:ext cx="770400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Microsoft Sans Serif"/>
              </a:rPr>
              <a:t>NIVEL DE SALUD</a:t>
            </a:r>
            <a:r>
              <a:rPr b="0" lang="es-ES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66"/>
                </a:solidFill>
                <a:latin typeface="Microsoft Sans Serif"/>
              </a:rPr>
              <a:t>CONDUCTA PRESCRIPTIVA</a:t>
            </a:r>
            <a:r>
              <a:rPr b="0" lang="es-AR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66"/>
                </a:solidFill>
                <a:latin typeface="Microsoft Sans Serif"/>
              </a:rPr>
              <a:t>CARACTERÍSTICAS REG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66"/>
                </a:solidFill>
                <a:latin typeface="Microsoft Sans Serif"/>
              </a:rPr>
              <a:t>TRATAMIENTOS EFIC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762120"/>
            <a:ext cx="7991280" cy="506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GRAMA HADOb | OBJE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55640" y="1962000"/>
            <a:ext cx="770400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66"/>
                </a:solidFill>
                <a:latin typeface="Microsoft Sans Serif"/>
              </a:rPr>
              <a:t>ACCIONES TERAPÉUTICAS NO MEDICAMENT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s-AR" sz="2800" spc="-1" strike="noStrike">
                <a:solidFill>
                  <a:srgbClr val="000066"/>
                </a:solidFill>
                <a:latin typeface="Microsoft Sans Serif"/>
              </a:rPr>
              <a:t>CAPACITACIÓN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66"/>
                </a:solidFill>
                <a:latin typeface="Microsoft Sans Serif"/>
              </a:rPr>
              <a:t>EDUCACIÓN PARA LA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66"/>
                </a:solidFill>
                <a:latin typeface="Microsoft Sans Serif"/>
              </a:rPr>
              <a:t>PROGRAMA DE INCEN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762120"/>
            <a:ext cx="7991280" cy="506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GRAMA HADOb | INSTRUM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684360" y="1484280"/>
          <a:ext cx="799128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912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1187280" y="1981080"/>
            <a:ext cx="4343400" cy="1604520"/>
            <a:chOff x="1187280" y="1981080"/>
            <a:chExt cx="4343400" cy="1604520"/>
          </a:xfrm>
        </p:grpSpPr>
        <p:sp>
          <p:nvSpPr>
            <p:cNvPr id="199" name=""/>
            <p:cNvSpPr/>
            <p:nvPr/>
          </p:nvSpPr>
          <p:spPr>
            <a:xfrm>
              <a:off x="1187280" y="1981080"/>
              <a:ext cx="4343400" cy="16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TAL DE MÉDICOS: 3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ÉDICOS CON PACIENTES HIPERTENSOS: 34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A: 6,443 (226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ANA: 6,506 (17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A + DESVIO: 6,898 (1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88800" y="2692440"/>
              <a:ext cx="15264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8800" y="3009960"/>
              <a:ext cx="1526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88800" y="3327480"/>
              <a:ext cx="15264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4360" y="876240"/>
            <a:ext cx="799128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PERTENSION ARTERIAL | PERFIL PR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4360" y="876240"/>
            <a:ext cx="799128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BETES | PERFIL PR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76360" y="836640"/>
            <a:ext cx="648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4360" y="1512720"/>
          <a:ext cx="7991280" cy="458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12720"/>
                    <a:ext cx="7991280" cy="458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0" name=""/>
          <p:cNvGrpSpPr/>
          <p:nvPr/>
        </p:nvGrpSpPr>
        <p:grpSpPr>
          <a:xfrm>
            <a:off x="1236600" y="1981080"/>
            <a:ext cx="4343400" cy="1604520"/>
            <a:chOff x="1236600" y="1981080"/>
            <a:chExt cx="4343400" cy="1604520"/>
          </a:xfrm>
        </p:grpSpPr>
        <p:sp>
          <p:nvSpPr>
            <p:cNvPr id="211" name=""/>
            <p:cNvSpPr/>
            <p:nvPr/>
          </p:nvSpPr>
          <p:spPr>
            <a:xfrm>
              <a:off x="1236600" y="1981080"/>
              <a:ext cx="4343400" cy="16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TAL DE MÉDICOS: 3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ÉDICOS CON PACIENTES DIABÉTICOS: 3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A: 3,720 (177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ANA: 3,771 (15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A + DESVIO: 4,114 (2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38120" y="2692440"/>
              <a:ext cx="152640" cy="152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38120" y="3009960"/>
              <a:ext cx="1526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38120" y="3327480"/>
              <a:ext cx="15264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1123920"/>
            <a:ext cx="799128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SARROLLO DE PRESTADO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08120" y="3276720"/>
            <a:ext cx="7883280" cy="724680"/>
            <a:chOff x="708120" y="3276720"/>
            <a:chExt cx="7883280" cy="724680"/>
          </a:xfrm>
        </p:grpSpPr>
        <p:sp>
          <p:nvSpPr>
            <p:cNvPr id="221" name=""/>
            <p:cNvSpPr/>
            <p:nvPr/>
          </p:nvSpPr>
          <p:spPr>
            <a:xfrm>
              <a:off x="708120" y="3276720"/>
              <a:ext cx="7883280" cy="648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>
                    <a:alpha val="70196"/>
                  </a:srgbClr>
                </a:gs>
                <a:gs pos="50000">
                  <a:srgbClr val="f0f0f0"/>
                </a:gs>
                <a:gs pos="100000">
                  <a:srgbClr val="dddddd">
                    <a:alpha val="70196"/>
                  </a:srgbClr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879120" y="3336480"/>
              <a:ext cx="942840" cy="664920"/>
              <a:chOff x="879120" y="3336480"/>
              <a:chExt cx="942840" cy="664920"/>
            </a:xfrm>
          </p:grpSpPr>
          <p:sp>
            <p:nvSpPr>
              <p:cNvPr id="223" name=""/>
              <p:cNvSpPr/>
              <p:nvPr/>
            </p:nvSpPr>
            <p:spPr>
              <a:xfrm>
                <a:off x="879120" y="3336480"/>
                <a:ext cx="942840" cy="530280"/>
              </a:xfrm>
              <a:prstGeom prst="roundRect">
                <a:avLst>
                  <a:gd name="adj" fmla="val 11921"/>
                </a:avLst>
              </a:prstGeom>
              <a:solidFill>
                <a:srgbClr val="cc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37800" y="3370320"/>
                <a:ext cx="470160" cy="2649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33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47400" y="3481920"/>
                <a:ext cx="18396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966680" y="3372120"/>
              <a:ext cx="64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RSO DE POSGRADO MÉDICOS DE CABEC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11360" y="2209680"/>
            <a:ext cx="7883280" cy="725400"/>
            <a:chOff x="711360" y="2209680"/>
            <a:chExt cx="7883280" cy="725400"/>
          </a:xfrm>
        </p:grpSpPr>
        <p:sp>
          <p:nvSpPr>
            <p:cNvPr id="228" name=""/>
            <p:cNvSpPr/>
            <p:nvPr/>
          </p:nvSpPr>
          <p:spPr>
            <a:xfrm>
              <a:off x="711360" y="2209680"/>
              <a:ext cx="7883280" cy="648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>
                    <a:alpha val="70196"/>
                  </a:srgbClr>
                </a:gs>
                <a:gs pos="50000">
                  <a:srgbClr val="f0f0f0"/>
                </a:gs>
                <a:gs pos="100000">
                  <a:srgbClr val="dddddd">
                    <a:alpha val="70196"/>
                  </a:srgbClr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882360" y="2269440"/>
              <a:ext cx="942840" cy="665640"/>
              <a:chOff x="882360" y="2269440"/>
              <a:chExt cx="942840" cy="665640"/>
            </a:xfrm>
          </p:grpSpPr>
          <p:sp>
            <p:nvSpPr>
              <p:cNvPr id="230" name=""/>
              <p:cNvSpPr/>
              <p:nvPr/>
            </p:nvSpPr>
            <p:spPr>
              <a:xfrm>
                <a:off x="882360" y="2269440"/>
                <a:ext cx="942840" cy="530640"/>
              </a:xfrm>
              <a:prstGeom prst="roundRect">
                <a:avLst>
                  <a:gd name="adj" fmla="val 11921"/>
                </a:avLst>
              </a:prstGeom>
              <a:solidFill>
                <a:srgbClr val="cc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41040" y="2303280"/>
                <a:ext cx="470160" cy="2653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33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50640" y="2415240"/>
                <a:ext cx="18396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1969920" y="2305080"/>
              <a:ext cx="64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GRAMA DE DESARROLLO EN RRH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27200" y="4379760"/>
            <a:ext cx="7883280" cy="725400"/>
            <a:chOff x="727200" y="4379760"/>
            <a:chExt cx="7883280" cy="725400"/>
          </a:xfrm>
        </p:grpSpPr>
        <p:sp>
          <p:nvSpPr>
            <p:cNvPr id="235" name=""/>
            <p:cNvSpPr/>
            <p:nvPr/>
          </p:nvSpPr>
          <p:spPr>
            <a:xfrm>
              <a:off x="727200" y="4379760"/>
              <a:ext cx="7883280" cy="648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>
                    <a:alpha val="70196"/>
                  </a:srgbClr>
                </a:gs>
                <a:gs pos="50000">
                  <a:srgbClr val="f0f0f0"/>
                </a:gs>
                <a:gs pos="100000">
                  <a:srgbClr val="dddddd">
                    <a:alpha val="70196"/>
                  </a:srgbClr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898200" y="4439520"/>
              <a:ext cx="942840" cy="665640"/>
              <a:chOff x="898200" y="4439520"/>
              <a:chExt cx="942840" cy="665640"/>
            </a:xfrm>
          </p:grpSpPr>
          <p:sp>
            <p:nvSpPr>
              <p:cNvPr id="237" name=""/>
              <p:cNvSpPr/>
              <p:nvPr/>
            </p:nvSpPr>
            <p:spPr>
              <a:xfrm>
                <a:off x="898200" y="4439520"/>
                <a:ext cx="942840" cy="530640"/>
              </a:xfrm>
              <a:prstGeom prst="roundRect">
                <a:avLst>
                  <a:gd name="adj" fmla="val 11921"/>
                </a:avLst>
              </a:prstGeom>
              <a:solidFill>
                <a:srgbClr val="cc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56880" y="4473360"/>
                <a:ext cx="470160" cy="2653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33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6480" y="4585320"/>
                <a:ext cx="18396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1985760" y="4475160"/>
              <a:ext cx="64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DELOS DINÁMICOS DE RETRIBUC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4360" y="762120"/>
            <a:ext cx="79912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PAS EPIDEMIOLÓG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1689120"/>
            <a:ext cx="764064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Microsoft Sans Serif"/>
              </a:rPr>
              <a:t>DETERMINACION DE </a:t>
            </a:r>
            <a:r>
              <a:rPr b="0" lang="es-AR" sz="3200" spc="-1" strike="noStrike">
                <a:solidFill>
                  <a:srgbClr val="000066"/>
                </a:solidFill>
                <a:latin typeface="Microsoft Sans Serif"/>
              </a:rPr>
              <a:t> PATRONES DE COMPOR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Microsoft Sans Serif"/>
              </a:rPr>
              <a:t>DIAGRAMACION DE </a:t>
            </a:r>
            <a:r>
              <a:rPr b="0" lang="es-AR" sz="3200" spc="-1" strike="noStrike">
                <a:solidFill>
                  <a:srgbClr val="000066"/>
                </a:solidFill>
                <a:latin typeface="Microsoft Sans Serif"/>
              </a:rPr>
              <a:t>POLÍTICAS PÚBLICAS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9640" y="907920"/>
            <a:ext cx="2521080" cy="5291280"/>
          </a:xfrm>
          <a:prstGeom prst="rect">
            <a:avLst/>
          </a:prstGeom>
          <a:gradFill rotWithShape="0">
            <a:gsLst>
              <a:gs pos="0">
                <a:srgbClr val="808080">
                  <a:alpha val="10196"/>
                </a:srgbClr>
              </a:gs>
              <a:gs pos="100000">
                <a:srgbClr val="eee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1376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2421000"/>
            <a:ext cx="244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CIÓN DE AFILIADOS EN TRATAMIENTO POR HI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060720" y="942840"/>
            <a:ext cx="5556240" cy="5256360"/>
            <a:chOff x="3060720" y="942840"/>
            <a:chExt cx="5556240" cy="52563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3060720" y="942840"/>
              <a:ext cx="5556240" cy="52563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52" name=""/>
            <p:cNvSpPr/>
            <p:nvPr/>
          </p:nvSpPr>
          <p:spPr>
            <a:xfrm>
              <a:off x="7061400" y="3695400"/>
              <a:ext cx="127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centaje por depart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7024680" y="4138560"/>
              <a:ext cx="1339920" cy="20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6551640" y="1014480"/>
              <a:ext cx="1233720" cy="248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4"/>
            <a:stretch/>
          </p:blipFill>
          <p:spPr>
            <a:xfrm>
              <a:off x="7632720" y="2237400"/>
              <a:ext cx="876600" cy="135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642440" y="1935000"/>
              <a:ext cx="90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centaje por provinc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477120" y="927000"/>
            <a:ext cx="213336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907920"/>
            <a:ext cx="2521080" cy="5291280"/>
          </a:xfrm>
          <a:prstGeom prst="rect">
            <a:avLst/>
          </a:prstGeom>
          <a:gradFill rotWithShape="0">
            <a:gsLst>
              <a:gs pos="0">
                <a:srgbClr val="808080">
                  <a:alpha val="10196"/>
                </a:srgbClr>
              </a:gs>
              <a:gs pos="100000">
                <a:srgbClr val="eee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1376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9640" y="242100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CIÓN DE AFILIADOS EN TRATAMIENTO POR DIAB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059280" y="907920"/>
            <a:ext cx="5557680" cy="5257440"/>
            <a:chOff x="3059280" y="907920"/>
            <a:chExt cx="5557680" cy="525744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3059280" y="921600"/>
              <a:ext cx="5557680" cy="5243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6881760" y="3983040"/>
              <a:ext cx="147924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6537240" y="978840"/>
              <a:ext cx="1234800" cy="25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7627680" y="2177280"/>
              <a:ext cx="9586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588000" y="907920"/>
              <a:ext cx="2015640" cy="260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73640" y="3565080"/>
              <a:ext cx="127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rcentaje por depart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77000" y="1839960"/>
              <a:ext cx="89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rcentaje por provinc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9640" y="907920"/>
            <a:ext cx="2521080" cy="5291280"/>
          </a:xfrm>
          <a:prstGeom prst="rect">
            <a:avLst/>
          </a:prstGeom>
          <a:gradFill rotWithShape="0">
            <a:gsLst>
              <a:gs pos="0">
                <a:srgbClr val="808080">
                  <a:alpha val="10196"/>
                </a:srgbClr>
              </a:gs>
              <a:gs pos="100000">
                <a:srgbClr val="eee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1376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24210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TRIBUCION DE AFILIADOS EN TRATAMIENTO POR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048120" y="914400"/>
          <a:ext cx="4647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4647960" cy="5257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638680" y="3505320"/>
            <a:ext cx="16002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centaje por depart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81680" y="1981080"/>
            <a:ext cx="99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centaje por provinc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914400"/>
            <a:ext cx="19810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55600" y="1295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s-AR" sz="2000" spc="-1" strike="noStrike">
                <a:solidFill>
                  <a:srgbClr val="000066"/>
                </a:solidFill>
                <a:latin typeface="Microsoft Sans Serif"/>
              </a:rPr>
              <a:t>ÓPTIMA ASIGNACIÓN</a:t>
            </a:r>
            <a:r>
              <a:rPr b="0" lang="es-ES" sz="1800" spc="-1" strike="noStrike">
                <a:solidFill>
                  <a:srgbClr val="000000"/>
                </a:solidFill>
                <a:latin typeface="Microsoft Sans Serif"/>
              </a:rPr>
              <a:t> DE LOS AFILIADOS SEGÚN CRITERIOS</a:t>
            </a:r>
            <a:r>
              <a:rPr b="0" lang="es-AR" sz="2000" spc="-1" strike="noStrike">
                <a:solidFill>
                  <a:srgbClr val="000066"/>
                </a:solidFill>
                <a:latin typeface="Microsoft Sans Serif"/>
              </a:rPr>
              <a:t> GEO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84360" y="765000"/>
            <a:ext cx="79912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IGNACIONES G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14400" y="1981080"/>
          <a:ext cx="7365960" cy="441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981080"/>
                    <a:ext cx="7365960" cy="44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2786040"/>
            <a:ext cx="7129440" cy="936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100000">
                <a:srgbClr val="ececec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41280" y="2871720"/>
            <a:ext cx="1401840" cy="766800"/>
          </a:xfrm>
          <a:prstGeom prst="roundRect">
            <a:avLst>
              <a:gd name="adj" fmla="val 11921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53960" y="2922480"/>
            <a:ext cx="702000" cy="3826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solidFill>
            <a:srgbClr val="f9fff7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55720" y="3056040"/>
            <a:ext cx="53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IGENCIA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3938760"/>
            <a:ext cx="7129440" cy="9252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100000">
                <a:srgbClr val="ececec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41280" y="4024440"/>
            <a:ext cx="1401840" cy="755640"/>
          </a:xfrm>
          <a:prstGeom prst="roundRect">
            <a:avLst>
              <a:gd name="adj" fmla="val 11921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53960" y="4073400"/>
            <a:ext cx="702000" cy="3780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solidFill>
            <a:srgbClr val="f9fff7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55720" y="4194000"/>
            <a:ext cx="53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S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5092560"/>
            <a:ext cx="7129440" cy="8542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100000">
                <a:srgbClr val="ececec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41280" y="5172120"/>
            <a:ext cx="1401840" cy="698400"/>
          </a:xfrm>
          <a:prstGeom prst="roundRect">
            <a:avLst>
              <a:gd name="adj" fmla="val 11921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53960" y="5216400"/>
            <a:ext cx="702000" cy="349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solidFill>
            <a:srgbClr val="f9fff7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5720" y="5299200"/>
            <a:ext cx="53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TORIAS PREST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1706400"/>
            <a:ext cx="7129440" cy="8622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100000">
                <a:srgbClr val="ececec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41280" y="1785960"/>
            <a:ext cx="1401840" cy="704880"/>
          </a:xfrm>
          <a:prstGeom prst="roundRect">
            <a:avLst>
              <a:gd name="adj" fmla="val 11921"/>
            </a:avLst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53960" y="1832040"/>
            <a:ext cx="702000" cy="352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solidFill>
            <a:srgbClr val="f9fff7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5720" y="1952640"/>
            <a:ext cx="53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ARENCIA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040" y="743040"/>
            <a:ext cx="7991280" cy="70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Microsoft Sans Serif"/>
              </a:rPr>
              <a:t>Modelo Prestacio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55640" y="1231920"/>
            <a:ext cx="77040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Microsoft Sans Serif"/>
              </a:rPr>
              <a:t> </a:t>
            </a:r>
            <a:r>
              <a:rPr b="0" lang="es-ES_tradnl" sz="2800" spc="-1" strike="noStrike">
                <a:solidFill>
                  <a:srgbClr val="000066"/>
                </a:solidFill>
                <a:latin typeface="Microsoft Sans Serif"/>
              </a:rPr>
              <a:t>AUDITORIAS M</a:t>
            </a:r>
            <a:r>
              <a:rPr b="0" lang="es-ES" sz="2800" spc="-1" strike="noStrike">
                <a:solidFill>
                  <a:srgbClr val="000066"/>
                </a:solidFill>
                <a:latin typeface="Microsoft Sans Serif"/>
              </a:rPr>
              <a:t>É</a:t>
            </a:r>
            <a:r>
              <a:rPr b="0" lang="es-ES_tradnl" sz="2800" spc="-1" strike="noStrike">
                <a:solidFill>
                  <a:srgbClr val="000066"/>
                </a:solidFill>
                <a:latin typeface="Microsoft Sans Serif"/>
              </a:rPr>
              <a:t>DICAS </a:t>
            </a:r>
            <a:r>
              <a:rPr b="0" lang="es-ES" sz="2800" spc="-1" strike="noStrike">
                <a:solidFill>
                  <a:srgbClr val="000000"/>
                </a:solidFill>
                <a:latin typeface="Microsoft Sans Serif"/>
              </a:rPr>
              <a:t>en ca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Microsoft Sans Serif"/>
              </a:rPr>
              <a:t>Control del </a:t>
            </a:r>
            <a:r>
              <a:rPr b="0" lang="es-ES" sz="2800" spc="-1" strike="noStrike">
                <a:solidFill>
                  <a:srgbClr val="000066"/>
                </a:solidFill>
                <a:latin typeface="Microsoft Sans Serif"/>
              </a:rPr>
              <a:t>COMPORTAMIENTO PRESCRIP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Microsoft Sans Serif"/>
              </a:rPr>
              <a:t>Análisis de </a:t>
            </a:r>
            <a:r>
              <a:rPr b="0" lang="es-ES" sz="2800" spc="-1" strike="noStrike">
                <a:solidFill>
                  <a:srgbClr val="000066"/>
                </a:solidFill>
                <a:latin typeface="Microsoft Sans Serif"/>
              </a:rPr>
              <a:t>INTERACCIONES FARMAC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Microsoft Sans Serif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Microsoft Sans Serif"/>
              </a:rPr>
              <a:t>ANÁLISIS ESTADÍ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Microsoft Sans Serif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Microsoft Sans Serif"/>
              </a:rPr>
              <a:t>PAMI ESCU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762120"/>
            <a:ext cx="79912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ROLES PRESTA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631800" y="1600200"/>
          <a:ext cx="7880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600200"/>
                    <a:ext cx="7880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 txBox="1"/>
          <p:nvPr/>
        </p:nvSpPr>
        <p:spPr>
          <a:xfrm>
            <a:off x="911880" y="921600"/>
            <a:ext cx="7462800" cy="411120"/>
          </a:xfrm>
          <a:prstGeom prst="rect">
            <a:avLst/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oratori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11880" y="921600"/>
            <a:ext cx="7462800" cy="411120"/>
          </a:xfrm>
          <a:prstGeom prst="rect">
            <a:avLst/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oratori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31800" y="1600200"/>
          <a:ext cx="78804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1800" y="1600200"/>
                    <a:ext cx="7880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611280" y="1628640"/>
          <a:ext cx="7880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7880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 txBox="1"/>
          <p:nvPr/>
        </p:nvSpPr>
        <p:spPr>
          <a:xfrm>
            <a:off x="838440" y="919440"/>
            <a:ext cx="7467120" cy="401040"/>
          </a:xfrm>
          <a:prstGeom prst="rect">
            <a:avLst/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grafí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8440" y="919440"/>
            <a:ext cx="7467120" cy="401040"/>
          </a:xfrm>
          <a:prstGeom prst="rect">
            <a:avLst/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grafí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"/>
          <p:cNvGraphicFramePr/>
          <p:nvPr/>
        </p:nvGraphicFramePr>
        <p:xfrm>
          <a:off x="642960" y="1628640"/>
          <a:ext cx="78804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1628640"/>
                    <a:ext cx="7880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631800" y="1600200"/>
          <a:ext cx="7880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600200"/>
                    <a:ext cx="7880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 txBox="1"/>
          <p:nvPr/>
        </p:nvSpPr>
        <p:spPr>
          <a:xfrm>
            <a:off x="974160" y="982440"/>
            <a:ext cx="7339320" cy="360720"/>
          </a:xfrm>
          <a:prstGeom prst="rect">
            <a:avLst/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ografí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974160" y="982440"/>
            <a:ext cx="7339320" cy="360720"/>
          </a:xfrm>
          <a:prstGeom prst="rect">
            <a:avLst/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ografí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631800" y="1600200"/>
          <a:ext cx="78804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1800" y="1600200"/>
                    <a:ext cx="7880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631800" y="1600200"/>
          <a:ext cx="7880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600200"/>
                    <a:ext cx="7880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 txBox="1"/>
          <p:nvPr/>
        </p:nvSpPr>
        <p:spPr>
          <a:xfrm>
            <a:off x="830160" y="982440"/>
            <a:ext cx="7483680" cy="360720"/>
          </a:xfrm>
          <a:prstGeom prst="rect">
            <a:avLst/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oterap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0160" y="982440"/>
            <a:ext cx="7483680" cy="360720"/>
          </a:xfrm>
          <a:prstGeom prst="rect">
            <a:avLst/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oterap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631800" y="1600200"/>
          <a:ext cx="78804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1800" y="1600200"/>
                    <a:ext cx="7880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2039760"/>
            <a:ext cx="9144000" cy="8496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rcRect l="0" t="0" r="58961" b="74599"/>
          <a:stretch/>
        </p:blipFill>
        <p:spPr>
          <a:xfrm>
            <a:off x="0" y="2879640"/>
            <a:ext cx="2252520" cy="8478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rcRect l="0" t="26110" r="40063" b="49733"/>
          <a:stretch/>
        </p:blipFill>
        <p:spPr>
          <a:xfrm>
            <a:off x="2255760" y="2879640"/>
            <a:ext cx="3465720" cy="8492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rcRect l="0" t="75855" r="40063" b="0"/>
          <a:stretch/>
        </p:blipFill>
        <p:spPr>
          <a:xfrm>
            <a:off x="5672160" y="2879640"/>
            <a:ext cx="3471840" cy="84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233360"/>
            <a:ext cx="2663640" cy="5291280"/>
          </a:xfrm>
          <a:prstGeom prst="rect">
            <a:avLst/>
          </a:prstGeom>
          <a:gradFill rotWithShape="0">
            <a:gsLst>
              <a:gs pos="0">
                <a:srgbClr val="808080">
                  <a:alpha val="10196"/>
                </a:srgbClr>
              </a:gs>
              <a:gs pos="100000">
                <a:srgbClr val="eee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9600" y="1341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1903320"/>
            <a:ext cx="525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413000"/>
            <a:ext cx="504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AMI electrónico (e-pam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51280" y="2384280"/>
            <a:ext cx="358560" cy="360360"/>
            <a:chOff x="3851280" y="2384280"/>
            <a:chExt cx="358560" cy="360360"/>
          </a:xfrm>
        </p:grpSpPr>
        <p:sp>
          <p:nvSpPr>
            <p:cNvPr id="75" name=""/>
            <p:cNvSpPr/>
            <p:nvPr/>
          </p:nvSpPr>
          <p:spPr>
            <a:xfrm>
              <a:off x="3851280" y="238428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66920" y="2384280"/>
              <a:ext cx="14292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51280" y="260028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66920" y="2601720"/>
              <a:ext cx="142920" cy="14292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51280" y="3208320"/>
            <a:ext cx="358560" cy="360360"/>
            <a:chOff x="3851280" y="3208320"/>
            <a:chExt cx="358560" cy="360360"/>
          </a:xfrm>
        </p:grpSpPr>
        <p:sp>
          <p:nvSpPr>
            <p:cNvPr id="80" name=""/>
            <p:cNvSpPr/>
            <p:nvPr/>
          </p:nvSpPr>
          <p:spPr>
            <a:xfrm>
              <a:off x="3851280" y="320832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66920" y="3208320"/>
              <a:ext cx="14292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51280" y="342432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66920" y="3425760"/>
              <a:ext cx="142920" cy="14292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427640" y="31748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a Prestacional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2276640"/>
            <a:ext cx="244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ueva rel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comunicación con los beneficiarios, prestadores y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51280" y="3886200"/>
            <a:ext cx="358560" cy="360360"/>
            <a:chOff x="3851280" y="3886200"/>
            <a:chExt cx="358560" cy="360360"/>
          </a:xfrm>
        </p:grpSpPr>
        <p:sp>
          <p:nvSpPr>
            <p:cNvPr id="88" name=""/>
            <p:cNvSpPr/>
            <p:nvPr/>
          </p:nvSpPr>
          <p:spPr>
            <a:xfrm>
              <a:off x="3851280" y="388620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6920" y="3886200"/>
              <a:ext cx="14292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51280" y="410220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6920" y="4103640"/>
              <a:ext cx="142920" cy="14292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427640" y="385272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toría Médica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32320" y="2286000"/>
            <a:ext cx="410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cia en la comunicación de las prestaciones efectu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1233360"/>
            <a:ext cx="2663640" cy="5291280"/>
          </a:xfrm>
          <a:prstGeom prst="rect">
            <a:avLst/>
          </a:prstGeom>
          <a:gradFill rotWithShape="0">
            <a:gsLst>
              <a:gs pos="0">
                <a:srgbClr val="808080">
                  <a:alpha val="10196"/>
                </a:srgbClr>
              </a:gs>
              <a:gs pos="100000">
                <a:srgbClr val="eee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9600" y="1341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1903320"/>
            <a:ext cx="5256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1413000"/>
            <a:ext cx="504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ligencia Institucio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51280" y="2924280"/>
            <a:ext cx="358560" cy="360360"/>
            <a:chOff x="3851280" y="2924280"/>
            <a:chExt cx="358560" cy="360360"/>
          </a:xfrm>
        </p:grpSpPr>
        <p:sp>
          <p:nvSpPr>
            <p:cNvPr id="100" name=""/>
            <p:cNvSpPr/>
            <p:nvPr/>
          </p:nvSpPr>
          <p:spPr>
            <a:xfrm>
              <a:off x="3851280" y="292428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66920" y="2924280"/>
              <a:ext cx="14292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51280" y="314028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66920" y="3141720"/>
              <a:ext cx="142920" cy="14292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27640" y="286236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o de Pr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51280" y="2359080"/>
            <a:ext cx="358560" cy="360360"/>
            <a:chOff x="3851280" y="2359080"/>
            <a:chExt cx="358560" cy="360360"/>
          </a:xfrm>
        </p:grpSpPr>
        <p:sp>
          <p:nvSpPr>
            <p:cNvPr id="106" name=""/>
            <p:cNvSpPr/>
            <p:nvPr/>
          </p:nvSpPr>
          <p:spPr>
            <a:xfrm>
              <a:off x="3851280" y="235908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66920" y="2359080"/>
              <a:ext cx="14292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1280" y="257508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66920" y="2576520"/>
              <a:ext cx="142920" cy="14292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427640" y="2287440"/>
            <a:ext cx="43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s Preven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51280" y="3500280"/>
            <a:ext cx="358560" cy="360360"/>
            <a:chOff x="3851280" y="3500280"/>
            <a:chExt cx="358560" cy="360360"/>
          </a:xfrm>
        </p:grpSpPr>
        <p:sp>
          <p:nvSpPr>
            <p:cNvPr id="112" name=""/>
            <p:cNvSpPr/>
            <p:nvPr/>
          </p:nvSpPr>
          <p:spPr>
            <a:xfrm>
              <a:off x="3851280" y="350028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66920" y="3500280"/>
              <a:ext cx="14292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51280" y="371628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66920" y="3717720"/>
              <a:ext cx="142920" cy="14292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427640" y="342900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as Epidem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51280" y="5340240"/>
            <a:ext cx="358560" cy="360360"/>
            <a:chOff x="3851280" y="5340240"/>
            <a:chExt cx="358560" cy="360360"/>
          </a:xfrm>
        </p:grpSpPr>
        <p:sp>
          <p:nvSpPr>
            <p:cNvPr id="118" name=""/>
            <p:cNvSpPr/>
            <p:nvPr/>
          </p:nvSpPr>
          <p:spPr>
            <a:xfrm>
              <a:off x="3851280" y="534024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6920" y="5340240"/>
              <a:ext cx="14292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51280" y="555624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66920" y="5557680"/>
              <a:ext cx="142920" cy="14292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427640" y="5195880"/>
            <a:ext cx="364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s de calidad y Auditorias Contin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51280" y="4664160"/>
            <a:ext cx="358560" cy="360360"/>
            <a:chOff x="3851280" y="4664160"/>
            <a:chExt cx="358560" cy="360360"/>
          </a:xfrm>
        </p:grpSpPr>
        <p:sp>
          <p:nvSpPr>
            <p:cNvPr id="124" name=""/>
            <p:cNvSpPr/>
            <p:nvPr/>
          </p:nvSpPr>
          <p:spPr>
            <a:xfrm>
              <a:off x="3851280" y="466416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66920" y="4664160"/>
              <a:ext cx="14292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51280" y="488016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66920" y="4881600"/>
              <a:ext cx="142920" cy="14292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427640" y="4475160"/>
            <a:ext cx="372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gnaciones Óptimas por Georreferenciación (G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436760"/>
            <a:ext cx="259236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nuevo enfoque encuadrado bajo el concepto de Transparencia e Inteligencia Institu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lto cualitativo en el nivel presta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51280" y="4076640"/>
            <a:ext cx="358560" cy="360360"/>
            <a:chOff x="3851280" y="4076640"/>
            <a:chExt cx="358560" cy="360360"/>
          </a:xfrm>
        </p:grpSpPr>
        <p:sp>
          <p:nvSpPr>
            <p:cNvPr id="132" name=""/>
            <p:cNvSpPr/>
            <p:nvPr/>
          </p:nvSpPr>
          <p:spPr>
            <a:xfrm>
              <a:off x="3851280" y="407664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66920" y="4076640"/>
              <a:ext cx="14292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1280" y="4292640"/>
              <a:ext cx="142560" cy="13968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66920" y="4294080"/>
              <a:ext cx="142920" cy="142920"/>
            </a:xfrm>
            <a:prstGeom prst="flowChartConnector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427640" y="400536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iles de Pre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123920"/>
            <a:ext cx="799128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ROGRAMAS PREVENTIV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2093760"/>
            <a:ext cx="7883640" cy="725400"/>
            <a:chOff x="685800" y="2093760"/>
            <a:chExt cx="7883640" cy="725400"/>
          </a:xfrm>
        </p:grpSpPr>
        <p:sp>
          <p:nvSpPr>
            <p:cNvPr id="142" name=""/>
            <p:cNvSpPr/>
            <p:nvPr/>
          </p:nvSpPr>
          <p:spPr>
            <a:xfrm>
              <a:off x="685800" y="2093760"/>
              <a:ext cx="7883640" cy="6458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>
                    <a:alpha val="70196"/>
                  </a:srgbClr>
                </a:gs>
                <a:gs pos="50000">
                  <a:srgbClr val="f0f0f0"/>
                </a:gs>
                <a:gs pos="100000">
                  <a:srgbClr val="dddddd">
                    <a:alpha val="70196"/>
                  </a:srgbClr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857160" y="2153880"/>
              <a:ext cx="943200" cy="665280"/>
              <a:chOff x="857160" y="2153880"/>
              <a:chExt cx="943200" cy="665280"/>
            </a:xfrm>
          </p:grpSpPr>
          <p:sp>
            <p:nvSpPr>
              <p:cNvPr id="144" name=""/>
              <p:cNvSpPr/>
              <p:nvPr/>
            </p:nvSpPr>
            <p:spPr>
              <a:xfrm>
                <a:off x="857160" y="2153880"/>
                <a:ext cx="943200" cy="529200"/>
              </a:xfrm>
              <a:prstGeom prst="roundRect">
                <a:avLst>
                  <a:gd name="adj" fmla="val 11921"/>
                </a:avLst>
              </a:prstGeom>
              <a:solidFill>
                <a:srgbClr val="cc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16200" y="2187720"/>
                <a:ext cx="470160" cy="2646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33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25440" y="230004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957320" y="2099880"/>
              <a:ext cx="64803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GRAMA HADO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guimiento de patologías prevalentes en la tercera eda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55640" y="4572000"/>
            <a:ext cx="7883640" cy="725040"/>
            <a:chOff x="755640" y="4572000"/>
            <a:chExt cx="7883640" cy="725040"/>
          </a:xfrm>
        </p:grpSpPr>
        <p:sp>
          <p:nvSpPr>
            <p:cNvPr id="149" name=""/>
            <p:cNvSpPr/>
            <p:nvPr/>
          </p:nvSpPr>
          <p:spPr>
            <a:xfrm>
              <a:off x="755640" y="4572000"/>
              <a:ext cx="7883640" cy="6462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>
                    <a:alpha val="70196"/>
                  </a:srgbClr>
                </a:gs>
                <a:gs pos="50000">
                  <a:srgbClr val="f0f0f0"/>
                </a:gs>
                <a:gs pos="100000">
                  <a:srgbClr val="dddddd">
                    <a:alpha val="70196"/>
                  </a:srgbClr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927000" y="4632480"/>
              <a:ext cx="943200" cy="664560"/>
              <a:chOff x="927000" y="4632480"/>
              <a:chExt cx="943200" cy="664560"/>
            </a:xfrm>
          </p:grpSpPr>
          <p:sp>
            <p:nvSpPr>
              <p:cNvPr id="151" name=""/>
              <p:cNvSpPr/>
              <p:nvPr/>
            </p:nvSpPr>
            <p:spPr>
              <a:xfrm>
                <a:off x="927000" y="4632480"/>
                <a:ext cx="943200" cy="528840"/>
              </a:xfrm>
              <a:prstGeom prst="roundRect">
                <a:avLst>
                  <a:gd name="adj" fmla="val 11921"/>
                </a:avLst>
              </a:prstGeom>
              <a:solidFill>
                <a:srgbClr val="cc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86040" y="4666320"/>
                <a:ext cx="470160" cy="2642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33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95280" y="4778280"/>
                <a:ext cx="1843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963800" y="4591080"/>
              <a:ext cx="64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GRAMA DE ACTIVIDADES TERAPEUTICAS NO MEDICAMENTO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1123920"/>
            <a:ext cx="799128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ATOLOGÍAS PREVALE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197080"/>
            <a:ext cx="7848720" cy="21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IPERTENSIÓN ARTERIAL 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DIABETES 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OBESIDAD |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Patologías altamente relacionadas con el estilo de vida y el medio ambi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143000" y="1079640"/>
          <a:ext cx="6858000" cy="51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79640"/>
                    <a:ext cx="6858000" cy="51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 rot="16200000">
            <a:off x="534600" y="1751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crosoft Sans Serif"/>
              </a:rPr>
              <a:t>HO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7392600" y="16243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crosoft Sans Serif"/>
              </a:rPr>
              <a:t>MUJ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692280"/>
            <a:ext cx="799128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ITUACIÓN POBLA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42920" y="620640"/>
            <a:ext cx="54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43000" y="1079640"/>
            <a:ext cx="6858000" cy="5190840"/>
            <a:chOff x="1143000" y="1079640"/>
            <a:chExt cx="6858000" cy="5190840"/>
          </a:xfrm>
        </p:grpSpPr>
        <p:graphicFrame>
          <p:nvGraphicFramePr>
            <p:cNvPr id="171" name=""/>
            <p:cNvGraphicFramePr/>
            <p:nvPr/>
          </p:nvGraphicFramePr>
          <p:xfrm>
            <a:off x="1143000" y="1079640"/>
            <a:ext cx="6858000" cy="51908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1079640"/>
                      <a:ext cx="6858000" cy="51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5346720" y="3517920"/>
              <a:ext cx="914400" cy="42912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 rot="16200000">
            <a:off x="534600" y="1751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crosoft Sans Serif"/>
              </a:rPr>
              <a:t>HO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7392600" y="16243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crosoft Sans Serif"/>
              </a:rPr>
              <a:t>MUJ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2720" y="692280"/>
            <a:ext cx="799164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FILIADOS EN TRATAMIENTO POR HIPERTENS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143000" y="1079640"/>
            <a:ext cx="6858000" cy="5190840"/>
            <a:chOff x="1143000" y="1079640"/>
            <a:chExt cx="6858000" cy="5190840"/>
          </a:xfrm>
        </p:grpSpPr>
        <p:graphicFrame>
          <p:nvGraphicFramePr>
            <p:cNvPr id="180" name=""/>
            <p:cNvGraphicFramePr/>
            <p:nvPr/>
          </p:nvGraphicFramePr>
          <p:xfrm>
            <a:off x="1143000" y="1079640"/>
            <a:ext cx="6858000" cy="51908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1079640"/>
                      <a:ext cx="6858000" cy="51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"/>
            <p:cNvSpPr/>
            <p:nvPr/>
          </p:nvSpPr>
          <p:spPr>
            <a:xfrm>
              <a:off x="5346720" y="3517920"/>
              <a:ext cx="914400" cy="42912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rot="16200000">
            <a:off x="534600" y="1751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crosoft Sans Serif"/>
              </a:rPr>
              <a:t>HOM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7392600" y="16243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crosoft Sans Serif"/>
              </a:rPr>
              <a:t>MUJ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2720" y="692280"/>
            <a:ext cx="799164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0000">
                  <a:alpha val="91372"/>
                </a:srgbClr>
              </a:gs>
              <a:gs pos="50000">
                <a:srgbClr val="eeb1b1"/>
              </a:gs>
              <a:gs pos="100000">
                <a:srgbClr val="cc0000">
                  <a:alpha val="91372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FILIADOS EN TRATAMIENTO POR DIABE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6526080"/>
            <a:ext cx="8207280" cy="21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57625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3:50:29Z</dcterms:created>
  <dc:creator>sbrusilovsky</dc:creator>
  <dc:description/>
  <dc:language>en-US</dc:language>
  <cp:lastModifiedBy>C.P.C.E.C.A.B.A</cp:lastModifiedBy>
  <dcterms:modified xsi:type="dcterms:W3CDTF">2008-06-26T16:05:53Z</dcterms:modified>
  <cp:revision>461</cp:revision>
  <dc:subject/>
  <dc:title>Diapositiva 1</dc:title>
</cp:coreProperties>
</file>