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1DC2-780F-4F92-955B-1DC07A33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E2CD-AA32-4388-9E94-E3120894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A81-5266-4622-97A3-24AE0D42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FC1-3D10-4D60-B337-B69F9697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589-71F0-4D33-A20D-70793297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D07-3286-4299-9181-6FB26CD7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DE90-38AC-49E4-A06A-864FEF7C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F183-5283-43C5-BD73-0ACC3778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711-E769-4460-BC25-C9990864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810-61BF-479B-A0F9-2A2EDCBB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0C17-7264-4631-BAED-16FF2FC6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6B21-0EE2-4D6B-A0FD-50AE37F2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0B30-D499-4EC4-84B6-C0680BDED5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nsejo.org.ar/Cv05/bellagio_ricardo.htm" TargetMode="External"/><Relationship Id="rId3" Type="http://schemas.openxmlformats.org/officeDocument/2006/relationships/hyperlink" Target="http://www.consejo.org.ar/Cv05/bellagio_ricardo.htm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04640"/>
            <a:ext cx="8064720" cy="61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º Congreso Internacional de la Seguridad Social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“Una visión prospectiv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volución de los recurso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u impacto en la Seguridad Social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r. Ricardo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llagi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rente de Control Económico Financi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erintendencia de Servicios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 de junio d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12760" y="260280"/>
            <a:ext cx="7662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tuación al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95160" y="1182600"/>
            <a:ext cx="7728120" cy="5200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rot="21373800">
            <a:off x="2117520" y="4137120"/>
            <a:ext cx="6016320" cy="820800"/>
          </a:xfrm>
          <a:custGeom>
            <a:avLst/>
            <a:gdLst>
              <a:gd name="textAreaLeft" fmla="*/ 1341000 w 6016320"/>
              <a:gd name="textAreaRight" fmla="*/ 4409640 w 6016320"/>
              <a:gd name="textAreaTop" fmla="*/ 109800 h 820800"/>
              <a:gd name="textAreaBottom" fmla="*/ 711000 h 820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29" hR="21600" stAng="10800000" swAng="5400000"/>
                <a:lnTo>
                  <a:pt x="11017" y="0"/>
                </a:lnTo>
                <a:arcTo wR="9629" hR="21600" stAng="-5400000" swAng="1807098"/>
                <a:lnTo>
                  <a:pt x="19606" y="8439"/>
                </a:lnTo>
                <a:lnTo>
                  <a:pt x="19951" y="21600"/>
                </a:lnTo>
                <a:lnTo>
                  <a:pt x="16308" y="8439"/>
                </a:lnTo>
                <a:lnTo>
                  <a:pt x="17263" y="8439"/>
                </a:lnTo>
                <a:arcTo wR="9629" hR="21600" stAng="-3592902" swAng="-1696394"/>
                <a:lnTo>
                  <a:pt x="10323" y="56"/>
                </a:lnTo>
                <a:arcTo wR="9629" hR="21600" stAng="-5510703" swAng="-5289297"/>
                <a:close/>
              </a:path>
              <a:path fill="darkenLess" w="21600" h="21600">
                <a:moveTo>
                  <a:pt x="0" y="21600"/>
                </a:moveTo>
                <a:arcTo wR="9629" hR="21600" stAng="10800000" swAng="5400000"/>
                <a:lnTo>
                  <a:pt x="9629" y="0"/>
                </a:lnTo>
                <a:arcTo wR="9629" hR="21600" stAng="-5400000" swAng="110703"/>
                <a:lnTo>
                  <a:pt x="10323" y="56"/>
                </a:lnTo>
                <a:arcTo wR="9629" hR="21600" stAng="-5510703" swAng="-5289297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360600" y="3897360"/>
            <a:ext cx="3154320" cy="509400"/>
            <a:chOff x="3360600" y="3897360"/>
            <a:chExt cx="3154320" cy="509400"/>
          </a:xfrm>
        </p:grpSpPr>
        <p:sp>
          <p:nvSpPr>
            <p:cNvPr id="118" name=""/>
            <p:cNvSpPr/>
            <p:nvPr/>
          </p:nvSpPr>
          <p:spPr>
            <a:xfrm>
              <a:off x="4284720" y="3897360"/>
              <a:ext cx="1292040" cy="509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60600" y="3973320"/>
              <a:ext cx="315432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>
              <a:spAutoFit/>
            </a:bodyPr>
            <a:p>
              <a:pPr algn="ctr"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71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79640" y="1303200"/>
            <a:ext cx="49132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ndicadores pos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760" y="260280"/>
            <a:ext cx="7662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tuación al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832040"/>
            <a:ext cx="8018280" cy="4433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071800" y="2687760"/>
          <a:ext cx="4716360" cy="337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71800" y="2687760"/>
                    <a:ext cx="471636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" name=""/>
          <p:cNvGrpSpPr/>
          <p:nvPr/>
        </p:nvGrpSpPr>
        <p:grpSpPr>
          <a:xfrm>
            <a:off x="2490840" y="1918800"/>
            <a:ext cx="3534840" cy="1586880"/>
            <a:chOff x="2490840" y="1918800"/>
            <a:chExt cx="3534840" cy="1586880"/>
          </a:xfrm>
        </p:grpSpPr>
        <p:sp>
          <p:nvSpPr>
            <p:cNvPr id="126" name=""/>
            <p:cNvSpPr/>
            <p:nvPr/>
          </p:nvSpPr>
          <p:spPr>
            <a:xfrm rot="20679600">
              <a:off x="2963520" y="2301480"/>
              <a:ext cx="3006720" cy="820800"/>
            </a:xfrm>
            <a:custGeom>
              <a:avLst/>
              <a:gdLst>
                <a:gd name="textAreaLeft" fmla="*/ 583560 w 3006720"/>
                <a:gd name="textAreaRight" fmla="*/ 2142360 w 3006720"/>
                <a:gd name="textAreaTop" fmla="*/ 109800 h 820800"/>
                <a:gd name="textAreaBottom" fmla="*/ 711000 h 82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87" hR="21600" stAng="10800000" swAng="5400000"/>
                  <a:lnTo>
                    <a:pt x="11197" y="0"/>
                  </a:lnTo>
                  <a:arcTo wR="8387" hR="21600" stAng="-5400000" swAng="1977907"/>
                  <a:lnTo>
                    <a:pt x="20409" y="10505"/>
                  </a:lnTo>
                  <a:lnTo>
                    <a:pt x="18178" y="21600"/>
                  </a:lnTo>
                  <a:lnTo>
                    <a:pt x="13565" y="10505"/>
                  </a:lnTo>
                  <a:lnTo>
                    <a:pt x="15582" y="10505"/>
                  </a:lnTo>
                  <a:arcTo wR="8387" hR="21600" stAng="-3422093" swAng="-1751417"/>
                  <a:lnTo>
                    <a:pt x="9792" y="305"/>
                  </a:lnTo>
                  <a:arcTo wR="8387" hR="21600" stAng="-5626490" swAng="-5173510"/>
                  <a:close/>
                </a:path>
                <a:path fill="darkenLess" w="21600" h="21600">
                  <a:moveTo>
                    <a:pt x="0" y="21600"/>
                  </a:moveTo>
                  <a:arcTo wR="8387" hR="21600" stAng="10800000" swAng="5400000"/>
                  <a:lnTo>
                    <a:pt x="8387" y="0"/>
                  </a:lnTo>
                  <a:arcTo wR="8387" hR="21600" stAng="-5400000" swAng="226490"/>
                  <a:lnTo>
                    <a:pt x="9792" y="305"/>
                  </a:lnTo>
                  <a:arcTo wR="8387" hR="21600" stAng="-5626490" swAng="-5173510"/>
                  <a:close/>
                </a:path>
              </a:pathLst>
            </a:custGeom>
            <a:solidFill>
              <a:srgbClr val="7df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490840" y="2189160"/>
              <a:ext cx="3154320" cy="509760"/>
              <a:chOff x="2490840" y="2189160"/>
              <a:chExt cx="3154320" cy="509760"/>
            </a:xfrm>
          </p:grpSpPr>
          <p:sp>
            <p:nvSpPr>
              <p:cNvPr id="128" name=""/>
              <p:cNvSpPr/>
              <p:nvPr/>
            </p:nvSpPr>
            <p:spPr>
              <a:xfrm>
                <a:off x="3414960" y="2189160"/>
                <a:ext cx="1292040" cy="509760"/>
              </a:xfrm>
              <a:prstGeom prst="roundRect">
                <a:avLst>
                  <a:gd name="adj" fmla="val 16667"/>
                </a:avLst>
              </a:prstGeom>
              <a:solidFill>
                <a:srgbClr val="66ff33"/>
              </a:solidFill>
              <a:ln w="0">
                <a:noFill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490840" y="2265480"/>
                <a:ext cx="31543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 anchorCtr="1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 3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4734000" y="5869080"/>
            <a:ext cx="177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ulio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3440" y="587700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Julio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4200" y="1930320"/>
            <a:ext cx="28242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  <a:ea typeface="Arial"/>
              </a:rPr>
              <a:t>Recau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Arial"/>
              </a:rPr>
              <a:t>en millones de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95200" y="2205000"/>
          <a:ext cx="4176720" cy="41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5200" y="2205000"/>
                    <a:ext cx="41767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979640" y="1303200"/>
            <a:ext cx="49132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l  desaf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27360" y="3544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3952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27000" y="393372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3952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2680" y="1863720"/>
            <a:ext cx="2718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anchorCtr="1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tal emp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815000" y="1828800"/>
            <a:ext cx="4176720" cy="4535640"/>
            <a:chOff x="4815000" y="1828800"/>
            <a:chExt cx="4176720" cy="4535640"/>
          </a:xfrm>
        </p:grpSpPr>
        <p:graphicFrame>
          <p:nvGraphicFramePr>
            <p:cNvPr id="140" name=""/>
            <p:cNvGraphicFramePr/>
            <p:nvPr/>
          </p:nvGraphicFramePr>
          <p:xfrm>
            <a:off x="4815000" y="2187720"/>
            <a:ext cx="4176720" cy="4176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15000" y="2187720"/>
                      <a:ext cx="4176720" cy="417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5334120" y="3081240"/>
              <a:ext cx="14605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3952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queños emplead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3952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40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13480" y="1828800"/>
              <a:ext cx="27176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>
              <a:spAutoFit/>
            </a:bodyPr>
            <a:p>
              <a:pPr algn="ctr">
                <a:lnSpc>
                  <a:spcPct val="8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  <a:ea typeface="Arial"/>
                </a:rPr>
                <a:t>Empleo inform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1880" y="2208240"/>
              <a:ext cx="4102200" cy="3983040"/>
            </a:xfrm>
            <a:prstGeom prst="wedgeRectCallout">
              <a:avLst>
                <a:gd name="adj1" fmla="val -80032"/>
                <a:gd name="adj2" fmla="val -22138"/>
              </a:avLst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73920" y="2840040"/>
              <a:ext cx="1460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3952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ur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3952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5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21680" y="4229280"/>
              <a:ext cx="1460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3952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mést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3952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3445800">
              <a:off x="6723720" y="4960440"/>
              <a:ext cx="146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3952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tru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3952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72160" y="4849920"/>
              <a:ext cx="1460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3952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r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3952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200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12760" y="260280"/>
            <a:ext cx="7662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tuación al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476360" y="692280"/>
          <a:ext cx="6095880" cy="5838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 DE OBR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HE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4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. MIX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67.1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C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6.3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R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Y 214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7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A NATURALE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73.1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CONVE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DIC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982.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A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840.7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0" y="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actual al 31/05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24000" y="981000"/>
          <a:ext cx="8496000" cy="4808520"/>
        </p:xfrm>
        <a:graphic>
          <a:graphicData uri="http://schemas.openxmlformats.org/drawingml/2006/table">
            <a:tbl>
              <a:tblPr/>
              <a:tblGrid>
                <a:gridCol w="2124000"/>
                <a:gridCol w="2124000"/>
                <a:gridCol w="2124000"/>
                <a:gridCol w="212400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 BENEF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UL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I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HER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.3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8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5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MPL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.7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6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.0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.  DE MONOTRIBU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. DOME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2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9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BIL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6.0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8.0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7.7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3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.7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. DEPEND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16.8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56.6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60.2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74.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20.2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53.8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0" y="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actual al 31/05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26920" y="404640"/>
            <a:ext cx="756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 NACIONAL DE OBR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ENES Y APLICACIONES DE FO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32000" y="14842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GRESOS OPE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1989000"/>
          <a:ext cx="4032000" cy="4608720"/>
        </p:xfrm>
        <a:graphic>
          <a:graphicData uri="http://schemas.openxmlformats.org/drawingml/2006/table">
            <a:tbl>
              <a:tblPr/>
              <a:tblGrid>
                <a:gridCol w="1871640"/>
                <a:gridCol w="21603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3.254. 5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59.596.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I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76.005.7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OS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6.089.6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IEMBRE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58.070.0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3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UBRE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99.085.7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643280" y="1989000"/>
          <a:ext cx="4248360" cy="4834080"/>
        </p:xfrm>
        <a:graphic>
          <a:graphicData uri="http://schemas.openxmlformats.org/drawingml/2006/table">
            <a:tbl>
              <a:tblPr/>
              <a:tblGrid>
                <a:gridCol w="1971720"/>
                <a:gridCol w="22766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IE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13.898.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CIE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4.726.0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7.676.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R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3.414.6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7.998.0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24.926.2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7% c/Referencia Mayo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6920" y="404640"/>
            <a:ext cx="756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 NACIONAL DE OBR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ENES Y APLICACIONES DE FO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14842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STOS MEDICOS ASISTEN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24000" y="1989000"/>
          <a:ext cx="4032000" cy="4608720"/>
        </p:xfrm>
        <a:graphic>
          <a:graphicData uri="http://schemas.openxmlformats.org/drawingml/2006/table">
            <a:tbl>
              <a:tblPr/>
              <a:tblGrid>
                <a:gridCol w="1871640"/>
                <a:gridCol w="21603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9.295.3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5.129.5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I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5.498.4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OS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4.549.6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IEMBRE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3.027.2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3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UBRE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7.262.2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4643280" y="1989000"/>
          <a:ext cx="4248360" cy="4834080"/>
        </p:xfrm>
        <a:graphic>
          <a:graphicData uri="http://schemas.openxmlformats.org/drawingml/2006/table">
            <a:tbl>
              <a:tblPr/>
              <a:tblGrid>
                <a:gridCol w="1971720"/>
                <a:gridCol w="22766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IE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1.161.9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CIE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4.567.9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1.292.3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R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5.228.5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3.360.8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7.844.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3% c/Referencia Mayo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26920" y="404640"/>
            <a:ext cx="756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 NACIONAL DE OBR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ENES Y APLICACIONES DE FO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32000" y="14842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STOS FARMACEU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4000" y="1989000"/>
          <a:ext cx="4032000" cy="4608720"/>
        </p:xfrm>
        <a:graphic>
          <a:graphicData uri="http://schemas.openxmlformats.org/drawingml/2006/table">
            <a:tbl>
              <a:tblPr/>
              <a:tblGrid>
                <a:gridCol w="1871640"/>
                <a:gridCol w="21603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.671.4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.592.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I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.526.8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OS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.853.8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IEMBRE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.881.5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3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UBRE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.142.4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643280" y="1989000"/>
          <a:ext cx="4248360" cy="4834080"/>
        </p:xfrm>
        <a:graphic>
          <a:graphicData uri="http://schemas.openxmlformats.org/drawingml/2006/table">
            <a:tbl>
              <a:tblPr/>
              <a:tblGrid>
                <a:gridCol w="1971720"/>
                <a:gridCol w="22766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IE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.691.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CIE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.105.6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.200.7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R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.463.8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.536.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.600.6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% c/Referencia Mayo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26920" y="404640"/>
            <a:ext cx="756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 NACIONAL DE OBR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ENES Y APLICACIONES DE FO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14842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STOS ADMINIST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24000" y="1989000"/>
          <a:ext cx="4032000" cy="4608720"/>
        </p:xfrm>
        <a:graphic>
          <a:graphicData uri="http://schemas.openxmlformats.org/drawingml/2006/table">
            <a:tbl>
              <a:tblPr/>
              <a:tblGrid>
                <a:gridCol w="1871640"/>
                <a:gridCol w="21603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058.1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969.7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I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920.3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OS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248.2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IEMBRE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643.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3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UBRE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.827.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643280" y="1989000"/>
          <a:ext cx="4248360" cy="4834080"/>
        </p:xfrm>
        <a:graphic>
          <a:graphicData uri="http://schemas.openxmlformats.org/drawingml/2006/table">
            <a:tbl>
              <a:tblPr/>
              <a:tblGrid>
                <a:gridCol w="1971720"/>
                <a:gridCol w="22766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IE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752.1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CIE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337.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422.9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R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637.6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081.7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549.9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% c/Referencia Mayo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258920" y="1989000"/>
          <a:ext cx="6697800" cy="3976560"/>
        </p:xfrm>
        <a:graphic>
          <a:graphicData uri="http://schemas.openxmlformats.org/drawingml/2006/table">
            <a:tbl>
              <a:tblPr/>
              <a:tblGrid>
                <a:gridCol w="3349800"/>
                <a:gridCol w="3348000"/>
              </a:tblGrid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AUDACION REAL (F.S.R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6.906.922,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19.573.912,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1042920" y="692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NDO SOLIDARIO DE REDISTRIBU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7920" y="304920"/>
            <a:ext cx="6400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FINANCIAMIENT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330280"/>
            <a:ext cx="80010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) Aportes y Contribucion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b) Voluntarios o Adherentes - Res.490/9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) Recursos de distinta naturalez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) Cápita por jubilados - Dto.292/9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) Monotributistas y Monotributistas Soci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)  Subsid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g) Seguro de Desemple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) Aporte del Reino de Españ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ara los ciudadanos españo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600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agentes se financian a travé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49212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5" idx="0"/>
          </p:cNvCxnSpPr>
          <p:nvPr/>
        </p:nvCxnSpPr>
        <p:spPr>
          <a:xfrm>
            <a:off x="2819520" y="4921200"/>
            <a:ext cx="25912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5486400" y="4692600"/>
            <a:ext cx="1905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.P.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5530680"/>
            <a:ext cx="3429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istribución  Automát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979640" y="1303200"/>
            <a:ext cx="49132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ndicadores pos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2760" y="260280"/>
            <a:ext cx="7662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tuación al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1844640"/>
            <a:ext cx="8018280" cy="4433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071800" y="2687760"/>
          <a:ext cx="4716360" cy="337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71800" y="2687760"/>
                    <a:ext cx="471636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7" name=""/>
          <p:cNvGrpSpPr/>
          <p:nvPr/>
        </p:nvGrpSpPr>
        <p:grpSpPr>
          <a:xfrm>
            <a:off x="2490840" y="1918800"/>
            <a:ext cx="3534840" cy="1586880"/>
            <a:chOff x="2490840" y="1918800"/>
            <a:chExt cx="3534840" cy="1586880"/>
          </a:xfrm>
        </p:grpSpPr>
        <p:sp>
          <p:nvSpPr>
            <p:cNvPr id="178" name=""/>
            <p:cNvSpPr/>
            <p:nvPr/>
          </p:nvSpPr>
          <p:spPr>
            <a:xfrm rot="20679600">
              <a:off x="2963520" y="2301480"/>
              <a:ext cx="3006720" cy="820800"/>
            </a:xfrm>
            <a:custGeom>
              <a:avLst/>
              <a:gdLst>
                <a:gd name="textAreaLeft" fmla="*/ 583560 w 3006720"/>
                <a:gd name="textAreaRight" fmla="*/ 2142360 w 3006720"/>
                <a:gd name="textAreaTop" fmla="*/ 109800 h 820800"/>
                <a:gd name="textAreaBottom" fmla="*/ 711000 h 82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87" hR="21600" stAng="10800000" swAng="5400000"/>
                  <a:lnTo>
                    <a:pt x="11197" y="0"/>
                  </a:lnTo>
                  <a:arcTo wR="8387" hR="21600" stAng="-5400000" swAng="1977907"/>
                  <a:lnTo>
                    <a:pt x="20409" y="10505"/>
                  </a:lnTo>
                  <a:lnTo>
                    <a:pt x="18178" y="21600"/>
                  </a:lnTo>
                  <a:lnTo>
                    <a:pt x="13565" y="10505"/>
                  </a:lnTo>
                  <a:lnTo>
                    <a:pt x="15582" y="10505"/>
                  </a:lnTo>
                  <a:arcTo wR="8387" hR="21600" stAng="-3422093" swAng="-1751417"/>
                  <a:lnTo>
                    <a:pt x="9792" y="305"/>
                  </a:lnTo>
                  <a:arcTo wR="8387" hR="21600" stAng="-5626490" swAng="-5173510"/>
                  <a:close/>
                </a:path>
                <a:path fill="darkenLess" w="21600" h="21600">
                  <a:moveTo>
                    <a:pt x="0" y="21600"/>
                  </a:moveTo>
                  <a:arcTo wR="8387" hR="21600" stAng="10800000" swAng="5400000"/>
                  <a:lnTo>
                    <a:pt x="8387" y="0"/>
                  </a:lnTo>
                  <a:arcTo wR="8387" hR="21600" stAng="-5400000" swAng="226490"/>
                  <a:lnTo>
                    <a:pt x="9792" y="305"/>
                  </a:lnTo>
                  <a:arcTo wR="8387" hR="21600" stAng="-5626490" swAng="-5173510"/>
                  <a:close/>
                </a:path>
              </a:pathLst>
            </a:custGeom>
            <a:solidFill>
              <a:srgbClr val="7df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490840" y="2189160"/>
              <a:ext cx="3154320" cy="509760"/>
              <a:chOff x="2490840" y="2189160"/>
              <a:chExt cx="3154320" cy="509760"/>
            </a:xfrm>
          </p:grpSpPr>
          <p:sp>
            <p:nvSpPr>
              <p:cNvPr id="180" name=""/>
              <p:cNvSpPr/>
              <p:nvPr/>
            </p:nvSpPr>
            <p:spPr>
              <a:xfrm>
                <a:off x="3414960" y="2189160"/>
                <a:ext cx="1292040" cy="509760"/>
              </a:xfrm>
              <a:prstGeom prst="roundRect">
                <a:avLst>
                  <a:gd name="adj" fmla="val 16667"/>
                </a:avLst>
              </a:prstGeom>
              <a:solidFill>
                <a:srgbClr val="66ff33"/>
              </a:solidFill>
              <a:ln w="0">
                <a:noFill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90840" y="2265480"/>
                <a:ext cx="31543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 anchorCtr="1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 34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4734000" y="5869080"/>
            <a:ext cx="177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ño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3440" y="587700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Año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4200" y="1930320"/>
            <a:ext cx="28242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  <a:ea typeface="Arial"/>
              </a:rPr>
              <a:t>Recau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Arial"/>
              </a:rPr>
              <a:t>en millones de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187280" y="1484280"/>
          <a:ext cx="6697800" cy="3976560"/>
        </p:xfrm>
        <a:graphic>
          <a:graphicData uri="http://schemas.openxmlformats.org/drawingml/2006/table">
            <a:tbl>
              <a:tblPr/>
              <a:tblGrid>
                <a:gridCol w="3349800"/>
                <a:gridCol w="3348000"/>
              </a:tblGrid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RIBUC. A O.O.S.S. (SAN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914.751,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4.469.104,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1187280" y="54936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NO Modificación Decreto 1901/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50920" y="620640"/>
            <a:ext cx="85690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Proyecto de Norma impulsada por la SS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solución Conjunta entre el Min. Economía y Producción y el Ministerio de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s. Nº 62/08 – M.E.Y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s. Nº 50/08 – M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odifica valor de la cotización establecida por incisos b) y c), que pasa a ser $ 37,00 y $31,00 respectivamente, incluyendo el aporte al FS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620640"/>
            <a:ext cx="8569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Proyecto de Norma impulsada por la SS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solución Conjunta entre el Min. Economía y Producción, el Ministerio de Trabajo, Empleo y Seg. Social y el Ministerio de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s. Nº 20/08 – M.E.Y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s. Nº 80/08 – M.T.E.y S.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s. Nº 12/08 – M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odifica valor de la cápita, que pasa a ser $ 81,00 entre 1/7/07 y 31/12/07 y $91,50 a partir del 1/1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620640"/>
            <a:ext cx="85690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Proyecto de Norma impulsada por la SS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umento de los topes salariales para el cálculo de los Aportes y Contribuciones al R.N.O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oy se encuentra en $ 4.8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pretende equipararlo con los Aportes y Contribuciones previsionales, es decir llevándolo a $ 7.256 para los Aportes y liberando las Contribu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6836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ACIDAD DE REPAGO DE OBR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24000" y="1397160"/>
          <a:ext cx="8496000" cy="5056200"/>
        </p:xfrm>
        <a:graphic>
          <a:graphicData uri="http://schemas.openxmlformats.org/drawingml/2006/table">
            <a:tbl>
              <a:tblPr/>
              <a:tblGrid>
                <a:gridCol w="1415880"/>
                <a:gridCol w="1416240"/>
                <a:gridCol w="1415880"/>
                <a:gridCol w="1415880"/>
                <a:gridCol w="1416240"/>
                <a:gridCol w="14158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AS 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IC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F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 DA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./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/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./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./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152280"/>
            <a:ext cx="8839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DESTINO DE LOS RECURSOS DE LAS OBRAS SOCIALES (Ley 23.660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540160"/>
            <a:ext cx="73915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estaciones Médico - Asisten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tras Prest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Gastos Administra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150840"/>
            <a:ext cx="9144000" cy="6712200"/>
            <a:chOff x="0" y="150840"/>
            <a:chExt cx="9144000" cy="6712200"/>
          </a:xfrm>
        </p:grpSpPr>
        <p:sp>
          <p:nvSpPr>
            <p:cNvPr id="52" name=""/>
            <p:cNvSpPr/>
            <p:nvPr/>
          </p:nvSpPr>
          <p:spPr>
            <a:xfrm>
              <a:off x="1600200" y="150840"/>
              <a:ext cx="5105520" cy="1295280"/>
            </a:xfrm>
            <a:prstGeom prst="flowChartAlternateProcess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320" y="2817720"/>
              <a:ext cx="1295280" cy="1067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57400" y="3122640"/>
              <a:ext cx="1447920" cy="10666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OO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67480" y="2131920"/>
              <a:ext cx="1295640" cy="1067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05320" y="1827360"/>
              <a:ext cx="1523880" cy="990360"/>
            </a:xfrm>
            <a:prstGeom prst="rect">
              <a:avLst/>
            </a:prstGeom>
            <a:gradFill rotWithShape="0">
              <a:gsLst>
                <a:gs pos="0">
                  <a:srgbClr val="d1c39f"/>
                </a:gs>
                <a:gs pos="100000">
                  <a:srgbClr val="ffefd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AF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(O.S. + F.S.R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303120"/>
              <a:ext cx="731520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APORTES Y CONTRIBU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SECTOR PUBLICO Y PRIV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SUSS - REG.NAC.DE OBRAS SOC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1446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" name=""/>
            <p:cNvCxnSpPr>
              <a:stCxn id="56" idx="2"/>
              <a:endCxn id="54" idx="0"/>
            </p:cNvCxnSpPr>
            <p:nvPr/>
          </p:nvCxnSpPr>
          <p:spPr>
            <a:xfrm flipH="1">
              <a:off x="2780640" y="2817360"/>
              <a:ext cx="148644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6" idx="2"/>
              <a:endCxn id="61" idx="0"/>
            </p:cNvCxnSpPr>
            <p:nvPr/>
          </p:nvCxnSpPr>
          <p:spPr>
            <a:xfrm>
              <a:off x="4267080" y="2817360"/>
              <a:ext cx="1563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5105520" y="3122640"/>
              <a:ext cx="1447560" cy="10666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FS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880" y="3198960"/>
              <a:ext cx="990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HPG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447560" y="3503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86000" y="4951440"/>
              <a:ext cx="2895480" cy="12952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38280" y="5470560"/>
              <a:ext cx="26672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Total Obras Soc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" name=""/>
            <p:cNvCxnSpPr/>
            <p:nvPr/>
          </p:nvCxnSpPr>
          <p:spPr>
            <a:xfrm>
              <a:off x="2666880" y="4188960"/>
              <a:ext cx="102960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" name=""/>
            <p:cNvSpPr/>
            <p:nvPr/>
          </p:nvSpPr>
          <p:spPr>
            <a:xfrm>
              <a:off x="0" y="4417920"/>
              <a:ext cx="1600200" cy="1067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8600" y="479916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Adher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"/>
            <p:cNvCxnSpPr>
              <a:stCxn id="67" idx="3"/>
              <a:endCxn id="64" idx="2"/>
            </p:cNvCxnSpPr>
            <p:nvPr/>
          </p:nvCxnSpPr>
          <p:spPr>
            <a:xfrm>
              <a:off x="1599840" y="4951080"/>
              <a:ext cx="686520" cy="64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"/>
            <p:cNvSpPr/>
            <p:nvPr/>
          </p:nvSpPr>
          <p:spPr>
            <a:xfrm>
              <a:off x="3657600" y="632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38280" y="6323040"/>
              <a:ext cx="274320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95480" y="632304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ahoma"/>
                </a:rPr>
                <a:t>Beneficiar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0120" y="5332320"/>
              <a:ext cx="1295280" cy="1067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67480" y="2284560"/>
              <a:ext cx="12956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c.  Otra Naturalez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Otr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6477120" y="2741760"/>
              <a:ext cx="914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01000" y="6032520"/>
              <a:ext cx="11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6553080" y="3884400"/>
              <a:ext cx="152424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4570560"/>
              <a:ext cx="91440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086600" y="4722840"/>
              <a:ext cx="91440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43800" y="3427560"/>
              <a:ext cx="1295280" cy="10666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20120" y="3579840"/>
              <a:ext cx="121896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Estruc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SSSalu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AP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553080" y="365616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4417920"/>
              <a:ext cx="1447920" cy="1067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Distribu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Automá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5880" y="5637240"/>
              <a:ext cx="1447920" cy="10666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A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Subsid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5790960" y="418932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4189320"/>
              <a:ext cx="4572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5028840" y="601776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495680" y="487512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5713560"/>
              <a:ext cx="1600200" cy="10666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320" y="5761080"/>
              <a:ext cx="152388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ahoma"/>
                </a:rPr>
                <a:t>ANSES Jubilados Seguro de Desemple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Tahoma"/>
                </a:rPr>
                <a:t>Aporte Reino de Españ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600200" y="601776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7667640" y="5373720"/>
            <a:ext cx="122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.G.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nicamente Mono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760" y="1155600"/>
            <a:ext cx="884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360" rIns="3603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Sistema Integrado de Jubilaciones y Pen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2760" y="260280"/>
            <a:ext cx="7662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tuación al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3680" y="1687680"/>
            <a:ext cx="8715240" cy="4644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603840" y="5888160"/>
            <a:ext cx="2198880" cy="298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0760" y="1130400"/>
            <a:ext cx="884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360" rIns="3603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Sistema Integrado de Jubilaciones y Pen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760" y="260280"/>
            <a:ext cx="7662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tuación al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9160" y="1681200"/>
            <a:ext cx="8897760" cy="4551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2760" y="260280"/>
            <a:ext cx="7662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tuación al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95160" y="1182600"/>
            <a:ext cx="772812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2760" y="260280"/>
            <a:ext cx="7662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tuación al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95160" y="1182600"/>
            <a:ext cx="7728120" cy="5200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rot="20763000">
            <a:off x="1425600" y="2835000"/>
            <a:ext cx="6016680" cy="820800"/>
          </a:xfrm>
          <a:custGeom>
            <a:avLst/>
            <a:gdLst>
              <a:gd name="textAreaLeft" fmla="*/ 1341000 w 6016680"/>
              <a:gd name="textAreaRight" fmla="*/ 4409640 w 6016680"/>
              <a:gd name="textAreaTop" fmla="*/ 109800 h 820800"/>
              <a:gd name="textAreaBottom" fmla="*/ 711000 h 820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29" hR="21600" stAng="10800000" swAng="5400000"/>
                <a:lnTo>
                  <a:pt x="11017" y="0"/>
                </a:lnTo>
                <a:arcTo wR="9629" hR="21600" stAng="-5400000" swAng="1807098"/>
                <a:lnTo>
                  <a:pt x="19606" y="8439"/>
                </a:lnTo>
                <a:lnTo>
                  <a:pt x="19951" y="21600"/>
                </a:lnTo>
                <a:lnTo>
                  <a:pt x="16308" y="8439"/>
                </a:lnTo>
                <a:lnTo>
                  <a:pt x="17263" y="8439"/>
                </a:lnTo>
                <a:arcTo wR="9629" hR="21600" stAng="-3592902" swAng="-1696394"/>
                <a:lnTo>
                  <a:pt x="10323" y="56"/>
                </a:lnTo>
                <a:arcTo wR="9629" hR="21600" stAng="-5510703" swAng="-5289297"/>
                <a:close/>
              </a:path>
              <a:path fill="darkenLess" w="21600" h="21600">
                <a:moveTo>
                  <a:pt x="0" y="21600"/>
                </a:moveTo>
                <a:arcTo wR="9629" hR="21600" stAng="10800000" swAng="5400000"/>
                <a:lnTo>
                  <a:pt x="9629" y="0"/>
                </a:lnTo>
                <a:arcTo wR="9629" hR="21600" stAng="-5400000" swAng="110703"/>
                <a:lnTo>
                  <a:pt x="10323" y="56"/>
                </a:lnTo>
                <a:arcTo wR="9629" hR="21600" stAng="-5510703" swAng="-5289297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617920" y="2620800"/>
            <a:ext cx="3154320" cy="509760"/>
            <a:chOff x="2617920" y="2620800"/>
            <a:chExt cx="3154320" cy="509760"/>
          </a:xfrm>
        </p:grpSpPr>
        <p:sp>
          <p:nvSpPr>
            <p:cNvPr id="106" name=""/>
            <p:cNvSpPr/>
            <p:nvPr/>
          </p:nvSpPr>
          <p:spPr>
            <a:xfrm>
              <a:off x="3542040" y="2620800"/>
              <a:ext cx="1292040" cy="5097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17920" y="2697120"/>
              <a:ext cx="315432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>
              <a:spAutoFit/>
            </a:bodyPr>
            <a:p>
              <a:pPr algn="ctr"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16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2760" y="260280"/>
            <a:ext cx="7662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tuación al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95160" y="1182600"/>
            <a:ext cx="7728120" cy="5200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rot="20457000">
            <a:off x="1616040" y="2390400"/>
            <a:ext cx="6016680" cy="820800"/>
          </a:xfrm>
          <a:custGeom>
            <a:avLst/>
            <a:gdLst>
              <a:gd name="textAreaLeft" fmla="*/ 1341000 w 6016680"/>
              <a:gd name="textAreaRight" fmla="*/ 4409640 w 6016680"/>
              <a:gd name="textAreaTop" fmla="*/ 109800 h 820800"/>
              <a:gd name="textAreaBottom" fmla="*/ 711000 h 820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29" hR="21600" stAng="10800000" swAng="5400000"/>
                <a:lnTo>
                  <a:pt x="11017" y="0"/>
                </a:lnTo>
                <a:arcTo wR="9629" hR="21600" stAng="-5400000" swAng="1807098"/>
                <a:lnTo>
                  <a:pt x="19606" y="8439"/>
                </a:lnTo>
                <a:lnTo>
                  <a:pt x="19951" y="21600"/>
                </a:lnTo>
                <a:lnTo>
                  <a:pt x="16308" y="8439"/>
                </a:lnTo>
                <a:lnTo>
                  <a:pt x="17263" y="8439"/>
                </a:lnTo>
                <a:arcTo wR="9629" hR="21600" stAng="-3592902" swAng="-1696394"/>
                <a:lnTo>
                  <a:pt x="10323" y="56"/>
                </a:lnTo>
                <a:arcTo wR="9629" hR="21600" stAng="-5510703" swAng="-5289297"/>
                <a:close/>
              </a:path>
              <a:path fill="darkenLess" w="21600" h="21600">
                <a:moveTo>
                  <a:pt x="0" y="21600"/>
                </a:moveTo>
                <a:arcTo wR="9629" hR="21600" stAng="10800000" swAng="5400000"/>
                <a:lnTo>
                  <a:pt x="9629" y="0"/>
                </a:lnTo>
                <a:arcTo wR="9629" hR="21600" stAng="-5400000" swAng="110703"/>
                <a:lnTo>
                  <a:pt x="10323" y="56"/>
                </a:lnTo>
                <a:arcTo wR="9629" hR="21600" stAng="-5510703" swAng="-5289297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897280" y="2189160"/>
            <a:ext cx="3154320" cy="509760"/>
            <a:chOff x="2897280" y="2189160"/>
            <a:chExt cx="3154320" cy="509760"/>
          </a:xfrm>
        </p:grpSpPr>
        <p:sp>
          <p:nvSpPr>
            <p:cNvPr id="112" name=""/>
            <p:cNvSpPr/>
            <p:nvPr/>
          </p:nvSpPr>
          <p:spPr>
            <a:xfrm>
              <a:off x="3821400" y="2189160"/>
              <a:ext cx="1292040" cy="509760"/>
            </a:xfrm>
            <a:prstGeom prst="roundRect">
              <a:avLst>
                <a:gd name="adj" fmla="val 16667"/>
              </a:avLst>
            </a:prstGeom>
            <a:solidFill>
              <a:srgbClr val="993366"/>
            </a:solidFill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97280" y="2265480"/>
              <a:ext cx="315432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>
              <a:spAutoFit/>
            </a:bodyPr>
            <a:p>
              <a:pPr algn="ctr"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168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2:55:14Z</dcterms:created>
  <dc:creator>ncastro</dc:creator>
  <dc:description/>
  <dc:language>en-US</dc:language>
  <cp:lastModifiedBy>C.P.C.E.C.A.B.A</cp:lastModifiedBy>
  <dcterms:modified xsi:type="dcterms:W3CDTF">2008-06-26T16:04:58Z</dcterms:modified>
  <cp:revision>10</cp:revision>
  <dc:subject/>
  <dc:title>Diapositiva 1</dc:title>
</cp:coreProperties>
</file>