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A36-E114-4F1A-9240-3CC73C86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5D1-CCB5-428B-B230-C3830958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25A-0A66-49CA-9F93-1760608E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9C2-B0FD-4E16-A188-87AEABC1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1CC-90B8-4109-B544-FD699F4D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C92-A29C-4C01-B388-4D2546E5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4BC-9A75-4B49-AD52-9D0F2EEF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6D1-FF3D-422C-A301-521B08B2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757-48A4-4B97-8F83-B5136DFA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4CD-C6BB-4778-9E28-FA089DEA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005-3BD2-43BE-92E4-FDD9B2C1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406-29D0-414C-8199-66601867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27A7-0443-4BCA-9ECB-907AF82D63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09640" y="76320"/>
            <a:ext cx="54000" cy="105228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765000"/>
            <a:ext cx="8669160" cy="5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4B23-564E-4BD5-BE01-FCF015BB103B}" type="slidenum">
              <a:rPr b="0" lang="es-ES" sz="14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492960"/>
            <a:ext cx="8226360" cy="5400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92160" y="109440"/>
          <a:ext cx="1332000" cy="13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160" y="109440"/>
                    <a:ext cx="133200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32000" y="2060640"/>
            <a:ext cx="71276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6160" indent="-588960">
              <a:lnSpc>
                <a:spcPct val="110000"/>
              </a:lnSpc>
              <a:spcBef>
                <a:spcPts val="1500"/>
              </a:spcBef>
              <a:spcAft>
                <a:spcPts val="751"/>
              </a:spcAft>
              <a:buClr>
                <a:srgbClr val="6666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20720" y="1268280"/>
            <a:ext cx="75232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9999"/>
                </a:solidFill>
                <a:latin typeface="Arial Black"/>
              </a:rPr>
              <a:t>La crisis de la atención médica en el sector privado de sal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Arial Black"/>
              </a:rPr>
              <a:t>Autor: Jorge Col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5072400"/>
            <a:ext cx="6337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6699"/>
                </a:solidFill>
                <a:latin typeface="Arial Black"/>
              </a:rPr>
              <a:t>ID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6699"/>
                </a:solidFill>
                <a:latin typeface="Arial Black"/>
              </a:rPr>
              <a:t>WWW.IDES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33880" y="252360"/>
            <a:ext cx="1584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84360" y="1832040"/>
          <a:ext cx="8207280" cy="3684600"/>
        </p:xfrm>
        <a:graphic>
          <a:graphicData uri="http://schemas.openxmlformats.org/drawingml/2006/table">
            <a:tbl>
              <a:tblPr/>
              <a:tblGrid>
                <a:gridCol w="1890720"/>
                <a:gridCol w="4013280"/>
                <a:gridCol w="23032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ul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o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nder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ulo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mentos y bebi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ul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ument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ulo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vi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ulo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amiento y mantenimiento del hog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ulo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ención médica y gastos para la sal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ulo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porte y comunic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ulo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r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ulo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ulo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es y servicios v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469280" y="3459240"/>
            <a:ext cx="501480" cy="430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16120" y="115920"/>
            <a:ext cx="76802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Las ponderaciones de cada capitulo de la can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589720"/>
            <a:ext cx="720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INDEC (www.indec.gov.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4520" y="1727280"/>
            <a:ext cx="9105840" cy="4294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60480" y="44280"/>
            <a:ext cx="76802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¿Cuáles fueron los sectores que incidencia tuvieron en la inf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105264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Incremento de cada capítulo por su respectiva ponderación dentro de la ca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6107040"/>
            <a:ext cx="720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Asociación de Empresas Medicina Prepaga (ADEMP – www.ademp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143080"/>
            <a:ext cx="475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tal = 99% de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4920" y="1785960"/>
            <a:ext cx="9144000" cy="33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La situación de los pres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La situación de los financi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¿Cómo es la situación en otros paí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Lineamientos de política (¿Qué hacer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97200" y="57240"/>
            <a:ext cx="569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32120" y="115920"/>
            <a:ext cx="76802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99"/>
                </a:solidFill>
                <a:latin typeface="Arial"/>
              </a:rPr>
              <a:t>Inflación de salud en EEU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632720" cy="4748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6107040"/>
            <a:ext cx="720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Asociación de Empresas Medicina Prepaga (ADEMP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r publica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32120" y="115920"/>
            <a:ext cx="76802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99"/>
                </a:solidFill>
                <a:latin typeface="Arial"/>
              </a:rPr>
              <a:t>Inflación de salud en Inglat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107040"/>
            <a:ext cx="720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Asociación de Empresas Medicina Prepaga (ADEMP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r publica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76480" y="1197000"/>
            <a:ext cx="764352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860480" y="115920"/>
            <a:ext cx="76802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99"/>
                </a:solidFill>
                <a:latin typeface="Arial"/>
              </a:rPr>
              <a:t>Inflación de salud en Sue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6107040"/>
            <a:ext cx="720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Asociación de Empresas Medicina Prepaga (ADEMP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r publica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1176480"/>
            <a:ext cx="778860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860480" y="115920"/>
            <a:ext cx="76802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99"/>
                </a:solidFill>
                <a:latin typeface="Arial"/>
              </a:rPr>
              <a:t>Inflación de salud en Españ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107040"/>
            <a:ext cx="720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Asociación de Empresas Medicina Prepaga (ADEMP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r publica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715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187280" y="2492280"/>
          <a:ext cx="7272360" cy="2587680"/>
        </p:xfrm>
        <a:graphic>
          <a:graphicData uri="http://schemas.openxmlformats.org/drawingml/2006/table">
            <a:tbl>
              <a:tblPr/>
              <a:tblGrid>
                <a:gridCol w="4319640"/>
                <a:gridCol w="2952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nd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añ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e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later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00720" y="2944800"/>
            <a:ext cx="1440000" cy="6699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7400" y="115920"/>
            <a:ext cx="68882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¿Cuánto gastan de bolsillo las familias en cada uno de los países observad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15987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Participación del capítulo “Atención médica y gastos para la salud” dentro del IPC de cada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5241960"/>
            <a:ext cx="720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Asociación de Empresas Medicina Prepaga (ADEMP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r publica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4920" y="1785960"/>
            <a:ext cx="9144000" cy="33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La situación de los pres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La situación de los financi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¿Cómo es la situación en otros paí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Lineamientos de política (¿Qué hacer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97200" y="57240"/>
            <a:ext cx="569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32120" y="115920"/>
            <a:ext cx="7032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¿Qué explica el mayor gasto de bolsillo de las familias en Argenti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3440" y="1674720"/>
            <a:ext cx="8675640" cy="41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25000"/>
              </a:lnSpc>
              <a:spcBef>
                <a:spcPts val="1250"/>
              </a:spcBef>
              <a:spcAft>
                <a:spcPts val="1250"/>
              </a:spcAft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los países de Europa, la población de ingresos bajos y medios obtiene la mayor parte de su atención médica en los sistemas públicos y de la seguridad so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25000"/>
              </a:lnSpc>
              <a:spcBef>
                <a:spcPts val="1250"/>
              </a:spcBef>
              <a:spcAft>
                <a:spcPts val="1250"/>
              </a:spcAft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sector privado ocupa espacios periféricos ofreciendo coberturas y servicios complementarios con los sistemas público y de seguridad so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25000"/>
              </a:lnSpc>
              <a:spcBef>
                <a:spcPts val="1250"/>
              </a:spcBef>
              <a:spcAft>
                <a:spcPts val="1250"/>
              </a:spcAft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Argentina, en cambio, la gente gasta crecientes porciones de su presupuesto familiar comprando servicios que no recibe (pero debería recibir) de los sectores público y de la seguridad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920" y="1785960"/>
            <a:ext cx="9144000" cy="33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La situación de los pres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La situación de los financi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¿Cómo es la situación en otros paí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Lineamientos de política (¿Qué hacer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41560" y="57240"/>
            <a:ext cx="569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24200" y="115920"/>
            <a:ext cx="64641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009999"/>
                </a:solidFill>
                <a:latin typeface="Arial"/>
              </a:rPr>
              <a:t>Diagnóstico: Todos deben cubrir tod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8680" y="1197000"/>
            <a:ext cx="2227320" cy="1702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HOSPITALES PU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Tiene obligación de brindar </a:t>
            </a:r>
            <a:r>
              <a:rPr b="1" lang="es-AR" sz="1400" spc="-1" strike="noStrike" u="sng">
                <a:solidFill>
                  <a:srgbClr val="ffffff"/>
                </a:solidFill>
                <a:uFillTx/>
                <a:latin typeface="Arial"/>
              </a:rPr>
              <a:t>todos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 los servicios al 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00% 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de la pob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2341440"/>
            <a:ext cx="2521080" cy="16347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EGURIDA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Tiene obligación de brindar </a:t>
            </a:r>
            <a:r>
              <a:rPr b="1" lang="es-AR" sz="1400" spc="-1" strike="noStrike" u="sng">
                <a:solidFill>
                  <a:srgbClr val="ffffff"/>
                </a:solidFill>
                <a:uFillTx/>
                <a:latin typeface="Arial"/>
              </a:rPr>
              <a:t>todos 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los servicios (PMO) al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 52%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 de la pob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Que ya está cubierta por el HOSPITAL PUB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4880" y="4149720"/>
            <a:ext cx="2805120" cy="16221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EPA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La gente tiene que buscar la solución en el sistema pri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Y los dirigentes políticos aspiran a que también den </a:t>
            </a:r>
            <a:r>
              <a:rPr b="0" lang="es-AR" sz="1400" spc="-1" strike="noStrike" u="sng">
                <a:solidFill>
                  <a:srgbClr val="ffffff"/>
                </a:solidFill>
                <a:uFillTx/>
                <a:latin typeface="Arial"/>
              </a:rPr>
              <a:t>todos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 los servicios (P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484360" y="1484280"/>
            <a:ext cx="6264360" cy="1152720"/>
            <a:chOff x="2484360" y="1484280"/>
            <a:chExt cx="6264360" cy="1152720"/>
          </a:xfrm>
        </p:grpSpPr>
        <p:sp>
          <p:nvSpPr>
            <p:cNvPr id="132" name=""/>
            <p:cNvSpPr/>
            <p:nvPr/>
          </p:nvSpPr>
          <p:spPr>
            <a:xfrm>
              <a:off x="2484360" y="1484280"/>
              <a:ext cx="936720" cy="115272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54480" y="1492200"/>
              <a:ext cx="539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En la práctica la accesibilidad y la calidad es muy limitad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327640" y="3141720"/>
            <a:ext cx="3636720" cy="1297080"/>
            <a:chOff x="5327640" y="3141720"/>
            <a:chExt cx="3636720" cy="1297080"/>
          </a:xfrm>
        </p:grpSpPr>
        <p:sp>
          <p:nvSpPr>
            <p:cNvPr id="135" name=""/>
            <p:cNvSpPr/>
            <p:nvPr/>
          </p:nvSpPr>
          <p:spPr>
            <a:xfrm>
              <a:off x="5327640" y="3286080"/>
              <a:ext cx="829800" cy="1152720"/>
            </a:xfrm>
            <a:custGeom>
              <a:avLst/>
              <a:gdLst>
                <a:gd name="textAreaLeft" fmla="*/ 0 w 829800"/>
                <a:gd name="textAreaRight" fmla="*/ 830160 w 82980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1400" y="3141720"/>
              <a:ext cx="280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Arial"/>
                </a:rPr>
                <a:t>Como los problemas de calidad continúan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52720" y="4437000"/>
            <a:ext cx="2016360" cy="1152720"/>
          </a:xfrm>
          <a:prstGeom prst="leftArrow">
            <a:avLst>
              <a:gd name="adj1" fmla="val 50000"/>
              <a:gd name="adj2" fmla="val 43730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2560" y="4005360"/>
            <a:ext cx="309744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mente queda un esquema en dond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s mecanismos de cobertura están obligados a da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s servicios a l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sm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5992920"/>
            <a:ext cx="8209080" cy="3614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 gente termina pagado entre 2 y hasta 3 veces por el mismo 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279600" y="2158920"/>
            <a:ext cx="4605480" cy="752040"/>
            <a:chOff x="3279600" y="2158920"/>
            <a:chExt cx="4605480" cy="752040"/>
          </a:xfrm>
        </p:grpSpPr>
        <p:sp>
          <p:nvSpPr>
            <p:cNvPr id="141" name=""/>
            <p:cNvSpPr/>
            <p:nvPr/>
          </p:nvSpPr>
          <p:spPr>
            <a:xfrm>
              <a:off x="3279600" y="2187720"/>
              <a:ext cx="2227320" cy="6973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</a:rPr>
                <a:t>HOSPITALES PUBL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0360" y="2158920"/>
              <a:ext cx="1944720" cy="7520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</a:rPr>
                <a:t>SEGURIDAD 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211640" y="3387600"/>
            <a:ext cx="2805120" cy="1557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EPA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La gente que quiere complementar o comprar lo que no recibe en los sistemas público y pri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7040" y="990720"/>
            <a:ext cx="7488000" cy="4465440"/>
            <a:chOff x="797040" y="990720"/>
            <a:chExt cx="7488000" cy="4465440"/>
          </a:xfrm>
        </p:grpSpPr>
        <p:sp>
          <p:nvSpPr>
            <p:cNvPr id="145" name=""/>
            <p:cNvSpPr/>
            <p:nvPr/>
          </p:nvSpPr>
          <p:spPr>
            <a:xfrm>
              <a:off x="2832120" y="990720"/>
              <a:ext cx="5452920" cy="4465440"/>
            </a:xfrm>
            <a:prstGeom prst="ellipse">
              <a:avLst/>
            </a:prstGeom>
            <a:noFill/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7040" y="1976400"/>
              <a:ext cx="1969560" cy="19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125"/>
                </a:spcBef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ntre todos garantizan a todos un PMO, pero sin superponer las cobertur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30160" y="4075200"/>
            <a:ext cx="18702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servicios que cubre uno,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no los cubre el o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24200" y="217440"/>
            <a:ext cx="63198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009999"/>
                </a:solidFill>
                <a:latin typeface="Arial"/>
              </a:rPr>
              <a:t>Propuesta: Articular las cobertur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5516640"/>
            <a:ext cx="799128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o significa que 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e debe obligar a que los tres canales de cobertura tengan que dar,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omo mínim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el P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97200" y="57240"/>
            <a:ext cx="569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0" y="1785960"/>
            <a:ext cx="9144000" cy="33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La situación de los pres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La situación de los financi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¿Cómo es la situación en otros paí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Lineamientos de política (¿Qué hacer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63640" y="0"/>
            <a:ext cx="74516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99"/>
                </a:solidFill>
                <a:latin typeface="Arial"/>
              </a:rPr>
              <a:t>La desarticulación de los precios rel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2451240"/>
          <a:ext cx="8686800" cy="1720800"/>
        </p:xfrm>
        <a:graphic>
          <a:graphicData uri="http://schemas.openxmlformats.org/drawingml/2006/table">
            <a:tbl>
              <a:tblPr/>
              <a:tblGrid>
                <a:gridCol w="4105440"/>
                <a:gridCol w="1150920"/>
                <a:gridCol w="1081080"/>
                <a:gridCol w="1079640"/>
                <a:gridCol w="1269720"/>
              </a:tblGrid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c, 2001 Dic, 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c, 2002 - Dic, 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c, 2006 - Jul,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(2001 - 20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e de precios mayoristas (INDE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  <a:tr h="357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rio CCT del sector san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e de precios Int. Quirúrg. e Intern. (INDE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297000" y="4245120"/>
            <a:ext cx="82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a: el básico de CCT corresponde a la categoría de enferm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nte: elaboración propia en base a IN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440" y="1700280"/>
            <a:ext cx="885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La evolución de los principales precios de los </a:t>
            </a:r>
            <a:r>
              <a:rPr b="1" lang="en-US" sz="2000" spc="-1" strike="noStrike" u="sng">
                <a:solidFill>
                  <a:srgbClr val="666699"/>
                </a:solidFill>
                <a:uFillTx/>
                <a:latin typeface="Arial"/>
              </a:rPr>
              <a:t>prestadores mé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Precios de los insumos, salarios de convenio y precio de las prestaciones mé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692360" y="4221000"/>
            <a:ext cx="7054920" cy="2128680"/>
            <a:chOff x="1692360" y="4221000"/>
            <a:chExt cx="7054920" cy="2128680"/>
          </a:xfrm>
        </p:grpSpPr>
        <p:sp>
          <p:nvSpPr>
            <p:cNvPr id="62" name=""/>
            <p:cNvSpPr/>
            <p:nvPr/>
          </p:nvSpPr>
          <p:spPr>
            <a:xfrm>
              <a:off x="8101080" y="4221000"/>
              <a:ext cx="0" cy="13687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92360" y="5564160"/>
              <a:ext cx="7054920" cy="785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s precios de los insumos se incrementan en 3 dígitos “largos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s precios de las prestaciones no llegan siquiera a 3 dígi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774720" y="1611360"/>
          <a:ext cx="7848720" cy="4879800"/>
        </p:xfrm>
        <a:graphic>
          <a:graphicData uri="http://schemas.openxmlformats.org/drawingml/2006/table">
            <a:tbl>
              <a:tblPr/>
              <a:tblGrid>
                <a:gridCol w="3459240"/>
                <a:gridCol w="912960"/>
                <a:gridCol w="2566800"/>
                <a:gridCol w="9097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s labor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umos méd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el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ág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ck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orato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C y vacaciones propor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mentos y descart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ibuciones patr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nor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cios 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ergía eléct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umos no méd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iment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éfo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vandería y servicios gener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uos patogén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xige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ues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u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A – Cred. fiscal no compu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ébitos de financi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uestos che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tos de financ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os impues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838160" y="836640"/>
            <a:ext cx="885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Estructura estándar de costos de un prestador mé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Costo total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00360" y="0"/>
            <a:ext cx="74516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99"/>
                </a:solidFill>
                <a:latin typeface="Arial"/>
              </a:rPr>
              <a:t>Los costos de producir atención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6508800"/>
            <a:ext cx="77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nte: Asociación de Clínicas y Sanatorios de RA (ADECRA – www.adecra.gov.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4680" y="1501920"/>
            <a:ext cx="501840" cy="430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05600" y="1522440"/>
            <a:ext cx="501840" cy="430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859520" cy="4889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47800" y="836640"/>
            <a:ext cx="73436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Evolución de los precios y los costos méd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Arial"/>
              </a:rPr>
              <a:t>Dic. 2001 =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16120" y="-71280"/>
            <a:ext cx="76802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El retraso de precios de los prestadores méd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6508800"/>
            <a:ext cx="77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nte: Asociación de Clínicas y Sanatorios de RA (ADECRA – www.adecra.gov.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1557360"/>
            <a:ext cx="712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cio que deberían cobrar las clínicas si incorporaran todos los incrementos que experimentaron los insumos méd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0240" y="2852640"/>
            <a:ext cx="410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Precio que efectivamente están cobr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(IND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1680" y="4365720"/>
            <a:ext cx="38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Indice de Costos de Prestaciones Méd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(ADEC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45440" y="2276640"/>
            <a:ext cx="216000" cy="129672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299"/>
                </a:lnTo>
                <a:cubicBezTo>
                  <a:pt x="10800" y="9199"/>
                  <a:pt x="16200" y="10099"/>
                  <a:pt x="21600" y="10099"/>
                </a:cubicBezTo>
                <a:cubicBezTo>
                  <a:pt x="16200" y="10099"/>
                  <a:pt x="10800" y="10999"/>
                  <a:pt x="10800" y="1189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7686720" y="2699280"/>
            <a:ext cx="2016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traso =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920" y="1785960"/>
            <a:ext cx="9144000" cy="33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La situación de los pres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La situación de los financi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¿Cómo es la situación en otros paí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46160" indent="-588960">
              <a:lnSpc>
                <a:spcPct val="110000"/>
              </a:lnSpc>
              <a:spcBef>
                <a:spcPts val="2001"/>
              </a:spcBef>
              <a:spcAft>
                <a:spcPts val="1001"/>
              </a:spcAft>
              <a:buClr>
                <a:srgbClr val="66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Lineamientos de política (¿Qué hacer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5560" y="57240"/>
            <a:ext cx="569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9999"/>
                </a:solidFill>
                <a:latin typeface="Arial"/>
              </a:rPr>
              <a:t>IND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931160" cy="4933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724360" y="148428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Indice de Precios al 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19560" y="2421000"/>
            <a:ext cx="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431200" y="289548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48360" y="3860640"/>
            <a:ext cx="3240000" cy="28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5280" y="393372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ervención Secretaría de Comer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87400" y="73080"/>
            <a:ext cx="7680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La situación de los precios en los financi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805360"/>
            <a:ext cx="28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: Asociación de Empresas Medicina Prepaga (ADEMP – www.ademp.com.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19440" y="836640"/>
            <a:ext cx="73436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Evolución de los precios de las prepa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Arial"/>
              </a:rPr>
              <a:t>Dic. 2001 =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859040" y="115920"/>
            <a:ext cx="6745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9999"/>
                </a:solidFill>
                <a:latin typeface="Arial"/>
              </a:rPr>
              <a:t>¿Cuáles fueron los sectores que tuvieron mayores incrementos de prec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39640" y="1197000"/>
            <a:ext cx="8530920" cy="5186520"/>
            <a:chOff x="539640" y="1197000"/>
            <a:chExt cx="8530920" cy="5186520"/>
          </a:xfrm>
        </p:grpSpPr>
        <p:sp>
          <p:nvSpPr>
            <p:cNvPr id="92" name=""/>
            <p:cNvSpPr/>
            <p:nvPr/>
          </p:nvSpPr>
          <p:spPr>
            <a:xfrm>
              <a:off x="1530720" y="1197000"/>
              <a:ext cx="7539840" cy="7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666699"/>
                  </a:solidFill>
                  <a:latin typeface="Arial"/>
                </a:rPr>
                <a:t>Capitulos de la canasta del Indice de Precios al Consumid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666699"/>
                  </a:solidFill>
                  <a:latin typeface="Arial"/>
                </a:rPr>
                <a:t>Dic. 2001 = 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640" y="6107040"/>
              <a:ext cx="708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Fuente: Asociación de Empresas Medicina Prepaga (ADEMP – www.ademp.com.a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717480" y="1986120"/>
              <a:ext cx="8036280" cy="4000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15:46:33Z</dcterms:created>
  <dc:creator>IDESA</dc:creator>
  <dc:description/>
  <dc:language>en-US</dc:language>
  <cp:lastModifiedBy>C.P.C.E.C.A.B.A</cp:lastModifiedBy>
  <dcterms:modified xsi:type="dcterms:W3CDTF">2007-09-07T14:25:43Z</dcterms:modified>
  <cp:revision>162</cp:revision>
  <dc:subject/>
  <dc:title>A 8 años del nuevo sistema de riesgos del trabajo. Balances y desafíos  </dc:title>
</cp:coreProperties>
</file>