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F8C-92C5-4B8A-92B2-B399A4FD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7B3-FAD7-4E2E-A4B5-8E71E0D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7DE-87A8-4D0C-AB2C-BC825E5E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7FE-4D04-47C6-97F8-5720B401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1F5-47B6-4104-B5B6-F8A28882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BB8-A928-4C59-AE4A-04D32240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074-802A-4598-9522-20622FBF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107-0259-4161-9BCD-17F55175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02B-DBD9-49A7-8967-AC8CCF50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DC5-EF9C-44F6-9451-FC62B47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148-40A1-4F64-9A13-F86ED31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650-5B97-4278-A3FE-2D5A77FE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7A87-D456-435B-B64F-BD1ACE177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ª Jornada de Administración de Sal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stemas de Salud – Gestión y Gerenciamient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P.C.E.C.A.B.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enos Aires, 5 de septiembre de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BI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Ser de “afuera” del hospi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o tener manejo de los RRH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o tener definidas claramente las funcio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PORTUNIDAD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Generar equipos de trabaj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mplementar circuitos administrativ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acer el proyecto de presupues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MENA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Cambios constantes de desti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o manejar el presupuesto en forma integr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Malentendidos con el pues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I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grama de Residencias del GC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sidencia de Administración Hospitalaria creada en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uración 3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a Licenciados en Administración de Empresas, en Administración de Servicios de Salud, en Economía y Con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I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Hospital General de Agudos Dr. Ignacio Pirov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Hospital de Enfermedades Infecciosas Dr. Francisco Muñ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Hospital General de Agudos Dr. Carlos Du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Hospital Bernardino Rivada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MUCHAS GRA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ic. Guillermo Omar Celed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gceled@yahoo.com.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ff"/>
                </a:solidFill>
                <a:latin typeface="Times New Roman"/>
              </a:rPr>
              <a:t>A. R. 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¿Qué significa esto de 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El nombre completo del puesto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Director General Adju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Administrador de Recursos Desconcent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imes New Roman"/>
              </a:rPr>
              <a:t>A. R. 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N POCO DE 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TO. 703/GCBA/1996. Aprueba la estructura de la Secretaría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rea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a Dirección General Adjunta de Administradores de Recursos Desconcentrados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sponsabilidad primaria:  “Asistir a la Dirección General en el cumplimiento de las competencias en la materi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N POCO DE 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sta Dirección incluye 34 cargos con nivel de Dirección General Adjunta (1 cargo de Supervisor y 33 de Administradores de Recursos Desconcentrado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e desprende que es 1 cargo por hospital de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RGANIGRAMA MINIST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371600"/>
            <a:ext cx="129528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ISTRO DE 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5029200"/>
            <a:ext cx="1752480" cy="685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ES GENERALES ADJUNTOS   A. R.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2666880"/>
            <a:ext cx="1600200" cy="781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SECRETARIO DE ADMINISTRACION Y FINAN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666880"/>
            <a:ext cx="165744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SECRETARIO DE SERVICIOS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1" idx="2"/>
            <a:endCxn id="54" idx="0"/>
          </p:cNvCxnSpPr>
          <p:nvPr/>
        </p:nvCxnSpPr>
        <p:spPr>
          <a:xfrm rot="5400000">
            <a:off x="2680560" y="1423440"/>
            <a:ext cx="686520" cy="180108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1" idx="2"/>
            <a:endCxn id="53" idx="0"/>
          </p:cNvCxnSpPr>
          <p:nvPr/>
        </p:nvCxnSpPr>
        <p:spPr>
          <a:xfrm flipH="1" rot="16200000">
            <a:off x="4495680" y="1409040"/>
            <a:ext cx="686520" cy="182952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876920" y="3809880"/>
            <a:ext cx="1752480" cy="83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CIÓN GENERAL TÉCNICA, ADMINISTRATIVA Y 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2"/>
            <a:endCxn id="57" idx="0"/>
          </p:cNvCxnSpPr>
          <p:nvPr/>
        </p:nvCxnSpPr>
        <p:spPr>
          <a:xfrm>
            <a:off x="5752800" y="3447720"/>
            <a:ext cx="1080" cy="36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7" idx="2"/>
            <a:endCxn id="52" idx="0"/>
          </p:cNvCxnSpPr>
          <p:nvPr/>
        </p:nvCxnSpPr>
        <p:spPr>
          <a:xfrm>
            <a:off x="5752800" y="4648320"/>
            <a:ext cx="1080" cy="38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RGANIGRAMA HOSP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743200"/>
            <a:ext cx="1981440" cy="838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743200"/>
            <a:ext cx="1752840" cy="838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 GENERAL ADJU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R.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76920"/>
            <a:ext cx="1905120" cy="838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DIRECTOR MÉD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4876920"/>
            <a:ext cx="2133360" cy="914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DIRECTOR ADMINIST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1" idx="2"/>
            <a:endCxn id="64" idx="0"/>
          </p:cNvCxnSpPr>
          <p:nvPr/>
        </p:nvCxnSpPr>
        <p:spPr>
          <a:xfrm rot="5400000">
            <a:off x="3237840" y="3314520"/>
            <a:ext cx="1296360" cy="1829520"/>
          </a:xfrm>
          <a:prstGeom prst="bentConnector3">
            <a:avLst>
              <a:gd name="adj1" fmla="val 50000"/>
            </a:avLst>
          </a:prstGeom>
          <a:ln w="22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1" idx="2"/>
            <a:endCxn id="63" idx="0"/>
          </p:cNvCxnSpPr>
          <p:nvPr/>
        </p:nvCxnSpPr>
        <p:spPr>
          <a:xfrm flipH="1" rot="16200000">
            <a:off x="5086080" y="3295080"/>
            <a:ext cx="1296360" cy="1867680"/>
          </a:xfrm>
          <a:prstGeom prst="bentConnector3">
            <a:avLst>
              <a:gd name="adj1" fmla="val 50000"/>
            </a:avLst>
          </a:prstGeom>
          <a:ln w="22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3"/>
            <a:endCxn id="61" idx="1"/>
          </p:cNvCxnSpPr>
          <p:nvPr/>
        </p:nvCxnSpPr>
        <p:spPr>
          <a:xfrm>
            <a:off x="2819160" y="3161880"/>
            <a:ext cx="991080" cy="1080"/>
          </a:xfrm>
          <a:prstGeom prst="straightConnector1">
            <a:avLst/>
          </a:prstGeom>
          <a:ln w="15840">
            <a:solidFill>
              <a:srgbClr val="ffffff"/>
            </a:solidFill>
            <a:prstDash val="dash"/>
            <a:miter/>
          </a:ln>
        </p:spPr>
      </p:cxn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ff"/>
                </a:solidFill>
                <a:latin typeface="Times New Roman"/>
              </a:rPr>
              <a:t>En general los hospitales de la Ciudad presentan esta estructur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UNCIO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EL PU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r el nexo entre el Ministerio y el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eparar el Presupuesto para el Ejerc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ntrolar la Ejecu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rmar el Plan Anual de Comp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ntrolar las actividades de los Departamentos Administr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ar apoyo a la Dirección del Hospital en los temas administrativos y de gest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 QUE NO DEBE HA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Inmiscuirse en temas de RR. H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Generar compras de Bienes de Capital, en forma di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imes New Roman"/>
              </a:rPr>
              <a:t>Realizar contrataciones relacionadas con Obras Civiles.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FORTALEZ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erfil profesio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Venir de “afuera” del hospi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epender jerárquicamente del Ministe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9:38:51Z</dcterms:created>
  <dc:creator>Administrador</dc:creator>
  <dc:description/>
  <dc:language>en-US</dc:language>
  <cp:lastModifiedBy>C.P.C.E.C.A.B.A</cp:lastModifiedBy>
  <dcterms:modified xsi:type="dcterms:W3CDTF">2007-09-07T14:26:41Z</dcterms:modified>
  <cp:revision>10</cp:revision>
  <dc:subject/>
  <dc:title>A. R. D.</dc:title>
</cp:coreProperties>
</file>