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96360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2680" y="16002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9636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2680" y="39636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9280" y="160020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2840" y="160020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96360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9280" y="396360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2840" y="3963600"/>
            <a:ext cx="286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2680" y="160020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152280"/>
            <a:ext cx="891360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680" y="160020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9636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95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2680" y="16002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2680" y="39636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2680" y="1600200"/>
            <a:ext cx="4349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963600"/>
            <a:ext cx="89136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4720" y="624528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3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625760"/>
            <a:ext cx="9372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600ff"/>
                </a:solidFill>
                <a:latin typeface="Arial"/>
              </a:rPr>
              <a:t>Enfoque de Planificación</a:t>
            </a:r>
            <a:br>
              <a:rPr sz="4000"/>
            </a:br>
            <a:r>
              <a:rPr b="0" lang="en-GB" sz="4000" spc="-1" strike="noStrike">
                <a:solidFill>
                  <a:srgbClr val="6600ff"/>
                </a:solidFill>
                <a:latin typeface="Arial"/>
              </a:rPr>
              <a:t>Presupuesto y Participación Ciudadana: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6600ff"/>
                </a:solidFill>
                <a:latin typeface="Arial"/>
              </a:rPr>
              <a:t> La Experiencia de Ros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ulados sometidos a crí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2) Hay un sólo actor que planifica y que produce un sólo diagnóstico sobre la re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ulados sometidos a crí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3) Se puede prever la evolución del proceso social en base a la existencia de “comportamientos” o “regularidades” y relaciones causa – ef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ulados sometidos a crí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4) Adopta la metodología del “debe ser”, o sea, una posición “normativa” en cuanto a los enunc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ulados sometidos a crí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5) Los problemas políticos (de coordinación, decisión, ejecución) son un dato o marco normativo de lo ec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ulados sometidos a crí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6) Existe un sólo plan y éste es realizado por el Es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12560" y="304920"/>
            <a:ext cx="89154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omentos que se enlaz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Momento Expli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Momento N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Momento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833400"/>
            <a:ext cx="8915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n 4º momento que corresponde al proceso de gestión del Pl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Momento Táctico - Ope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Un corolario de las cr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5600" y="1905120"/>
            <a:ext cx="7594560" cy="23619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5000" y="68580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problema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Direccionalidad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Viabilidad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Opera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2760" y="2209680"/>
            <a:ext cx="825480" cy="1525680"/>
          </a:xfrm>
          <a:custGeom>
            <a:avLst/>
            <a:gdLst/>
            <a:ahLst/>
            <a:rect l="l" t="t" r="r" b="b"/>
            <a:pathLst>
              <a:path w="2295" h="4236">
                <a:moveTo>
                  <a:pt x="573" y="0"/>
                </a:moveTo>
                <a:lnTo>
                  <a:pt x="573" y="3176"/>
                </a:lnTo>
                <a:lnTo>
                  <a:pt x="0" y="3176"/>
                </a:lnTo>
                <a:lnTo>
                  <a:pt x="1147" y="4235"/>
                </a:lnTo>
                <a:lnTo>
                  <a:pt x="2294" y="3176"/>
                </a:lnTo>
                <a:lnTo>
                  <a:pt x="1720" y="3176"/>
                </a:lnTo>
                <a:lnTo>
                  <a:pt x="1720" y="0"/>
                </a:lnTo>
                <a:lnTo>
                  <a:pt x="573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8760" y="1981080"/>
            <a:ext cx="744480" cy="914400"/>
          </a:xfrm>
          <a:custGeom>
            <a:avLst/>
            <a:gdLst/>
            <a:ahLst/>
            <a:rect l="l" t="t" r="r" b="b"/>
            <a:pathLst>
              <a:path w="2066" h="2542">
                <a:moveTo>
                  <a:pt x="411" y="0"/>
                </a:moveTo>
                <a:lnTo>
                  <a:pt x="411" y="1905"/>
                </a:lnTo>
                <a:lnTo>
                  <a:pt x="0" y="1905"/>
                </a:lnTo>
                <a:lnTo>
                  <a:pt x="1032" y="2541"/>
                </a:lnTo>
                <a:lnTo>
                  <a:pt x="2065" y="1905"/>
                </a:lnTo>
                <a:lnTo>
                  <a:pt x="1653" y="1905"/>
                </a:lnTo>
                <a:lnTo>
                  <a:pt x="1653" y="0"/>
                </a:lnTo>
                <a:lnTo>
                  <a:pt x="411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9080" y="1981080"/>
            <a:ext cx="744480" cy="914400"/>
          </a:xfrm>
          <a:custGeom>
            <a:avLst/>
            <a:gdLst/>
            <a:ahLst/>
            <a:rect l="l" t="t" r="r" b="b"/>
            <a:pathLst>
              <a:path w="2066" h="2542">
                <a:moveTo>
                  <a:pt x="411" y="0"/>
                </a:moveTo>
                <a:lnTo>
                  <a:pt x="411" y="1905"/>
                </a:lnTo>
                <a:lnTo>
                  <a:pt x="0" y="1905"/>
                </a:lnTo>
                <a:lnTo>
                  <a:pt x="1032" y="2541"/>
                </a:lnTo>
                <a:lnTo>
                  <a:pt x="2065" y="1905"/>
                </a:lnTo>
                <a:lnTo>
                  <a:pt x="1653" y="1905"/>
                </a:lnTo>
                <a:lnTo>
                  <a:pt x="1653" y="0"/>
                </a:lnTo>
                <a:lnTo>
                  <a:pt x="411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6320" y="380880"/>
            <a:ext cx="5695920" cy="121932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ce Matus: </a:t>
            </a:r>
            <a:r>
              <a:rPr b="1" i="1" lang="en-GB" sz="3200" spc="-1" strike="noStrike">
                <a:solidFill>
                  <a:srgbClr val="808000"/>
                </a:solidFill>
                <a:latin typeface="Arial"/>
              </a:rPr>
              <a:t>“(...) la gestión diaria de gobierno requiere la planificación como una necesidad interna y no como algo que se impone desde el exterior como una necesidad de “otros”, que planifican y actúan desde niveles más elevados de entendimient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01840" y="333000"/>
            <a:ext cx="515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 nuevo con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0640" y="2060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La globalización plantea nuevos desaf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Reformas planteadas por los gobiernos cent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Mayor interés de la sociedad por partici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01840" y="260280"/>
            <a:ext cx="5148360" cy="914400"/>
          </a:xfrm>
          <a:prstGeom prst="roundRect">
            <a:avLst>
              <a:gd name="adj" fmla="val 171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133720"/>
            <a:ext cx="7346880" cy="1981080"/>
          </a:xfrm>
          <a:prstGeom prst="ellipse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95000" y="19051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El concepto de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El concepto de “v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El análisis del medio interno y exte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El planteamiento metodológico que refuerza la participación de todos los actor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9040" y="458640"/>
            <a:ext cx="7524000" cy="976320"/>
          </a:xfrm>
          <a:prstGeom prst="roundRect">
            <a:avLst>
              <a:gd name="adj" fmla="val 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00ff"/>
                </a:solidFill>
                <a:latin typeface="Times New Roman"/>
              </a:rPr>
              <a:t>Elementos de la “gran empresa” que se adapta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00ff"/>
                </a:solidFill>
                <a:latin typeface="Times New Roman"/>
              </a:rPr>
              <a:t>para el sector público: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ts val="7662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Síntesis de las dos corrientes que dan origen a la Planifica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75080" y="5105520"/>
            <a:ext cx="992160" cy="1143000"/>
          </a:xfrm>
          <a:custGeom>
            <a:avLst/>
            <a:gdLst/>
            <a:ahLst/>
            <a:rect l="l" t="t" r="r" b="b"/>
            <a:pathLst>
              <a:path w="2754" h="3177">
                <a:moveTo>
                  <a:pt x="688" y="0"/>
                </a:moveTo>
                <a:lnTo>
                  <a:pt x="688" y="2382"/>
                </a:lnTo>
                <a:lnTo>
                  <a:pt x="0" y="2382"/>
                </a:lnTo>
                <a:lnTo>
                  <a:pt x="1376" y="3176"/>
                </a:lnTo>
                <a:lnTo>
                  <a:pt x="2753" y="2382"/>
                </a:lnTo>
                <a:lnTo>
                  <a:pt x="2064" y="2382"/>
                </a:lnTo>
                <a:lnTo>
                  <a:pt x="2064" y="0"/>
                </a:lnTo>
                <a:lnTo>
                  <a:pt x="688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94920"/>
            <a:ext cx="8915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pectos que deben considerarse para la elaboración de un Pla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00"/>
                </a:solidFill>
                <a:latin typeface="Arial"/>
              </a:rPr>
              <a:t>Asumir que el cambio es una condición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00"/>
                </a:solidFill>
                <a:latin typeface="Arial"/>
              </a:rPr>
              <a:t>Tener una visión amplia en relación con el rumbo que toma el objeto sobre el que se planifica y la anticipación de cambios en el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8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00"/>
                </a:solidFill>
                <a:latin typeface="Arial"/>
              </a:rPr>
              <a:t>Tener una administración conocedora de las cuestiones políticas claves y con capacidad para lograr los objetivos plant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95000" y="5792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acia una definición del Plan Estratég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e concibe como el cauce en que aunar la participación de los principales actores económicos, políticos y sociales de la comunidad para elaborar un diagnóstico compartido sobre las claves de su desarrollo, construir una visión de futuro común y seleccionar los objetivos prioritarios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ts val="6585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Arial"/>
              </a:rPr>
              <a:t>Integración del Presupuesto por Programas con e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52280" y="6919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ipótesi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52640" y="2420640"/>
            <a:ext cx="85024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El Presupuesto por Programas es una herramienta importante para aplicar los lineamientos de la Planificación Estratégica a la gestión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Constituye un elemento que facilita la participación ciudadana en la polític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1413000"/>
            <a:ext cx="8915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Arial"/>
              </a:rPr>
              <a:t>Presupuesto por Progr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ítica al Presupuesto Tradi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relaciona los bienes que se adquieren con los objetivos que se pretenden alcan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s acciones que se realizan no están vinculadas a un proceso conciente de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4280" y="476280"/>
            <a:ext cx="8813880" cy="865080"/>
          </a:xfrm>
          <a:prstGeom prst="roundRect">
            <a:avLst>
              <a:gd name="adj" fmla="val 181"/>
            </a:avLst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Arial"/>
              </a:rPr>
              <a:t>Presupuesto por Progr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a, en términos financieros y físicos, el plan de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ite la evaluación durante el ejercicio y al término del mismo del alcance de los objetiv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iende al Estado como productor de bienes y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404640"/>
            <a:ext cx="8420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stas condiciones plantean la necesidad de planifi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5480" y="2209320"/>
            <a:ext cx="80344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de el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liga a ampliar la visión sobre las posibilidades de la ciu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 la necesidad de pensar en términos de mediano y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re un espacio de reflexión acerca de los objetivos de la ciuda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240" y="533520"/>
            <a:ext cx="8750520" cy="1295280"/>
          </a:xfrm>
          <a:prstGeom prst="roundRect">
            <a:avLst>
              <a:gd name="adj" fmla="val 120"/>
            </a:avLst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El Presupuesto como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600" y="2332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 programación económica y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 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íntesis de aspec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93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El énfasis principal se pone en lo que la municipalidad hace: prevalece el concepto del Estado “productor” de bienes y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Asigna los recursos a los Programas de acuerdo a las metas estable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Permite la medición objetiva de los niveles de eficiencia de cada uno de los Prog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Proporciona información a diferentes niveles lo que apoy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Relaciona los recursos asignados con las actividades realizadas y los responsables de ejecutarlas para la consecución de las metas en un período determinado, lo que permite la toma de decisiones correctivas de forma oport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jo esta concepción de la Gestión, la función de gobernar un municipio debería con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0574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ts val="2625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La formulación de una Visión Municipal compartida entre los ciudadanos y los responsables políticos, y los lineamientos estratégicos para logr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La adopción de un presupuesto que apoye al desarrollo municipal en un período 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La dirección de las actividades para la materialización de las políticas elegidas, el seguimiento y la evaluación de su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pectos esenciales del Plan que pueden materializarse en 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1) La necesidad de definir un proyecto de          ciudad con vis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2) La participación de la soc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2920" y="1295280"/>
            <a:ext cx="9162720" cy="160020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-1489320"/>
            <a:ext cx="89154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ff"/>
                </a:solidFill>
                <a:latin typeface="Arial"/>
              </a:rPr>
              <a:t>Definiendo el proyecto de ciu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572000"/>
            <a:ext cx="1898640" cy="1523880"/>
          </a:xfrm>
          <a:custGeom>
            <a:avLst/>
            <a:gdLst/>
            <a:ahLst/>
            <a:rect l="l" t="t" r="r" b="b"/>
            <a:pathLst>
              <a:path w="5276" h="4235">
                <a:moveTo>
                  <a:pt x="1318" y="0"/>
                </a:moveTo>
                <a:lnTo>
                  <a:pt x="1318" y="3175"/>
                </a:lnTo>
                <a:lnTo>
                  <a:pt x="0" y="3175"/>
                </a:lnTo>
                <a:lnTo>
                  <a:pt x="2637" y="4234"/>
                </a:lnTo>
                <a:lnTo>
                  <a:pt x="5275" y="3175"/>
                </a:lnTo>
                <a:lnTo>
                  <a:pt x="3956" y="3175"/>
                </a:lnTo>
                <a:lnTo>
                  <a:pt x="3956" y="0"/>
                </a:lnTo>
                <a:lnTo>
                  <a:pt x="1318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us dice: </a:t>
            </a:r>
            <a:r>
              <a:rPr b="0" i="1" lang="en-GB" sz="3200" spc="-1" strike="noStrike">
                <a:solidFill>
                  <a:srgbClr val="808000"/>
                </a:solidFill>
                <a:latin typeface="Arial"/>
              </a:rPr>
              <a:t>“la </a:t>
            </a:r>
            <a:r>
              <a:rPr b="1" i="1" lang="en-GB" sz="3200" spc="-1" strike="noStrike">
                <a:solidFill>
                  <a:srgbClr val="808000"/>
                </a:solidFill>
                <a:latin typeface="Arial"/>
              </a:rPr>
              <a:t>estrategia</a:t>
            </a:r>
            <a:r>
              <a:rPr b="0" i="1" lang="en-GB" sz="3200" spc="-1" strike="noStrike">
                <a:solidFill>
                  <a:srgbClr val="808000"/>
                </a:solidFill>
                <a:latin typeface="Arial"/>
              </a:rPr>
              <a:t> debe definir la dirección y trayectoria del camino a seguir que, a la vez permitiendo seleccionar las acciones y políticas pertinentes, debe ser el resultado de la exploración previa de grandes alternativas u </a:t>
            </a:r>
            <a:r>
              <a:rPr b="1" i="1" lang="en-GB" sz="3200" spc="-1" strike="noStrike">
                <a:solidFill>
                  <a:srgbClr val="808000"/>
                </a:solidFill>
                <a:latin typeface="Arial"/>
              </a:rPr>
              <a:t>opciones de desarrollo</a:t>
            </a:r>
            <a:r>
              <a:rPr b="0" i="1" lang="en-GB" sz="3200" spc="-1" strike="noStrike">
                <a:solidFill>
                  <a:srgbClr val="808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95000" y="380520"/>
            <a:ext cx="8915400" cy="775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def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 alcanz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yecto de ciu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bje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 el c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e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Medi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75080" y="1295280"/>
            <a:ext cx="992160" cy="914400"/>
          </a:xfrm>
          <a:custGeom>
            <a:avLst/>
            <a:gdLst/>
            <a:ahLst/>
            <a:rect l="l" t="t" r="r" b="b"/>
            <a:pathLst>
              <a:path w="2754" h="2542">
                <a:moveTo>
                  <a:pt x="688" y="0"/>
                </a:moveTo>
                <a:lnTo>
                  <a:pt x="688" y="1905"/>
                </a:lnTo>
                <a:lnTo>
                  <a:pt x="0" y="1905"/>
                </a:lnTo>
                <a:lnTo>
                  <a:pt x="1376" y="2541"/>
                </a:lnTo>
                <a:lnTo>
                  <a:pt x="2753" y="1905"/>
                </a:lnTo>
                <a:lnTo>
                  <a:pt x="2064" y="1905"/>
                </a:lnTo>
                <a:lnTo>
                  <a:pt x="2064" y="0"/>
                </a:lnTo>
                <a:lnTo>
                  <a:pt x="688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75080" y="3809880"/>
            <a:ext cx="992160" cy="914400"/>
          </a:xfrm>
          <a:custGeom>
            <a:avLst/>
            <a:gdLst/>
            <a:ahLst/>
            <a:rect l="l" t="t" r="r" b="b"/>
            <a:pathLst>
              <a:path w="2754" h="2542">
                <a:moveTo>
                  <a:pt x="688" y="0"/>
                </a:moveTo>
                <a:lnTo>
                  <a:pt x="688" y="1905"/>
                </a:lnTo>
                <a:lnTo>
                  <a:pt x="0" y="1905"/>
                </a:lnTo>
                <a:lnTo>
                  <a:pt x="1376" y="2541"/>
                </a:lnTo>
                <a:lnTo>
                  <a:pt x="2753" y="1905"/>
                </a:lnTo>
                <a:lnTo>
                  <a:pt x="2064" y="1905"/>
                </a:lnTo>
                <a:lnTo>
                  <a:pt x="2064" y="0"/>
                </a:lnTo>
                <a:lnTo>
                  <a:pt x="688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99200" y="762120"/>
            <a:ext cx="84240" cy="1828800"/>
          </a:xfrm>
          <a:custGeom>
            <a:avLst/>
            <a:gdLst/>
            <a:ahLst/>
            <a:rect l="l" t="t" r="r" b="b"/>
            <a:pathLst>
              <a:path w="232" h="5082">
                <a:moveTo>
                  <a:pt x="0" y="0"/>
                </a:moveTo>
                <a:cubicBezTo>
                  <a:pt x="115" y="0"/>
                  <a:pt x="231" y="9"/>
                  <a:pt x="231" y="19"/>
                </a:cubicBezTo>
                <a:lnTo>
                  <a:pt x="231" y="5061"/>
                </a:lnTo>
                <a:cubicBezTo>
                  <a:pt x="231" y="5071"/>
                  <a:pt x="115" y="5081"/>
                  <a:pt x="0" y="50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99200" y="2895480"/>
            <a:ext cx="84240" cy="2286000"/>
          </a:xfrm>
          <a:custGeom>
            <a:avLst/>
            <a:gdLst/>
            <a:ahLst/>
            <a:rect l="l" t="t" r="r" b="b"/>
            <a:pathLst>
              <a:path w="232" h="6352">
                <a:moveTo>
                  <a:pt x="0" y="0"/>
                </a:moveTo>
                <a:cubicBezTo>
                  <a:pt x="115" y="0"/>
                  <a:pt x="231" y="9"/>
                  <a:pt x="231" y="19"/>
                </a:cubicBezTo>
                <a:lnTo>
                  <a:pt x="231" y="6331"/>
                </a:lnTo>
                <a:cubicBezTo>
                  <a:pt x="231" y="6341"/>
                  <a:pt x="115" y="6351"/>
                  <a:pt x="0" y="63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95000" y="45684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ama 1   Programa 2   Programa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00"/>
                </a:solidFill>
                <a:latin typeface="Arial"/>
              </a:rPr>
              <a:t>cada uno encierra una función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447920"/>
            <a:ext cx="882720" cy="866520"/>
          </a:xfrm>
          <a:custGeom>
            <a:avLst/>
            <a:gdLst/>
            <a:ahLst/>
            <a:rect l="l" t="t" r="r" b="b"/>
            <a:pathLst>
              <a:path w="2454" h="2409">
                <a:moveTo>
                  <a:pt x="0" y="2408"/>
                </a:moveTo>
                <a:lnTo>
                  <a:pt x="0" y="1355"/>
                </a:lnTo>
                <a:cubicBezTo>
                  <a:pt x="0" y="839"/>
                  <a:pt x="705" y="323"/>
                  <a:pt x="1411" y="323"/>
                </a:cubicBezTo>
                <a:lnTo>
                  <a:pt x="1714" y="323"/>
                </a:lnTo>
                <a:lnTo>
                  <a:pt x="1714" y="0"/>
                </a:lnTo>
                <a:lnTo>
                  <a:pt x="2453" y="677"/>
                </a:lnTo>
                <a:lnTo>
                  <a:pt x="1714" y="1355"/>
                </a:lnTo>
                <a:lnTo>
                  <a:pt x="1714" y="1032"/>
                </a:lnTo>
                <a:lnTo>
                  <a:pt x="1411" y="1032"/>
                </a:lnTo>
                <a:cubicBezTo>
                  <a:pt x="1066" y="1032"/>
                  <a:pt x="722" y="1193"/>
                  <a:pt x="722" y="1355"/>
                </a:cubicBezTo>
                <a:lnTo>
                  <a:pt x="722" y="2408"/>
                </a:lnTo>
                <a:lnTo>
                  <a:pt x="0" y="2408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1520" y="1447920"/>
            <a:ext cx="909720" cy="866520"/>
          </a:xfrm>
          <a:custGeom>
            <a:avLst/>
            <a:gdLst/>
            <a:ahLst/>
            <a:rect l="l" t="t" r="r" b="b"/>
            <a:pathLst>
              <a:path w="2525" h="2409">
                <a:moveTo>
                  <a:pt x="2524" y="2408"/>
                </a:moveTo>
                <a:lnTo>
                  <a:pt x="2524" y="1355"/>
                </a:lnTo>
                <a:cubicBezTo>
                  <a:pt x="2524" y="839"/>
                  <a:pt x="1798" y="323"/>
                  <a:pt x="1072" y="323"/>
                </a:cubicBezTo>
                <a:lnTo>
                  <a:pt x="760" y="323"/>
                </a:lnTo>
                <a:lnTo>
                  <a:pt x="760" y="0"/>
                </a:lnTo>
                <a:lnTo>
                  <a:pt x="0" y="677"/>
                </a:lnTo>
                <a:lnTo>
                  <a:pt x="760" y="1355"/>
                </a:lnTo>
                <a:lnTo>
                  <a:pt x="760" y="1032"/>
                </a:lnTo>
                <a:lnTo>
                  <a:pt x="1072" y="1032"/>
                </a:lnTo>
                <a:cubicBezTo>
                  <a:pt x="1427" y="1032"/>
                  <a:pt x="1782" y="1193"/>
                  <a:pt x="1782" y="1355"/>
                </a:cubicBezTo>
                <a:lnTo>
                  <a:pt x="1782" y="2408"/>
                </a:lnTo>
                <a:lnTo>
                  <a:pt x="2524" y="2408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40320" y="1523880"/>
            <a:ext cx="744480" cy="763560"/>
          </a:xfrm>
          <a:custGeom>
            <a:avLst/>
            <a:gdLst/>
            <a:ahLst/>
            <a:rect l="l" t="t" r="r" b="b"/>
            <a:pathLst>
              <a:path w="2066" h="2119">
                <a:moveTo>
                  <a:pt x="516" y="2118"/>
                </a:moveTo>
                <a:lnTo>
                  <a:pt x="516" y="529"/>
                </a:lnTo>
                <a:lnTo>
                  <a:pt x="0" y="529"/>
                </a:lnTo>
                <a:lnTo>
                  <a:pt x="1032" y="0"/>
                </a:lnTo>
                <a:lnTo>
                  <a:pt x="2065" y="529"/>
                </a:lnTo>
                <a:lnTo>
                  <a:pt x="1548" y="529"/>
                </a:lnTo>
                <a:lnTo>
                  <a:pt x="1548" y="2118"/>
                </a:lnTo>
                <a:lnTo>
                  <a:pt x="516" y="2118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11560" y="3809880"/>
            <a:ext cx="5118120" cy="839880"/>
          </a:xfrm>
          <a:custGeom>
            <a:avLst/>
            <a:gdLst/>
            <a:ahLst/>
            <a:rect l="l" t="t" r="r" b="b"/>
            <a:pathLst>
              <a:path w="14219" h="2331">
                <a:moveTo>
                  <a:pt x="3554" y="0"/>
                </a:moveTo>
                <a:lnTo>
                  <a:pt x="3554" y="1747"/>
                </a:lnTo>
                <a:lnTo>
                  <a:pt x="0" y="1747"/>
                </a:lnTo>
                <a:lnTo>
                  <a:pt x="7109" y="2330"/>
                </a:lnTo>
                <a:lnTo>
                  <a:pt x="14218" y="1747"/>
                </a:lnTo>
                <a:lnTo>
                  <a:pt x="10663" y="1747"/>
                </a:lnTo>
                <a:lnTo>
                  <a:pt x="10663" y="0"/>
                </a:lnTo>
                <a:lnTo>
                  <a:pt x="35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01920" y="304920"/>
            <a:ext cx="3301920" cy="9144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¿Cómo y dónde debería insertarse el Presupuesto por Programas en el Plan Estratég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528480"/>
            <a:ext cx="8915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tegorías comunes al Plan y al Presupue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ts val="7336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ts val="7336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M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ts val="7336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8000"/>
                </a:solidFill>
                <a:latin typeface="Arial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5480" y="228600"/>
            <a:ext cx="842004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9000" y="475920"/>
            <a:ext cx="8420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GB" sz="4400" spc="-1" strike="noStrike">
                <a:solidFill>
                  <a:srgbClr val="6600ff"/>
                </a:solidFill>
                <a:latin typeface="Arial"/>
              </a:rPr>
              <a:t>Gestión Públic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800" y="2386080"/>
            <a:ext cx="1041480" cy="1306440"/>
          </a:xfrm>
          <a:custGeom>
            <a:avLst/>
            <a:gdLst/>
            <a:ahLst/>
            <a:rect l="l" t="t" r="r" b="b"/>
            <a:pathLst>
              <a:path w="2894" h="3630">
                <a:moveTo>
                  <a:pt x="0" y="3159"/>
                </a:moveTo>
                <a:lnTo>
                  <a:pt x="899" y="614"/>
                </a:lnTo>
                <a:lnTo>
                  <a:pt x="235" y="379"/>
                </a:lnTo>
                <a:lnTo>
                  <a:pt x="1863" y="0"/>
                </a:lnTo>
                <a:lnTo>
                  <a:pt x="2893" y="1318"/>
                </a:lnTo>
                <a:lnTo>
                  <a:pt x="2228" y="1083"/>
                </a:lnTo>
                <a:lnTo>
                  <a:pt x="1329" y="3629"/>
                </a:lnTo>
                <a:lnTo>
                  <a:pt x="0" y="3159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96160" y="2397240"/>
            <a:ext cx="1071360" cy="1296720"/>
          </a:xfrm>
          <a:custGeom>
            <a:avLst/>
            <a:gdLst/>
            <a:ahLst/>
            <a:rect l="l" t="t" r="r" b="b"/>
            <a:pathLst>
              <a:path w="2975" h="3602">
                <a:moveTo>
                  <a:pt x="1669" y="3601"/>
                </a:moveTo>
                <a:lnTo>
                  <a:pt x="652" y="1099"/>
                </a:lnTo>
                <a:lnTo>
                  <a:pt x="0" y="1364"/>
                </a:lnTo>
                <a:lnTo>
                  <a:pt x="967" y="0"/>
                </a:lnTo>
                <a:lnTo>
                  <a:pt x="2611" y="303"/>
                </a:lnTo>
                <a:lnTo>
                  <a:pt x="1958" y="569"/>
                </a:lnTo>
                <a:lnTo>
                  <a:pt x="2974" y="3070"/>
                </a:lnTo>
                <a:lnTo>
                  <a:pt x="1669" y="360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000" y="4365720"/>
            <a:ext cx="3521880" cy="434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Presupuesto por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4920" y="4365720"/>
            <a:ext cx="3227760" cy="434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Planificación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1840" y="4437000"/>
            <a:ext cx="860400" cy="289080"/>
          </a:xfrm>
          <a:custGeom>
            <a:avLst/>
            <a:gdLst/>
            <a:ahLst/>
            <a:rect l="l" t="t" r="r" b="b"/>
            <a:pathLst>
              <a:path w="2388" h="804">
                <a:moveTo>
                  <a:pt x="0" y="402"/>
                </a:moveTo>
                <a:lnTo>
                  <a:pt x="475" y="803"/>
                </a:lnTo>
                <a:lnTo>
                  <a:pt x="475" y="603"/>
                </a:lnTo>
                <a:lnTo>
                  <a:pt x="1911" y="603"/>
                </a:lnTo>
                <a:lnTo>
                  <a:pt x="1911" y="803"/>
                </a:lnTo>
                <a:lnTo>
                  <a:pt x="2387" y="402"/>
                </a:lnTo>
                <a:lnTo>
                  <a:pt x="1911" y="0"/>
                </a:lnTo>
                <a:lnTo>
                  <a:pt x="1911" y="200"/>
                </a:lnTo>
                <a:lnTo>
                  <a:pt x="475" y="200"/>
                </a:lnTo>
                <a:lnTo>
                  <a:pt x="475" y="0"/>
                </a:lnTo>
                <a:lnTo>
                  <a:pt x="0" y="402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01840" y="692280"/>
            <a:ext cx="50688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ESQUEMA DEL SISTEMA DE PLANIFICACIÓN ESTRATÉGIC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95360" y="1600200"/>
            <a:ext cx="8913240" cy="4463640"/>
            <a:chOff x="495360" y="1600200"/>
            <a:chExt cx="8913240" cy="4463640"/>
          </a:xfrm>
        </p:grpSpPr>
        <p:sp>
          <p:nvSpPr>
            <p:cNvPr id="138" name=""/>
            <p:cNvSpPr/>
            <p:nvPr/>
          </p:nvSpPr>
          <p:spPr>
            <a:xfrm>
              <a:off x="533160" y="1600200"/>
              <a:ext cx="8875440" cy="44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410800" y="3480120"/>
              <a:ext cx="3275640" cy="2580480"/>
              <a:chOff x="5410800" y="3480120"/>
              <a:chExt cx="3275640" cy="2580480"/>
            </a:xfrm>
          </p:grpSpPr>
          <p:sp>
            <p:nvSpPr>
              <p:cNvPr id="140" name=""/>
              <p:cNvSpPr/>
              <p:nvPr/>
            </p:nvSpPr>
            <p:spPr>
              <a:xfrm>
                <a:off x="5410800" y="3480120"/>
                <a:ext cx="3275640" cy="2580480"/>
              </a:xfrm>
              <a:prstGeom prst="roundRect">
                <a:avLst>
                  <a:gd name="adj" fmla="val 60"/>
                </a:avLst>
              </a:prstGeom>
              <a:solidFill>
                <a:srgbClr val="a2f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10800" y="3480120"/>
                <a:ext cx="3275640" cy="9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Concretar el logro de los objetivos, mediante proyectos o programas (y subprogramas) y una serie de actividades específica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772800" y="3480120"/>
              <a:ext cx="1636200" cy="2580480"/>
              <a:chOff x="3772800" y="3480120"/>
              <a:chExt cx="1636200" cy="2580480"/>
            </a:xfrm>
          </p:grpSpPr>
          <p:sp>
            <p:nvSpPr>
              <p:cNvPr id="143" name=""/>
              <p:cNvSpPr/>
              <p:nvPr/>
            </p:nvSpPr>
            <p:spPr>
              <a:xfrm>
                <a:off x="3772800" y="3480120"/>
                <a:ext cx="1636200" cy="2580480"/>
              </a:xfrm>
              <a:custGeom>
                <a:avLst/>
                <a:gdLst>
                  <a:gd name="textAreaLeft" fmla="*/ 360 w 1636200"/>
                  <a:gd name="textAreaRight" fmla="*/ 1635840 w 1636200"/>
                  <a:gd name="textAreaTop" fmla="*/ 360 h 2580480"/>
                  <a:gd name="textAreaBottom" fmla="*/ 2580120 h 2580480"/>
                </a:gdLst>
                <a:ahLst/>
                <a:rect l="textAreaLeft" t="textAreaTop" r="textAreaRight" b="textAreaBottom"/>
                <a:pathLst>
                  <a:path w="21600" h="34063">
                    <a:moveTo>
                      <a:pt x="20" y="0"/>
                    </a:moveTo>
                    <a:arcTo wR="20" hR="20" stAng="16200000" swAng="-5400000"/>
                    <a:lnTo>
                      <a:pt x="0" y="34043"/>
                    </a:lnTo>
                    <a:arcTo wR="20" hR="20" stAng="10800000" swAng="-5400000"/>
                    <a:lnTo>
                      <a:pt x="21580" y="34063"/>
                    </a:lnTo>
                    <a:arcTo wR="20" hR="20" stAng="5400000" swAng="-5400000"/>
                    <a:lnTo>
                      <a:pt x="21600" y="20"/>
                    </a:lnTo>
                    <a:arcTo wR="20" hR="20" stAng="0" swAng="-5400000"/>
                    <a:close/>
                  </a:path>
                </a:pathLst>
              </a:custGeom>
              <a:solidFill>
                <a:srgbClr val="a2f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72800" y="3480120"/>
                <a:ext cx="1636200" cy="21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Son descripciones de la situación que se desea alcanzar en un tiempo determinado, para el cumpli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e la mi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134800" y="3480120"/>
              <a:ext cx="1638000" cy="2580480"/>
              <a:chOff x="2134800" y="3480120"/>
              <a:chExt cx="1638000" cy="2580480"/>
            </a:xfrm>
          </p:grpSpPr>
          <p:sp>
            <p:nvSpPr>
              <p:cNvPr id="146" name=""/>
              <p:cNvSpPr/>
              <p:nvPr/>
            </p:nvSpPr>
            <p:spPr>
              <a:xfrm>
                <a:off x="2134800" y="3480120"/>
                <a:ext cx="1638000" cy="2580480"/>
              </a:xfrm>
              <a:custGeom>
                <a:avLst/>
                <a:gdLst>
                  <a:gd name="textAreaLeft" fmla="*/ 360 w 1638000"/>
                  <a:gd name="textAreaRight" fmla="*/ 1637640 w 1638000"/>
                  <a:gd name="textAreaTop" fmla="*/ 360 h 2580480"/>
                  <a:gd name="textAreaBottom" fmla="*/ 2580120 h 2580480"/>
                </a:gdLst>
                <a:ahLst/>
                <a:rect l="textAreaLeft" t="textAreaTop" r="textAreaRight" b="textAreaBottom"/>
                <a:pathLst>
                  <a:path w="21600" h="34026">
                    <a:moveTo>
                      <a:pt x="20" y="0"/>
                    </a:moveTo>
                    <a:arcTo wR="20" hR="20" stAng="16200000" swAng="-5400000"/>
                    <a:lnTo>
                      <a:pt x="0" y="34006"/>
                    </a:lnTo>
                    <a:arcTo wR="20" hR="20" stAng="10800000" swAng="-5400000"/>
                    <a:lnTo>
                      <a:pt x="21580" y="34026"/>
                    </a:lnTo>
                    <a:arcTo wR="20" hR="20" stAng="5400000" swAng="-5400000"/>
                    <a:lnTo>
                      <a:pt x="21600" y="20"/>
                    </a:lnTo>
                    <a:arcTo wR="20" hR="20" stAng="0" swAng="-5400000"/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134800" y="3480120"/>
                <a:ext cx="1638000" cy="9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Grandes caminos que nos muevan a alcanzar la mi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7048800" y="2348640"/>
              <a:ext cx="1637640" cy="1129320"/>
              <a:chOff x="7048800" y="2348640"/>
              <a:chExt cx="1637640" cy="1129320"/>
            </a:xfrm>
          </p:grpSpPr>
          <p:sp>
            <p:nvSpPr>
              <p:cNvPr id="149" name=""/>
              <p:cNvSpPr/>
              <p:nvPr/>
            </p:nvSpPr>
            <p:spPr>
              <a:xfrm>
                <a:off x="7048800" y="2348640"/>
                <a:ext cx="1637640" cy="1129320"/>
              </a:xfrm>
              <a:prstGeom prst="roundRect">
                <a:avLst>
                  <a:gd name="adj" fmla="val 139"/>
                </a:avLst>
              </a:prstGeom>
              <a:solidFill>
                <a:srgbClr val="a2f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48800" y="2738880"/>
                <a:ext cx="163764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Actividad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410800" y="2348640"/>
              <a:ext cx="1638000" cy="1129320"/>
              <a:chOff x="5410800" y="2348640"/>
              <a:chExt cx="1638000" cy="1129320"/>
            </a:xfrm>
          </p:grpSpPr>
          <p:sp>
            <p:nvSpPr>
              <p:cNvPr id="152" name=""/>
              <p:cNvSpPr/>
              <p:nvPr/>
            </p:nvSpPr>
            <p:spPr>
              <a:xfrm>
                <a:off x="5410800" y="2348640"/>
                <a:ext cx="1638000" cy="1129320"/>
              </a:xfrm>
              <a:prstGeom prst="roundRect">
                <a:avLst>
                  <a:gd name="adj" fmla="val 139"/>
                </a:avLst>
              </a:prstGeom>
              <a:solidFill>
                <a:srgbClr val="a2f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10800" y="2738880"/>
                <a:ext cx="1638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t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772800" y="2348640"/>
              <a:ext cx="1636200" cy="1129320"/>
              <a:chOff x="3772800" y="2348640"/>
              <a:chExt cx="1636200" cy="1129320"/>
            </a:xfrm>
          </p:grpSpPr>
          <p:sp>
            <p:nvSpPr>
              <p:cNvPr id="155" name=""/>
              <p:cNvSpPr/>
              <p:nvPr/>
            </p:nvSpPr>
            <p:spPr>
              <a:xfrm>
                <a:off x="3772800" y="2348640"/>
                <a:ext cx="1636200" cy="1129320"/>
              </a:xfrm>
              <a:prstGeom prst="roundRect">
                <a:avLst>
                  <a:gd name="adj" fmla="val 139"/>
                </a:avLst>
              </a:prstGeom>
              <a:solidFill>
                <a:srgbClr val="a2f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772800" y="2738880"/>
                <a:ext cx="16362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Objetiv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134800" y="2348640"/>
              <a:ext cx="1638000" cy="1129320"/>
              <a:chOff x="2134800" y="2348640"/>
              <a:chExt cx="1638000" cy="1129320"/>
            </a:xfrm>
          </p:grpSpPr>
          <p:sp>
            <p:nvSpPr>
              <p:cNvPr id="158" name=""/>
              <p:cNvSpPr/>
              <p:nvPr/>
            </p:nvSpPr>
            <p:spPr>
              <a:xfrm>
                <a:off x="2134800" y="2348640"/>
                <a:ext cx="1638000" cy="1129320"/>
              </a:xfrm>
              <a:prstGeom prst="roundRect">
                <a:avLst>
                  <a:gd name="adj" fmla="val 139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4800" y="2738880"/>
                <a:ext cx="16380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Estrateg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95360" y="2348640"/>
              <a:ext cx="1638000" cy="3711960"/>
              <a:chOff x="495360" y="2348640"/>
              <a:chExt cx="1638000" cy="3711960"/>
            </a:xfrm>
          </p:grpSpPr>
          <p:sp>
            <p:nvSpPr>
              <p:cNvPr id="161" name=""/>
              <p:cNvSpPr/>
              <p:nvPr/>
            </p:nvSpPr>
            <p:spPr>
              <a:xfrm>
                <a:off x="495360" y="2348640"/>
                <a:ext cx="1638000" cy="3711960"/>
              </a:xfrm>
              <a:custGeom>
                <a:avLst/>
                <a:gdLst>
                  <a:gd name="textAreaLeft" fmla="*/ 360 w 1638000"/>
                  <a:gd name="textAreaRight" fmla="*/ 1637640 w 1638000"/>
                  <a:gd name="textAreaTop" fmla="*/ 360 h 3711960"/>
                  <a:gd name="textAreaBottom" fmla="*/ 3711600 h 3711960"/>
                </a:gdLst>
                <a:ahLst/>
                <a:rect l="textAreaLeft" t="textAreaTop" r="textAreaRight" b="textAreaBottom"/>
                <a:pathLst>
                  <a:path w="21600" h="48943">
                    <a:moveTo>
                      <a:pt x="20" y="0"/>
                    </a:moveTo>
                    <a:arcTo wR="20" hR="20" stAng="16200000" swAng="-5400000"/>
                    <a:lnTo>
                      <a:pt x="0" y="48923"/>
                    </a:lnTo>
                    <a:arcTo wR="20" hR="20" stAng="10800000" swAng="-5400000"/>
                    <a:lnTo>
                      <a:pt x="21580" y="48943"/>
                    </a:lnTo>
                    <a:arcTo wR="20" hR="20" stAng="5400000" swAng="-5400000"/>
                    <a:lnTo>
                      <a:pt x="21600" y="20"/>
                    </a:lnTo>
                    <a:arcTo wR="20" hR="20" stAng="0" swAng="-5400000"/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5360" y="2348640"/>
                <a:ext cx="1638000" cy="20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Razón de 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ecisión actual para el futuro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772800" y="1600200"/>
              <a:ext cx="4913640" cy="747000"/>
              <a:chOff x="3772800" y="1600200"/>
              <a:chExt cx="4913640" cy="747000"/>
            </a:xfrm>
          </p:grpSpPr>
          <p:sp>
            <p:nvSpPr>
              <p:cNvPr id="164" name=""/>
              <p:cNvSpPr/>
              <p:nvPr/>
            </p:nvSpPr>
            <p:spPr>
              <a:xfrm>
                <a:off x="3772800" y="1600200"/>
                <a:ext cx="4913640" cy="747000"/>
              </a:xfrm>
              <a:prstGeom prst="roundRect">
                <a:avLst>
                  <a:gd name="adj" fmla="val 208"/>
                </a:avLst>
              </a:prstGeom>
              <a:solidFill>
                <a:srgbClr val="a2fc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72800" y="1784880"/>
                <a:ext cx="491364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NIVEL OPERATIVO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95360" y="1600200"/>
              <a:ext cx="3276000" cy="747000"/>
              <a:chOff x="495360" y="1600200"/>
              <a:chExt cx="3276000" cy="747000"/>
            </a:xfrm>
          </p:grpSpPr>
          <p:sp>
            <p:nvSpPr>
              <p:cNvPr id="167" name=""/>
              <p:cNvSpPr/>
              <p:nvPr/>
            </p:nvSpPr>
            <p:spPr>
              <a:xfrm>
                <a:off x="495360" y="1600200"/>
                <a:ext cx="3276000" cy="747000"/>
              </a:xfrm>
              <a:prstGeom prst="roundRect">
                <a:avLst>
                  <a:gd name="adj" fmla="val 208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5360" y="1728360"/>
                <a:ext cx="3276000" cy="49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700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NIVEL ESTRATÉGICO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95360" y="1600200"/>
              <a:ext cx="8192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360" y="2348640"/>
              <a:ext cx="819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360" y="6062760"/>
              <a:ext cx="8192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360" y="1600200"/>
              <a:ext cx="1080" cy="446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72800" y="1600200"/>
              <a:ext cx="1080" cy="446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88240" y="1600200"/>
              <a:ext cx="1080" cy="446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4800" y="2348640"/>
              <a:ext cx="1080" cy="37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10800" y="2348640"/>
              <a:ext cx="1080" cy="37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8800" y="2348640"/>
              <a:ext cx="1080" cy="113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34800" y="3480120"/>
              <a:ext cx="6553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95000" y="333000"/>
            <a:ext cx="89154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t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84520" y="4005360"/>
            <a:ext cx="938520" cy="863640"/>
          </a:xfrm>
          <a:custGeom>
            <a:avLst/>
            <a:gdLst/>
            <a:ahLst/>
            <a:rect l="l" t="t" r="r" b="b"/>
            <a:pathLst>
              <a:path w="2604" h="2401">
                <a:moveTo>
                  <a:pt x="650" y="2400"/>
                </a:moveTo>
                <a:lnTo>
                  <a:pt x="650" y="600"/>
                </a:lnTo>
                <a:lnTo>
                  <a:pt x="0" y="600"/>
                </a:lnTo>
                <a:lnTo>
                  <a:pt x="1301" y="0"/>
                </a:lnTo>
                <a:lnTo>
                  <a:pt x="2603" y="600"/>
                </a:lnTo>
                <a:lnTo>
                  <a:pt x="1952" y="600"/>
                </a:lnTo>
                <a:lnTo>
                  <a:pt x="1952" y="2400"/>
                </a:lnTo>
                <a:lnTo>
                  <a:pt x="650" y="24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4520" y="1628640"/>
            <a:ext cx="938520" cy="863640"/>
          </a:xfrm>
          <a:custGeom>
            <a:avLst/>
            <a:gdLst/>
            <a:ahLst/>
            <a:rect l="l" t="t" r="r" b="b"/>
            <a:pathLst>
              <a:path w="2604" h="2401">
                <a:moveTo>
                  <a:pt x="650" y="2400"/>
                </a:moveTo>
                <a:lnTo>
                  <a:pt x="650" y="600"/>
                </a:lnTo>
                <a:lnTo>
                  <a:pt x="0" y="600"/>
                </a:lnTo>
                <a:lnTo>
                  <a:pt x="1301" y="0"/>
                </a:lnTo>
                <a:lnTo>
                  <a:pt x="2603" y="600"/>
                </a:lnTo>
                <a:lnTo>
                  <a:pt x="1952" y="600"/>
                </a:lnTo>
                <a:lnTo>
                  <a:pt x="1952" y="2400"/>
                </a:lnTo>
                <a:lnTo>
                  <a:pt x="650" y="2400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27360" y="5157720"/>
            <a:ext cx="2651040" cy="503280"/>
          </a:xfrm>
          <a:prstGeom prst="roundRect">
            <a:avLst>
              <a:gd name="adj" fmla="val 31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14880" y="2997360"/>
            <a:ext cx="3276360" cy="576000"/>
          </a:xfrm>
          <a:prstGeom prst="roundRect">
            <a:avLst>
              <a:gd name="adj" fmla="val 27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27360" y="765000"/>
            <a:ext cx="2651040" cy="719280"/>
          </a:xfrm>
          <a:prstGeom prst="roundRect">
            <a:avLst>
              <a:gd name="adj" fmla="val 21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378160" y="3645000"/>
            <a:ext cx="466560" cy="1582200"/>
            <a:chOff x="2378160" y="3645000"/>
            <a:chExt cx="466560" cy="1582200"/>
          </a:xfrm>
        </p:grpSpPr>
        <p:sp>
          <p:nvSpPr>
            <p:cNvPr id="186" name=""/>
            <p:cNvSpPr/>
            <p:nvPr/>
          </p:nvSpPr>
          <p:spPr>
            <a:xfrm>
              <a:off x="2378160" y="3645000"/>
              <a:ext cx="466560" cy="790920"/>
            </a:xfrm>
            <a:custGeom>
              <a:avLst/>
              <a:gdLst/>
              <a:ahLst/>
              <a:rect l="l" t="t" r="r" b="b"/>
              <a:pathLst>
                <a:path w="1302" h="2202">
                  <a:moveTo>
                    <a:pt x="1301" y="0"/>
                  </a:moveTo>
                  <a:cubicBezTo>
                    <a:pt x="650" y="0"/>
                    <a:pt x="0" y="660"/>
                    <a:pt x="0" y="1320"/>
                  </a:cubicBezTo>
                  <a:lnTo>
                    <a:pt x="0" y="2201"/>
                  </a:lnTo>
                  <a:cubicBezTo>
                    <a:pt x="0" y="1103"/>
                    <a:pt x="650" y="880"/>
                    <a:pt x="1301" y="880"/>
                  </a:cubicBezTo>
                  <a:lnTo>
                    <a:pt x="1301" y="0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78160" y="4118760"/>
              <a:ext cx="466560" cy="1108440"/>
            </a:xfrm>
            <a:custGeom>
              <a:avLst/>
              <a:gdLst/>
              <a:ahLst/>
              <a:rect l="l" t="t" r="r" b="b"/>
              <a:pathLst>
                <a:path w="1302" h="3082">
                  <a:moveTo>
                    <a:pt x="0" y="881"/>
                  </a:moveTo>
                  <a:cubicBezTo>
                    <a:pt x="0" y="1761"/>
                    <a:pt x="434" y="2638"/>
                    <a:pt x="867" y="2638"/>
                  </a:cubicBezTo>
                  <a:lnTo>
                    <a:pt x="867" y="3081"/>
                  </a:lnTo>
                  <a:lnTo>
                    <a:pt x="1301" y="2201"/>
                  </a:lnTo>
                  <a:lnTo>
                    <a:pt x="867" y="1321"/>
                  </a:lnTo>
                  <a:lnTo>
                    <a:pt x="867" y="1761"/>
                  </a:lnTo>
                  <a:cubicBezTo>
                    <a:pt x="434" y="1761"/>
                    <a:pt x="0" y="881"/>
                    <a:pt x="0" y="0"/>
                  </a:cubicBezTo>
                  <a:lnTo>
                    <a:pt x="0" y="881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378160" y="1413000"/>
            <a:ext cx="466560" cy="1582200"/>
            <a:chOff x="2378160" y="1413000"/>
            <a:chExt cx="466560" cy="1582200"/>
          </a:xfrm>
        </p:grpSpPr>
        <p:sp>
          <p:nvSpPr>
            <p:cNvPr id="189" name=""/>
            <p:cNvSpPr/>
            <p:nvPr/>
          </p:nvSpPr>
          <p:spPr>
            <a:xfrm>
              <a:off x="2378160" y="1413000"/>
              <a:ext cx="466560" cy="790920"/>
            </a:xfrm>
            <a:custGeom>
              <a:avLst/>
              <a:gdLst/>
              <a:ahLst/>
              <a:rect l="l" t="t" r="r" b="b"/>
              <a:pathLst>
                <a:path w="1302" h="2202">
                  <a:moveTo>
                    <a:pt x="1301" y="0"/>
                  </a:moveTo>
                  <a:cubicBezTo>
                    <a:pt x="650" y="0"/>
                    <a:pt x="0" y="660"/>
                    <a:pt x="0" y="1320"/>
                  </a:cubicBezTo>
                  <a:lnTo>
                    <a:pt x="0" y="2201"/>
                  </a:lnTo>
                  <a:cubicBezTo>
                    <a:pt x="0" y="1103"/>
                    <a:pt x="650" y="880"/>
                    <a:pt x="1301" y="880"/>
                  </a:cubicBezTo>
                  <a:lnTo>
                    <a:pt x="1301" y="0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78160" y="1886760"/>
              <a:ext cx="466560" cy="1108440"/>
            </a:xfrm>
            <a:custGeom>
              <a:avLst/>
              <a:gdLst/>
              <a:ahLst/>
              <a:rect l="l" t="t" r="r" b="b"/>
              <a:pathLst>
                <a:path w="1302" h="3082">
                  <a:moveTo>
                    <a:pt x="0" y="881"/>
                  </a:moveTo>
                  <a:cubicBezTo>
                    <a:pt x="0" y="1761"/>
                    <a:pt x="434" y="2638"/>
                    <a:pt x="867" y="2638"/>
                  </a:cubicBezTo>
                  <a:lnTo>
                    <a:pt x="867" y="3081"/>
                  </a:lnTo>
                  <a:lnTo>
                    <a:pt x="1301" y="2201"/>
                  </a:lnTo>
                  <a:lnTo>
                    <a:pt x="867" y="1321"/>
                  </a:lnTo>
                  <a:lnTo>
                    <a:pt x="867" y="1761"/>
                  </a:lnTo>
                  <a:cubicBezTo>
                    <a:pt x="434" y="1761"/>
                    <a:pt x="0" y="881"/>
                    <a:pt x="0" y="0"/>
                  </a:cubicBezTo>
                  <a:lnTo>
                    <a:pt x="0" y="881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137360" y="3645000"/>
            <a:ext cx="388800" cy="1582200"/>
            <a:chOff x="7137360" y="3645000"/>
            <a:chExt cx="388800" cy="1582200"/>
          </a:xfrm>
        </p:grpSpPr>
        <p:sp>
          <p:nvSpPr>
            <p:cNvPr id="192" name=""/>
            <p:cNvSpPr/>
            <p:nvPr/>
          </p:nvSpPr>
          <p:spPr>
            <a:xfrm>
              <a:off x="7137360" y="4118760"/>
              <a:ext cx="388800" cy="1108440"/>
            </a:xfrm>
            <a:custGeom>
              <a:avLst/>
              <a:gdLst/>
              <a:ahLst/>
              <a:rect l="l" t="t" r="r" b="b"/>
              <a:pathLst>
                <a:path w="1086" h="3082">
                  <a:moveTo>
                    <a:pt x="1085" y="881"/>
                  </a:moveTo>
                  <a:cubicBezTo>
                    <a:pt x="1085" y="1761"/>
                    <a:pt x="904" y="2638"/>
                    <a:pt x="723" y="2638"/>
                  </a:cubicBezTo>
                  <a:lnTo>
                    <a:pt x="723" y="3081"/>
                  </a:lnTo>
                  <a:lnTo>
                    <a:pt x="0" y="2201"/>
                  </a:lnTo>
                  <a:lnTo>
                    <a:pt x="723" y="1321"/>
                  </a:lnTo>
                  <a:lnTo>
                    <a:pt x="723" y="1761"/>
                  </a:lnTo>
                  <a:cubicBezTo>
                    <a:pt x="904" y="1761"/>
                    <a:pt x="1085" y="881"/>
                    <a:pt x="1085" y="0"/>
                  </a:cubicBezTo>
                  <a:lnTo>
                    <a:pt x="1085" y="881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37360" y="3645000"/>
              <a:ext cx="388800" cy="790920"/>
            </a:xfrm>
            <a:custGeom>
              <a:avLst/>
              <a:gdLst/>
              <a:ahLst/>
              <a:rect l="l" t="t" r="r" b="b"/>
              <a:pathLst>
                <a:path w="1086" h="2202">
                  <a:moveTo>
                    <a:pt x="0" y="0"/>
                  </a:moveTo>
                  <a:cubicBezTo>
                    <a:pt x="542" y="0"/>
                    <a:pt x="1085" y="660"/>
                    <a:pt x="1085" y="1320"/>
                  </a:cubicBezTo>
                  <a:lnTo>
                    <a:pt x="1085" y="2201"/>
                  </a:lnTo>
                  <a:cubicBezTo>
                    <a:pt x="1085" y="1103"/>
                    <a:pt x="542" y="880"/>
                    <a:pt x="0" y="880"/>
                  </a:cubicBez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137360" y="1413000"/>
            <a:ext cx="388800" cy="1582200"/>
            <a:chOff x="7137360" y="1413000"/>
            <a:chExt cx="388800" cy="1582200"/>
          </a:xfrm>
        </p:grpSpPr>
        <p:sp>
          <p:nvSpPr>
            <p:cNvPr id="195" name=""/>
            <p:cNvSpPr/>
            <p:nvPr/>
          </p:nvSpPr>
          <p:spPr>
            <a:xfrm>
              <a:off x="7137360" y="1886760"/>
              <a:ext cx="388800" cy="1108440"/>
            </a:xfrm>
            <a:custGeom>
              <a:avLst/>
              <a:gdLst/>
              <a:ahLst/>
              <a:rect l="l" t="t" r="r" b="b"/>
              <a:pathLst>
                <a:path w="1086" h="3082">
                  <a:moveTo>
                    <a:pt x="1085" y="881"/>
                  </a:moveTo>
                  <a:cubicBezTo>
                    <a:pt x="1085" y="1761"/>
                    <a:pt x="904" y="2638"/>
                    <a:pt x="723" y="2638"/>
                  </a:cubicBezTo>
                  <a:lnTo>
                    <a:pt x="723" y="3081"/>
                  </a:lnTo>
                  <a:lnTo>
                    <a:pt x="0" y="2201"/>
                  </a:lnTo>
                  <a:lnTo>
                    <a:pt x="723" y="1321"/>
                  </a:lnTo>
                  <a:lnTo>
                    <a:pt x="723" y="1761"/>
                  </a:lnTo>
                  <a:cubicBezTo>
                    <a:pt x="904" y="1761"/>
                    <a:pt x="1085" y="881"/>
                    <a:pt x="1085" y="0"/>
                  </a:cubicBezTo>
                  <a:lnTo>
                    <a:pt x="1085" y="881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7360" y="1413000"/>
              <a:ext cx="388800" cy="790920"/>
            </a:xfrm>
            <a:custGeom>
              <a:avLst/>
              <a:gdLst/>
              <a:ahLst/>
              <a:rect l="l" t="t" r="r" b="b"/>
              <a:pathLst>
                <a:path w="1086" h="2202">
                  <a:moveTo>
                    <a:pt x="0" y="0"/>
                  </a:moveTo>
                  <a:cubicBezTo>
                    <a:pt x="542" y="0"/>
                    <a:pt x="1085" y="660"/>
                    <a:pt x="1085" y="1320"/>
                  </a:cubicBezTo>
                  <a:lnTo>
                    <a:pt x="1085" y="2201"/>
                  </a:lnTo>
                  <a:cubicBezTo>
                    <a:pt x="1085" y="1103"/>
                    <a:pt x="542" y="880"/>
                    <a:pt x="0" y="880"/>
                  </a:cubicBez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Arial"/>
              </a:rPr>
              <a:t>¿Cómo integrar a la población en el proceso de planificació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-1489320"/>
            <a:ext cx="89154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ff"/>
                </a:solidFill>
                <a:latin typeface="Arial"/>
              </a:rPr>
              <a:t>La Participación de la soc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4572000"/>
            <a:ext cx="1898640" cy="1523880"/>
          </a:xfrm>
          <a:custGeom>
            <a:avLst/>
            <a:gdLst/>
            <a:ahLst/>
            <a:rect l="l" t="t" r="r" b="b"/>
            <a:pathLst>
              <a:path w="5276" h="4235">
                <a:moveTo>
                  <a:pt x="1318" y="0"/>
                </a:moveTo>
                <a:lnTo>
                  <a:pt x="1318" y="3175"/>
                </a:lnTo>
                <a:lnTo>
                  <a:pt x="0" y="3175"/>
                </a:lnTo>
                <a:lnTo>
                  <a:pt x="2637" y="4234"/>
                </a:lnTo>
                <a:lnTo>
                  <a:pt x="5275" y="3175"/>
                </a:lnTo>
                <a:lnTo>
                  <a:pt x="3956" y="3175"/>
                </a:lnTo>
                <a:lnTo>
                  <a:pt x="3956" y="0"/>
                </a:lnTo>
                <a:lnTo>
                  <a:pt x="1318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95000" y="762120"/>
            <a:ext cx="8915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 Presupuesto por Progra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ada su desagregación en torno a objetivos, permite que ciudadanos sin conocimiento de toda la política presupuestaria participen y opinen sobre programas que atañen a problemas y situaciones específicos de su ám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centiva dicha participación en la etapa de ejecución presupues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Antes de Enfrascarte en Batallas, Prepara las Condiciones para la Victoria y Sé Capaz de Formular Políticas (Estrategias) Victorios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(SUN TZU, El Arte de la Guer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3200" spc="-1" strike="noStrike">
                <a:solidFill>
                  <a:srgbClr val="6600ff"/>
                </a:solidFill>
                <a:latin typeface="Arial"/>
              </a:rPr>
              <a:t>Pensar Estratégicamente y Actuar Democráticamen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ff"/>
                </a:solidFill>
                <a:latin typeface="Arial"/>
              </a:rPr>
              <a:t>(Denhardt y Denhardt, 2003. Nuevo Servicio Públ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FÍOS DE UNA NUEVA GESTIÓN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STALAR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LANIFICACION             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IMAGEN 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STRATEGICA                      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FUTU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EJORAR                      PRESUPUESTO            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ÈCNICAS PRESUPUEST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ÚBLICO                        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PROCESO PRESUPUES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ORTALECER               PRESUPUESTO              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PARTICIP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ARTICIPATIVO                 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3623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22860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4191120"/>
            <a:ext cx="1295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41148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42670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562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6386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5562720"/>
            <a:ext cx="1295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372600" y="2360160"/>
            <a:ext cx="1440" cy="312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609040" y="2362320"/>
            <a:ext cx="689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9294840" y="4267080"/>
            <a:ext cx="79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00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Arial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000" y="838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ificación                   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tuacional                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28760" y="2362320"/>
            <a:ext cx="793800" cy="1212480"/>
            <a:chOff x="2228760" y="2362320"/>
            <a:chExt cx="793800" cy="1212480"/>
          </a:xfrm>
        </p:grpSpPr>
        <p:sp>
          <p:nvSpPr>
            <p:cNvPr id="57" name=""/>
            <p:cNvSpPr/>
            <p:nvPr/>
          </p:nvSpPr>
          <p:spPr>
            <a:xfrm>
              <a:off x="2228760" y="2362320"/>
              <a:ext cx="793800" cy="606240"/>
            </a:xfrm>
            <a:custGeom>
              <a:avLst/>
              <a:gdLst/>
              <a:ahLst/>
              <a:rect l="l" t="t" r="r" b="b"/>
              <a:pathLst>
                <a:path w="2211" h="1688">
                  <a:moveTo>
                    <a:pt x="2210" y="0"/>
                  </a:moveTo>
                  <a:cubicBezTo>
                    <a:pt x="1104" y="0"/>
                    <a:pt x="0" y="506"/>
                    <a:pt x="0" y="1012"/>
                  </a:cubicBezTo>
                  <a:lnTo>
                    <a:pt x="0" y="1687"/>
                  </a:lnTo>
                  <a:cubicBezTo>
                    <a:pt x="0" y="845"/>
                    <a:pt x="1104" y="675"/>
                    <a:pt x="2210" y="675"/>
                  </a:cubicBezTo>
                  <a:lnTo>
                    <a:pt x="2210" y="0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28760" y="2726280"/>
              <a:ext cx="793800" cy="848520"/>
            </a:xfrm>
            <a:custGeom>
              <a:avLst/>
              <a:gdLst/>
              <a:ahLst/>
              <a:rect l="l" t="t" r="r" b="b"/>
              <a:pathLst>
                <a:path w="2211" h="2362">
                  <a:moveTo>
                    <a:pt x="0" y="675"/>
                  </a:moveTo>
                  <a:cubicBezTo>
                    <a:pt x="0" y="1349"/>
                    <a:pt x="737" y="2022"/>
                    <a:pt x="1473" y="2022"/>
                  </a:cubicBezTo>
                  <a:lnTo>
                    <a:pt x="1473" y="2361"/>
                  </a:lnTo>
                  <a:lnTo>
                    <a:pt x="2210" y="1686"/>
                  </a:lnTo>
                  <a:lnTo>
                    <a:pt x="1473" y="1012"/>
                  </a:lnTo>
                  <a:lnTo>
                    <a:pt x="1473" y="1349"/>
                  </a:lnTo>
                  <a:cubicBezTo>
                    <a:pt x="737" y="1349"/>
                    <a:pt x="0" y="675"/>
                    <a:pt x="0" y="0"/>
                  </a:cubicBezTo>
                  <a:lnTo>
                    <a:pt x="0" y="675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851520" y="2362320"/>
            <a:ext cx="793800" cy="1212480"/>
            <a:chOff x="6851520" y="2362320"/>
            <a:chExt cx="793800" cy="1212480"/>
          </a:xfrm>
        </p:grpSpPr>
        <p:sp>
          <p:nvSpPr>
            <p:cNvPr id="60" name=""/>
            <p:cNvSpPr/>
            <p:nvPr/>
          </p:nvSpPr>
          <p:spPr>
            <a:xfrm>
              <a:off x="6851520" y="2726280"/>
              <a:ext cx="793800" cy="848520"/>
            </a:xfrm>
            <a:custGeom>
              <a:avLst/>
              <a:gdLst/>
              <a:ahLst/>
              <a:rect l="l" t="t" r="r" b="b"/>
              <a:pathLst>
                <a:path w="2211" h="2362">
                  <a:moveTo>
                    <a:pt x="2210" y="675"/>
                  </a:moveTo>
                  <a:cubicBezTo>
                    <a:pt x="2210" y="1349"/>
                    <a:pt x="1841" y="2022"/>
                    <a:pt x="1473" y="2022"/>
                  </a:cubicBezTo>
                  <a:lnTo>
                    <a:pt x="1473" y="2361"/>
                  </a:lnTo>
                  <a:lnTo>
                    <a:pt x="0" y="1686"/>
                  </a:lnTo>
                  <a:lnTo>
                    <a:pt x="1473" y="1012"/>
                  </a:lnTo>
                  <a:lnTo>
                    <a:pt x="1473" y="1349"/>
                  </a:lnTo>
                  <a:cubicBezTo>
                    <a:pt x="1841" y="1349"/>
                    <a:pt x="2210" y="675"/>
                    <a:pt x="2210" y="0"/>
                  </a:cubicBezTo>
                  <a:lnTo>
                    <a:pt x="2210" y="675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1520" y="2362320"/>
              <a:ext cx="793800" cy="606240"/>
            </a:xfrm>
            <a:custGeom>
              <a:avLst/>
              <a:gdLst/>
              <a:ahLst/>
              <a:rect l="l" t="t" r="r" b="b"/>
              <a:pathLst>
                <a:path w="2211" h="1688">
                  <a:moveTo>
                    <a:pt x="0" y="0"/>
                  </a:moveTo>
                  <a:cubicBezTo>
                    <a:pt x="1104" y="0"/>
                    <a:pt x="2210" y="506"/>
                    <a:pt x="2210" y="1012"/>
                  </a:cubicBezTo>
                  <a:lnTo>
                    <a:pt x="2210" y="1687"/>
                  </a:lnTo>
                  <a:cubicBezTo>
                    <a:pt x="2210" y="845"/>
                    <a:pt x="1104" y="675"/>
                    <a:pt x="0" y="675"/>
                  </a:cubicBez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311560" y="3809880"/>
            <a:ext cx="5200560" cy="533520"/>
          </a:xfrm>
          <a:prstGeom prst="roundRect">
            <a:avLst>
              <a:gd name="adj" fmla="val 296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76760" y="549360"/>
            <a:ext cx="3043440" cy="172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2640" y="549360"/>
            <a:ext cx="3276360" cy="1727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lanificación Situ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133720"/>
            <a:ext cx="7346880" cy="1981080"/>
          </a:xfrm>
          <a:prstGeom prst="ellipse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La crítica de Carlos M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 la Planificación Norm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68520" y="1828800"/>
            <a:ext cx="6769080" cy="2057400"/>
          </a:xfrm>
          <a:prstGeom prst="roundRect">
            <a:avLst>
              <a:gd name="adj" fmla="val 74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ulados sometidos a crí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1) Supone un sujeto, que es el Estado, que planifica un objeto, que es la realidad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5-08-30T13:36:49Z</dcterms:modified>
  <cp:revision>1</cp:revision>
  <dc:subject/>
  <dc:title>Enfoque de Planificación Presupuesto y Participación Ciudadana:   La Experiencia de Rosario</dc:title>
</cp:coreProperties>
</file>