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821-D8A1-42F7-BAA7-085D8FDB9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DBF-8812-4DBB-86F3-77C21314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964-6082-4E71-B448-F3681E8D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521-7E38-4822-ADA0-51313AC1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D028-EAC3-4A66-B517-3A856F5F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8B32-3E50-491C-B9F9-8F0CA50A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BAF3-BFBA-455C-9FC4-5F1A6A3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BBEE2-035A-46C7-8A33-1667E6C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0F38-17CB-4361-A828-771DAE00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A5AA-52AD-411F-9FD6-C908224F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9037-B2C7-42D9-8341-B5354EF5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C760-CA73-4F10-BBC8-9B9FAF6B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A18A-7E3A-4C1C-B0AC-49FA8100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D37F-5EAB-412E-B9B5-30AF0CA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8E56-A4F4-4EE7-962A-F8560C75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8147-BEF4-407D-A87F-005E6346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FF61-BA66-47A8-A651-677259B8A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534-90F5-4ABE-8FA9-94DA2AC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969-F75A-4423-936D-56DC1583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28C-293D-41DA-B1AB-3A20AFB1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416-1606-4832-A610-E2F5AEE2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D48B-7C64-47F3-89F4-229D4634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B408-5A40-4059-A65C-B8214B4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680-A708-4CF7-8D52-107DB98B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9433-FC76-49F9-AA5C-589B699ED635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25BF-9965-46A1-BCF7-9C8884F6619E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FB5F-9D48-4E99-8573-3A8596E844B7}" type="datetime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29E-388C-463E-AD39-6B0C5EED0803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65724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LA COMISION DE ADMINISTRACIÓN PÚBLICA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 LA CIUDAD DE SANTA F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80880" y="59436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00"/>
                </a:solidFill>
                <a:latin typeface="Arial"/>
              </a:rPr>
              <a:t>IV JORNADAS NACIONALES DE PROFESIONALES EN CIENCIAS ECONOMICAS DEL SECTOR PUBLICO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ahoma"/>
              </a:rPr>
              <a:t>Ciudad Autónoma de Buenos Aires- Agosto, 200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16E1-1B3B-41B1-9801-34B394CC97D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257F135-82D0-41AD-A9F2-D338399B2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Oportunidades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próximo debate del Anteproyecto de Ley de Administración Financiera y Control. Intención de los legisladores de invitar a opinar a las Asociaciones de Profesionales en Ciencias Económic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desarrollo de la Región Centro. Posibilidad de estudios conjuntos para armonizar normas fiscales, contables, de auditoría, referentes al Sector Públ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 mayor conciencia de auditoría social y  confianza de los ciudadanos en las Asociaciones Intermedi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uestra Incorporación a las reuniones que en F.A.C.P.C.E. tratan los marcos conceptuales de Normas Contables y Modelo Cont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0DF-8095-4EAC-AD4F-82CC5496453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FE488-092C-4A43-81C5-20B197B437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5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s-ES" sz="2900" spc="-1" strike="noStrike">
                <a:solidFill>
                  <a:srgbClr val="ffffff"/>
                </a:solidFill>
                <a:latin typeface="Arial"/>
              </a:rPr>
              <a:t>Asignaturas Pendientes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vestigaciones científ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blicaciones con mayor periodicida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524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ás eventos de capacitación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ensar que una utopía ..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uede hacerse realida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 invitar a todos nuestros colegas a que se sumen a concretar el sueño que cambiar el Estado y fortalecer el Sector Público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 posib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7080" y="2819520"/>
            <a:ext cx="219240" cy="385560"/>
          </a:xfrm>
          <a:prstGeom prst="downArrow">
            <a:avLst>
              <a:gd name="adj1" fmla="val 50000"/>
              <a:gd name="adj2" fmla="val 43966"/>
            </a:avLst>
          </a:prstGeom>
          <a:solidFill>
            <a:srgbClr val="ffffff"/>
          </a:solidFill>
          <a:ln cap="sq"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D36-CF61-473C-870A-9F4635ABFBE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F43D6-4C5F-4E73-8C13-C8390E9E18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2819520"/>
            <a:ext cx="60958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ahoma"/>
              </a:rPr>
              <a:t>MUCHAS GRACIA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A6B-CD93-4BFC-B053-3939C43276F5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83E638-F466-40E2-8877-1AEDD6B316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A Manera de Introducción</a:t>
            </a:r>
            <a:br>
              <a:rPr sz="3300"/>
            </a:b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105080" cy="456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sejo Profesional de Ciencias Económicas de la Provincia de Santa 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jercicio Profesiona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Matrícul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Propuesta de Honora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mpetencias Profesionales por ram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1523880"/>
            <a:ext cx="46785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legio de Graduados en    Ciencias Económ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Funcion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aeaea"/>
                </a:solidFill>
                <a:latin typeface="Arial"/>
              </a:rPr>
              <a:t>Agremiación Profesional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aeaea"/>
                </a:solidFill>
                <a:latin typeface="Arial"/>
              </a:rPr>
              <a:t>Colaboración y Extensión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buClr>
                <a:srgbClr val="eaeae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aeaea"/>
                </a:solidFill>
                <a:latin typeface="Arial"/>
              </a:rPr>
              <a:t>Valorización y Dignificación de la profesión 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aeaea"/>
                </a:solidFill>
                <a:latin typeface="Arial"/>
              </a:rPr>
              <a:t>      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aeaea"/>
                </a:solidFill>
                <a:latin typeface="Arial"/>
              </a:rPr>
              <a:t>       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s-ES" sz="2300" spc="-1" strike="noStrike">
                <a:solidFill>
                  <a:srgbClr val="eaeaea"/>
                </a:solidFill>
                <a:latin typeface="Arial"/>
              </a:rPr>
              <a:t>Comisiones de Apoyo y Asesoramiento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ffff00"/>
                </a:solidFill>
                <a:latin typeface="Arial"/>
              </a:rPr>
              <a:t>Comisión de Administración Pública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4191120"/>
            <a:ext cx="277560" cy="385560"/>
          </a:xfrm>
          <a:prstGeom prst="downArrow">
            <a:avLst>
              <a:gd name="adj1" fmla="val 50000"/>
              <a:gd name="adj2" fmla="val 34728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5562720"/>
            <a:ext cx="277560" cy="385560"/>
          </a:xfrm>
          <a:prstGeom prst="downArrow">
            <a:avLst>
              <a:gd name="adj1" fmla="val 50000"/>
              <a:gd name="adj2" fmla="val 34728"/>
            </a:avLst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B108-1029-45C3-9F35-156327BFA3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A2A54-1077-4D9D-9C11-EC4797F989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Nuestra Comisión, su Historia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ciencia de la necesidad e importancia que tiene l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formación continua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ara brindar con alta calidad nuestros servicios profesionales en el Sector Públ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sistencia a la Primera Jornada Nacional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nstrumento Motivador para comenzar con las reuniones preparatorias de constitución de la incipiente Comis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racaso de desafíos semejantes en el pasa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onvocatoria a los colegas asociados, por medio de la Revista de las Instituciones para  participar de las reuniones de la Comisió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1523880"/>
            <a:ext cx="46785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F7F-C7B8-4EFB-A870-2F2C710DFF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B0055-4FFD-4620-9AB5-743273CD00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Nuestros Principales Objetivos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1426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825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studio, análisis, reflexión sobre aspectos teóricos, técnicos y prácticos de la actividad en el Sector Público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825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talecimiento ético y profesional de los colegas que se desempeñan en el Sector Públic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825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Estímulo de capacitación, perfeccionamiento y actualización de los colega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825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mentar la realización de trabajos de investigación y de opinión profesional inherentes al Sector Públic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825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Asesorar en las materias de nuestra competencia al CGCE y CPCESF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535-239E-4019-9E7C-BC497165262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DE12F-5371-40FB-B873-1C0D3532B1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Eventos y Actividades Realizadas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962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Nuestro Primer Año: 2003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ctividades de capacitación internas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spcAft>
                <a:spcPts val="7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harlas dadas por expositores locales sobre: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* Determinación de Resultados 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Presupuestarios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* Gobierno Electrónico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* Auditorias en el Sector Público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Asistencia a las II Jornadas Nacionales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233-0D1A-42B3-A610-347FCE0C18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1BF25-34A3-4CC1-8D83-86BD43209A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Eventos y Actividades Realizadas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83059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Nuestro Segundo Año: 2004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Análisis y discusión de normas de facturaciones impositivas y para la rendición de cuentas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spectos conceptuales de la Cuenta de Inversión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La Información, la transparencia y la ética de los profesionales en CE del Sector Público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Eventos Públicos 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* Panel sobre Monotributo, normas de facturación,    sus abordajes fiscales y de rendición de cuenta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* Charla sobre el Sistema de Administración  Financiera en el Sector Público Santafesin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s-E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sistencia a las III Jornadas Nacionales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297-D6B0-41EA-8350-7CA277BA1B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9A2E8-EE50-4D98-BCD9-EB263F16FD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spcBef>
                <a:spcPts val="3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Eventos y Actividades Realizadas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5000"/>
              </a:lnSpc>
              <a:spcBef>
                <a:spcPts val="125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300"/>
              </a:spcBef>
              <a:spcAft>
                <a:spcPts val="1049"/>
              </a:spcAft>
              <a:buClr>
                <a:srgbClr val="eaeaea"/>
              </a:buClr>
              <a:buSzPct val="10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uestro Presente. El Tercer Año:  200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13"/>
              </a:spcBef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Nuestra Primera Publicación en la Revista de las Instituciones. Su temática El Presupuesto y la Cuenta de Inversión como herramientas que contribuyen a la transparencia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Estudio, Análisis y Emisión de Informe Técnico sobre el Anteproyecto de Ley de Administración Financiera y Control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 Charlas  dadas por expositores locales sobre: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* La Mediación: método alternativo de resolver conflictos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* El Control Interno en el Sector Público Provincial. Marco Normativo Vigente y futuro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s-ES" sz="21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s-ES" sz="2100" spc="-1" strike="noStrike">
                <a:solidFill>
                  <a:srgbClr val="ffffff"/>
                </a:solidFill>
                <a:latin typeface="Arial"/>
              </a:rPr>
              <a:t>Análisis y Estudio de los Marcos Conceptuales de  Normas Contables para el SP y del Modelo Contable Gubernamental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5C0-53A6-47F7-9AA9-DE90C7AA92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BFBDB-D402-4AFA-B15C-C89DC6CFBF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Fortalezas</a:t>
            </a: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Recurso humano: su dedicación, conocimientos, destrezas, inquietud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diversidad de ámbitos laborales en  que nos desempeñamos los integrantes: visiones más integrales, ricos intercambi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experiencia y trayectoria de alguno de los integra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Buena  predisposición de los integrantes para el trabajo en equip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524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a Historia y prestigio del Coleg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6AA5-0281-4D3A-933A-E49EA5FA60D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C96E4-6207-4065-9A88-CB21C8F730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5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1" lang="es-ES" sz="3300" spc="-1" strike="noStrike">
                <a:solidFill>
                  <a:srgbClr val="ffff00"/>
                </a:solidFill>
                <a:latin typeface="Arial"/>
              </a:rPr>
              <a:t>Debilidades</a:t>
            </a:r>
            <a:br>
              <a:rPr sz="3300"/>
            </a:br>
            <a:endParaRPr b="0" lang="en-US" sz="3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o contar con recursos financieros propio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No contar con sponsors que ayuden a concretar las actividades y proyectos pendientes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eaeae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ca disponibilidad de tiempo de los integrantes de la Comis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1459080"/>
            <a:ext cx="467856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DD8C-4B4A-4D5F-B555-9764E2B2D99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E9704E-D275-473E-AFED-F9DAE6D611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5T10:53:17Z</dcterms:created>
  <dc:creator>Familia</dc:creator>
  <dc:description/>
  <dc:language>en-US</dc:language>
  <cp:lastModifiedBy>C.P.C.E.C.A.B.A.</cp:lastModifiedBy>
  <dcterms:modified xsi:type="dcterms:W3CDTF">2005-08-30T13:32:32Z</dcterms:modified>
  <cp:revision>90</cp:revision>
  <dc:subject/>
  <dc:title>[Nombre de la organización]</dc:title>
</cp:coreProperties>
</file>