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jpeg" ContentType="image/jpeg"/>
  <Override PartName="/ppt/media/CLIC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168-4B81-4DEC-8430-C40D5860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2D2-CEAD-43B7-9EBF-36131430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EED-0CCC-4659-8F6F-601E5228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A14-396C-47D7-BBF3-EC46D908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462F-7BF2-436D-BCC6-28B2D39A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6413-BC12-4175-A330-01F62115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E844-2B04-4533-9868-654E278B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C5FD-E48B-482C-9CBB-72A619BA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A684-DEF9-44BB-B658-004294AB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D7D3-613A-4882-B7B8-020D9EBB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800E-395A-4BF5-A26C-7FE8AE37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277-04BB-471E-B5B4-9467F9DA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8C66-0480-4BD5-B364-2625055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DECE-08EE-4CD2-A397-FA41FA03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7DA8-2569-4EFA-9568-0BD9FC7F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0310-9918-4AC5-AE72-AB20EEDC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2B12-AA76-40F3-BA2A-C81D4936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B89-3D60-4BA3-9498-7D1FFC50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A7A-C288-4128-A2B8-50796023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878-6E26-49A3-8497-EC1E0B71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D65-DCDC-4F5C-BF67-7B360F8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F55-C757-4B4E-A591-5B702DB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664-05B0-4DE3-A163-A9DE23B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1D9-783F-411F-87B0-4B3C6FB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CEE5-760A-493C-ACE4-BF5A408C561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8B2D-DFB8-4B0F-BE56-E3D0F6F7AAD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egistroycontrol.com.ar/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meguma.earthsciences.dal.ca/alumni/images/coyote-genius.gif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otrocampo.com/criticas/media/chick2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hobbiesguinea.com/images/fantagun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registroycontrol.com.ar/" TargetMode="External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registroycontrol.com.ar/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3036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El gobernante al margen del derecho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800"/>
            </a:b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“lo que el príncipe quiere tiene 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fuerza de ley”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Influencia del Cristianismo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800"/>
            </a:b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“Serás Rey si obras justamente, y si no, no lo serás”…</a:t>
            </a:r>
            <a:br>
              <a:rPr sz="3800"/>
            </a:br>
            <a:br>
              <a:rPr sz="3800"/>
            </a:b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 “Los estados sin justicia equivalen a grandes latrocinios” 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ado y el gobernante se someten al derecho. </a:t>
            </a:r>
            <a:br>
              <a:rPr sz="3800"/>
            </a:b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e impone la justicia 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omo val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Pero, aún la coacción de la ley no alcanzaba al gobernante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ines del Siglo XVIII</a:t>
            </a:r>
            <a:br>
              <a:rPr sz="4400"/>
            </a:br>
            <a:br>
              <a:rPr sz="3400"/>
            </a:b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stitucionalismo moderno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br>
              <a:rPr sz="3400"/>
            </a:b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Seguridad, libertad y derechos individuales.</a:t>
            </a:r>
            <a:br>
              <a:rPr sz="3400"/>
            </a:br>
            <a:br>
              <a:rPr sz="3400"/>
            </a:b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Un tipo de estado en base a un pacto social donde el gobernante solo juega el rol de mandatario y por ende </a:t>
            </a:r>
            <a:r>
              <a:rPr b="1" i="1" lang="es-ES" sz="3400" spc="-1" strike="noStrike">
                <a:solidFill>
                  <a:srgbClr val="000000"/>
                </a:solidFill>
                <a:latin typeface="Arial"/>
              </a:rPr>
              <a:t>debe rendir cuentas de sus accion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300" spc="-1" strike="noStrike">
                <a:solidFill>
                  <a:srgbClr val="000000"/>
                </a:solidFill>
                <a:latin typeface="Times New Roman"/>
              </a:rPr>
              <a:t>El gobernante al margen del derecho</a:t>
            </a:r>
            <a:br>
              <a:rPr sz="4300"/>
            </a:br>
            <a:br>
              <a:rPr sz="4300"/>
            </a:br>
            <a:r>
              <a:rPr b="1" i="1" lang="es-ES" sz="4300" spc="-1" strike="noStrike">
                <a:solidFill>
                  <a:srgbClr val="000000"/>
                </a:solidFill>
                <a:latin typeface="Times New Roman"/>
              </a:rPr>
              <a:t>Influencia del Cristianismo</a:t>
            </a:r>
            <a:br>
              <a:rPr sz="4300"/>
            </a:br>
            <a:br>
              <a:rPr sz="4300"/>
            </a:br>
            <a:r>
              <a:rPr b="1" i="1" lang="es-ES" sz="4300" spc="-1" strike="noStrike">
                <a:solidFill>
                  <a:srgbClr val="000000"/>
                </a:solidFill>
                <a:latin typeface="Times New Roman"/>
              </a:rPr>
              <a:t>Limitación del estado por el derecho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Siglo XXI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Los funcionarios públicos olvidamos esta evolución. </a:t>
            </a:r>
            <a:br>
              <a:rPr sz="3800"/>
            </a:b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Muchos aún no tomaron debida nota de la Revolución Frances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Argentina figuraba entre los países más ricos del mundo y su presupuesto educativo era tan grande que equivalía a la suma de los presupuestos educativos del resto de América latina.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L´Argentina    …”Se dilapida el dinero público ... existe una arraigada corruptela política y no funciona la justicia” ...  </a:t>
            </a:r>
            <a:br>
              <a:rPr sz="3200"/>
            </a:b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...”La mala fama de los jueces de provincia determina que nadie quiera acudir a ellos  ...”</a:t>
            </a:r>
            <a:br>
              <a:rPr sz="3200"/>
            </a:b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...”La Argentina es un país donde el poder judicial no tiene independencia y el poder ejecutivo no tiene frenos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”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88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76640" y="1927080"/>
            <a:ext cx="33814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689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111111"/>
                </a:solidFill>
                <a:latin typeface="Times New Roman"/>
              </a:rPr>
              <a:t>Los Órganos de Control Externo</a:t>
            </a:r>
            <a:br>
              <a:rPr sz="4500"/>
            </a:br>
            <a:r>
              <a:rPr b="1" i="1" lang="es-ES" sz="4800" spc="-1" strike="noStrike">
                <a:solidFill>
                  <a:srgbClr val="111111"/>
                </a:solidFill>
                <a:latin typeface="Times New Roman"/>
              </a:rPr>
              <a:t>Una visión atrevi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Claudio Alberto Ricciu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111111"/>
                </a:solidFill>
                <a:latin typeface="Times New Roman"/>
              </a:rPr>
              <a:t>Corrupción</a:t>
            </a:r>
            <a:br>
              <a:rPr sz="4800"/>
            </a:br>
            <a:r>
              <a:rPr b="1" i="1" lang="es-ES_tradnl" sz="4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Times New Roman"/>
              </a:rPr>
              <a:t>especial comportamiento </a:t>
            </a:r>
            <a:r>
              <a:rPr b="1" i="1" lang="es-E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Times New Roman"/>
              </a:rPr>
              <a:t>delictivo</a:t>
            </a:r>
            <a:br>
              <a:rPr sz="53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940360" y="4005360"/>
          <a:ext cx="205740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4005360"/>
                    <a:ext cx="20574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4 -0.0037 L -0.44323 -0.0037 E">
                                      <p:cBhvr>
                                        <p:cTn id="131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¿Podremos cambiar? ... </a:t>
            </a:r>
            <a:br>
              <a:rPr sz="3800"/>
            </a:br>
            <a:br>
              <a:rPr sz="3800"/>
            </a:b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¿Queremos cambiar?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¡NECESITAMOS CAMBIAR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LOS ORGANOS DE CONTROL EXTERNO …  </a:t>
            </a:r>
            <a:br>
              <a:rPr sz="4400"/>
            </a:b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…  LOS HIJOS BASTARDOS DE NUESTRO SISTEMA CONSTITUCIONAL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00"/>
                </a:solidFill>
                <a:latin typeface="Arial"/>
              </a:rPr>
              <a:t>LA AUDITORIA GENERAL DE LA NACION ES EL ORGANISMO DE ASISTENCIA TECNICA DEL CONGRES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00"/>
                </a:solidFill>
                <a:latin typeface="Arial"/>
              </a:rPr>
              <a:t>EL  ZORRO EN EL GALLINER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3271680"/>
            <a:ext cx="4608720" cy="2821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3292560"/>
            <a:ext cx="349884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12000" y="3500280"/>
            <a:ext cx="2236680" cy="2189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33320" y="1125360"/>
            <a:ext cx="7677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HAN QUITADO EL </a:t>
            </a: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ALAMBRADO AL </a:t>
            </a: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GALLINERO  !!!!!!!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9200" y="3284640"/>
            <a:ext cx="223056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416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Arial"/>
              </a:rPr>
              <a:t>La polític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4800" spc="-1" strike="noStrike">
                <a:solidFill>
                  <a:srgbClr val="000000"/>
                </a:solidFill>
                <a:latin typeface="Arial"/>
              </a:rPr>
              <a:t>resulta improbable sin el funcionamiento de los mecanismos de control.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La base de nuestra organización como Nación Representativa, Republicana y Federal, </a:t>
            </a:r>
            <a:br>
              <a:rPr sz="3800"/>
            </a:b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radica en el control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Hegel, gran definidor, pretendió reconstruir el universo con definiciones, como aquel sargento de artillería decía que se construyeran los cañones    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“tomando un agujero y      </a:t>
            </a: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recubriéndolo de hierro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...”</a:t>
            </a:r>
            <a:br>
              <a:rPr sz="44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iguel  de Unamun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el sentimiento trágico de la vid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9040" y="4149720"/>
            <a:ext cx="161136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PODER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, COMO LA VIDA MISMA: 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S ES PRESTADO</a:t>
            </a:r>
            <a:br>
              <a:rPr sz="4400"/>
            </a:br>
            <a:br>
              <a:rPr sz="4400"/>
            </a:b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Y ASI COMO CUANDO DEVOLVEMOS LA VIDA TENEMOS QUE RENDIR CUENTAS, 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CUANDO DEVOLVEMOS EL PODER TENEMOS QUE RENDIR CUENTAS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¿quienes controlan están dotados del estatus necesario para hacerlo con absoluta independencia?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 concentración del poder resultaba incompatible con la condición humana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바탕"/>
              </a:rPr>
              <a:t>Montesquieu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ecesidad de 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parcializar ese poder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Este sistema de frenos, balances y contrapesos, </a:t>
            </a:r>
            <a:br>
              <a:rPr sz="3800"/>
            </a:b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ya no resulta suficiente para dar garantías de libertad, </a:t>
            </a:r>
            <a:br>
              <a:rPr sz="3800"/>
            </a:b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ya no es suficiente para dar garantías de equidad, </a:t>
            </a:r>
            <a:br>
              <a:rPr sz="3800"/>
            </a:b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ya no garantiza ni siquiera la división de los poder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Hoy </a:t>
            </a:r>
            <a:br>
              <a:rPr sz="4400"/>
            </a:br>
            <a:br>
              <a:rPr sz="3400"/>
            </a:br>
            <a:r>
              <a:rPr b="1" i="1" lang="es-ES" sz="3400" spc="-1" strike="noStrike">
                <a:solidFill>
                  <a:srgbClr val="000000"/>
                </a:solidFill>
                <a:latin typeface="Arial"/>
              </a:rPr>
              <a:t>No alcanza solamente con la Justicia. </a:t>
            </a:r>
            <a:br>
              <a:rPr sz="3400"/>
            </a:br>
            <a:r>
              <a:rPr b="1" i="1" lang="es-E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1" i="1" lang="es-ES" sz="3400" spc="-1" strike="noStrike">
                <a:solidFill>
                  <a:srgbClr val="000000"/>
                </a:solidFill>
                <a:latin typeface="Arial"/>
              </a:rPr>
              <a:t>No alcanza con la Legislatura.</a:t>
            </a:r>
            <a:br>
              <a:rPr sz="3400"/>
            </a:br>
            <a:br>
              <a:rPr sz="3400"/>
            </a:br>
            <a:r>
              <a:rPr b="1" i="1" lang="es-ES" sz="3400" spc="-1" strike="noStrike">
                <a:solidFill>
                  <a:srgbClr val="000000"/>
                </a:solidFill>
                <a:latin typeface="Arial"/>
              </a:rPr>
              <a:t>No alcanza con el Poder Ejecutivo.</a:t>
            </a:r>
            <a:br>
              <a:rPr sz="3400"/>
            </a:br>
            <a:br>
              <a:rPr sz="3400"/>
            </a:b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Hay hechos nuevos que deben ser analizados en el campo de las Ciencias Polític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Arial"/>
              </a:rPr>
              <a:t>Surge la  necesidad nuevas institucion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e es un debate que debe ser propuesto en el mundo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Y en ese debate asumen protagonismo los Órganos de Control Externo para hacer una comunidad más just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LOS ORGANOS DE CONTROL EXTERNO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DEBEN DEJAR DE SER LOS HIJOS BASTARDOS DE NUESTRA CONSTITUCION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41360" y="2303640"/>
            <a:ext cx="7269120" cy="37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ONTROL 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ONTRO-ROTULUM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Realidades  que aún no han sido encauzadas o reguladas por el derecho. 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 razonable producir un 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ensanchamiento del derecho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reforzando el Poder del Estado frente a los individuos que lo representan a fin de regular las nuevas y sutiles “expresiones de absolutismo”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Los Órganos de Control Externo tienen su desafío:</a:t>
            </a:r>
            <a:br>
              <a:rPr sz="3800"/>
            </a:b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emostrando la 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autonomía de un nuevo fuero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 …</a:t>
            </a:r>
            <a:br>
              <a:rPr sz="3800"/>
            </a:br>
            <a:br>
              <a:rPr sz="3800"/>
            </a:b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El fuero del Control de la Cosa Públic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900" spc="-1" strike="noStrike">
                <a:solidFill>
                  <a:srgbClr val="000000"/>
                </a:solidFill>
                <a:latin typeface="Times New Roman"/>
              </a:rPr>
              <a:t>Conferir a los Órganos de Control Externo, </a:t>
            </a: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la misma jerarquía institucional</a:t>
            </a:r>
            <a:r>
              <a:rPr b="1" i="1" lang="es-ES" sz="3900" spc="-1" strike="noStrike">
                <a:solidFill>
                  <a:srgbClr val="000000"/>
                </a:solidFill>
                <a:latin typeface="Times New Roman"/>
              </a:rPr>
              <a:t> que se la ha otorgado a los mandatarios a quienes se les ha confiado la administración, la facultad de dictar normas y la responsabilidad de velar que a cada uno le sea dado lo suyo. 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Sólo así los Órganos de Control Externo podrán asumir su 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verdadero rol en la nueva dimensión de la división funcional del poder que la realidad imp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Siglo 19</a:t>
            </a:r>
            <a:br>
              <a:rPr sz="3800"/>
            </a:b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" sz="3800" spc="-1" strike="noStrike">
                <a:solidFill>
                  <a:srgbClr val="000000"/>
                </a:solidFill>
                <a:latin typeface="Arial"/>
              </a:rPr>
              <a:t>afirmación del Estado de Derecho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 como sucesor de las monarquías absolutas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Crisis del derecho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isminución de fé en los valores espirituales que amoraliza el derecho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APOSTASÍA 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INSTITUCIONAL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Al concentrarse en el Estado todo el poder de creación del derecho, </a:t>
            </a:r>
            <a:br>
              <a:rPr sz="3800"/>
            </a:b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Posibilidad de “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modelar leyes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” en su beneficio o en el de sus grupos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Un regreso al Absolutism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Una de las más 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refinadas formas de 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orrup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Es imperativo admitir que hemos introducido en nuestros sistemas una cultura equivocada.</a:t>
            </a:r>
            <a:br>
              <a:rPr sz="3800"/>
            </a:b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Es necesario resolver el debate sobre las formas de control externo de la administración pública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NO PODEMOS HABLAR DE CONTROL SIN HABLAR DE PO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ORQUE EL PODER CONTROLADO ES LA ESENCIA DE LA DEMOCRA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Solo así estaremos en condiciones de reinventarnos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700" spc="-1" strike="noStrike">
                <a:solidFill>
                  <a:srgbClr val="000000"/>
                </a:solidFill>
                <a:latin typeface="Times New Roman"/>
              </a:rPr>
              <a:t>Lo contrario sería, al decir del ilustre pensador: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3700" spc="-1" strike="noStrike">
                <a:solidFill>
                  <a:srgbClr val="000000"/>
                </a:solidFill>
                <a:latin typeface="Times New Roman"/>
              </a:rPr>
              <a:t>pedir  </a:t>
            </a: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que se construyeran los cañones: “tomando un agujero y recubriéndolo de hierro..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052640"/>
            <a:ext cx="3311640" cy="291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Mil gracias por su 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Y perdón por el atrevimient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44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www.registroycontrol.com.ar</a:t>
            </a:r>
            <a:br>
              <a:rPr sz="4400"/>
            </a:b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29000" y="765000"/>
            <a:ext cx="3652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3800" spc="-1" strike="noStrike">
                <a:solidFill>
                  <a:srgbClr val="000000"/>
                </a:solidFill>
                <a:latin typeface="Arial"/>
              </a:rPr>
              <a:t>A PARTIR DEL CONCEPTO DE CONTROL SE DEFINE</a:t>
            </a:r>
            <a:r>
              <a:rPr b="1" i="1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TODA UNA TEORIA CONSTITU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5280" y="549360"/>
            <a:ext cx="747396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L PODER TIENDE  NATURALMENTE A CONCENTRAR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11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LACION ENTRE EL ESTADO Y 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2:19:35Z</dcterms:created>
  <dc:creator>WINDOWS 98 OEM PREINSTALADO</dc:creator>
  <dc:description/>
  <dc:language>en-US</dc:language>
  <cp:lastModifiedBy>C.P.C.E.C.A.B.A.</cp:lastModifiedBy>
  <dcterms:modified xsi:type="dcterms:W3CDTF">2005-08-30T13:18:26Z</dcterms:modified>
  <cp:revision>254</cp:revision>
  <dc:subject/>
  <dc:title>La gente y los Organos de Control Externo</dc:title>
</cp:coreProperties>
</file>