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type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FD9-B44B-4B47-8993-5A2605FC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CC4-9470-4E1C-AAC2-1106CBDE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A75-DEF1-4291-A4CD-05CC5D48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E58-5222-4F0C-A1E1-43AEBDBC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D9FE-62DE-4B3E-830A-6A705D56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86C8-1CEC-49E0-8849-B66C5ABD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EA8B-D95A-4DB5-B265-3B834A84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14EA-9E54-4F9B-B212-70C9F37B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5FD0-46A9-4540-A9E2-BB9938AC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AE9F-8877-496F-9EC6-6B19263D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6692F-E769-4BDA-8454-9CCAFF83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4AD-F7F4-4E3A-BF77-C679EDCF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33D3-71F4-4660-89E3-F30251EF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ADB1-CE59-49F1-B31C-6444CAFE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5489-D2D3-4625-88AA-66F49108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50B4-F048-4053-BCB0-42EA4806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5E08-A3ED-4B15-89DC-0CA6F0C0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6EA-DA03-46E6-835B-AD708979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C062-99E6-4876-B23A-7242E25E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064-8DF2-45C9-BD93-E3474FC8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62BB-3F8E-476E-97FC-54516319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1420-2A2D-4A07-9A9D-27479E11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834-BFBD-471C-A86C-FF76DAB6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1ED-B133-4507-8D92-CE7AFAC5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7297-8405-4CAE-8EDA-E6DD8ED3C6AD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1143000" cy="533520"/>
          </a:xfrm>
          <a:prstGeom prst="rect">
            <a:avLst/>
          </a:prstGeom>
          <a:gradFill rotWithShape="0">
            <a:gsLst>
              <a:gs pos="0">
                <a:srgbClr val="200b5b"/>
              </a:gs>
              <a:gs pos="100000">
                <a:srgbClr val="eeb0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00400"/>
            <a:ext cx="1143000" cy="3656160"/>
          </a:xfrm>
          <a:prstGeom prst="rect">
            <a:avLst/>
          </a:prstGeom>
          <a:gradFill rotWithShape="0">
            <a:gsLst>
              <a:gs pos="0">
                <a:srgbClr val="eeb00b"/>
              </a:gs>
              <a:gs pos="100000">
                <a:srgbClr val="200b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0" y="533520"/>
          <a:ext cx="1143000" cy="266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33520"/>
                    <a:ext cx="114300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828800" cy="1628640"/>
          </a:xfrm>
          <a:prstGeom prst="rect">
            <a:avLst/>
          </a:prstGeom>
          <a:gradFill rotWithShape="0">
            <a:gsLst>
              <a:gs pos="0">
                <a:srgbClr val="200b5b"/>
              </a:gs>
              <a:gs pos="100000">
                <a:srgbClr val="eeb0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809880"/>
            <a:ext cx="1828800" cy="3046680"/>
          </a:xfrm>
          <a:prstGeom prst="rect">
            <a:avLst/>
          </a:prstGeom>
          <a:gradFill rotWithShape="0">
            <a:gsLst>
              <a:gs pos="0">
                <a:srgbClr val="eeb00b"/>
              </a:gs>
              <a:gs pos="100000">
                <a:srgbClr val="200b5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CEB8-EC08-45DB-A1B0-42852153B571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600200"/>
          <a:ext cx="1828800" cy="220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18288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cc66"/>
                </a:solidFill>
                <a:latin typeface="Times New Roman"/>
              </a:rPr>
              <a:t>Cumplimiento de objetivos y metas en la Cuenta de Inversión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Cr. Eduardo Daniel Prin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índico General Adjunt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Sindicatura General de la N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fade thruBlk="true"/>
    <p:sndAc>
      <p:stSnd>
        <p:snd r:embed="rId1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Times New Roman"/>
              </a:rPr>
              <a:t>Evaluación del cumplimiento </a:t>
            </a:r>
            <a:br>
              <a:rPr sz="4400"/>
            </a:br>
            <a:r>
              <a:rPr b="0" lang="es-AR" sz="4400" spc="-1" strike="noStrike">
                <a:solidFill>
                  <a:srgbClr val="ffcc66"/>
                </a:solidFill>
                <a:latin typeface="Times New Roman"/>
              </a:rPr>
              <a:t>de objetivos y met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imes New Roman"/>
              </a:rPr>
              <a:t>Es un tema de controversi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imes New Roman"/>
              </a:rPr>
              <a:t>Algunos afirman que no se trata de información úti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imes New Roman"/>
              </a:rPr>
              <a:t>Otros resaltan el avance ocurrido en cuanto a la información financiera desde la implantacion de la Ley 2415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92C-7BB1-436E-9D86-7E5FB9A4B9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pinión de la A.G.N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l Sistema no cumple con los requerimientos del Decreto 1361/94 (Reglamento Parcial 3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brinda una adecuada inform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ólo se adecua formalmente a lo prescripto por la normativa vigen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resa la existencia de problemas de definiciones de las metas y deficiencia de  controles intern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30B-7509-48F7-8261-2B437E03DD16}" type="slidenum">
              <a:t>11</a:t>
            </a:fld>
          </a:p>
        </p:txBody>
      </p:sp>
    </p:spTree>
  </p:cSld>
  <p:transition>
    <p:fade thruBlk="true"/>
    <p:sndAc>
      <p:stSnd>
        <p:snd r:embed="rId1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Times New Roman"/>
              </a:rPr>
              <a:t>Nuestro objetivo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imes New Roman"/>
              </a:rPr>
              <a:t>Examinar brevemente la normativ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imes New Roman"/>
              </a:rPr>
              <a:t>Describir el informe de resultado de los programas en la cuenta de invers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imes New Roman"/>
              </a:rPr>
              <a:t>Comentar las principales observaciones a la inform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imes New Roman"/>
              </a:rPr>
              <a:t>Hacer breves recomendaci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imes New Roman"/>
              </a:rPr>
              <a:t>Concluir con algunas reflexion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999-458F-4607-9A47-1547F6A06F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istema de Administración Financiera y Control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6760" y="2744640"/>
            <a:ext cx="2282760" cy="2130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Minister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Organism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Descentralizad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Empres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5680" y="2287440"/>
            <a:ext cx="1444680" cy="987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S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Sist.Contro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Intern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7080" y="3963960"/>
            <a:ext cx="1444680" cy="987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TG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Sist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Tesore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2360" y="5259240"/>
            <a:ext cx="1444680" cy="987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ON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Sist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Presupues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3280" y="5411880"/>
            <a:ext cx="1444680" cy="987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ONC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Sist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Crédi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Públi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26280" y="2287440"/>
            <a:ext cx="1444680" cy="987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AG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Sist.Contro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Extern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3480" y="3963960"/>
            <a:ext cx="1444680" cy="9874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CG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Sist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Contab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7080" y="1297080"/>
            <a:ext cx="2282760" cy="530280"/>
          </a:xfrm>
          <a:prstGeom prst="rect">
            <a:avLst/>
          </a:prstGeom>
          <a:solidFill>
            <a:srgbClr val="ccff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Presidenc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de la N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7680" y="1297080"/>
            <a:ext cx="2282760" cy="530280"/>
          </a:xfrm>
          <a:prstGeom prst="rect">
            <a:avLst/>
          </a:prstGeom>
          <a:solidFill>
            <a:srgbClr val="ccff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Congres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Nacion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981080" y="3352680"/>
            <a:ext cx="76320" cy="53352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5029200"/>
            <a:ext cx="609480" cy="45720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5867280"/>
            <a:ext cx="914400" cy="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553080" y="4952880"/>
            <a:ext cx="533520" cy="53352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238880" y="3352680"/>
            <a:ext cx="152640" cy="53352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971800"/>
            <a:ext cx="685800" cy="30492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743200" y="4190760"/>
            <a:ext cx="762120" cy="22860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733920" y="4876920"/>
            <a:ext cx="304560" cy="45720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5105520" y="4952880"/>
            <a:ext cx="380880" cy="53352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866920" y="4114440"/>
            <a:ext cx="838440" cy="30492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714640" y="2971800"/>
            <a:ext cx="609480" cy="38088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2133720"/>
            <a:ext cx="2362320" cy="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2133720"/>
            <a:ext cx="0" cy="53316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2133720"/>
            <a:ext cx="0" cy="15228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66880" y="1828800"/>
            <a:ext cx="0" cy="30492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1828800"/>
            <a:ext cx="0" cy="38088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2438280"/>
            <a:ext cx="3505320" cy="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86600" y="5943600"/>
            <a:ext cx="609480" cy="0"/>
          </a:xfrm>
          <a:prstGeom prst="line">
            <a:avLst/>
          </a:prstGeom>
          <a:ln w="12600">
            <a:solidFill>
              <a:srgbClr val="ff66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6324480"/>
            <a:ext cx="533160" cy="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72400" y="571500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Rel.Jerárquic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609588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Rel.Funciona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441C-78A4-47F3-A6B5-9BBFCB452413}" type="slidenum">
              <a:t>13</a:t>
            </a:fld>
          </a:p>
        </p:txBody>
      </p:sp>
    </p:spTree>
  </p:cSld>
  <p:transition>
    <p:fade thruBlk="true"/>
    <p:sndAc>
      <p:stSnd>
        <p:snd r:embed="rId1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rtículo 44 L.A.F.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FICINA NACIONAL DE PRESUPUESTO: Evaluará la ejecución de los presupuestos de la administración nacional tanto en forma periódica, durante el ejercicio como al cierr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URISDICCIONES Y ENTIDADE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.- Llevar registros de la ejecución física de los presupuest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.- Informar a la Oficina Nacional de Presupuesto los resultad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20C-8A8E-4470-A387-AE097523A4DF}" type="slidenum">
              <a:t>14</a:t>
            </a:fld>
          </a:p>
        </p:txBody>
      </p:sp>
    </p:spTree>
  </p:cSld>
  <p:transition>
    <p:fade thruBlk="true"/>
    <p:sndAc>
      <p:stSnd>
        <p:snd r:embed="rId1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Times New Roman"/>
              </a:rPr>
              <a:t>Artículo 45 L.A.F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eaeaea"/>
                </a:solidFill>
                <a:latin typeface="Times New Roman"/>
              </a:rPr>
              <a:t>Con la información anterior, la del sistema 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eaeaea"/>
                </a:solidFill>
                <a:latin typeface="Times New Roman"/>
              </a:rPr>
              <a:t>contabilidad gubernamental y otras que consider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eaeaea"/>
                </a:solidFill>
                <a:latin typeface="Times New Roman"/>
              </a:rPr>
              <a:t>pertinentes la ONP realizar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eaeaea"/>
                </a:solidFill>
                <a:latin typeface="Times New Roman"/>
              </a:rPr>
              <a:t>Análisis crítico de los resultados físicos y financieros y de los efectos producid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eaeaea"/>
                </a:solidFill>
                <a:latin typeface="Times New Roman"/>
              </a:rPr>
              <a:t>Interpretará las variaciones operadas con respecto a los programad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eaeaea"/>
                </a:solidFill>
                <a:latin typeface="Times New Roman"/>
              </a:rPr>
              <a:t>Determinará las causa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eaeaea"/>
                </a:solidFill>
                <a:latin typeface="Times New Roman"/>
              </a:rPr>
              <a:t>Preparará informes con recomendacion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82D-42F3-44D3-91A1-AFEB32E00B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Times New Roman"/>
              </a:rPr>
              <a:t>Reglamento 3 (Decreto 1361/94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imes New Roman"/>
              </a:rPr>
              <a:t>La Oficina Nacional de Presupuesto deb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imes New Roman"/>
              </a:rPr>
              <a:t>Preparar un resumen anual sobre cumplimiento de las metas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imes New Roman"/>
              </a:rPr>
              <a:t>Incorporar al resumen anual comentarios sobre medidas correctivas y resultado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imes New Roman"/>
              </a:rPr>
              <a:t>Enviarlo a la Contaduría General para agregarlo a los comentarios de la Cuenta de Inversión (artículo 95 in fine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6225-28AC-431A-B5C2-2F07968406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Evolución del Sistema de Met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993 se inició el proceso de identificación de objetivos y metas en términos de resultados físic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994 se profundizó y generalizó la medición física y se implementó un sistema de seguimiento trimestral. Se buscó disponer de información sobre calidad y cantidad de bienes a disposición del público (primer paso para medir eficiencia y eficacia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995 se mantiene la metodología de seguimiento, ampliando la cobertura de programas y calidad de la informac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FE5-A2B4-4D23-9936-5C91352D9120}" type="slidenum">
              <a:t>17</a:t>
            </a:fld>
          </a:p>
        </p:txBody>
      </p:sp>
    </p:spTree>
  </p:cSld>
  <p:transition>
    <p:fade thruBlk="true"/>
    <p:sndAc>
      <p:stSnd>
        <p:snd r:embed="rId1" name="typ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240" y="914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Estructura Presupuestaria por Categoría Presupuestari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(al 31/12/04 en miles de pesos)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4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20840" y="3144960"/>
            <a:ext cx="470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981080" y="2209680"/>
            <a:ext cx="5943240" cy="2990520"/>
            <a:chOff x="1981080" y="2209680"/>
            <a:chExt cx="5943240" cy="2990520"/>
          </a:xfrm>
        </p:grpSpPr>
        <p:grpSp>
          <p:nvGrpSpPr>
            <p:cNvPr id="175" name=""/>
            <p:cNvGrpSpPr/>
            <p:nvPr/>
          </p:nvGrpSpPr>
          <p:grpSpPr>
            <a:xfrm>
              <a:off x="1986840" y="2214720"/>
              <a:ext cx="5930640" cy="2979720"/>
              <a:chOff x="1986840" y="2214720"/>
              <a:chExt cx="5930640" cy="297972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1986840" y="2214720"/>
                <a:ext cx="2752200" cy="672840"/>
                <a:chOff x="1986840" y="2214720"/>
                <a:chExt cx="2752200" cy="6728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1986840" y="2214720"/>
                  <a:ext cx="275220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ategoría Programática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986840" y="2214720"/>
                  <a:ext cx="2752200" cy="67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739400" y="2214720"/>
                <a:ext cx="789840" cy="672840"/>
                <a:chOff x="4739400" y="2214720"/>
                <a:chExt cx="789840" cy="672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739400" y="2214720"/>
                  <a:ext cx="78984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antidad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739400" y="2214720"/>
                  <a:ext cx="789840" cy="67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529600" y="2214720"/>
                <a:ext cx="653760" cy="672840"/>
                <a:chOff x="5529600" y="2214720"/>
                <a:chExt cx="653760" cy="6728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529600" y="2214720"/>
                  <a:ext cx="65376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529600" y="2214720"/>
                  <a:ext cx="653760" cy="67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6183720" y="2214720"/>
                <a:ext cx="1201680" cy="672840"/>
                <a:chOff x="6183720" y="2214720"/>
                <a:chExt cx="1201680" cy="6728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183720" y="2214720"/>
                  <a:ext cx="120168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rédito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183720" y="2214720"/>
                  <a:ext cx="1201680" cy="67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385760" y="2214720"/>
                <a:ext cx="531720" cy="672840"/>
                <a:chOff x="7385760" y="2214720"/>
                <a:chExt cx="531720" cy="67284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7385760" y="2214720"/>
                  <a:ext cx="531720" cy="67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385760" y="2214720"/>
                  <a:ext cx="531720" cy="67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1986840" y="2887920"/>
                <a:ext cx="2752200" cy="576360"/>
                <a:chOff x="1986840" y="2887920"/>
                <a:chExt cx="2752200" cy="5763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1986840" y="2887920"/>
                  <a:ext cx="27522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Actividades Centrales y Comunes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986840" y="2887920"/>
                  <a:ext cx="275220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739400" y="2887920"/>
                <a:ext cx="789840" cy="576360"/>
                <a:chOff x="4739400" y="2887920"/>
                <a:chExt cx="789840" cy="576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739400" y="2887920"/>
                  <a:ext cx="78984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06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39400" y="2887920"/>
                  <a:ext cx="789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5529600" y="2887920"/>
                <a:ext cx="653760" cy="576360"/>
                <a:chOff x="5529600" y="2887920"/>
                <a:chExt cx="653760" cy="5763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529600" y="2887920"/>
                  <a:ext cx="6537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4,9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529600" y="2887920"/>
                  <a:ext cx="65376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6183720" y="2887920"/>
                <a:ext cx="1201680" cy="576360"/>
                <a:chOff x="6183720" y="2887920"/>
                <a:chExt cx="1201680" cy="5763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183720" y="2887920"/>
                  <a:ext cx="120168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.953.425.863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183720" y="2887920"/>
                  <a:ext cx="120168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7385760" y="2887920"/>
                <a:ext cx="531720" cy="576360"/>
                <a:chOff x="7385760" y="2887920"/>
                <a:chExt cx="531720" cy="5763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7385760" y="2887920"/>
                  <a:ext cx="531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,8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85760" y="2887920"/>
                  <a:ext cx="53172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1986840" y="3464640"/>
                <a:ext cx="2752200" cy="576360"/>
                <a:chOff x="1986840" y="3464640"/>
                <a:chExt cx="2752200" cy="5763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986840" y="3464640"/>
                  <a:ext cx="27522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Programas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986840" y="3464640"/>
                  <a:ext cx="275220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739400" y="3464640"/>
                <a:ext cx="789840" cy="576360"/>
                <a:chOff x="4739400" y="3464640"/>
                <a:chExt cx="789840" cy="5763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739400" y="3464640"/>
                  <a:ext cx="78984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57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739400" y="3464640"/>
                  <a:ext cx="789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529600" y="3464640"/>
                <a:ext cx="653760" cy="576360"/>
                <a:chOff x="5529600" y="3464640"/>
                <a:chExt cx="653760" cy="5763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529600" y="3464640"/>
                  <a:ext cx="6537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60,5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529600" y="3464640"/>
                  <a:ext cx="65376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83720" y="3464640"/>
                <a:ext cx="1201680" cy="576360"/>
                <a:chOff x="6183720" y="3464640"/>
                <a:chExt cx="1201680" cy="5763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183720" y="3464640"/>
                  <a:ext cx="120168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9.543.655.855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83720" y="3464640"/>
                  <a:ext cx="120168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385760" y="3464640"/>
                <a:ext cx="531720" cy="576360"/>
                <a:chOff x="7385760" y="3464640"/>
                <a:chExt cx="531720" cy="5763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385760" y="3464640"/>
                  <a:ext cx="531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71,6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385760" y="3464640"/>
                  <a:ext cx="53172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986840" y="4041720"/>
                <a:ext cx="2752200" cy="576000"/>
                <a:chOff x="1986840" y="4041720"/>
                <a:chExt cx="2752200" cy="576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986840" y="4041720"/>
                  <a:ext cx="275220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Otras Categorías Presupuestarias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986840" y="4041720"/>
                  <a:ext cx="2752200" cy="57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739400" y="4041720"/>
                <a:ext cx="789840" cy="576000"/>
                <a:chOff x="4739400" y="4041720"/>
                <a:chExt cx="789840" cy="5760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739400" y="4041720"/>
                  <a:ext cx="78984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62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739400" y="4041720"/>
                  <a:ext cx="789840" cy="57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5529600" y="4041720"/>
                <a:ext cx="653760" cy="576000"/>
                <a:chOff x="5529600" y="4041720"/>
                <a:chExt cx="653760" cy="5760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529600" y="4041720"/>
                  <a:ext cx="65376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4,6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529600" y="4041720"/>
                  <a:ext cx="653760" cy="57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183720" y="4041720"/>
                <a:ext cx="1201680" cy="576000"/>
                <a:chOff x="6183720" y="4041720"/>
                <a:chExt cx="1201680" cy="5760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183720" y="4041720"/>
                  <a:ext cx="120168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7.725.643.002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183720" y="4041720"/>
                  <a:ext cx="1201680" cy="57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7385760" y="4041720"/>
                <a:ext cx="531720" cy="576000"/>
                <a:chOff x="7385760" y="4041720"/>
                <a:chExt cx="531720" cy="5760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7385760" y="4041720"/>
                  <a:ext cx="531720" cy="57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5,6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385760" y="4041720"/>
                  <a:ext cx="531720" cy="57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1986840" y="4618080"/>
                <a:ext cx="2752200" cy="576360"/>
                <a:chOff x="1986840" y="4618080"/>
                <a:chExt cx="2752200" cy="5763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986840" y="4618080"/>
                  <a:ext cx="275220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Total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986840" y="4618080"/>
                  <a:ext cx="275220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739400" y="4618080"/>
                <a:ext cx="789840" cy="576360"/>
                <a:chOff x="4739400" y="4618080"/>
                <a:chExt cx="789840" cy="5763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739400" y="4618080"/>
                  <a:ext cx="78984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25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739400" y="4618080"/>
                  <a:ext cx="78984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5529600" y="4618080"/>
                <a:ext cx="653760" cy="576360"/>
                <a:chOff x="5529600" y="4618080"/>
                <a:chExt cx="653760" cy="5763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5529600" y="4618080"/>
                  <a:ext cx="65376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00,0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529600" y="4618080"/>
                  <a:ext cx="65376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6183720" y="4618080"/>
                <a:ext cx="1201680" cy="576360"/>
                <a:chOff x="6183720" y="4618080"/>
                <a:chExt cx="1201680" cy="5763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6183720" y="4618080"/>
                  <a:ext cx="120168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69.222.724.72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6183720" y="4618080"/>
                  <a:ext cx="120168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7385760" y="4618080"/>
                <a:ext cx="531720" cy="576360"/>
                <a:chOff x="7385760" y="4618080"/>
                <a:chExt cx="531720" cy="5763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7385760" y="4618080"/>
                  <a:ext cx="531720" cy="57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85760" y="4618080"/>
                  <a:ext cx="531720" cy="576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1" name=""/>
            <p:cNvSpPr/>
            <p:nvPr/>
          </p:nvSpPr>
          <p:spPr>
            <a:xfrm>
              <a:off x="1981080" y="2209680"/>
              <a:ext cx="5943240" cy="2990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F35-F8F1-40EE-8B14-6B9718750D9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43000" y="7621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Cobertura del Seguimiento Físico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según Nivel Institucional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al 31/12/04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40" y="237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40" y="313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209680" y="2133720"/>
            <a:ext cx="6324480" cy="2876400"/>
            <a:chOff x="2209680" y="2133720"/>
            <a:chExt cx="6324480" cy="2876400"/>
          </a:xfrm>
        </p:grpSpPr>
        <p:grpSp>
          <p:nvGrpSpPr>
            <p:cNvPr id="256" name=""/>
            <p:cNvGrpSpPr/>
            <p:nvPr/>
          </p:nvGrpSpPr>
          <p:grpSpPr>
            <a:xfrm>
              <a:off x="2214360" y="2138400"/>
              <a:ext cx="6314040" cy="2866320"/>
              <a:chOff x="2214360" y="2138400"/>
              <a:chExt cx="6314040" cy="286632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2214360" y="2138400"/>
                <a:ext cx="2482200" cy="548640"/>
                <a:chOff x="2214360" y="2138400"/>
                <a:chExt cx="2482200" cy="5486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214360" y="2138400"/>
                  <a:ext cx="248220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Nivel Institucional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214360" y="2138400"/>
                  <a:ext cx="248220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4696920" y="2138400"/>
                <a:ext cx="1013760" cy="548640"/>
                <a:chOff x="4696920" y="2138400"/>
                <a:chExt cx="1013760" cy="5486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4696920" y="2138400"/>
                  <a:ext cx="101376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Programas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696920" y="2138400"/>
                  <a:ext cx="101376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711400" y="2138400"/>
                <a:ext cx="1348560" cy="548640"/>
                <a:chOff x="5711400" y="2138400"/>
                <a:chExt cx="1348560" cy="548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711400" y="2138400"/>
                  <a:ext cx="134856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Bajo Seguimiento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711400" y="2138400"/>
                  <a:ext cx="134856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7060320" y="2138400"/>
                <a:ext cx="1468080" cy="548640"/>
                <a:chOff x="7060320" y="2138400"/>
                <a:chExt cx="1468080" cy="5486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7060320" y="2138400"/>
                  <a:ext cx="146808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 de Seguimiento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060320" y="2138400"/>
                  <a:ext cx="146808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2214360" y="2687040"/>
                <a:ext cx="2482200" cy="549000"/>
                <a:chOff x="2214360" y="2687040"/>
                <a:chExt cx="2482200" cy="54900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214360" y="2687040"/>
                  <a:ext cx="248220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Administración Central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214360" y="2687040"/>
                  <a:ext cx="24822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4696920" y="2687040"/>
                <a:ext cx="1013760" cy="549000"/>
                <a:chOff x="4696920" y="2687040"/>
                <a:chExt cx="1013760" cy="5490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4696920" y="2687040"/>
                  <a:ext cx="10137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71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696920" y="2687040"/>
                  <a:ext cx="101376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5711400" y="2687040"/>
                <a:ext cx="1348560" cy="549000"/>
                <a:chOff x="5711400" y="2687040"/>
                <a:chExt cx="1348560" cy="54900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5711400" y="2687040"/>
                  <a:ext cx="13485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20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11400" y="2687040"/>
                  <a:ext cx="134856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7060320" y="2687040"/>
                <a:ext cx="1468080" cy="549000"/>
                <a:chOff x="7060320" y="2687040"/>
                <a:chExt cx="1468080" cy="5490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7060320" y="2687040"/>
                  <a:ext cx="1468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70,2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7060320" y="2687040"/>
                  <a:ext cx="14680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214360" y="3236400"/>
                <a:ext cx="2482200" cy="549000"/>
                <a:chOff x="2214360" y="3236400"/>
                <a:chExt cx="2482200" cy="5490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2214360" y="3236400"/>
                  <a:ext cx="248220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Organismos Descentralizados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214360" y="3236400"/>
                  <a:ext cx="24822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4696920" y="3236400"/>
                <a:ext cx="1013760" cy="549000"/>
                <a:chOff x="4696920" y="3236400"/>
                <a:chExt cx="1013760" cy="549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4696920" y="3236400"/>
                  <a:ext cx="10137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77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696920" y="3236400"/>
                  <a:ext cx="101376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5711400" y="3236400"/>
                <a:ext cx="1348560" cy="549000"/>
                <a:chOff x="5711400" y="3236400"/>
                <a:chExt cx="1348560" cy="5490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5711400" y="3236400"/>
                  <a:ext cx="13485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76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711400" y="3236400"/>
                  <a:ext cx="134856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7060320" y="3236400"/>
                <a:ext cx="1468080" cy="549000"/>
                <a:chOff x="7060320" y="3236400"/>
                <a:chExt cx="1468080" cy="5490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060320" y="3236400"/>
                  <a:ext cx="1468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8,7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7060320" y="3236400"/>
                  <a:ext cx="14680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2214360" y="3785760"/>
                <a:ext cx="2482200" cy="549000"/>
                <a:chOff x="2214360" y="3785760"/>
                <a:chExt cx="2482200" cy="549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2214360" y="3785760"/>
                  <a:ext cx="248220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Instituciones de la Seguridad Social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214360" y="3785760"/>
                  <a:ext cx="24822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4696920" y="3785760"/>
                <a:ext cx="1013760" cy="549000"/>
                <a:chOff x="4696920" y="3785760"/>
                <a:chExt cx="1013760" cy="5490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4696920" y="3785760"/>
                  <a:ext cx="10137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696920" y="3785760"/>
                  <a:ext cx="101376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5711400" y="3785760"/>
                <a:ext cx="1348560" cy="549000"/>
                <a:chOff x="5711400" y="3785760"/>
                <a:chExt cx="1348560" cy="5490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5711400" y="3785760"/>
                  <a:ext cx="13485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711400" y="3785760"/>
                  <a:ext cx="134856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7060320" y="3785760"/>
                <a:ext cx="1468080" cy="549000"/>
                <a:chOff x="7060320" y="3785760"/>
                <a:chExt cx="1468080" cy="5490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7060320" y="3785760"/>
                  <a:ext cx="1468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88,9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060320" y="3785760"/>
                  <a:ext cx="14680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214360" y="4335120"/>
                <a:ext cx="2482200" cy="669600"/>
                <a:chOff x="2214360" y="4335120"/>
                <a:chExt cx="2482200" cy="6696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214360" y="4335120"/>
                  <a:ext cx="2482200" cy="66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Total</a:t>
                  </a:r>
                  <a:r>
                    <a:rPr b="1" lang="en-US" sz="1200" spc="-1" strike="noStrike">
                      <a:solidFill>
                        <a:srgbClr val="eaeaea"/>
                      </a:solidFill>
                      <a:latin typeface="Times New Roman"/>
                    </a:rPr>
                    <a:t> 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214360" y="4335120"/>
                  <a:ext cx="2482200" cy="66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4696920" y="4335120"/>
                <a:ext cx="1013760" cy="669600"/>
                <a:chOff x="4696920" y="4335120"/>
                <a:chExt cx="1013760" cy="6696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696920" y="4335120"/>
                  <a:ext cx="1013760" cy="66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57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696920" y="4335120"/>
                  <a:ext cx="1013760" cy="66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711400" y="4335120"/>
                <a:ext cx="1348560" cy="669600"/>
                <a:chOff x="5711400" y="4335120"/>
                <a:chExt cx="1348560" cy="669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5711400" y="4335120"/>
                  <a:ext cx="1348560" cy="66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04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711400" y="4335120"/>
                  <a:ext cx="1348560" cy="66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7060320" y="4335120"/>
                <a:ext cx="1468080" cy="669600"/>
                <a:chOff x="7060320" y="4335120"/>
                <a:chExt cx="1468080" cy="6696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7060320" y="4335120"/>
                  <a:ext cx="1468080" cy="66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79,4</a:t>
                  </a: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060320" y="4335120"/>
                  <a:ext cx="1468080" cy="66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7" name=""/>
            <p:cNvSpPr/>
            <p:nvPr/>
          </p:nvSpPr>
          <p:spPr>
            <a:xfrm>
              <a:off x="2209680" y="2133720"/>
              <a:ext cx="6324480" cy="2876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754-6E36-4C07-B434-A6E6B2ADD8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mpulso al uso de indicado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Tecnología de la inform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Sistemas de programación, gestión y evalu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Difusión del Balance Scored C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Supuesta sencille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134720" y="2800440"/>
          <a:ext cx="1199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34720" y="2800440"/>
                    <a:ext cx="1199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5583-3803-4BE2-B845-7AFE9C2F49C3}" type="slidenum">
              <a:t>2</a:t>
            </a:fld>
          </a:p>
        </p:txBody>
      </p:sp>
    </p:spTree>
  </p:cSld>
  <p:transition>
    <p:fade thruBlk="true"/>
    <p:sndAc>
      <p:stSnd>
        <p:snd r:embed="rId3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762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Arial"/>
                <a:ea typeface="Arial"/>
              </a:rPr>
              <a:t>             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Programas bajo Seguimiento al 31/12/04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  <a:ea typeface="Arial"/>
              </a:rPr>
              <a:t>(en miles de pesos)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38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81080" y="1981080"/>
            <a:ext cx="6543720" cy="2847960"/>
            <a:chOff x="1981080" y="1981080"/>
            <a:chExt cx="6543720" cy="2847960"/>
          </a:xfrm>
        </p:grpSpPr>
        <p:grpSp>
          <p:nvGrpSpPr>
            <p:cNvPr id="321" name=""/>
            <p:cNvGrpSpPr/>
            <p:nvPr/>
          </p:nvGrpSpPr>
          <p:grpSpPr>
            <a:xfrm>
              <a:off x="1985760" y="1986120"/>
              <a:ext cx="6534000" cy="2838240"/>
              <a:chOff x="1985760" y="1986120"/>
              <a:chExt cx="6534000" cy="283824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1985760" y="1986120"/>
                <a:ext cx="2143080" cy="641160"/>
                <a:chOff x="1985760" y="1986120"/>
                <a:chExt cx="2143080" cy="6411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1985760" y="1986120"/>
                  <a:ext cx="214308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Nivel Institucional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985760" y="1986120"/>
                  <a:ext cx="214308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128840" y="1986120"/>
                <a:ext cx="825480" cy="641160"/>
                <a:chOff x="4128840" y="1986120"/>
                <a:chExt cx="825480" cy="6411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4128840" y="1986120"/>
                  <a:ext cx="82548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antidad de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Programas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128840" y="1986120"/>
                  <a:ext cx="82548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4954320" y="1986120"/>
                <a:ext cx="920880" cy="641160"/>
                <a:chOff x="4954320" y="1986120"/>
                <a:chExt cx="920880" cy="6411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4954320" y="1986120"/>
                  <a:ext cx="92088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argos de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Personal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954320" y="1986120"/>
                  <a:ext cx="92088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5875200" y="1986120"/>
                <a:ext cx="1065240" cy="641160"/>
                <a:chOff x="5875200" y="1986120"/>
                <a:chExt cx="1065240" cy="6411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875200" y="1986120"/>
                  <a:ext cx="10652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rédito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875200" y="1986120"/>
                  <a:ext cx="106524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6940440" y="1986120"/>
                <a:ext cx="1017360" cy="641160"/>
                <a:chOff x="6940440" y="1986120"/>
                <a:chExt cx="1017360" cy="6411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6940440" y="1986120"/>
                  <a:ext cx="10173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Gasto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Devengado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940440" y="1986120"/>
                  <a:ext cx="101736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7957800" y="1986120"/>
                <a:ext cx="561960" cy="641160"/>
                <a:chOff x="7957800" y="1986120"/>
                <a:chExt cx="561960" cy="6411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7957800" y="1986120"/>
                  <a:ext cx="5619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ec.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957800" y="1986120"/>
                  <a:ext cx="56196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1985760" y="2627280"/>
                <a:ext cx="2143080" cy="549360"/>
                <a:chOff x="1985760" y="2627280"/>
                <a:chExt cx="2143080" cy="5493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985760" y="2627280"/>
                  <a:ext cx="2143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Administración Central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985760" y="2627280"/>
                  <a:ext cx="214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4128840" y="2627280"/>
                <a:ext cx="825480" cy="549360"/>
                <a:chOff x="4128840" y="2627280"/>
                <a:chExt cx="825480" cy="5493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4128840" y="2627280"/>
                  <a:ext cx="8254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20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128840" y="2627280"/>
                  <a:ext cx="8254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954320" y="2627280"/>
                <a:ext cx="920880" cy="549360"/>
                <a:chOff x="4954320" y="2627280"/>
                <a:chExt cx="920880" cy="5493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954320" y="2627280"/>
                  <a:ext cx="9208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97.107</a:t>
                  </a: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954320" y="2627280"/>
                  <a:ext cx="9208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5875200" y="2627280"/>
                <a:ext cx="1065240" cy="549360"/>
                <a:chOff x="5875200" y="2627280"/>
                <a:chExt cx="1065240" cy="5493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5875200" y="2627280"/>
                  <a:ext cx="10652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8.104.527.778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5875200" y="2627280"/>
                  <a:ext cx="106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940440" y="2627280"/>
                <a:ext cx="1017360" cy="549360"/>
                <a:chOff x="6940440" y="2627280"/>
                <a:chExt cx="1017360" cy="5493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940440" y="2627280"/>
                  <a:ext cx="1017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7.412.525.825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940440" y="2627280"/>
                  <a:ext cx="101736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7957800" y="2627280"/>
                <a:ext cx="561960" cy="549360"/>
                <a:chOff x="7957800" y="2627280"/>
                <a:chExt cx="561960" cy="5493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7957800" y="2627280"/>
                  <a:ext cx="5619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6,2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957800" y="2627280"/>
                  <a:ext cx="56196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1985760" y="3176640"/>
                <a:ext cx="2143080" cy="549360"/>
                <a:chOff x="1985760" y="3176640"/>
                <a:chExt cx="2143080" cy="5493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1985760" y="3176640"/>
                  <a:ext cx="2143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Organismos Descentralizado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985760" y="3176640"/>
                  <a:ext cx="214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4128840" y="3176640"/>
                <a:ext cx="825480" cy="549360"/>
                <a:chOff x="4128840" y="3176640"/>
                <a:chExt cx="825480" cy="5493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4128840" y="3176640"/>
                  <a:ext cx="8254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76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128840" y="3176640"/>
                  <a:ext cx="8254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4954320" y="3176640"/>
                <a:ext cx="920880" cy="549360"/>
                <a:chOff x="4954320" y="3176640"/>
                <a:chExt cx="920880" cy="54936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4954320" y="3176640"/>
                  <a:ext cx="9208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4.925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954320" y="3176640"/>
                  <a:ext cx="9208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5875200" y="3176640"/>
                <a:ext cx="1065240" cy="549360"/>
                <a:chOff x="5875200" y="3176640"/>
                <a:chExt cx="1065240" cy="5493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5875200" y="3176640"/>
                  <a:ext cx="10652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3. 020.173.786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5875200" y="3176640"/>
                  <a:ext cx="106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940440" y="3176640"/>
                <a:ext cx="1017360" cy="549360"/>
                <a:chOff x="6940440" y="3176640"/>
                <a:chExt cx="1017360" cy="5493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940440" y="3176640"/>
                  <a:ext cx="1017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.761.901.547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940440" y="3176640"/>
                  <a:ext cx="101736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7957800" y="3176640"/>
                <a:ext cx="561960" cy="549360"/>
                <a:chOff x="7957800" y="3176640"/>
                <a:chExt cx="561960" cy="5493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957800" y="3176640"/>
                  <a:ext cx="5619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1,4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957800" y="3176640"/>
                  <a:ext cx="56196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1985760" y="3726000"/>
                <a:ext cx="2143080" cy="549000"/>
                <a:chOff x="1985760" y="3726000"/>
                <a:chExt cx="2143080" cy="5490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985760" y="3726000"/>
                  <a:ext cx="21430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Instituciones de Seguridad Social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85760" y="3726000"/>
                  <a:ext cx="21430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128840" y="3726000"/>
                <a:ext cx="825480" cy="549000"/>
                <a:chOff x="4128840" y="3726000"/>
                <a:chExt cx="825480" cy="5490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128840" y="3726000"/>
                  <a:ext cx="8254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128840" y="3726000"/>
                  <a:ext cx="8254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4954320" y="3726000"/>
                <a:ext cx="920880" cy="549000"/>
                <a:chOff x="4954320" y="3726000"/>
                <a:chExt cx="920880" cy="5490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4954320" y="3726000"/>
                  <a:ext cx="9208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14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954320" y="3726000"/>
                  <a:ext cx="9208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875200" y="3726000"/>
                <a:ext cx="1065240" cy="549000"/>
                <a:chOff x="5875200" y="3726000"/>
                <a:chExt cx="1065240" cy="5490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875200" y="3726000"/>
                  <a:ext cx="106524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3.079.459.24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875200" y="3726000"/>
                  <a:ext cx="1065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940440" y="3726000"/>
                <a:ext cx="1017360" cy="549000"/>
                <a:chOff x="6940440" y="3726000"/>
                <a:chExt cx="1017360" cy="54900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6940440" y="3726000"/>
                  <a:ext cx="10173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1.664.021.522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940440" y="3726000"/>
                  <a:ext cx="101736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7957800" y="3726000"/>
                <a:ext cx="561960" cy="549000"/>
                <a:chOff x="7957800" y="3726000"/>
                <a:chExt cx="561960" cy="54900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7957800" y="3726000"/>
                  <a:ext cx="5619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3,9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957800" y="3726000"/>
                  <a:ext cx="56196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1985760" y="4275000"/>
                <a:ext cx="2143080" cy="549360"/>
                <a:chOff x="1985760" y="4275000"/>
                <a:chExt cx="2143080" cy="5493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985760" y="4275000"/>
                  <a:ext cx="2143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Administración Nacional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985760" y="4275000"/>
                  <a:ext cx="2143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4128840" y="4275000"/>
                <a:ext cx="825480" cy="549360"/>
                <a:chOff x="4128840" y="4275000"/>
                <a:chExt cx="825480" cy="54936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128840" y="4275000"/>
                  <a:ext cx="8254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04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128840" y="4275000"/>
                  <a:ext cx="8254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954320" y="4275000"/>
                <a:ext cx="920880" cy="549360"/>
                <a:chOff x="4954320" y="4275000"/>
                <a:chExt cx="920880" cy="5493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954320" y="4275000"/>
                  <a:ext cx="9208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22.446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954320" y="4275000"/>
                  <a:ext cx="9208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5875200" y="4275000"/>
                <a:ext cx="1065240" cy="549360"/>
                <a:chOff x="5875200" y="4275000"/>
                <a:chExt cx="1065240" cy="5493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875200" y="4275000"/>
                  <a:ext cx="10652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4.204.160.804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875200" y="4275000"/>
                  <a:ext cx="106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940440" y="4275000"/>
                <a:ext cx="1017360" cy="549360"/>
                <a:chOff x="6940440" y="4275000"/>
                <a:chExt cx="1017360" cy="5493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940440" y="4275000"/>
                  <a:ext cx="1017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1.838.448.894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940440" y="4275000"/>
                  <a:ext cx="101736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7957800" y="4275000"/>
                <a:ext cx="561960" cy="549360"/>
                <a:chOff x="7957800" y="4275000"/>
                <a:chExt cx="561960" cy="54936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957800" y="4275000"/>
                  <a:ext cx="5619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4,6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957800" y="4275000"/>
                  <a:ext cx="56196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2" name=""/>
            <p:cNvSpPr/>
            <p:nvPr/>
          </p:nvSpPr>
          <p:spPr>
            <a:xfrm>
              <a:off x="1981080" y="1981080"/>
              <a:ext cx="6543720" cy="28479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D5C-640B-4E8E-AA7D-AA313FC17B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ipos de mediciones físic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aeaea"/>
                </a:solidFill>
                <a:latin typeface="Times New Roman"/>
              </a:rPr>
              <a:t>De categorías programática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VOLUMEN DE TRABAJO (actividad intern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PRODUCTO FINAL (entregado a la sociedad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Producción Terminal Bru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Met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aeaea"/>
                </a:solidFill>
                <a:latin typeface="Times New Roman"/>
              </a:rPr>
              <a:t>De política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1500"/>
              </a:spcAft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Times New Roman"/>
              </a:rPr>
              <a:t>De realizaciones (mide el logro de los propósito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B43-3B43-47FC-820F-631CB84EDCC8}" type="slidenum">
              <a:t>21</a:t>
            </a:fld>
          </a:p>
        </p:txBody>
      </p:sp>
    </p:spTree>
  </p:cSld>
  <p:transition>
    <p:fade thruBlk="true"/>
    <p:sndAc>
      <p:stSnd>
        <p:snd r:embed="rId1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828800" y="1077840"/>
            <a:ext cx="6248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Registro Nacional de las Person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Programa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Identificación y Registro del Potencial Humano Nacion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- en pesos y magnitudes físicas-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47920" y="2666880"/>
            <a:ext cx="7390800" cy="2301840"/>
            <a:chOff x="1447920" y="2666880"/>
            <a:chExt cx="7390800" cy="2301840"/>
          </a:xfrm>
        </p:grpSpPr>
        <p:grpSp>
          <p:nvGrpSpPr>
            <p:cNvPr id="418" name=""/>
            <p:cNvGrpSpPr/>
            <p:nvPr/>
          </p:nvGrpSpPr>
          <p:grpSpPr>
            <a:xfrm>
              <a:off x="1453320" y="2671560"/>
              <a:ext cx="7378200" cy="2292480"/>
              <a:chOff x="1453320" y="2671560"/>
              <a:chExt cx="7378200" cy="229248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1453320" y="2671560"/>
                <a:ext cx="685080" cy="733320"/>
                <a:chOff x="1453320" y="2671560"/>
                <a:chExt cx="685080" cy="73332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453320" y="2671560"/>
                  <a:ext cx="68508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réd.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453320" y="2671560"/>
                  <a:ext cx="685080" cy="73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2138760" y="2671560"/>
                <a:ext cx="754920" cy="733320"/>
                <a:chOff x="2138760" y="2671560"/>
                <a:chExt cx="754920" cy="73332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2138760" y="2671560"/>
                  <a:ext cx="75492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Gasto</a:t>
                  </a:r>
                  <a:br>
                    <a:rPr sz="1000"/>
                  </a:b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138760" y="2671560"/>
                  <a:ext cx="754920" cy="73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2894040" y="2671560"/>
                <a:ext cx="337320" cy="733320"/>
                <a:chOff x="2894040" y="2671560"/>
                <a:chExt cx="337320" cy="73332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894040" y="2671560"/>
                  <a:ext cx="33732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2894040" y="2671560"/>
                  <a:ext cx="337320" cy="73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231720" y="2671560"/>
                <a:ext cx="2393640" cy="733320"/>
                <a:chOff x="3231720" y="2671560"/>
                <a:chExt cx="2393640" cy="7333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3231720" y="2671560"/>
                  <a:ext cx="23936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Tipo de Producción: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Servicios o Bienes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31720" y="2671560"/>
                  <a:ext cx="2393640" cy="73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5626080" y="2671560"/>
                <a:ext cx="1207800" cy="733320"/>
                <a:chOff x="5626080" y="2671560"/>
                <a:chExt cx="1207800" cy="7333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5626080" y="2671560"/>
                  <a:ext cx="120780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Unidad de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dida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5626080" y="2671560"/>
                  <a:ext cx="1207800" cy="73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6834600" y="2671560"/>
                <a:ext cx="685080" cy="733320"/>
                <a:chOff x="6834600" y="2671560"/>
                <a:chExt cx="685080" cy="7333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6834600" y="2671560"/>
                  <a:ext cx="68508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834600" y="2671560"/>
                  <a:ext cx="685080" cy="73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7520040" y="2671560"/>
                <a:ext cx="672840" cy="733320"/>
                <a:chOff x="7520040" y="2671560"/>
                <a:chExt cx="672840" cy="7333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7520040" y="2671560"/>
                  <a:ext cx="67284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ec.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7520040" y="2671560"/>
                  <a:ext cx="672840" cy="73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8193600" y="2671560"/>
                <a:ext cx="637920" cy="733320"/>
                <a:chOff x="8193600" y="2671560"/>
                <a:chExt cx="637920" cy="7333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8193600" y="2671560"/>
                  <a:ext cx="63792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193600" y="2671560"/>
                  <a:ext cx="637920" cy="733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1453320" y="3404880"/>
                <a:ext cx="685080" cy="1559160"/>
                <a:chOff x="1453320" y="3404880"/>
                <a:chExt cx="685080" cy="155916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1453320" y="3404880"/>
                  <a:ext cx="685080" cy="15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56.859.181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453320" y="3404880"/>
                  <a:ext cx="685080" cy="15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2138760" y="3404880"/>
                <a:ext cx="754920" cy="1559160"/>
                <a:chOff x="2138760" y="3404880"/>
                <a:chExt cx="754920" cy="15591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2138760" y="3404880"/>
                  <a:ext cx="754920" cy="15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56.387.987</a:t>
                  </a: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2138760" y="3404880"/>
                  <a:ext cx="754920" cy="15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2894040" y="3404880"/>
                <a:ext cx="337320" cy="1559160"/>
                <a:chOff x="2894040" y="3404880"/>
                <a:chExt cx="337320" cy="155916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2894040" y="3404880"/>
                  <a:ext cx="337320" cy="155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9,2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894040" y="3404880"/>
                  <a:ext cx="337320" cy="155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3231720" y="3404880"/>
                <a:ext cx="2393640" cy="549360"/>
                <a:chOff x="3231720" y="3404880"/>
                <a:chExt cx="2393640" cy="5493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3231720" y="3404880"/>
                  <a:ext cx="23936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misión Documento Nacional de Identidad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231720" y="3404880"/>
                  <a:ext cx="23936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626080" y="3404880"/>
                <a:ext cx="1207800" cy="549360"/>
                <a:chOff x="5626080" y="3404880"/>
                <a:chExt cx="1207800" cy="5493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5626080" y="3404880"/>
                  <a:ext cx="120780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Documento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626080" y="3404880"/>
                  <a:ext cx="120780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6834600" y="3404880"/>
                <a:ext cx="685080" cy="549360"/>
                <a:chOff x="6834600" y="3404880"/>
                <a:chExt cx="685080" cy="5493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834600" y="3404880"/>
                  <a:ext cx="6850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.500.000</a:t>
                  </a: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834600" y="3404880"/>
                  <a:ext cx="6850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7520040" y="3404880"/>
                <a:ext cx="672840" cy="549360"/>
                <a:chOff x="7520040" y="3404880"/>
                <a:chExt cx="672840" cy="5493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7520040" y="3404880"/>
                  <a:ext cx="6728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.325.471</a:t>
                  </a: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520040" y="3404880"/>
                  <a:ext cx="6728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8193600" y="3404880"/>
                <a:ext cx="637920" cy="549360"/>
                <a:chOff x="8193600" y="3404880"/>
                <a:chExt cx="637920" cy="5493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8193600" y="3404880"/>
                  <a:ext cx="6379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3,0</a:t>
                  </a: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193600" y="3404880"/>
                  <a:ext cx="6379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3231720" y="3954240"/>
                <a:ext cx="2393640" cy="1009800"/>
                <a:chOff x="3231720" y="3954240"/>
                <a:chExt cx="2393640" cy="100980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3231720" y="3954240"/>
                  <a:ext cx="2393640" cy="100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Actualización del Documento Nacional de Identidad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231720" y="3954240"/>
                  <a:ext cx="2393640" cy="100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626080" y="3954240"/>
                <a:ext cx="1207800" cy="1009800"/>
                <a:chOff x="5626080" y="3954240"/>
                <a:chExt cx="1207800" cy="100980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626080" y="3954240"/>
                  <a:ext cx="1207800" cy="100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Documento Actualizado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626080" y="3954240"/>
                  <a:ext cx="1207800" cy="100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834600" y="3954240"/>
                <a:ext cx="685080" cy="1009800"/>
                <a:chOff x="6834600" y="3954240"/>
                <a:chExt cx="685080" cy="100980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834600" y="3954240"/>
                  <a:ext cx="685080" cy="100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.400.000</a:t>
                  </a: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834600" y="3954240"/>
                  <a:ext cx="685080" cy="100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7520040" y="3954240"/>
                <a:ext cx="672840" cy="1009800"/>
                <a:chOff x="7520040" y="3954240"/>
                <a:chExt cx="672840" cy="10098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7520040" y="3954240"/>
                  <a:ext cx="672840" cy="100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.552.039</a:t>
                  </a: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520040" y="3954240"/>
                  <a:ext cx="672840" cy="100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193600" y="3954240"/>
                <a:ext cx="637920" cy="1009800"/>
                <a:chOff x="8193600" y="3954240"/>
                <a:chExt cx="637920" cy="100980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8193600" y="3954240"/>
                  <a:ext cx="637920" cy="100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64,7</a:t>
                  </a: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193600" y="3954240"/>
                  <a:ext cx="637920" cy="100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2" name=""/>
            <p:cNvSpPr/>
            <p:nvPr/>
          </p:nvSpPr>
          <p:spPr>
            <a:xfrm>
              <a:off x="1447920" y="2666880"/>
              <a:ext cx="7390800" cy="23018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0" y="4959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CF6-4894-4A8F-BD60-D15FBE77C5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aluación de un program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eve descrip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édito Final y Gasto Devengad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rcentaje de ejecu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po de producto y unidad de medid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ta fijada y meta ejecutad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rcentaje de ejecu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icación de desvíos y acci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0134720" y="2800440"/>
          <a:ext cx="11998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34720" y="2800440"/>
                    <a:ext cx="11998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D73-F7AB-4BD4-8B04-AB12BF238BB1}" type="slidenum">
              <a:t>23</a:t>
            </a:fld>
          </a:p>
        </p:txBody>
      </p:sp>
    </p:spTree>
  </p:cSld>
  <p:transition>
    <p:fade thruBlk="true"/>
    <p:sndAc>
      <p:stSnd>
        <p:snd r:embed="rId3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828800" y="1523880"/>
            <a:ext cx="67816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Imprenta del Congres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Programa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Impresiones y Publicaciones Parlamentari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86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1371600" y="3048120"/>
            <a:ext cx="7086240" cy="2133000"/>
            <a:chOff x="1371600" y="3048120"/>
            <a:chExt cx="7086240" cy="2133000"/>
          </a:xfrm>
        </p:grpSpPr>
        <p:grpSp>
          <p:nvGrpSpPr>
            <p:cNvPr id="491" name=""/>
            <p:cNvGrpSpPr/>
            <p:nvPr/>
          </p:nvGrpSpPr>
          <p:grpSpPr>
            <a:xfrm>
              <a:off x="1377000" y="3055680"/>
              <a:ext cx="7074720" cy="2116440"/>
              <a:chOff x="1377000" y="3055680"/>
              <a:chExt cx="7074720" cy="211644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1377000" y="3055680"/>
                <a:ext cx="880560" cy="1058040"/>
                <a:chOff x="1377000" y="3055680"/>
                <a:chExt cx="880560" cy="10580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1377000" y="3055680"/>
                  <a:ext cx="88056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rédito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 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377000" y="3055680"/>
                  <a:ext cx="88056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2257920" y="3055680"/>
                <a:ext cx="1013760" cy="1058040"/>
                <a:chOff x="2257920" y="3055680"/>
                <a:chExt cx="1013760" cy="105804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2257920" y="3055680"/>
                  <a:ext cx="101376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Gasto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Devengado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257920" y="3055680"/>
                  <a:ext cx="101376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3272400" y="3055680"/>
                <a:ext cx="374040" cy="1058040"/>
                <a:chOff x="3272400" y="3055680"/>
                <a:chExt cx="374040" cy="105804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3272400" y="3055680"/>
                  <a:ext cx="37404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272400" y="3055680"/>
                  <a:ext cx="37404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3647160" y="3055680"/>
                <a:ext cx="1761120" cy="1058040"/>
                <a:chOff x="3647160" y="3055680"/>
                <a:chExt cx="1761120" cy="105804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3647160" y="3055680"/>
                  <a:ext cx="176112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Tipo de Producción: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Servicios o Bienes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647160" y="3055680"/>
                  <a:ext cx="176112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5409000" y="3055680"/>
                <a:ext cx="880200" cy="1058040"/>
                <a:chOff x="5409000" y="3055680"/>
                <a:chExt cx="880200" cy="105804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5409000" y="3055680"/>
                  <a:ext cx="88020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Unidad de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dida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409000" y="3055680"/>
                  <a:ext cx="88020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6289560" y="3055680"/>
                <a:ext cx="880560" cy="1058040"/>
                <a:chOff x="6289560" y="3055680"/>
                <a:chExt cx="880560" cy="105804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6289560" y="3055680"/>
                  <a:ext cx="88056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 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289560" y="3055680"/>
                  <a:ext cx="88056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7170840" y="3055680"/>
                <a:ext cx="880560" cy="1058040"/>
                <a:chOff x="7170840" y="3055680"/>
                <a:chExt cx="880560" cy="105804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7170840" y="3055680"/>
                  <a:ext cx="88056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ec.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170840" y="3055680"/>
                  <a:ext cx="88056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8051760" y="3055680"/>
                <a:ext cx="399960" cy="1058040"/>
                <a:chOff x="8051760" y="3055680"/>
                <a:chExt cx="399960" cy="105804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8051760" y="3055680"/>
                  <a:ext cx="39996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051760" y="3055680"/>
                  <a:ext cx="39996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1377000" y="4114080"/>
                <a:ext cx="880560" cy="1058040"/>
                <a:chOff x="1377000" y="4114080"/>
                <a:chExt cx="880560" cy="105804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1377000" y="4114080"/>
                  <a:ext cx="88056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4.728.417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377000" y="4114080"/>
                  <a:ext cx="88056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2257920" y="4114080"/>
                <a:ext cx="1013760" cy="1058040"/>
                <a:chOff x="2257920" y="4114080"/>
                <a:chExt cx="1013760" cy="105804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257920" y="4114080"/>
                  <a:ext cx="101376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4.148.682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257920" y="4114080"/>
                  <a:ext cx="101376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3272400" y="4114080"/>
                <a:ext cx="374040" cy="1058040"/>
                <a:chOff x="3272400" y="4114080"/>
                <a:chExt cx="374040" cy="105804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3272400" y="4114080"/>
                  <a:ext cx="37404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6,1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272400" y="4114080"/>
                  <a:ext cx="37404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647160" y="4114080"/>
                <a:ext cx="1761120" cy="1058040"/>
                <a:chOff x="3647160" y="4114080"/>
                <a:chExt cx="1761120" cy="105804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647160" y="4114080"/>
                  <a:ext cx="176112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omposición e Impresión de Papelería y Publicaciones Parlamentarias</a:t>
                  </a: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647160" y="4114080"/>
                  <a:ext cx="176112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5409000" y="4114080"/>
                <a:ext cx="880200" cy="1058040"/>
                <a:chOff x="5409000" y="4114080"/>
                <a:chExt cx="880200" cy="105804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5409000" y="4114080"/>
                  <a:ext cx="88020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Página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409000" y="4114080"/>
                  <a:ext cx="88020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6289560" y="4114080"/>
                <a:ext cx="880560" cy="1058040"/>
                <a:chOff x="6289560" y="4114080"/>
                <a:chExt cx="880560" cy="105804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6289560" y="4114080"/>
                  <a:ext cx="88056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70.000.0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289560" y="4114080"/>
                  <a:ext cx="88056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7170840" y="4114080"/>
                <a:ext cx="880560" cy="1058040"/>
                <a:chOff x="7170840" y="4114080"/>
                <a:chExt cx="880560" cy="105804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7170840" y="4114080"/>
                  <a:ext cx="88056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39.393.58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170840" y="4114080"/>
                  <a:ext cx="88056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8051760" y="4114080"/>
                <a:ext cx="399960" cy="1058040"/>
                <a:chOff x="8051760" y="4114080"/>
                <a:chExt cx="399960" cy="10580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8051760" y="4114080"/>
                  <a:ext cx="399960" cy="105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56,3</a:t>
                  </a: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8051760" y="4114080"/>
                  <a:ext cx="399960" cy="1058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0" name=""/>
            <p:cNvSpPr/>
            <p:nvPr/>
          </p:nvSpPr>
          <p:spPr>
            <a:xfrm>
              <a:off x="1371600" y="3048120"/>
              <a:ext cx="7086240" cy="2133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308-2F7B-41BB-8A97-0F91C271F35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3240" y="-297828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Arial"/>
              </a:rPr>
              <a:t>Se indican a continuación las cantidades de páginas impresas en los trabajos comerciales y las publicaciones oficiales:</a:t>
            </a:r>
            <a:br>
              <a:rPr sz="1000"/>
            </a:b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40" y="-142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40" y="-59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2057400" y="1371600"/>
            <a:ext cx="6324120" cy="4191120"/>
            <a:chOff x="2057400" y="1371600"/>
            <a:chExt cx="6324120" cy="4191120"/>
          </a:xfrm>
        </p:grpSpPr>
        <p:grpSp>
          <p:nvGrpSpPr>
            <p:cNvPr id="545" name=""/>
            <p:cNvGrpSpPr/>
            <p:nvPr/>
          </p:nvGrpSpPr>
          <p:grpSpPr>
            <a:xfrm>
              <a:off x="2062080" y="1373400"/>
              <a:ext cx="6313680" cy="4187520"/>
              <a:chOff x="2062080" y="1373400"/>
              <a:chExt cx="6313680" cy="418752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2062080" y="1373400"/>
                <a:ext cx="2007000" cy="204120"/>
                <a:chOff x="2062080" y="1373400"/>
                <a:chExt cx="2007000" cy="2041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2062080" y="1373400"/>
                  <a:ext cx="2007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Publicaciones Comerciales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062080" y="1373400"/>
                  <a:ext cx="2007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4069440" y="1373400"/>
                <a:ext cx="874800" cy="204120"/>
                <a:chOff x="4069440" y="1373400"/>
                <a:chExt cx="874800" cy="2041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4069440" y="1373400"/>
                  <a:ext cx="874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Páginas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069440" y="1373400"/>
                  <a:ext cx="874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4944600" y="1373400"/>
                <a:ext cx="2530800" cy="204120"/>
                <a:chOff x="4944600" y="1373400"/>
                <a:chExt cx="2530800" cy="20412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4944600" y="1373400"/>
                  <a:ext cx="2530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Publicaciones Oficiales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944600" y="1373400"/>
                  <a:ext cx="2530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7475760" y="1373400"/>
                <a:ext cx="900000" cy="204120"/>
                <a:chOff x="7475760" y="1373400"/>
                <a:chExt cx="900000" cy="20412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7475760" y="1373400"/>
                  <a:ext cx="900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Páginas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475760" y="1373400"/>
                  <a:ext cx="900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2062080" y="1577520"/>
                <a:ext cx="2007000" cy="204120"/>
                <a:chOff x="2062080" y="1577520"/>
                <a:chExt cx="2007000" cy="2041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2062080" y="1577520"/>
                  <a:ext cx="2007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arteles y afiche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062080" y="1577520"/>
                  <a:ext cx="2007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4069440" y="1577520"/>
                <a:ext cx="874800" cy="204120"/>
                <a:chOff x="4069440" y="1577520"/>
                <a:chExt cx="874800" cy="20412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069440" y="1577520"/>
                  <a:ext cx="874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 </a:t>
                  </a: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1.941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069440" y="1577520"/>
                  <a:ext cx="874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4944600" y="1577520"/>
                <a:ext cx="3431160" cy="204120"/>
                <a:chOff x="4944600" y="1577520"/>
                <a:chExt cx="3431160" cy="204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4944600" y="1577520"/>
                  <a:ext cx="343116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eaeaea"/>
                      </a:solidFill>
                      <a:uFillTx/>
                      <a:latin typeface="Arial"/>
                      <a:ea typeface="Arial"/>
                    </a:rPr>
                    <a:t>Diputados</a:t>
                  </a:r>
                  <a:r>
                    <a:rPr b="0" lang="en-US" sz="600" spc="-1" strike="noStrike" u="sng">
                      <a:solidFill>
                        <a:srgbClr val="eaeaea"/>
                      </a:solidFill>
                      <a:uFillTx/>
                      <a:latin typeface="Arial"/>
                      <a:ea typeface="Arial"/>
                    </a:rPr>
                    <a:t> 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4944600" y="1577520"/>
                  <a:ext cx="343116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2062080" y="1781640"/>
                <a:ext cx="2007000" cy="204120"/>
                <a:chOff x="2062080" y="1781640"/>
                <a:chExt cx="2007000" cy="20412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2062080" y="1781640"/>
                  <a:ext cx="2007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Diploma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062080" y="1781640"/>
                  <a:ext cx="2007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4069440" y="1781640"/>
                <a:ext cx="874800" cy="204120"/>
                <a:chOff x="4069440" y="1781640"/>
                <a:chExt cx="874800" cy="2041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4069440" y="1781640"/>
                  <a:ext cx="874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.405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069440" y="1781640"/>
                  <a:ext cx="874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4944600" y="1781640"/>
                <a:ext cx="2530800" cy="204120"/>
                <a:chOff x="4944600" y="1781640"/>
                <a:chExt cx="2530800" cy="20412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4944600" y="1781640"/>
                  <a:ext cx="2530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Orden del día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944600" y="1781640"/>
                  <a:ext cx="2530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7475760" y="1781640"/>
                <a:ext cx="900000" cy="204120"/>
                <a:chOff x="7475760" y="1781640"/>
                <a:chExt cx="900000" cy="20412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7475760" y="1781640"/>
                  <a:ext cx="900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7.343.16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475760" y="1781640"/>
                  <a:ext cx="900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2062080" y="1986120"/>
                <a:ext cx="2007000" cy="204120"/>
                <a:chOff x="2062080" y="1986120"/>
                <a:chExt cx="2007000" cy="2041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062080" y="1986120"/>
                  <a:ext cx="2007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arpeta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062080" y="1986120"/>
                  <a:ext cx="2007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4069440" y="1986120"/>
                <a:ext cx="874800" cy="204120"/>
                <a:chOff x="4069440" y="1986120"/>
                <a:chExt cx="874800" cy="20412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4069440" y="1986120"/>
                  <a:ext cx="874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49.386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4069440" y="1986120"/>
                  <a:ext cx="874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4944600" y="1986120"/>
                <a:ext cx="2530800" cy="204120"/>
                <a:chOff x="4944600" y="1986120"/>
                <a:chExt cx="2530800" cy="20412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944600" y="1986120"/>
                  <a:ext cx="2530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Trámite parlamentario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944600" y="1986120"/>
                  <a:ext cx="2530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7475760" y="1986120"/>
                <a:ext cx="900000" cy="204120"/>
                <a:chOff x="7475760" y="1986120"/>
                <a:chExt cx="900000" cy="20412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7475760" y="1986120"/>
                  <a:ext cx="900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8.019.28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7475760" y="1986120"/>
                  <a:ext cx="900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2062080" y="2190600"/>
                <a:ext cx="2007000" cy="204120"/>
                <a:chOff x="2062080" y="2190600"/>
                <a:chExt cx="2007000" cy="2041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2062080" y="2190600"/>
                  <a:ext cx="2007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redenciale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062080" y="2190600"/>
                  <a:ext cx="2007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4069440" y="2190600"/>
                <a:ext cx="874800" cy="204120"/>
                <a:chOff x="4069440" y="2190600"/>
                <a:chExt cx="874800" cy="20412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4069440" y="2190600"/>
                  <a:ext cx="874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.422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069440" y="2190600"/>
                  <a:ext cx="874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4944600" y="2190600"/>
                <a:ext cx="2530800" cy="204120"/>
                <a:chOff x="4944600" y="2190600"/>
                <a:chExt cx="2530800" cy="20412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4944600" y="2190600"/>
                  <a:ext cx="2530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Boletín Oficial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944600" y="2190600"/>
                  <a:ext cx="2530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7475760" y="2190600"/>
                <a:ext cx="900000" cy="204120"/>
                <a:chOff x="7475760" y="2190600"/>
                <a:chExt cx="900000" cy="20412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7475760" y="2190600"/>
                  <a:ext cx="900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.494.44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7475760" y="2190600"/>
                  <a:ext cx="900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"/>
              <p:cNvGrpSpPr/>
              <p:nvPr/>
            </p:nvGrpSpPr>
            <p:grpSpPr>
              <a:xfrm>
                <a:off x="2062080" y="2394720"/>
                <a:ext cx="2007000" cy="204120"/>
                <a:chOff x="2062080" y="2394720"/>
                <a:chExt cx="2007000" cy="20412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2062080" y="2394720"/>
                  <a:ext cx="2007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ncuadernacione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062080" y="2394720"/>
                  <a:ext cx="2007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4069440" y="2394720"/>
                <a:ext cx="874800" cy="204120"/>
                <a:chOff x="4069440" y="2394720"/>
                <a:chExt cx="874800" cy="2041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4069440" y="2394720"/>
                  <a:ext cx="874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8.203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069440" y="2394720"/>
                  <a:ext cx="874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4944600" y="2394720"/>
                <a:ext cx="2530800" cy="204120"/>
                <a:chOff x="4944600" y="2394720"/>
                <a:chExt cx="2530800" cy="20412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4944600" y="2394720"/>
                  <a:ext cx="2530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Separatas</a:t>
                  </a: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4944600" y="2394720"/>
                  <a:ext cx="2530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"/>
              <p:cNvGrpSpPr/>
              <p:nvPr/>
            </p:nvGrpSpPr>
            <p:grpSpPr>
              <a:xfrm>
                <a:off x="7475760" y="2394720"/>
                <a:ext cx="900000" cy="204120"/>
                <a:chOff x="7475760" y="2394720"/>
                <a:chExt cx="900000" cy="20412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7475760" y="2394720"/>
                  <a:ext cx="900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15.20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7475760" y="2394720"/>
                  <a:ext cx="900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2062080" y="2599200"/>
                <a:ext cx="2007000" cy="204120"/>
                <a:chOff x="2062080" y="2599200"/>
                <a:chExt cx="2007000" cy="2041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2062080" y="2599200"/>
                  <a:ext cx="2007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cha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062080" y="2599200"/>
                  <a:ext cx="2007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4069440" y="2599200"/>
                <a:ext cx="874800" cy="204120"/>
                <a:chOff x="4069440" y="2599200"/>
                <a:chExt cx="874800" cy="2041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4069440" y="2599200"/>
                  <a:ext cx="874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21.80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4069440" y="2599200"/>
                  <a:ext cx="874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"/>
              <p:cNvGrpSpPr/>
              <p:nvPr/>
            </p:nvGrpSpPr>
            <p:grpSpPr>
              <a:xfrm>
                <a:off x="4944600" y="2599200"/>
                <a:ext cx="2530800" cy="204120"/>
                <a:chOff x="4944600" y="2599200"/>
                <a:chExt cx="2530800" cy="20412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4944600" y="2599200"/>
                  <a:ext cx="2530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Volúmenes de publicacione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4944600" y="2599200"/>
                  <a:ext cx="2530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7475760" y="2599200"/>
                <a:ext cx="900000" cy="204120"/>
                <a:chOff x="7475760" y="2599200"/>
                <a:chExt cx="900000" cy="2041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7475760" y="2599200"/>
                  <a:ext cx="900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55.368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475760" y="2599200"/>
                  <a:ext cx="900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2062080" y="2803320"/>
                <a:ext cx="2007000" cy="305640"/>
                <a:chOff x="2062080" y="2803320"/>
                <a:chExt cx="2007000" cy="30564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2062080" y="2803320"/>
                  <a:ext cx="2007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ormulario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062080" y="2803320"/>
                  <a:ext cx="2007000" cy="30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4069440" y="2803320"/>
                <a:ext cx="874800" cy="305640"/>
                <a:chOff x="4069440" y="2803320"/>
                <a:chExt cx="874800" cy="30564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4069440" y="2803320"/>
                  <a:ext cx="8748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.133.25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069440" y="2803320"/>
                  <a:ext cx="874800" cy="30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4944600" y="2803320"/>
                <a:ext cx="2530800" cy="305640"/>
                <a:chOff x="4944600" y="2803320"/>
                <a:chExt cx="2530800" cy="30564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944600" y="2803320"/>
                  <a:ext cx="25308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944600" y="2803320"/>
                  <a:ext cx="2530800" cy="30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7475760" y="2803320"/>
                <a:ext cx="900000" cy="305640"/>
                <a:chOff x="7475760" y="2803320"/>
                <a:chExt cx="900000" cy="30564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7475760" y="2803320"/>
                  <a:ext cx="9000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475760" y="2803320"/>
                  <a:ext cx="900000" cy="305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2062080" y="3109320"/>
                <a:ext cx="2007000" cy="204120"/>
                <a:chOff x="2062080" y="3109320"/>
                <a:chExt cx="2007000" cy="20412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2062080" y="3109320"/>
                  <a:ext cx="2007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Sobres y papel con membrete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062080" y="3109320"/>
                  <a:ext cx="2007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4069440" y="3109320"/>
                <a:ext cx="874800" cy="204120"/>
                <a:chOff x="4069440" y="3109320"/>
                <a:chExt cx="874800" cy="20412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4069440" y="3109320"/>
                  <a:ext cx="874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.541.34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069440" y="3109320"/>
                  <a:ext cx="874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4944600" y="3109320"/>
                <a:ext cx="3431160" cy="204120"/>
                <a:chOff x="4944600" y="3109320"/>
                <a:chExt cx="3431160" cy="20412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4944600" y="3109320"/>
                  <a:ext cx="343116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eaeaea"/>
                      </a:solidFill>
                      <a:uFillTx/>
                      <a:latin typeface="Arial"/>
                      <a:ea typeface="Arial"/>
                    </a:rPr>
                    <a:t>Senado </a:t>
                  </a: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4944600" y="3109320"/>
                  <a:ext cx="343116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2062080" y="3313440"/>
                <a:ext cx="2007000" cy="204120"/>
                <a:chOff x="2062080" y="3313440"/>
                <a:chExt cx="2007000" cy="20412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2062080" y="3313440"/>
                  <a:ext cx="2007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Planilla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2062080" y="3313440"/>
                  <a:ext cx="2007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4069440" y="3313440"/>
                <a:ext cx="874800" cy="204120"/>
                <a:chOff x="4069440" y="3313440"/>
                <a:chExt cx="874800" cy="20412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4069440" y="3313440"/>
                  <a:ext cx="874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59.00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069440" y="3313440"/>
                  <a:ext cx="874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4944600" y="3313440"/>
                <a:ext cx="2530800" cy="204120"/>
                <a:chOff x="4944600" y="3313440"/>
                <a:chExt cx="2530800" cy="20412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4944600" y="3313440"/>
                  <a:ext cx="2530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Diario de sesione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944600" y="3313440"/>
                  <a:ext cx="2530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7475760" y="3313440"/>
                <a:ext cx="900000" cy="204120"/>
                <a:chOff x="7475760" y="3313440"/>
                <a:chExt cx="900000" cy="20412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7475760" y="3313440"/>
                  <a:ext cx="900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38.844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7475760" y="3313440"/>
                  <a:ext cx="900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2062080" y="3517920"/>
                <a:ext cx="2007000" cy="204120"/>
                <a:chOff x="2062080" y="3517920"/>
                <a:chExt cx="2007000" cy="20412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2062080" y="3517920"/>
                  <a:ext cx="2007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Tarjetas y tarjetone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062080" y="3517920"/>
                  <a:ext cx="2007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4069440" y="3517920"/>
                <a:ext cx="874800" cy="204120"/>
                <a:chOff x="4069440" y="3517920"/>
                <a:chExt cx="874800" cy="20412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4069440" y="3517920"/>
                  <a:ext cx="874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05.492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069440" y="3517920"/>
                  <a:ext cx="874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4944600" y="3517920"/>
                <a:ext cx="2530800" cy="204120"/>
                <a:chOff x="4944600" y="3517920"/>
                <a:chExt cx="2530800" cy="2041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4944600" y="3517920"/>
                  <a:ext cx="2530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Orden del día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944600" y="3517920"/>
                  <a:ext cx="2530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7475760" y="3517920"/>
                <a:ext cx="900000" cy="204120"/>
                <a:chOff x="7475760" y="3517920"/>
                <a:chExt cx="900000" cy="2041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7475760" y="3517920"/>
                  <a:ext cx="900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3.521.00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7475760" y="3517920"/>
                  <a:ext cx="900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2062080" y="3722400"/>
                <a:ext cx="2007000" cy="204120"/>
                <a:chOff x="2062080" y="3722400"/>
                <a:chExt cx="2007000" cy="20412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2062080" y="3722400"/>
                  <a:ext cx="2007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hequeras y recetario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062080" y="3722400"/>
                  <a:ext cx="2007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4069440" y="3722400"/>
                <a:ext cx="874800" cy="204120"/>
                <a:chOff x="4069440" y="3722400"/>
                <a:chExt cx="874800" cy="20412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4069440" y="3722400"/>
                  <a:ext cx="874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41.001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069440" y="3722400"/>
                  <a:ext cx="874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4944600" y="3722400"/>
                <a:ext cx="2530800" cy="204120"/>
                <a:chOff x="4944600" y="3722400"/>
                <a:chExt cx="2530800" cy="20412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4944600" y="3722400"/>
                  <a:ext cx="2530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Diario de asuntos entrado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944600" y="3722400"/>
                  <a:ext cx="2530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7475760" y="3722400"/>
                <a:ext cx="900000" cy="204120"/>
                <a:chOff x="7475760" y="3722400"/>
                <a:chExt cx="900000" cy="20412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7475760" y="3722400"/>
                  <a:ext cx="900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3.182.20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7475760" y="3722400"/>
                  <a:ext cx="900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2062080" y="3926520"/>
                <a:ext cx="2007000" cy="204120"/>
                <a:chOff x="2062080" y="3926520"/>
                <a:chExt cx="2007000" cy="20412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2062080" y="3926520"/>
                  <a:ext cx="2007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chas de afiliación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062080" y="3926520"/>
                  <a:ext cx="2007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069440" y="3926520"/>
                <a:ext cx="874800" cy="204120"/>
                <a:chOff x="4069440" y="3926520"/>
                <a:chExt cx="874800" cy="2041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069440" y="3926520"/>
                  <a:ext cx="874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6.00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069440" y="3926520"/>
                  <a:ext cx="874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4944600" y="3926520"/>
                <a:ext cx="2530800" cy="204120"/>
                <a:chOff x="4944600" y="3926520"/>
                <a:chExt cx="2530800" cy="2041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4944600" y="3926520"/>
                  <a:ext cx="2530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Separata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944600" y="3926520"/>
                  <a:ext cx="2530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7475760" y="3926520"/>
                <a:ext cx="900000" cy="204120"/>
                <a:chOff x="7475760" y="3926520"/>
                <a:chExt cx="900000" cy="2041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7475760" y="3926520"/>
                  <a:ext cx="900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76.40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7475760" y="3926520"/>
                  <a:ext cx="900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2062080" y="4130640"/>
                <a:ext cx="2007000" cy="1225800"/>
                <a:chOff x="2062080" y="4130640"/>
                <a:chExt cx="2007000" cy="122580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2062080" y="4130640"/>
                  <a:ext cx="2007000" cy="12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Varios 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062080" y="4130640"/>
                  <a:ext cx="2007000" cy="12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4069440" y="4130640"/>
                <a:ext cx="874800" cy="1225800"/>
                <a:chOff x="4069440" y="4130640"/>
                <a:chExt cx="874800" cy="122580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4069440" y="4130640"/>
                  <a:ext cx="874800" cy="12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323.988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069440" y="4130640"/>
                  <a:ext cx="874800" cy="122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4944600" y="4130640"/>
                <a:ext cx="2530800" cy="204120"/>
                <a:chOff x="4944600" y="4130640"/>
                <a:chExt cx="2530800" cy="20412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4944600" y="4130640"/>
                  <a:ext cx="2530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Síntesis parlamentaria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944600" y="4130640"/>
                  <a:ext cx="2530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7475760" y="4130640"/>
                <a:ext cx="900000" cy="204120"/>
                <a:chOff x="7475760" y="4130640"/>
                <a:chExt cx="900000" cy="20412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7475760" y="4130640"/>
                  <a:ext cx="900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17.052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7475760" y="4130640"/>
                  <a:ext cx="900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4944600" y="4335120"/>
                <a:ext cx="2530800" cy="204120"/>
                <a:chOff x="4944600" y="4335120"/>
                <a:chExt cx="2530800" cy="20412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4944600" y="4335120"/>
                  <a:ext cx="2530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Otras publicacione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944600" y="4335120"/>
                  <a:ext cx="2530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7475760" y="4335120"/>
                <a:ext cx="900000" cy="204120"/>
                <a:chOff x="7475760" y="4335120"/>
                <a:chExt cx="900000" cy="20412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475760" y="4335120"/>
                  <a:ext cx="900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.219.56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7475760" y="4335120"/>
                  <a:ext cx="900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4944600" y="4539600"/>
                <a:ext cx="2530800" cy="204120"/>
                <a:chOff x="4944600" y="4539600"/>
                <a:chExt cx="2530800" cy="20412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4944600" y="4539600"/>
                  <a:ext cx="2530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eaeaea"/>
                      </a:solidFill>
                      <a:uFillTx/>
                      <a:latin typeface="Arial"/>
                      <a:ea typeface="Arial"/>
                    </a:rPr>
                    <a:t>Ministerios de la Nación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944600" y="4539600"/>
                  <a:ext cx="2530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7475760" y="4539600"/>
                <a:ext cx="900000" cy="204120"/>
                <a:chOff x="7475760" y="4539600"/>
                <a:chExt cx="900000" cy="20412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7475760" y="4539600"/>
                  <a:ext cx="900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.448.00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475760" y="4539600"/>
                  <a:ext cx="900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4944600" y="4743720"/>
                <a:ext cx="2530800" cy="204120"/>
                <a:chOff x="4944600" y="4743720"/>
                <a:chExt cx="2530800" cy="20412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4944600" y="4743720"/>
                  <a:ext cx="2530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eaeaea"/>
                      </a:solidFill>
                      <a:uFillTx/>
                      <a:latin typeface="Arial"/>
                      <a:ea typeface="Arial"/>
                    </a:rPr>
                    <a:t>Presidencia de la Nación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944600" y="4743720"/>
                  <a:ext cx="2530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7475760" y="4743720"/>
                <a:ext cx="900000" cy="204120"/>
                <a:chOff x="7475760" y="4743720"/>
                <a:chExt cx="900000" cy="20412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7475760" y="4743720"/>
                  <a:ext cx="900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336.00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7475760" y="4743720"/>
                  <a:ext cx="900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4944600" y="4948200"/>
                <a:ext cx="2530800" cy="204120"/>
                <a:chOff x="4944600" y="4948200"/>
                <a:chExt cx="2530800" cy="20412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4944600" y="4948200"/>
                  <a:ext cx="2530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eaeaea"/>
                      </a:solidFill>
                      <a:uFillTx/>
                      <a:latin typeface="Arial"/>
                      <a:ea typeface="Arial"/>
                    </a:rPr>
                    <a:t>Otras reparticione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4944600" y="4948200"/>
                  <a:ext cx="2530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7475760" y="4948200"/>
                <a:ext cx="900000" cy="204120"/>
                <a:chOff x="7475760" y="4948200"/>
                <a:chExt cx="900000" cy="20412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475760" y="4948200"/>
                  <a:ext cx="900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3.032.00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7475760" y="4948200"/>
                  <a:ext cx="900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4944600" y="5152320"/>
                <a:ext cx="2530800" cy="204120"/>
                <a:chOff x="4944600" y="5152320"/>
                <a:chExt cx="2530800" cy="20412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4944600" y="5152320"/>
                  <a:ext cx="2530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Vario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944600" y="5152320"/>
                  <a:ext cx="2530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7475760" y="5152320"/>
                <a:ext cx="900000" cy="204120"/>
                <a:chOff x="7475760" y="5152320"/>
                <a:chExt cx="900000" cy="20412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7475760" y="5152320"/>
                  <a:ext cx="900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.054.848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475760" y="5152320"/>
                  <a:ext cx="900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2062080" y="5356800"/>
                <a:ext cx="2007000" cy="204120"/>
                <a:chOff x="2062080" y="5356800"/>
                <a:chExt cx="2007000" cy="20412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2062080" y="5356800"/>
                  <a:ext cx="2007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Total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062080" y="5356800"/>
                  <a:ext cx="2007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4069440" y="5356800"/>
                <a:ext cx="874800" cy="204120"/>
                <a:chOff x="4069440" y="5356800"/>
                <a:chExt cx="874800" cy="20412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4069440" y="5356800"/>
                  <a:ext cx="874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.140.228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069440" y="5356800"/>
                  <a:ext cx="874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4944600" y="5356800"/>
                <a:ext cx="2530800" cy="204120"/>
                <a:chOff x="4944600" y="5356800"/>
                <a:chExt cx="2530800" cy="20412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4944600" y="5356800"/>
                  <a:ext cx="25308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 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944600" y="5356800"/>
                  <a:ext cx="25308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7475760" y="5356800"/>
                <a:ext cx="900000" cy="204120"/>
                <a:chOff x="7475760" y="5356800"/>
                <a:chExt cx="900000" cy="20412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7475760" y="5356800"/>
                  <a:ext cx="90000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35.253.352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7475760" y="5356800"/>
                  <a:ext cx="900000" cy="20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0" name=""/>
            <p:cNvSpPr/>
            <p:nvPr/>
          </p:nvSpPr>
          <p:spPr>
            <a:xfrm>
              <a:off x="2057400" y="1371600"/>
              <a:ext cx="6324120" cy="4191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3240" y="-590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0FC-2ED1-4FBF-8E3D-9C655A9DF1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3240" y="72396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                                            </a:t>
            </a: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Sindicatura General de la Nac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                                            </a:t>
            </a:r>
            <a:r>
              <a:rPr b="0" lang="es-ES" sz="12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Programa</a:t>
            </a:r>
            <a:r>
              <a:rPr b="1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: </a:t>
            </a: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Control Interno del Poder Ejecutivo Nacion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357200" y="3298680"/>
            <a:ext cx="643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133720" y="1676520"/>
            <a:ext cx="6464160" cy="4343400"/>
            <a:chOff x="2133720" y="1676520"/>
            <a:chExt cx="6464160" cy="4343400"/>
          </a:xfrm>
        </p:grpSpPr>
        <p:grpSp>
          <p:nvGrpSpPr>
            <p:cNvPr id="756" name=""/>
            <p:cNvGrpSpPr/>
            <p:nvPr/>
          </p:nvGrpSpPr>
          <p:grpSpPr>
            <a:xfrm>
              <a:off x="2138400" y="1680480"/>
              <a:ext cx="6454800" cy="4334400"/>
              <a:chOff x="2138400" y="1680480"/>
              <a:chExt cx="6454800" cy="433440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2138400" y="1680480"/>
                <a:ext cx="746280" cy="572040"/>
                <a:chOff x="2138400" y="1680480"/>
                <a:chExt cx="746280" cy="57204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2138400" y="1680480"/>
                  <a:ext cx="74628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rédito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138400" y="1680480"/>
                  <a:ext cx="74628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2884680" y="1680480"/>
                <a:ext cx="780840" cy="572040"/>
                <a:chOff x="2884680" y="1680480"/>
                <a:chExt cx="780840" cy="57204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2884680" y="1680480"/>
                  <a:ext cx="78084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Gasto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Devengado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884680" y="1680480"/>
                  <a:ext cx="7808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3665520" y="1680480"/>
                <a:ext cx="414360" cy="572040"/>
                <a:chOff x="3665520" y="1680480"/>
                <a:chExt cx="414360" cy="57204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3665520" y="1680480"/>
                  <a:ext cx="41436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3665520" y="1680480"/>
                  <a:ext cx="41436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4079880" y="1680480"/>
                <a:ext cx="2073240" cy="572040"/>
                <a:chOff x="4079880" y="1680480"/>
                <a:chExt cx="2073240" cy="57204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4079880" y="1680480"/>
                  <a:ext cx="207324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Tipo de Producción: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Servicios o Bienes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079880" y="1680480"/>
                  <a:ext cx="20732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153120" y="1680480"/>
                <a:ext cx="984240" cy="572040"/>
                <a:chOff x="6153120" y="1680480"/>
                <a:chExt cx="984240" cy="57204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153120" y="1680480"/>
                  <a:ext cx="98424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Unidad de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dida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153120" y="1680480"/>
                  <a:ext cx="9842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137360" y="1680480"/>
                <a:ext cx="555840" cy="572040"/>
                <a:chOff x="7137360" y="1680480"/>
                <a:chExt cx="555840" cy="57204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137360" y="1680480"/>
                  <a:ext cx="55584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137360" y="1680480"/>
                  <a:ext cx="55584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7693200" y="1680480"/>
                <a:ext cx="496800" cy="572040"/>
                <a:chOff x="7693200" y="1680480"/>
                <a:chExt cx="496800" cy="57204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7693200" y="1680480"/>
                  <a:ext cx="4968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ec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7693200" y="1680480"/>
                  <a:ext cx="49680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8190000" y="1680480"/>
                <a:ext cx="403200" cy="572040"/>
                <a:chOff x="8190000" y="1680480"/>
                <a:chExt cx="403200" cy="57204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190000" y="1680480"/>
                  <a:ext cx="403200" cy="57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190000" y="1680480"/>
                  <a:ext cx="403200" cy="57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2138400" y="2252520"/>
                <a:ext cx="746280" cy="3762360"/>
                <a:chOff x="2138400" y="2252520"/>
                <a:chExt cx="746280" cy="37623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2138400" y="2252520"/>
                  <a:ext cx="746280" cy="376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4.916.764</a:t>
                  </a: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2138400" y="2252520"/>
                  <a:ext cx="746280" cy="376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2884680" y="2252520"/>
                <a:ext cx="780840" cy="3762360"/>
                <a:chOff x="2884680" y="2252520"/>
                <a:chExt cx="780840" cy="376236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2884680" y="2252520"/>
                  <a:ext cx="780840" cy="376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2.495.504</a:t>
                  </a: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2884680" y="2252520"/>
                  <a:ext cx="780840" cy="376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3665520" y="2252520"/>
                <a:ext cx="414360" cy="3762360"/>
                <a:chOff x="3665520" y="2252520"/>
                <a:chExt cx="414360" cy="376236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3665520" y="2252520"/>
                  <a:ext cx="414360" cy="376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0,3</a:t>
                  </a: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665520" y="2252520"/>
                  <a:ext cx="414360" cy="376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4079880" y="2252520"/>
                <a:ext cx="2073240" cy="489960"/>
                <a:chOff x="4079880" y="2252520"/>
                <a:chExt cx="2073240" cy="48996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079880" y="2252520"/>
                  <a:ext cx="207324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Realización de Auditoría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079880" y="2252520"/>
                  <a:ext cx="2073240" cy="48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6153120" y="2252520"/>
                <a:ext cx="984240" cy="489960"/>
                <a:chOff x="6153120" y="2252520"/>
                <a:chExt cx="984240" cy="48996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6153120" y="2252520"/>
                  <a:ext cx="98424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Auditoría Realizada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6153120" y="2252520"/>
                  <a:ext cx="984240" cy="48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137360" y="2252520"/>
                <a:ext cx="555840" cy="489960"/>
                <a:chOff x="7137360" y="2252520"/>
                <a:chExt cx="555840" cy="48996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7137360" y="2252520"/>
                  <a:ext cx="55584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514</a:t>
                  </a: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137360" y="2252520"/>
                  <a:ext cx="555840" cy="48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7693200" y="2252520"/>
                <a:ext cx="496800" cy="489960"/>
                <a:chOff x="7693200" y="2252520"/>
                <a:chExt cx="496800" cy="48996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7693200" y="2252520"/>
                  <a:ext cx="4968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38</a:t>
                  </a: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7693200" y="2252520"/>
                  <a:ext cx="496800" cy="48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8190000" y="2252520"/>
                <a:ext cx="403200" cy="489960"/>
                <a:chOff x="8190000" y="2252520"/>
                <a:chExt cx="403200" cy="48996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8190000" y="2252520"/>
                  <a:ext cx="4032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  </a:t>
                  </a: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85,2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8190000" y="2252520"/>
                  <a:ext cx="403200" cy="48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4079880" y="2742480"/>
                <a:ext cx="2073240" cy="572400"/>
                <a:chOff x="4079880" y="2742480"/>
                <a:chExt cx="2073240" cy="57240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4079880" y="2742480"/>
                  <a:ext cx="207324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Asesoramiento Técnico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079880" y="2742480"/>
                  <a:ext cx="207324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6153120" y="2742480"/>
                <a:ext cx="984240" cy="572400"/>
                <a:chOff x="6153120" y="2742480"/>
                <a:chExt cx="984240" cy="57240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6153120" y="2742480"/>
                  <a:ext cx="98424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Informe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6153120" y="2742480"/>
                  <a:ext cx="98424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7137360" y="2742480"/>
                <a:ext cx="555840" cy="572400"/>
                <a:chOff x="7137360" y="2742480"/>
                <a:chExt cx="555840" cy="57240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7137360" y="2742480"/>
                  <a:ext cx="55584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.080</a:t>
                  </a: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7137360" y="2742480"/>
                  <a:ext cx="55584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693200" y="2742480"/>
                <a:ext cx="496800" cy="572400"/>
                <a:chOff x="7693200" y="2742480"/>
                <a:chExt cx="496800" cy="57240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7693200" y="2742480"/>
                  <a:ext cx="49680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3.940</a:t>
                  </a: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693200" y="2742480"/>
                  <a:ext cx="49680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8190000" y="2742480"/>
                <a:ext cx="403200" cy="572400"/>
                <a:chOff x="8190000" y="2742480"/>
                <a:chExt cx="403200" cy="57240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8190000" y="2742480"/>
                  <a:ext cx="40320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 </a:t>
                  </a: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6,6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8190000" y="2742480"/>
                  <a:ext cx="40320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4079880" y="3315240"/>
                <a:ext cx="2073240" cy="654120"/>
                <a:chOff x="4079880" y="3315240"/>
                <a:chExt cx="2073240" cy="654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4079880" y="3315240"/>
                  <a:ext cx="207324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Intervenciones en Bonos de Consolidación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079880" y="3315240"/>
                  <a:ext cx="207324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153120" y="3315240"/>
                <a:ext cx="984240" cy="654120"/>
                <a:chOff x="6153120" y="3315240"/>
                <a:chExt cx="984240" cy="654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153120" y="3315240"/>
                  <a:ext cx="98424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xpediente Intervenido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153120" y="3315240"/>
                  <a:ext cx="98424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137360" y="3315240"/>
                <a:ext cx="555840" cy="654120"/>
                <a:chOff x="7137360" y="3315240"/>
                <a:chExt cx="555840" cy="654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137360" y="3315240"/>
                  <a:ext cx="55584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6.519</a:t>
                  </a: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137360" y="3315240"/>
                  <a:ext cx="55584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7693200" y="3315240"/>
                <a:ext cx="496800" cy="654120"/>
                <a:chOff x="7693200" y="3315240"/>
                <a:chExt cx="496800" cy="654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7693200" y="3315240"/>
                  <a:ext cx="49680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.652</a:t>
                  </a: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7693200" y="3315240"/>
                  <a:ext cx="49680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8190000" y="3315240"/>
                <a:ext cx="403200" cy="654120"/>
                <a:chOff x="8190000" y="3315240"/>
                <a:chExt cx="403200" cy="654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190000" y="3315240"/>
                  <a:ext cx="40320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 </a:t>
                  </a: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0,7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8190000" y="3315240"/>
                  <a:ext cx="40320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079880" y="3969360"/>
                <a:ext cx="2073240" cy="654120"/>
                <a:chOff x="4079880" y="3969360"/>
                <a:chExt cx="2073240" cy="654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4079880" y="3969360"/>
                  <a:ext cx="207324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Intervenciones en Sumarios de Perjuicio Fiscal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079880" y="3969360"/>
                  <a:ext cx="207324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6153120" y="3969360"/>
                <a:ext cx="984240" cy="654120"/>
                <a:chOff x="6153120" y="3969360"/>
                <a:chExt cx="984240" cy="654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6153120" y="3969360"/>
                  <a:ext cx="98424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Sumario Intervenido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6153120" y="3969360"/>
                  <a:ext cx="98424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7137360" y="3969360"/>
                <a:ext cx="555840" cy="654120"/>
                <a:chOff x="7137360" y="3969360"/>
                <a:chExt cx="555840" cy="654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7137360" y="3969360"/>
                  <a:ext cx="55584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20</a:t>
                  </a: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137360" y="3969360"/>
                  <a:ext cx="55584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693200" y="3969360"/>
                <a:ext cx="496800" cy="654120"/>
                <a:chOff x="7693200" y="3969360"/>
                <a:chExt cx="496800" cy="654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693200" y="3969360"/>
                  <a:ext cx="49680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9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693200" y="3969360"/>
                  <a:ext cx="49680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8190000" y="3969360"/>
                <a:ext cx="403200" cy="654120"/>
                <a:chOff x="8190000" y="3969360"/>
                <a:chExt cx="403200" cy="654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8190000" y="3969360"/>
                  <a:ext cx="403200" cy="65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 </a:t>
                  </a: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0,8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8190000" y="3969360"/>
                  <a:ext cx="403200" cy="65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4079880" y="4623840"/>
                <a:ext cx="2073240" cy="818640"/>
                <a:chOff x="4079880" y="4623840"/>
                <a:chExt cx="2073240" cy="81864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4079880" y="4623840"/>
                  <a:ext cx="207324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Intervención en Balances de Empresas con Participación Estatal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4079880" y="4623840"/>
                  <a:ext cx="2073240" cy="81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6153120" y="4623840"/>
                <a:ext cx="984240" cy="818640"/>
                <a:chOff x="6153120" y="4623840"/>
                <a:chExt cx="984240" cy="81864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6153120" y="4623840"/>
                  <a:ext cx="98424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Informe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153120" y="4623840"/>
                  <a:ext cx="984240" cy="81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7137360" y="4623840"/>
                <a:ext cx="555840" cy="818640"/>
                <a:chOff x="7137360" y="4623840"/>
                <a:chExt cx="555840" cy="81864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7137360" y="4623840"/>
                  <a:ext cx="55584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52</a:t>
                  </a: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7137360" y="4623840"/>
                  <a:ext cx="555840" cy="81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7693200" y="4623840"/>
                <a:ext cx="496800" cy="818640"/>
                <a:chOff x="7693200" y="4623840"/>
                <a:chExt cx="496800" cy="81864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7693200" y="4623840"/>
                  <a:ext cx="49680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7693200" y="4623840"/>
                  <a:ext cx="496800" cy="81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8190000" y="4623840"/>
                <a:ext cx="403200" cy="818640"/>
                <a:chOff x="8190000" y="4623840"/>
                <a:chExt cx="403200" cy="81864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8190000" y="4623840"/>
                  <a:ext cx="403200" cy="81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 </a:t>
                  </a: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65,8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8190000" y="4623840"/>
                  <a:ext cx="403200" cy="81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4079880" y="5442480"/>
                <a:ext cx="2073240" cy="572400"/>
                <a:chOff x="4079880" y="5442480"/>
                <a:chExt cx="2073240" cy="57240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4079880" y="5442480"/>
                  <a:ext cx="207324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misión de Precios Testigo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4079880" y="5442480"/>
                  <a:ext cx="207324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6153120" y="5442480"/>
                <a:ext cx="984240" cy="572400"/>
                <a:chOff x="6153120" y="5442480"/>
                <a:chExt cx="984240" cy="57240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6153120" y="5442480"/>
                  <a:ext cx="98424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Informe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6153120" y="5442480"/>
                  <a:ext cx="98424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7137360" y="5442480"/>
                <a:ext cx="555840" cy="572400"/>
                <a:chOff x="7137360" y="5442480"/>
                <a:chExt cx="555840" cy="57240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7137360" y="5442480"/>
                  <a:ext cx="55584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860</a:t>
                  </a: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7137360" y="5442480"/>
                  <a:ext cx="55584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7693200" y="5442480"/>
                <a:ext cx="496800" cy="572400"/>
                <a:chOff x="7693200" y="5442480"/>
                <a:chExt cx="496800" cy="57240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7693200" y="5442480"/>
                  <a:ext cx="49680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.155</a:t>
                  </a: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7693200" y="5442480"/>
                  <a:ext cx="49680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8190000" y="5442480"/>
                <a:ext cx="403200" cy="572400"/>
                <a:chOff x="8190000" y="5442480"/>
                <a:chExt cx="403200" cy="57240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8190000" y="5442480"/>
                  <a:ext cx="403200" cy="57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</a:t>
                  </a: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34,3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8190000" y="5442480"/>
                  <a:ext cx="403200" cy="57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0" name=""/>
            <p:cNvSpPr/>
            <p:nvPr/>
          </p:nvSpPr>
          <p:spPr>
            <a:xfrm>
              <a:off x="2133720" y="1676520"/>
              <a:ext cx="6464160" cy="4343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0" y="3276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7B0-D6CE-4670-99C3-0BC7C82DE6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1447920" y="1066680"/>
            <a:ext cx="5715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Auditoría General de la Nación</a:t>
            </a:r>
            <a:br>
              <a:rPr sz="1400"/>
            </a:b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Programa</a:t>
            </a:r>
            <a:r>
              <a:rPr b="1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:</a:t>
            </a:r>
            <a:r>
              <a:rPr b="0" lang="es-ES" sz="1400" spc="-1" strike="noStrike">
                <a:solidFill>
                  <a:srgbClr val="eaeaea"/>
                </a:solidFill>
                <a:latin typeface="Arial"/>
                <a:ea typeface="Arial"/>
              </a:rPr>
              <a:t> Control Externo del Sector Público Nacional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ES" sz="1200" spc="-1" strike="noStrike">
                <a:solidFill>
                  <a:srgbClr val="eaeaea"/>
                </a:solidFill>
                <a:latin typeface="Arial"/>
                <a:ea typeface="Arial"/>
              </a:rPr>
              <a:t>(2002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1523880" y="2971800"/>
            <a:ext cx="6738840" cy="1717560"/>
            <a:chOff x="1523880" y="2971800"/>
            <a:chExt cx="6738840" cy="1717560"/>
          </a:xfrm>
        </p:grpSpPr>
        <p:grpSp>
          <p:nvGrpSpPr>
            <p:cNvPr id="885" name=""/>
            <p:cNvGrpSpPr/>
            <p:nvPr/>
          </p:nvGrpSpPr>
          <p:grpSpPr>
            <a:xfrm>
              <a:off x="1528920" y="2976480"/>
              <a:ext cx="6727320" cy="1707480"/>
              <a:chOff x="1528920" y="2976480"/>
              <a:chExt cx="6727320" cy="1707480"/>
            </a:xfrm>
          </p:grpSpPr>
          <p:grpSp>
            <p:nvGrpSpPr>
              <p:cNvPr id="886" name=""/>
              <p:cNvGrpSpPr/>
              <p:nvPr/>
            </p:nvGrpSpPr>
            <p:grpSpPr>
              <a:xfrm>
                <a:off x="1528920" y="2976480"/>
                <a:ext cx="839160" cy="853560"/>
                <a:chOff x="1528920" y="2976480"/>
                <a:chExt cx="839160" cy="85356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1528920" y="2976480"/>
                  <a:ext cx="839160" cy="8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rédito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</a:t>
                  </a:r>
                  <a:br>
                    <a:rPr sz="1200"/>
                  </a:b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1528920" y="2976480"/>
                  <a:ext cx="839160" cy="85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2368440" y="2976480"/>
                <a:ext cx="851040" cy="853560"/>
                <a:chOff x="2368440" y="2976480"/>
                <a:chExt cx="851040" cy="85356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2368440" y="2976480"/>
                  <a:ext cx="851040" cy="8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Times New Roman"/>
                    </a:rPr>
                    <a:t>Gasto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2368440" y="2976480"/>
                  <a:ext cx="851040" cy="85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3220200" y="2976480"/>
                <a:ext cx="483480" cy="853560"/>
                <a:chOff x="3220200" y="2976480"/>
                <a:chExt cx="483480" cy="85356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3220200" y="2976480"/>
                  <a:ext cx="483480" cy="8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br>
                    <a:rPr sz="900"/>
                  </a:b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3220200" y="2976480"/>
                  <a:ext cx="483480" cy="85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3704040" y="2976480"/>
                <a:ext cx="1920960" cy="853560"/>
                <a:chOff x="3704040" y="2976480"/>
                <a:chExt cx="1920960" cy="85356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3704040" y="2976480"/>
                  <a:ext cx="1920960" cy="8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Tipo de Producción: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Servicios o Bienes</a:t>
                  </a:r>
                  <a:br>
                    <a:rPr sz="1200"/>
                  </a:b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3704040" y="2976480"/>
                  <a:ext cx="1920960" cy="85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5625720" y="2976480"/>
                <a:ext cx="838800" cy="853560"/>
                <a:chOff x="5625720" y="2976480"/>
                <a:chExt cx="838800" cy="85356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5625720" y="2976480"/>
                  <a:ext cx="838800" cy="8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Unidad de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dida</a:t>
                  </a:r>
                  <a:br>
                    <a:rPr sz="1200"/>
                  </a:b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625720" y="2976480"/>
                  <a:ext cx="838800" cy="85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6464880" y="2976480"/>
                <a:ext cx="596880" cy="853560"/>
                <a:chOff x="6464880" y="2976480"/>
                <a:chExt cx="596880" cy="85356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6464880" y="2976480"/>
                  <a:ext cx="596880" cy="8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</a:t>
                  </a:r>
                  <a:br>
                    <a:rPr sz="1200"/>
                  </a:b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464880" y="2976480"/>
                  <a:ext cx="596880" cy="85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062480" y="2976480"/>
                <a:ext cx="596520" cy="853560"/>
                <a:chOff x="7062480" y="2976480"/>
                <a:chExt cx="596520" cy="85356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7062480" y="2976480"/>
                  <a:ext cx="596520" cy="8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ec.</a:t>
                  </a:r>
                  <a:br>
                    <a:rPr sz="1200"/>
                  </a:b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062480" y="2976480"/>
                  <a:ext cx="596520" cy="85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7659360" y="2976480"/>
                <a:ext cx="596880" cy="853560"/>
                <a:chOff x="7659360" y="2976480"/>
                <a:chExt cx="596880" cy="85356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7659360" y="2976480"/>
                  <a:ext cx="596880" cy="85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br>
                    <a:rPr sz="800"/>
                  </a:b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7659360" y="2976480"/>
                  <a:ext cx="596880" cy="853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1528920" y="3830040"/>
                <a:ext cx="839160" cy="853920"/>
                <a:chOff x="1528920" y="3830040"/>
                <a:chExt cx="839160" cy="8539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1528920" y="3830040"/>
                  <a:ext cx="83916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9.238.403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1528920" y="3830040"/>
                  <a:ext cx="839160" cy="85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2368440" y="3830040"/>
                <a:ext cx="851040" cy="853920"/>
                <a:chOff x="2368440" y="3830040"/>
                <a:chExt cx="851040" cy="8539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2368440" y="3830040"/>
                  <a:ext cx="85104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5.180.678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2368440" y="3830040"/>
                  <a:ext cx="851040" cy="85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3220200" y="3830040"/>
                <a:ext cx="483480" cy="853920"/>
                <a:chOff x="3220200" y="3830040"/>
                <a:chExt cx="483480" cy="853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3220200" y="3830040"/>
                  <a:ext cx="48348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86</a:t>
                  </a: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,1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220200" y="3830040"/>
                  <a:ext cx="483480" cy="85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3704040" y="3830040"/>
                <a:ext cx="1920960" cy="853920"/>
                <a:chOff x="3704040" y="3830040"/>
                <a:chExt cx="1920960" cy="8539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704040" y="3830040"/>
                  <a:ext cx="192096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Informes de Auditoría Externa</a:t>
                  </a:r>
                  <a:br>
                    <a:rPr sz="1200"/>
                  </a:b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704040" y="3830040"/>
                  <a:ext cx="1920960" cy="85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5625720" y="3830040"/>
                <a:ext cx="838800" cy="853920"/>
                <a:chOff x="5625720" y="3830040"/>
                <a:chExt cx="838800" cy="8539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5625720" y="3830040"/>
                  <a:ext cx="83880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Auditoría Realizada</a:t>
                  </a:r>
                  <a:br>
                    <a:rPr sz="1000"/>
                  </a:b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625720" y="3830040"/>
                  <a:ext cx="838800" cy="85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6464880" y="3830040"/>
                <a:ext cx="596880" cy="853920"/>
                <a:chOff x="6464880" y="3830040"/>
                <a:chExt cx="596880" cy="8539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6464880" y="3830040"/>
                  <a:ext cx="59688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35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464880" y="3830040"/>
                  <a:ext cx="596880" cy="85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7062480" y="3830040"/>
                <a:ext cx="596520" cy="853920"/>
                <a:chOff x="7062480" y="3830040"/>
                <a:chExt cx="596520" cy="8539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7062480" y="3830040"/>
                  <a:ext cx="59652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070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7062480" y="3830040"/>
                  <a:ext cx="596520" cy="85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7659360" y="3830040"/>
                <a:ext cx="596880" cy="853920"/>
                <a:chOff x="7659360" y="3830040"/>
                <a:chExt cx="596880" cy="8539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7659360" y="3830040"/>
                  <a:ext cx="59688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55,3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659360" y="3830040"/>
                  <a:ext cx="596880" cy="85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4" name=""/>
            <p:cNvSpPr/>
            <p:nvPr/>
          </p:nvSpPr>
          <p:spPr>
            <a:xfrm>
              <a:off x="1523880" y="2971800"/>
              <a:ext cx="6738840" cy="1717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0" y="4255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75D4-8600-4021-AB3B-B81F4518E7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"/>
          <p:cNvGrpSpPr/>
          <p:nvPr/>
        </p:nvGrpSpPr>
        <p:grpSpPr>
          <a:xfrm>
            <a:off x="1447920" y="2154240"/>
            <a:ext cx="6552720" cy="2550960"/>
            <a:chOff x="1447920" y="2154240"/>
            <a:chExt cx="6552720" cy="2550960"/>
          </a:xfrm>
        </p:grpSpPr>
        <p:grpSp>
          <p:nvGrpSpPr>
            <p:cNvPr id="937" name=""/>
            <p:cNvGrpSpPr/>
            <p:nvPr/>
          </p:nvGrpSpPr>
          <p:grpSpPr>
            <a:xfrm>
              <a:off x="1453320" y="2158920"/>
              <a:ext cx="6540840" cy="2541600"/>
              <a:chOff x="1453320" y="2158920"/>
              <a:chExt cx="6540840" cy="254160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1453320" y="2158920"/>
                <a:ext cx="583560" cy="776160"/>
                <a:chOff x="1453320" y="2158920"/>
                <a:chExt cx="583560" cy="77616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1453320" y="2158920"/>
                  <a:ext cx="5835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rédito</a:t>
                  </a:r>
                  <a:br>
                    <a:rPr sz="700"/>
                  </a:br>
                  <a:r>
                    <a:rPr b="1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1453320" y="2158920"/>
                  <a:ext cx="58356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1" name=""/>
              <p:cNvGrpSpPr/>
              <p:nvPr/>
            </p:nvGrpSpPr>
            <p:grpSpPr>
              <a:xfrm>
                <a:off x="2037240" y="2158920"/>
                <a:ext cx="871200" cy="776160"/>
                <a:chOff x="2037240" y="2158920"/>
                <a:chExt cx="871200" cy="77616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2037240" y="2158920"/>
                  <a:ext cx="87120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Gasto</a:t>
                  </a:r>
                  <a:br>
                    <a:rPr sz="700"/>
                  </a:br>
                  <a:r>
                    <a:rPr b="1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Devengado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2037240" y="2158920"/>
                  <a:ext cx="87120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2909160" y="2158920"/>
                <a:ext cx="351000" cy="776160"/>
                <a:chOff x="2909160" y="2158920"/>
                <a:chExt cx="351000" cy="77616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2909160" y="2158920"/>
                  <a:ext cx="35100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700"/>
                  </a:br>
                  <a:r>
                    <a:rPr b="1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2909160" y="2158920"/>
                  <a:ext cx="35100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3260520" y="2158920"/>
                <a:ext cx="1704600" cy="776160"/>
                <a:chOff x="3260520" y="2158920"/>
                <a:chExt cx="1704600" cy="77616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3260520" y="2158920"/>
                  <a:ext cx="170460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Tipo de Producción:</a:t>
                  </a:r>
                  <a:br>
                    <a:rPr sz="700"/>
                  </a:br>
                  <a:r>
                    <a:rPr b="1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Servicios o Bienes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3260520" y="2158920"/>
                  <a:ext cx="170460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0" name=""/>
              <p:cNvGrpSpPr/>
              <p:nvPr/>
            </p:nvGrpSpPr>
            <p:grpSpPr>
              <a:xfrm>
                <a:off x="4965480" y="2158920"/>
                <a:ext cx="1328760" cy="776160"/>
                <a:chOff x="4965480" y="2158920"/>
                <a:chExt cx="1328760" cy="77616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4965480" y="2158920"/>
                  <a:ext cx="13287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Unidad de</a:t>
                  </a:r>
                  <a:br>
                    <a:rPr sz="700"/>
                  </a:br>
                  <a:r>
                    <a:rPr b="1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dida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965480" y="2158920"/>
                  <a:ext cx="132876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3" name=""/>
              <p:cNvGrpSpPr/>
              <p:nvPr/>
            </p:nvGrpSpPr>
            <p:grpSpPr>
              <a:xfrm>
                <a:off x="6294960" y="2158920"/>
                <a:ext cx="677520" cy="776160"/>
                <a:chOff x="6294960" y="2158920"/>
                <a:chExt cx="677520" cy="776160"/>
              </a:xfrm>
            </p:grpSpPr>
            <p:sp>
              <p:nvSpPr>
                <p:cNvPr id="954" name=""/>
                <p:cNvSpPr/>
                <p:nvPr/>
              </p:nvSpPr>
              <p:spPr>
                <a:xfrm>
                  <a:off x="6294960" y="2158920"/>
                  <a:ext cx="67752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700"/>
                  </a:br>
                  <a:r>
                    <a:rPr b="1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Final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6294960" y="2158920"/>
                  <a:ext cx="6775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6" name=""/>
              <p:cNvGrpSpPr/>
              <p:nvPr/>
            </p:nvGrpSpPr>
            <p:grpSpPr>
              <a:xfrm>
                <a:off x="6972840" y="2158920"/>
                <a:ext cx="510480" cy="776160"/>
                <a:chOff x="6972840" y="2158920"/>
                <a:chExt cx="510480" cy="77616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6972840" y="2158920"/>
                  <a:ext cx="51048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700"/>
                  </a:br>
                  <a:r>
                    <a:rPr b="1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ec.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6972840" y="2158920"/>
                  <a:ext cx="51048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7483680" y="2158920"/>
                <a:ext cx="510480" cy="776160"/>
                <a:chOff x="7483680" y="2158920"/>
                <a:chExt cx="510480" cy="77616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7483680" y="2158920"/>
                  <a:ext cx="51048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700"/>
                  </a:br>
                  <a:r>
                    <a:rPr b="1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483680" y="2158920"/>
                  <a:ext cx="51048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1453320" y="2935080"/>
                <a:ext cx="583560" cy="1765440"/>
                <a:chOff x="1453320" y="2935080"/>
                <a:chExt cx="583560" cy="1765440"/>
              </a:xfrm>
            </p:grpSpPr>
            <p:sp>
              <p:nvSpPr>
                <p:cNvPr id="963" name=""/>
                <p:cNvSpPr/>
                <p:nvPr/>
              </p:nvSpPr>
              <p:spPr>
                <a:xfrm>
                  <a:off x="1453320" y="2935080"/>
                  <a:ext cx="583560" cy="176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857.830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1453320" y="2935080"/>
                  <a:ext cx="583560" cy="176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5" name=""/>
              <p:cNvGrpSpPr/>
              <p:nvPr/>
            </p:nvGrpSpPr>
            <p:grpSpPr>
              <a:xfrm>
                <a:off x="2037240" y="2935080"/>
                <a:ext cx="871200" cy="1765440"/>
                <a:chOff x="2037240" y="2935080"/>
                <a:chExt cx="871200" cy="176544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2037240" y="2935080"/>
                  <a:ext cx="871200" cy="176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766.476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2037240" y="2935080"/>
                  <a:ext cx="871200" cy="176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8" name=""/>
              <p:cNvGrpSpPr/>
              <p:nvPr/>
            </p:nvGrpSpPr>
            <p:grpSpPr>
              <a:xfrm>
                <a:off x="2909160" y="2935080"/>
                <a:ext cx="351000" cy="1765440"/>
                <a:chOff x="2909160" y="2935080"/>
                <a:chExt cx="351000" cy="1765440"/>
              </a:xfrm>
            </p:grpSpPr>
            <p:sp>
              <p:nvSpPr>
                <p:cNvPr id="969" name=""/>
                <p:cNvSpPr/>
                <p:nvPr/>
              </p:nvSpPr>
              <p:spPr>
                <a:xfrm>
                  <a:off x="2909160" y="2935080"/>
                  <a:ext cx="351000" cy="176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89,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2909160" y="2935080"/>
                  <a:ext cx="351000" cy="176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1" name=""/>
              <p:cNvGrpSpPr/>
              <p:nvPr/>
            </p:nvGrpSpPr>
            <p:grpSpPr>
              <a:xfrm>
                <a:off x="3260520" y="2935080"/>
                <a:ext cx="1704600" cy="669960"/>
                <a:chOff x="3260520" y="2935080"/>
                <a:chExt cx="1704600" cy="669960"/>
              </a:xfrm>
            </p:grpSpPr>
            <p:sp>
              <p:nvSpPr>
                <p:cNvPr id="972" name=""/>
                <p:cNvSpPr/>
                <p:nvPr/>
              </p:nvSpPr>
              <p:spPr>
                <a:xfrm>
                  <a:off x="3260520" y="2935080"/>
                  <a:ext cx="170460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Atención al Público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3260520" y="2935080"/>
                  <a:ext cx="170460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4" name=""/>
              <p:cNvGrpSpPr/>
              <p:nvPr/>
            </p:nvGrpSpPr>
            <p:grpSpPr>
              <a:xfrm>
                <a:off x="4965480" y="2935080"/>
                <a:ext cx="1328760" cy="669960"/>
                <a:chOff x="4965480" y="2935080"/>
                <a:chExt cx="1328760" cy="669960"/>
              </a:xfrm>
            </p:grpSpPr>
            <p:sp>
              <p:nvSpPr>
                <p:cNvPr id="975" name=""/>
                <p:cNvSpPr/>
                <p:nvPr/>
              </p:nvSpPr>
              <p:spPr>
                <a:xfrm>
                  <a:off x="4965480" y="2935080"/>
                  <a:ext cx="132876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onsulta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4965480" y="2935080"/>
                  <a:ext cx="13287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6294960" y="2935080"/>
                <a:ext cx="677520" cy="669960"/>
                <a:chOff x="6294960" y="2935080"/>
                <a:chExt cx="677520" cy="66996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6294960" y="2935080"/>
                  <a:ext cx="6775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00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294960" y="2935080"/>
                  <a:ext cx="67752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6972840" y="2935080"/>
                <a:ext cx="510480" cy="669960"/>
                <a:chOff x="6972840" y="2935080"/>
                <a:chExt cx="510480" cy="66996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6972840" y="2935080"/>
                  <a:ext cx="5104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2.248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6972840" y="2935080"/>
                  <a:ext cx="51048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3" name=""/>
              <p:cNvGrpSpPr/>
              <p:nvPr/>
            </p:nvGrpSpPr>
            <p:grpSpPr>
              <a:xfrm>
                <a:off x="7483680" y="2935080"/>
                <a:ext cx="510480" cy="669960"/>
                <a:chOff x="7483680" y="2935080"/>
                <a:chExt cx="510480" cy="66996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7483680" y="2935080"/>
                  <a:ext cx="5104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360,9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483680" y="2935080"/>
                  <a:ext cx="51048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6" name=""/>
              <p:cNvGrpSpPr/>
              <p:nvPr/>
            </p:nvGrpSpPr>
            <p:grpSpPr>
              <a:xfrm>
                <a:off x="3260520" y="3605040"/>
                <a:ext cx="1704600" cy="1095480"/>
                <a:chOff x="3260520" y="3605040"/>
                <a:chExt cx="1704600" cy="109548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3260520" y="3605040"/>
                  <a:ext cx="1704600" cy="109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Asistencia Técnica Archivística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260520" y="3605040"/>
                  <a:ext cx="1704600" cy="109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9" name=""/>
              <p:cNvGrpSpPr/>
              <p:nvPr/>
            </p:nvGrpSpPr>
            <p:grpSpPr>
              <a:xfrm>
                <a:off x="4965480" y="3605040"/>
                <a:ext cx="1328760" cy="1095480"/>
                <a:chOff x="4965480" y="3605040"/>
                <a:chExt cx="1328760" cy="109548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4965480" y="3605040"/>
                  <a:ext cx="1328760" cy="109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Organismo Asesorado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965480" y="3605040"/>
                  <a:ext cx="1328760" cy="109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6294960" y="3605040"/>
                <a:ext cx="677520" cy="1095480"/>
                <a:chOff x="6294960" y="3605040"/>
                <a:chExt cx="677520" cy="1095480"/>
              </a:xfrm>
            </p:grpSpPr>
            <p:sp>
              <p:nvSpPr>
                <p:cNvPr id="993" name=""/>
                <p:cNvSpPr/>
                <p:nvPr/>
              </p:nvSpPr>
              <p:spPr>
                <a:xfrm>
                  <a:off x="6294960" y="3605040"/>
                  <a:ext cx="677520" cy="109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6294960" y="3605040"/>
                  <a:ext cx="677520" cy="109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5" name=""/>
              <p:cNvGrpSpPr/>
              <p:nvPr/>
            </p:nvGrpSpPr>
            <p:grpSpPr>
              <a:xfrm>
                <a:off x="6972840" y="3605040"/>
                <a:ext cx="510480" cy="1095480"/>
                <a:chOff x="6972840" y="3605040"/>
                <a:chExt cx="510480" cy="109548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972840" y="3605040"/>
                  <a:ext cx="510480" cy="109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47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972840" y="3605040"/>
                  <a:ext cx="510480" cy="109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8" name=""/>
              <p:cNvGrpSpPr/>
              <p:nvPr/>
            </p:nvGrpSpPr>
            <p:grpSpPr>
              <a:xfrm>
                <a:off x="7483680" y="3605040"/>
                <a:ext cx="510480" cy="1095480"/>
                <a:chOff x="7483680" y="3605040"/>
                <a:chExt cx="510480" cy="109548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7483680" y="3605040"/>
                  <a:ext cx="510480" cy="109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225,0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7483680" y="3605040"/>
                  <a:ext cx="510480" cy="109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1" name=""/>
            <p:cNvSpPr/>
            <p:nvPr/>
          </p:nvSpPr>
          <p:spPr>
            <a:xfrm>
              <a:off x="1447920" y="2154240"/>
              <a:ext cx="6552720" cy="2550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0" y="47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523880" y="762120"/>
            <a:ext cx="685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Arial"/>
              </a:rPr>
              <a:t>MINISTERIO DEL INTERIO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Arial"/>
              </a:rPr>
              <a:t>Programa</a:t>
            </a:r>
            <a:r>
              <a:rPr b="1" lang="en-US" sz="10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: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Arial"/>
              </a:rPr>
              <a:t> Conservación y Custodia de los Documentos de la N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F641-1BC7-44BF-BD9C-89B800E0139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0" y="47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523880" y="762120"/>
            <a:ext cx="6858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Arial"/>
              </a:rPr>
              <a:t>MINISTERIO DEL</a:t>
            </a:r>
            <a:r>
              <a:rPr b="1" lang="en-US" sz="10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Arial"/>
              </a:rPr>
              <a:t>INTERIO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Programa: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Arial"/>
              </a:rPr>
              <a:t> Conservación y Custodia de los Documentos de la Nación  (AÑO 2003)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1447920" y="2362320"/>
            <a:ext cx="7390800" cy="2361600"/>
            <a:chOff x="1447920" y="2362320"/>
            <a:chExt cx="7390800" cy="2361600"/>
          </a:xfrm>
        </p:grpSpPr>
        <p:grpSp>
          <p:nvGrpSpPr>
            <p:cNvPr id="1008" name=""/>
            <p:cNvGrpSpPr/>
            <p:nvPr/>
          </p:nvGrpSpPr>
          <p:grpSpPr>
            <a:xfrm>
              <a:off x="1453320" y="2368080"/>
              <a:ext cx="7378200" cy="2348640"/>
              <a:chOff x="1453320" y="2368080"/>
              <a:chExt cx="7378200" cy="2348640"/>
            </a:xfrm>
          </p:grpSpPr>
          <p:grpSp>
            <p:nvGrpSpPr>
              <p:cNvPr id="1009" name=""/>
              <p:cNvGrpSpPr/>
              <p:nvPr/>
            </p:nvGrpSpPr>
            <p:grpSpPr>
              <a:xfrm>
                <a:off x="1453320" y="2368080"/>
                <a:ext cx="921960" cy="822240"/>
                <a:chOff x="1453320" y="2368080"/>
                <a:chExt cx="921960" cy="82224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1453320" y="2368080"/>
                  <a:ext cx="9219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rédito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Final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1453320" y="2368080"/>
                  <a:ext cx="9219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2375640" y="2368080"/>
                <a:ext cx="1061640" cy="822240"/>
                <a:chOff x="2375640" y="2368080"/>
                <a:chExt cx="1061640" cy="82224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2375640" y="2368080"/>
                  <a:ext cx="10616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Gasto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Devengado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2375640" y="2368080"/>
                  <a:ext cx="10616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3438000" y="2368080"/>
                <a:ext cx="391680" cy="822240"/>
                <a:chOff x="3438000" y="2368080"/>
                <a:chExt cx="391680" cy="82224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3438000" y="2368080"/>
                  <a:ext cx="3916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Ej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3438000" y="2368080"/>
                  <a:ext cx="3916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3830400" y="2368080"/>
                <a:ext cx="2109960" cy="822240"/>
                <a:chOff x="3830400" y="2368080"/>
                <a:chExt cx="2109960" cy="82224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3830400" y="2368080"/>
                  <a:ext cx="21099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Tipo de Producción: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Servicios o Bienes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3830400" y="2368080"/>
                  <a:ext cx="21099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5941080" y="2368080"/>
                <a:ext cx="921600" cy="822240"/>
                <a:chOff x="5941080" y="2368080"/>
                <a:chExt cx="921600" cy="82224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5941080" y="2368080"/>
                  <a:ext cx="9216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Unidad de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Medida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5941080" y="2368080"/>
                  <a:ext cx="9216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6863040" y="2368080"/>
                <a:ext cx="655920" cy="822240"/>
                <a:chOff x="6863040" y="2368080"/>
                <a:chExt cx="655920" cy="82224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6863040" y="2368080"/>
                  <a:ext cx="655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Final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863040" y="2368080"/>
                  <a:ext cx="6559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7519680" y="2368080"/>
                <a:ext cx="655560" cy="822240"/>
                <a:chOff x="7519680" y="2368080"/>
                <a:chExt cx="655560" cy="82224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7519680" y="2368080"/>
                  <a:ext cx="65556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Ejec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519680" y="2368080"/>
                  <a:ext cx="6555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8175600" y="2368080"/>
                <a:ext cx="655920" cy="822240"/>
                <a:chOff x="8175600" y="2368080"/>
                <a:chExt cx="655920" cy="82224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8175600" y="2368080"/>
                  <a:ext cx="6559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 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8175600" y="2368080"/>
                  <a:ext cx="6559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3" name=""/>
              <p:cNvGrpSpPr/>
              <p:nvPr/>
            </p:nvGrpSpPr>
            <p:grpSpPr>
              <a:xfrm>
                <a:off x="1453320" y="3190680"/>
                <a:ext cx="921960" cy="1526040"/>
                <a:chOff x="1453320" y="3190680"/>
                <a:chExt cx="921960" cy="1526040"/>
              </a:xfrm>
            </p:grpSpPr>
            <p:sp>
              <p:nvSpPr>
                <p:cNvPr id="1034" name=""/>
                <p:cNvSpPr/>
                <p:nvPr/>
              </p:nvSpPr>
              <p:spPr>
                <a:xfrm>
                  <a:off x="1453320" y="3190680"/>
                  <a:ext cx="921960" cy="152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855.842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1453320" y="3190680"/>
                  <a:ext cx="921960" cy="152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6" name=""/>
              <p:cNvGrpSpPr/>
              <p:nvPr/>
            </p:nvGrpSpPr>
            <p:grpSpPr>
              <a:xfrm>
                <a:off x="2375640" y="3190680"/>
                <a:ext cx="1061640" cy="1526040"/>
                <a:chOff x="2375640" y="3190680"/>
                <a:chExt cx="1061640" cy="152604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2375640" y="3190680"/>
                  <a:ext cx="1061640" cy="152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656.181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2375640" y="3190680"/>
                  <a:ext cx="1061640" cy="152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9" name=""/>
              <p:cNvGrpSpPr/>
              <p:nvPr/>
            </p:nvGrpSpPr>
            <p:grpSpPr>
              <a:xfrm>
                <a:off x="3438000" y="3190680"/>
                <a:ext cx="391680" cy="1526040"/>
                <a:chOff x="3438000" y="3190680"/>
                <a:chExt cx="391680" cy="1526040"/>
              </a:xfrm>
            </p:grpSpPr>
            <p:sp>
              <p:nvSpPr>
                <p:cNvPr id="1040" name=""/>
                <p:cNvSpPr/>
                <p:nvPr/>
              </p:nvSpPr>
              <p:spPr>
                <a:xfrm>
                  <a:off x="3438000" y="3190680"/>
                  <a:ext cx="391680" cy="152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76,7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3438000" y="3190680"/>
                  <a:ext cx="391680" cy="152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2" name=""/>
              <p:cNvGrpSpPr/>
              <p:nvPr/>
            </p:nvGrpSpPr>
            <p:grpSpPr>
              <a:xfrm>
                <a:off x="3830400" y="3190680"/>
                <a:ext cx="2109960" cy="703800"/>
                <a:chOff x="3830400" y="3190680"/>
                <a:chExt cx="2109960" cy="70380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3830400" y="3190680"/>
                  <a:ext cx="21099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Atención al Público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3830400" y="3190680"/>
                  <a:ext cx="2109960" cy="70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5" name=""/>
              <p:cNvGrpSpPr/>
              <p:nvPr/>
            </p:nvGrpSpPr>
            <p:grpSpPr>
              <a:xfrm>
                <a:off x="5941080" y="3190680"/>
                <a:ext cx="921600" cy="703800"/>
                <a:chOff x="5941080" y="3190680"/>
                <a:chExt cx="921600" cy="703800"/>
              </a:xfrm>
            </p:grpSpPr>
            <p:sp>
              <p:nvSpPr>
                <p:cNvPr id="1046" name=""/>
                <p:cNvSpPr/>
                <p:nvPr/>
              </p:nvSpPr>
              <p:spPr>
                <a:xfrm>
                  <a:off x="5941080" y="3190680"/>
                  <a:ext cx="9216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onsulta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5941080" y="3190680"/>
                  <a:ext cx="921600" cy="70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8" name=""/>
              <p:cNvGrpSpPr/>
              <p:nvPr/>
            </p:nvGrpSpPr>
            <p:grpSpPr>
              <a:xfrm>
                <a:off x="6863040" y="3190680"/>
                <a:ext cx="655920" cy="703800"/>
                <a:chOff x="6863040" y="3190680"/>
                <a:chExt cx="655920" cy="70380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6863040" y="3190680"/>
                  <a:ext cx="655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3.00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863040" y="3190680"/>
                  <a:ext cx="655920" cy="70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7519680" y="3190680"/>
                <a:ext cx="655560" cy="703800"/>
                <a:chOff x="7519680" y="3190680"/>
                <a:chExt cx="655560" cy="70380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7519680" y="3190680"/>
                  <a:ext cx="6555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3.00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519680" y="3190680"/>
                  <a:ext cx="655560" cy="70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8175600" y="3190680"/>
                <a:ext cx="655920" cy="703800"/>
                <a:chOff x="8175600" y="3190680"/>
                <a:chExt cx="655920" cy="70380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8175600" y="3190680"/>
                  <a:ext cx="6559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00,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8175600" y="3190680"/>
                  <a:ext cx="655920" cy="70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3830400" y="3894840"/>
                <a:ext cx="2109960" cy="821520"/>
                <a:chOff x="3830400" y="3894840"/>
                <a:chExt cx="2109960" cy="82152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830400" y="3894840"/>
                  <a:ext cx="2109960" cy="82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Asistencia Técnica Archivística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3830400" y="3894840"/>
                  <a:ext cx="2109960" cy="82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0" name=""/>
              <p:cNvGrpSpPr/>
              <p:nvPr/>
            </p:nvGrpSpPr>
            <p:grpSpPr>
              <a:xfrm>
                <a:off x="5941080" y="3894840"/>
                <a:ext cx="921600" cy="821520"/>
                <a:chOff x="5941080" y="3894840"/>
                <a:chExt cx="921600" cy="82152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5941080" y="3894840"/>
                  <a:ext cx="921600" cy="82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Organismo Asesorado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5941080" y="3894840"/>
                  <a:ext cx="921600" cy="82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3" name=""/>
              <p:cNvGrpSpPr/>
              <p:nvPr/>
            </p:nvGrpSpPr>
            <p:grpSpPr>
              <a:xfrm>
                <a:off x="6863040" y="3894840"/>
                <a:ext cx="655920" cy="821520"/>
                <a:chOff x="6863040" y="3894840"/>
                <a:chExt cx="655920" cy="82152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6863040" y="3894840"/>
                  <a:ext cx="655920" cy="82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52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863040" y="3894840"/>
                  <a:ext cx="655920" cy="82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6" name=""/>
              <p:cNvGrpSpPr/>
              <p:nvPr/>
            </p:nvGrpSpPr>
            <p:grpSpPr>
              <a:xfrm>
                <a:off x="7519680" y="3894840"/>
                <a:ext cx="655560" cy="821520"/>
                <a:chOff x="7519680" y="3894840"/>
                <a:chExt cx="655560" cy="82152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7519680" y="3894840"/>
                  <a:ext cx="655560" cy="82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52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7519680" y="3894840"/>
                  <a:ext cx="655560" cy="82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9" name=""/>
              <p:cNvGrpSpPr/>
              <p:nvPr/>
            </p:nvGrpSpPr>
            <p:grpSpPr>
              <a:xfrm>
                <a:off x="8175600" y="3894840"/>
                <a:ext cx="655920" cy="821520"/>
                <a:chOff x="8175600" y="3894840"/>
                <a:chExt cx="655920" cy="82152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8175600" y="3894840"/>
                  <a:ext cx="655920" cy="82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00,0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8175600" y="3894840"/>
                  <a:ext cx="655920" cy="82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72" name=""/>
            <p:cNvSpPr/>
            <p:nvPr/>
          </p:nvSpPr>
          <p:spPr>
            <a:xfrm>
              <a:off x="1447920" y="2362320"/>
              <a:ext cx="7390800" cy="2361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D0D-A1E3-4724-94E5-5AF69E59D6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Times New Roman"/>
              </a:rPr>
              <a:t>Sistema de evaluació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4648320"/>
            <a:ext cx="4572000" cy="1143000"/>
          </a:xfrm>
          <a:prstGeom prst="cube">
            <a:avLst>
              <a:gd name="adj" fmla="val 50000"/>
            </a:avLst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stablecer criteri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4038480"/>
            <a:ext cx="4572000" cy="1143000"/>
          </a:xfrm>
          <a:prstGeom prst="cub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edir la produc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3429000"/>
            <a:ext cx="4572000" cy="1143000"/>
          </a:xfrm>
          <a:prstGeom prst="cube">
            <a:avLst>
              <a:gd name="adj" fmla="val 50000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Medir los objetiv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00200" y="2819520"/>
            <a:ext cx="4572000" cy="1143000"/>
          </a:xfrm>
          <a:prstGeom prst="cube">
            <a:avLst>
              <a:gd name="adj" fmla="val 50000"/>
            </a:avLst>
          </a:prstGeom>
          <a:gradFill rotWithShape="0">
            <a:gsLst>
              <a:gs pos="0">
                <a:srgbClr val="00ff00"/>
              </a:gs>
              <a:gs pos="100000">
                <a:srgbClr val="00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stablecer indices y rati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209680"/>
            <a:ext cx="4572000" cy="1143000"/>
          </a:xfrm>
          <a:prstGeom prst="cube">
            <a:avLst>
              <a:gd name="adj" fmla="val 50000"/>
            </a:avLst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mpar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1600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Times New Roman"/>
              </a:rPr>
              <a:t>Jurisidicciones y entidad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2209680"/>
            <a:ext cx="1905120" cy="533520"/>
          </a:xfrm>
          <a:prstGeom prst="parallelogram">
            <a:avLst>
              <a:gd name="adj" fmla="val 108911"/>
            </a:avLst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2209680"/>
            <a:ext cx="1905120" cy="533520"/>
          </a:xfrm>
          <a:prstGeom prst="parallelogram">
            <a:avLst>
              <a:gd name="adj" fmla="val 111291"/>
            </a:avLst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2209680"/>
            <a:ext cx="1981080" cy="533520"/>
          </a:xfrm>
          <a:prstGeom prst="parallelogram">
            <a:avLst>
              <a:gd name="adj" fmla="val 111276"/>
            </a:avLst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5715000"/>
            <a:ext cx="2819160" cy="1143000"/>
          </a:xfrm>
          <a:prstGeom prst="leftArrow">
            <a:avLst>
              <a:gd name="adj1" fmla="val 60000"/>
              <a:gd name="adj2" fmla="val 54993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ECONOMÍ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4800600"/>
            <a:ext cx="2590560" cy="990720"/>
          </a:xfrm>
          <a:prstGeom prst="leftArrow">
            <a:avLst>
              <a:gd name="adj1" fmla="val 69231"/>
              <a:gd name="adj2" fmla="val 65371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EFICAC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3733920"/>
            <a:ext cx="2438280" cy="990360"/>
          </a:xfrm>
          <a:prstGeom prst="leftArrow">
            <a:avLst>
              <a:gd name="adj1" fmla="val 69231"/>
              <a:gd name="adj2" fmla="val 65403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EFICIENC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54C-8B6D-4EEE-A381-8FF6866E00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0" y="251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1523880" y="2514600"/>
            <a:ext cx="7175160" cy="2209320"/>
            <a:chOff x="1523880" y="2514600"/>
            <a:chExt cx="7175160" cy="2209320"/>
          </a:xfrm>
        </p:grpSpPr>
        <p:grpSp>
          <p:nvGrpSpPr>
            <p:cNvPr id="1075" name=""/>
            <p:cNvGrpSpPr/>
            <p:nvPr/>
          </p:nvGrpSpPr>
          <p:grpSpPr>
            <a:xfrm>
              <a:off x="1529280" y="2520000"/>
              <a:ext cx="7163640" cy="2197440"/>
              <a:chOff x="1529280" y="2520000"/>
              <a:chExt cx="7163640" cy="2197440"/>
            </a:xfrm>
          </p:grpSpPr>
          <p:grpSp>
            <p:nvGrpSpPr>
              <p:cNvPr id="1076" name=""/>
              <p:cNvGrpSpPr/>
              <p:nvPr/>
            </p:nvGrpSpPr>
            <p:grpSpPr>
              <a:xfrm>
                <a:off x="1529280" y="2520000"/>
                <a:ext cx="790200" cy="769320"/>
                <a:chOff x="1529280" y="2520000"/>
                <a:chExt cx="790200" cy="76932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1529280" y="2520000"/>
                  <a:ext cx="79020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rédito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Final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1529280" y="2520000"/>
                  <a:ext cx="79020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2319840" y="2520000"/>
                <a:ext cx="983880" cy="769320"/>
                <a:chOff x="2319840" y="2520000"/>
                <a:chExt cx="983880" cy="76932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2319840" y="2520000"/>
                  <a:ext cx="98388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Gasto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Devengado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2319840" y="2520000"/>
                  <a:ext cx="9838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3304440" y="2520000"/>
                <a:ext cx="527040" cy="769320"/>
                <a:chOff x="3304440" y="2520000"/>
                <a:chExt cx="527040" cy="76932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3304440" y="2520000"/>
                  <a:ext cx="52704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304440" y="2520000"/>
                  <a:ext cx="52704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3832200" y="2520000"/>
                <a:ext cx="1864440" cy="769320"/>
                <a:chOff x="3832200" y="2520000"/>
                <a:chExt cx="1864440" cy="76932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3832200" y="2520000"/>
                  <a:ext cx="186444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Tipo de Producción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832200" y="2520000"/>
                  <a:ext cx="186444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5697000" y="2520000"/>
                <a:ext cx="957600" cy="769320"/>
                <a:chOff x="5697000" y="2520000"/>
                <a:chExt cx="957600" cy="76932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5697000" y="2520000"/>
                  <a:ext cx="95760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Unidad de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dida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697000" y="2520000"/>
                  <a:ext cx="95760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6655320" y="2520000"/>
                <a:ext cx="762480" cy="769320"/>
                <a:chOff x="6655320" y="2520000"/>
                <a:chExt cx="762480" cy="7693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6655320" y="2520000"/>
                  <a:ext cx="76248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6655320" y="2520000"/>
                  <a:ext cx="7624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7418160" y="2520000"/>
                <a:ext cx="720720" cy="769320"/>
                <a:chOff x="7418160" y="2520000"/>
                <a:chExt cx="720720" cy="76932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7418160" y="2520000"/>
                  <a:ext cx="7207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ec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418160" y="2520000"/>
                  <a:ext cx="72072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8139600" y="2520000"/>
                <a:ext cx="553320" cy="769320"/>
                <a:chOff x="8139600" y="2520000"/>
                <a:chExt cx="553320" cy="76932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8139600" y="2520000"/>
                  <a:ext cx="5533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8139600" y="2520000"/>
                  <a:ext cx="55332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1529280" y="3289680"/>
                <a:ext cx="7163640" cy="658080"/>
                <a:chOff x="1529280" y="3289680"/>
                <a:chExt cx="7163640" cy="65808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1529280" y="3289680"/>
                  <a:ext cx="7163640" cy="65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Parque Nacional Iguazú 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1529280" y="3289680"/>
                  <a:ext cx="7163640" cy="658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1529280" y="3948120"/>
                <a:ext cx="790200" cy="769320"/>
                <a:chOff x="1529280" y="3948120"/>
                <a:chExt cx="790200" cy="76932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1529280" y="3948120"/>
                  <a:ext cx="79020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.827.99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1529280" y="3948120"/>
                  <a:ext cx="79020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2319840" y="3948120"/>
                <a:ext cx="983880" cy="769320"/>
                <a:chOff x="2319840" y="3948120"/>
                <a:chExt cx="983880" cy="7693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2319840" y="3948120"/>
                  <a:ext cx="98388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.788.138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319840" y="3948120"/>
                  <a:ext cx="9838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3304440" y="3948120"/>
                <a:ext cx="527040" cy="769320"/>
                <a:chOff x="3304440" y="3948120"/>
                <a:chExt cx="527040" cy="7693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3304440" y="3948120"/>
                  <a:ext cx="52704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7,8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3304440" y="3948120"/>
                  <a:ext cx="52704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3832200" y="3948120"/>
                <a:ext cx="1864440" cy="769320"/>
                <a:chOff x="3832200" y="3948120"/>
                <a:chExt cx="1864440" cy="7693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3832200" y="3948120"/>
                  <a:ext cx="186444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onservación y Administración de Areas Protegida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3832200" y="3948120"/>
                  <a:ext cx="186444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697000" y="3948120"/>
                <a:ext cx="957600" cy="769320"/>
                <a:chOff x="5697000" y="3948120"/>
                <a:chExt cx="957600" cy="7693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5697000" y="3948120"/>
                  <a:ext cx="95760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Hectárea Protegida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697000" y="3948120"/>
                  <a:ext cx="95760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6655320" y="3948120"/>
                <a:ext cx="762480" cy="769320"/>
                <a:chOff x="6655320" y="3948120"/>
                <a:chExt cx="762480" cy="76932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6655320" y="3948120"/>
                  <a:ext cx="76248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67.62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6655320" y="3948120"/>
                  <a:ext cx="7624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7418160" y="3948120"/>
                <a:ext cx="720720" cy="769320"/>
                <a:chOff x="7418160" y="3948120"/>
                <a:chExt cx="720720" cy="76932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7418160" y="3948120"/>
                  <a:ext cx="7207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67.62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7418160" y="3948120"/>
                  <a:ext cx="72072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8139600" y="3948120"/>
                <a:ext cx="553320" cy="769320"/>
                <a:chOff x="8139600" y="3948120"/>
                <a:chExt cx="553320" cy="76932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8139600" y="3948120"/>
                  <a:ext cx="5533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00,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8139600" y="3948120"/>
                  <a:ext cx="55332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7" name=""/>
            <p:cNvSpPr/>
            <p:nvPr/>
          </p:nvSpPr>
          <p:spPr>
            <a:xfrm>
              <a:off x="1523880" y="2514600"/>
              <a:ext cx="7175160" cy="2209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28" name=""/>
          <p:cNvSpPr/>
          <p:nvPr/>
        </p:nvSpPr>
        <p:spPr>
          <a:xfrm>
            <a:off x="1600200" y="1143000"/>
            <a:ext cx="563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Programa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:  Conservación y Administración de Áreas Naturales Protegid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22DC-3538-4902-87DC-04A71A7DAD1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1523880" y="1752480"/>
            <a:ext cx="6857640" cy="4222800"/>
            <a:chOff x="1523880" y="1752480"/>
            <a:chExt cx="6857640" cy="4222800"/>
          </a:xfrm>
        </p:grpSpPr>
        <p:grpSp>
          <p:nvGrpSpPr>
            <p:cNvPr id="1131" name=""/>
            <p:cNvGrpSpPr/>
            <p:nvPr/>
          </p:nvGrpSpPr>
          <p:grpSpPr>
            <a:xfrm>
              <a:off x="1528920" y="1757160"/>
              <a:ext cx="6846480" cy="4213080"/>
              <a:chOff x="1528920" y="1757160"/>
              <a:chExt cx="6846480" cy="4213080"/>
            </a:xfrm>
          </p:grpSpPr>
          <p:grpSp>
            <p:nvGrpSpPr>
              <p:cNvPr id="1132" name=""/>
              <p:cNvGrpSpPr/>
              <p:nvPr/>
            </p:nvGrpSpPr>
            <p:grpSpPr>
              <a:xfrm>
                <a:off x="1528920" y="1757160"/>
                <a:ext cx="755280" cy="641520"/>
                <a:chOff x="1528920" y="1757160"/>
                <a:chExt cx="755280" cy="641520"/>
              </a:xfrm>
            </p:grpSpPr>
            <p:sp>
              <p:nvSpPr>
                <p:cNvPr id="1133" name=""/>
                <p:cNvSpPr/>
                <p:nvPr/>
              </p:nvSpPr>
              <p:spPr>
                <a:xfrm>
                  <a:off x="1528920" y="1757160"/>
                  <a:ext cx="75528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rédito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Final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1528920" y="1757160"/>
                  <a:ext cx="75528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5" name=""/>
              <p:cNvGrpSpPr/>
              <p:nvPr/>
            </p:nvGrpSpPr>
            <p:grpSpPr>
              <a:xfrm>
                <a:off x="2284560" y="1757160"/>
                <a:ext cx="940320" cy="641520"/>
                <a:chOff x="2284560" y="1757160"/>
                <a:chExt cx="940320" cy="64152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2284560" y="1757160"/>
                  <a:ext cx="9403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Gasto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 Devengado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2284560" y="1757160"/>
                  <a:ext cx="94032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8" name=""/>
              <p:cNvGrpSpPr/>
              <p:nvPr/>
            </p:nvGrpSpPr>
            <p:grpSpPr>
              <a:xfrm>
                <a:off x="3225240" y="1757160"/>
                <a:ext cx="504000" cy="641520"/>
                <a:chOff x="3225240" y="1757160"/>
                <a:chExt cx="504000" cy="641520"/>
              </a:xfrm>
            </p:grpSpPr>
            <p:sp>
              <p:nvSpPr>
                <p:cNvPr id="1139" name=""/>
                <p:cNvSpPr/>
                <p:nvPr/>
              </p:nvSpPr>
              <p:spPr>
                <a:xfrm>
                  <a:off x="3225240" y="1757160"/>
                  <a:ext cx="5040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3225240" y="1757160"/>
                  <a:ext cx="50400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1" name=""/>
              <p:cNvGrpSpPr/>
              <p:nvPr/>
            </p:nvGrpSpPr>
            <p:grpSpPr>
              <a:xfrm>
                <a:off x="3729600" y="1757160"/>
                <a:ext cx="1781640" cy="641520"/>
                <a:chOff x="3729600" y="1757160"/>
                <a:chExt cx="1781640" cy="64152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3729600" y="1757160"/>
                  <a:ext cx="17816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Tipo de Producción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3729600" y="1757160"/>
                  <a:ext cx="178164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4" name=""/>
              <p:cNvGrpSpPr/>
              <p:nvPr/>
            </p:nvGrpSpPr>
            <p:grpSpPr>
              <a:xfrm>
                <a:off x="5511960" y="1757160"/>
                <a:ext cx="915120" cy="641520"/>
                <a:chOff x="5511960" y="1757160"/>
                <a:chExt cx="915120" cy="641520"/>
              </a:xfrm>
            </p:grpSpPr>
            <p:sp>
              <p:nvSpPr>
                <p:cNvPr id="1145" name=""/>
                <p:cNvSpPr/>
                <p:nvPr/>
              </p:nvSpPr>
              <p:spPr>
                <a:xfrm>
                  <a:off x="5511960" y="1757160"/>
                  <a:ext cx="9151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Unidad de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dida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5511960" y="1757160"/>
                  <a:ext cx="91512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7" name=""/>
              <p:cNvGrpSpPr/>
              <p:nvPr/>
            </p:nvGrpSpPr>
            <p:grpSpPr>
              <a:xfrm>
                <a:off x="6427800" y="1757160"/>
                <a:ext cx="728640" cy="641520"/>
                <a:chOff x="6427800" y="1757160"/>
                <a:chExt cx="728640" cy="64152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6427800" y="1757160"/>
                  <a:ext cx="7286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6427800" y="1757160"/>
                  <a:ext cx="72864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0" name=""/>
              <p:cNvGrpSpPr/>
              <p:nvPr/>
            </p:nvGrpSpPr>
            <p:grpSpPr>
              <a:xfrm>
                <a:off x="7156800" y="1757160"/>
                <a:ext cx="689040" cy="641520"/>
                <a:chOff x="7156800" y="1757160"/>
                <a:chExt cx="689040" cy="64152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7156800" y="1757160"/>
                  <a:ext cx="6890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ec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7156800" y="1757160"/>
                  <a:ext cx="68904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3" name=""/>
              <p:cNvGrpSpPr/>
              <p:nvPr/>
            </p:nvGrpSpPr>
            <p:grpSpPr>
              <a:xfrm>
                <a:off x="7846560" y="1757160"/>
                <a:ext cx="528840" cy="641520"/>
                <a:chOff x="7846560" y="1757160"/>
                <a:chExt cx="528840" cy="641520"/>
              </a:xfrm>
            </p:grpSpPr>
            <p:sp>
              <p:nvSpPr>
                <p:cNvPr id="1154" name=""/>
                <p:cNvSpPr/>
                <p:nvPr/>
              </p:nvSpPr>
              <p:spPr>
                <a:xfrm>
                  <a:off x="7846560" y="1757160"/>
                  <a:ext cx="5288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7846560" y="1757160"/>
                  <a:ext cx="52884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6" name=""/>
              <p:cNvGrpSpPr/>
              <p:nvPr/>
            </p:nvGrpSpPr>
            <p:grpSpPr>
              <a:xfrm>
                <a:off x="1528920" y="2398680"/>
                <a:ext cx="6846480" cy="549000"/>
                <a:chOff x="1528920" y="2398680"/>
                <a:chExt cx="6846480" cy="54900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528920" y="2398680"/>
                  <a:ext cx="68464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Parque Nacional Iguazú 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1528920" y="2398680"/>
                  <a:ext cx="68464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1528920" y="2947680"/>
                <a:ext cx="755280" cy="641520"/>
                <a:chOff x="1528920" y="2947680"/>
                <a:chExt cx="755280" cy="64152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1528920" y="2947680"/>
                  <a:ext cx="75528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.827.99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1528920" y="2947680"/>
                  <a:ext cx="75528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2" name=""/>
              <p:cNvGrpSpPr/>
              <p:nvPr/>
            </p:nvGrpSpPr>
            <p:grpSpPr>
              <a:xfrm>
                <a:off x="2284560" y="2947680"/>
                <a:ext cx="940320" cy="641520"/>
                <a:chOff x="2284560" y="2947680"/>
                <a:chExt cx="940320" cy="64152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2284560" y="2947680"/>
                  <a:ext cx="9403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.788.138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84560" y="2947680"/>
                  <a:ext cx="94032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5" name=""/>
              <p:cNvGrpSpPr/>
              <p:nvPr/>
            </p:nvGrpSpPr>
            <p:grpSpPr>
              <a:xfrm>
                <a:off x="3225240" y="2947680"/>
                <a:ext cx="504000" cy="641520"/>
                <a:chOff x="3225240" y="2947680"/>
                <a:chExt cx="504000" cy="641520"/>
              </a:xfrm>
            </p:grpSpPr>
            <p:sp>
              <p:nvSpPr>
                <p:cNvPr id="1166" name=""/>
                <p:cNvSpPr/>
                <p:nvPr/>
              </p:nvSpPr>
              <p:spPr>
                <a:xfrm>
                  <a:off x="3225240" y="2947680"/>
                  <a:ext cx="5040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7,8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3225240" y="2947680"/>
                  <a:ext cx="50400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8" name=""/>
              <p:cNvGrpSpPr/>
              <p:nvPr/>
            </p:nvGrpSpPr>
            <p:grpSpPr>
              <a:xfrm>
                <a:off x="3729600" y="2947680"/>
                <a:ext cx="1781640" cy="641520"/>
                <a:chOff x="3729600" y="2947680"/>
                <a:chExt cx="1781640" cy="64152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3729600" y="2947680"/>
                  <a:ext cx="17816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onservación y Administración de Areas Protegida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3729600" y="2947680"/>
                  <a:ext cx="178164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1" name=""/>
              <p:cNvGrpSpPr/>
              <p:nvPr/>
            </p:nvGrpSpPr>
            <p:grpSpPr>
              <a:xfrm>
                <a:off x="5511960" y="2947680"/>
                <a:ext cx="915120" cy="641520"/>
                <a:chOff x="5511960" y="2947680"/>
                <a:chExt cx="915120" cy="64152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5511960" y="2947680"/>
                  <a:ext cx="9151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Hectárea Protegida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5511960" y="2947680"/>
                  <a:ext cx="91512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4" name=""/>
              <p:cNvGrpSpPr/>
              <p:nvPr/>
            </p:nvGrpSpPr>
            <p:grpSpPr>
              <a:xfrm>
                <a:off x="6427800" y="2947680"/>
                <a:ext cx="728640" cy="641520"/>
                <a:chOff x="6427800" y="2947680"/>
                <a:chExt cx="728640" cy="641520"/>
              </a:xfrm>
            </p:grpSpPr>
            <p:sp>
              <p:nvSpPr>
                <p:cNvPr id="1175" name=""/>
                <p:cNvSpPr/>
                <p:nvPr/>
              </p:nvSpPr>
              <p:spPr>
                <a:xfrm>
                  <a:off x="6427800" y="2947680"/>
                  <a:ext cx="7286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67.62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6427800" y="2947680"/>
                  <a:ext cx="72864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7" name=""/>
              <p:cNvGrpSpPr/>
              <p:nvPr/>
            </p:nvGrpSpPr>
            <p:grpSpPr>
              <a:xfrm>
                <a:off x="7156800" y="2947680"/>
                <a:ext cx="689040" cy="641520"/>
                <a:chOff x="7156800" y="2947680"/>
                <a:chExt cx="689040" cy="641520"/>
              </a:xfrm>
            </p:grpSpPr>
            <p:sp>
              <p:nvSpPr>
                <p:cNvPr id="1178" name=""/>
                <p:cNvSpPr/>
                <p:nvPr/>
              </p:nvSpPr>
              <p:spPr>
                <a:xfrm>
                  <a:off x="7156800" y="2947680"/>
                  <a:ext cx="6890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67.62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7156800" y="2947680"/>
                  <a:ext cx="68904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0" name=""/>
              <p:cNvGrpSpPr/>
              <p:nvPr/>
            </p:nvGrpSpPr>
            <p:grpSpPr>
              <a:xfrm>
                <a:off x="7846560" y="2947680"/>
                <a:ext cx="528840" cy="641520"/>
                <a:chOff x="7846560" y="2947680"/>
                <a:chExt cx="528840" cy="641520"/>
              </a:xfrm>
            </p:grpSpPr>
            <p:sp>
              <p:nvSpPr>
                <p:cNvPr id="1181" name=""/>
                <p:cNvSpPr/>
                <p:nvPr/>
              </p:nvSpPr>
              <p:spPr>
                <a:xfrm>
                  <a:off x="7846560" y="2947680"/>
                  <a:ext cx="5288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00,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7846560" y="2947680"/>
                  <a:ext cx="52884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3" name=""/>
              <p:cNvGrpSpPr/>
              <p:nvPr/>
            </p:nvGrpSpPr>
            <p:grpSpPr>
              <a:xfrm>
                <a:off x="1528920" y="3589200"/>
                <a:ext cx="6846480" cy="549360"/>
                <a:chOff x="1528920" y="3589200"/>
                <a:chExt cx="6846480" cy="54936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1528920" y="3589200"/>
                  <a:ext cx="68464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Parque Nacional Lanín 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1528920" y="3589200"/>
                  <a:ext cx="68464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6" name=""/>
              <p:cNvGrpSpPr/>
              <p:nvPr/>
            </p:nvGrpSpPr>
            <p:grpSpPr>
              <a:xfrm>
                <a:off x="1528920" y="4138560"/>
                <a:ext cx="755280" cy="641160"/>
                <a:chOff x="1528920" y="4138560"/>
                <a:chExt cx="755280" cy="641160"/>
              </a:xfrm>
            </p:grpSpPr>
            <p:sp>
              <p:nvSpPr>
                <p:cNvPr id="1187" name=""/>
                <p:cNvSpPr/>
                <p:nvPr/>
              </p:nvSpPr>
              <p:spPr>
                <a:xfrm>
                  <a:off x="1528920" y="4138560"/>
                  <a:ext cx="75528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3.698.59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1528920" y="4138560"/>
                  <a:ext cx="75528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9" name=""/>
              <p:cNvGrpSpPr/>
              <p:nvPr/>
            </p:nvGrpSpPr>
            <p:grpSpPr>
              <a:xfrm>
                <a:off x="2284560" y="4138560"/>
                <a:ext cx="940320" cy="641160"/>
                <a:chOff x="2284560" y="4138560"/>
                <a:chExt cx="940320" cy="641160"/>
              </a:xfrm>
            </p:grpSpPr>
            <p:sp>
              <p:nvSpPr>
                <p:cNvPr id="1190" name=""/>
                <p:cNvSpPr/>
                <p:nvPr/>
              </p:nvSpPr>
              <p:spPr>
                <a:xfrm>
                  <a:off x="2284560" y="4138560"/>
                  <a:ext cx="9403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3.313.649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2284560" y="4138560"/>
                  <a:ext cx="94032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2" name=""/>
              <p:cNvGrpSpPr/>
              <p:nvPr/>
            </p:nvGrpSpPr>
            <p:grpSpPr>
              <a:xfrm>
                <a:off x="3225240" y="4138560"/>
                <a:ext cx="504000" cy="641160"/>
                <a:chOff x="3225240" y="4138560"/>
                <a:chExt cx="504000" cy="641160"/>
              </a:xfrm>
            </p:grpSpPr>
            <p:sp>
              <p:nvSpPr>
                <p:cNvPr id="1193" name=""/>
                <p:cNvSpPr/>
                <p:nvPr/>
              </p:nvSpPr>
              <p:spPr>
                <a:xfrm>
                  <a:off x="3225240" y="4138560"/>
                  <a:ext cx="50400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89,6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3225240" y="4138560"/>
                  <a:ext cx="50400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5" name=""/>
              <p:cNvGrpSpPr/>
              <p:nvPr/>
            </p:nvGrpSpPr>
            <p:grpSpPr>
              <a:xfrm>
                <a:off x="3729600" y="4138560"/>
                <a:ext cx="1781640" cy="641160"/>
                <a:chOff x="3729600" y="4138560"/>
                <a:chExt cx="1781640" cy="641160"/>
              </a:xfrm>
            </p:grpSpPr>
            <p:sp>
              <p:nvSpPr>
                <p:cNvPr id="1196" name=""/>
                <p:cNvSpPr/>
                <p:nvPr/>
              </p:nvSpPr>
              <p:spPr>
                <a:xfrm>
                  <a:off x="3729600" y="4138560"/>
                  <a:ext cx="17816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onservación y Administración de Areas Protegida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3729600" y="4138560"/>
                  <a:ext cx="178164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8" name=""/>
              <p:cNvGrpSpPr/>
              <p:nvPr/>
            </p:nvGrpSpPr>
            <p:grpSpPr>
              <a:xfrm>
                <a:off x="5511960" y="4138560"/>
                <a:ext cx="915120" cy="641160"/>
                <a:chOff x="5511960" y="4138560"/>
                <a:chExt cx="915120" cy="64116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5511960" y="4138560"/>
                  <a:ext cx="9151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Hectárea Protegida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5511960" y="4138560"/>
                  <a:ext cx="91512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6427800" y="4138560"/>
                <a:ext cx="728640" cy="641160"/>
                <a:chOff x="6427800" y="4138560"/>
                <a:chExt cx="728640" cy="64116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6427800" y="4138560"/>
                  <a:ext cx="7286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12.0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427800" y="4138560"/>
                  <a:ext cx="72864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4" name=""/>
              <p:cNvGrpSpPr/>
              <p:nvPr/>
            </p:nvGrpSpPr>
            <p:grpSpPr>
              <a:xfrm>
                <a:off x="7156800" y="4138560"/>
                <a:ext cx="689040" cy="641160"/>
                <a:chOff x="7156800" y="4138560"/>
                <a:chExt cx="689040" cy="64116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7156800" y="4138560"/>
                  <a:ext cx="6890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12.0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7156800" y="4138560"/>
                  <a:ext cx="68904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7" name=""/>
              <p:cNvGrpSpPr/>
              <p:nvPr/>
            </p:nvGrpSpPr>
            <p:grpSpPr>
              <a:xfrm>
                <a:off x="7846560" y="4138560"/>
                <a:ext cx="528840" cy="641160"/>
                <a:chOff x="7846560" y="4138560"/>
                <a:chExt cx="528840" cy="641160"/>
              </a:xfrm>
            </p:grpSpPr>
            <p:sp>
              <p:nvSpPr>
                <p:cNvPr id="1208" name=""/>
                <p:cNvSpPr/>
                <p:nvPr/>
              </p:nvSpPr>
              <p:spPr>
                <a:xfrm>
                  <a:off x="7846560" y="4138560"/>
                  <a:ext cx="5288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00,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7846560" y="4138560"/>
                  <a:ext cx="52884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1528920" y="4779720"/>
                <a:ext cx="6846480" cy="549360"/>
                <a:chOff x="1528920" y="4779720"/>
                <a:chExt cx="6846480" cy="549360"/>
              </a:xfrm>
            </p:grpSpPr>
            <p:sp>
              <p:nvSpPr>
                <p:cNvPr id="1211" name=""/>
                <p:cNvSpPr/>
                <p:nvPr/>
              </p:nvSpPr>
              <p:spPr>
                <a:xfrm>
                  <a:off x="1528920" y="4779720"/>
                  <a:ext cx="68464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Parque Nacional Nahuel Huapi 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1528920" y="4779720"/>
                  <a:ext cx="68464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3" name=""/>
              <p:cNvGrpSpPr/>
              <p:nvPr/>
            </p:nvGrpSpPr>
            <p:grpSpPr>
              <a:xfrm>
                <a:off x="1528920" y="5329080"/>
                <a:ext cx="755280" cy="641160"/>
                <a:chOff x="1528920" y="5329080"/>
                <a:chExt cx="755280" cy="64116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1528920" y="5329080"/>
                  <a:ext cx="75528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.008.64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1528920" y="5329080"/>
                  <a:ext cx="75528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" name=""/>
              <p:cNvGrpSpPr/>
              <p:nvPr/>
            </p:nvGrpSpPr>
            <p:grpSpPr>
              <a:xfrm>
                <a:off x="2284560" y="5329080"/>
                <a:ext cx="940320" cy="641160"/>
                <a:chOff x="2284560" y="5329080"/>
                <a:chExt cx="940320" cy="64116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2284560" y="5329080"/>
                  <a:ext cx="9403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4.002.886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284560" y="5329080"/>
                  <a:ext cx="94032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"/>
              <p:cNvGrpSpPr/>
              <p:nvPr/>
            </p:nvGrpSpPr>
            <p:grpSpPr>
              <a:xfrm>
                <a:off x="3225240" y="5329080"/>
                <a:ext cx="504000" cy="641160"/>
                <a:chOff x="3225240" y="5329080"/>
                <a:chExt cx="504000" cy="641160"/>
              </a:xfrm>
            </p:grpSpPr>
            <p:sp>
              <p:nvSpPr>
                <p:cNvPr id="1220" name=""/>
                <p:cNvSpPr/>
                <p:nvPr/>
              </p:nvSpPr>
              <p:spPr>
                <a:xfrm>
                  <a:off x="3225240" y="5329080"/>
                  <a:ext cx="50400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9,9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3225240" y="5329080"/>
                  <a:ext cx="50400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2" name=""/>
              <p:cNvGrpSpPr/>
              <p:nvPr/>
            </p:nvGrpSpPr>
            <p:grpSpPr>
              <a:xfrm>
                <a:off x="3729600" y="5329080"/>
                <a:ext cx="1781640" cy="641160"/>
                <a:chOff x="3729600" y="5329080"/>
                <a:chExt cx="1781640" cy="64116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3729600" y="5329080"/>
                  <a:ext cx="17816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onservación y Administración de Areas Protegida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729600" y="5329080"/>
                  <a:ext cx="178164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5" name=""/>
              <p:cNvGrpSpPr/>
              <p:nvPr/>
            </p:nvGrpSpPr>
            <p:grpSpPr>
              <a:xfrm>
                <a:off x="5511960" y="5329080"/>
                <a:ext cx="915120" cy="641160"/>
                <a:chOff x="5511960" y="5329080"/>
                <a:chExt cx="915120" cy="641160"/>
              </a:xfrm>
            </p:grpSpPr>
            <p:sp>
              <p:nvSpPr>
                <p:cNvPr id="1226" name=""/>
                <p:cNvSpPr/>
                <p:nvPr/>
              </p:nvSpPr>
              <p:spPr>
                <a:xfrm>
                  <a:off x="5511960" y="5329080"/>
                  <a:ext cx="9151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Hectárea Protegida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5511960" y="5329080"/>
                  <a:ext cx="91512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8" name=""/>
              <p:cNvGrpSpPr/>
              <p:nvPr/>
            </p:nvGrpSpPr>
            <p:grpSpPr>
              <a:xfrm>
                <a:off x="6427800" y="5329080"/>
                <a:ext cx="728640" cy="641160"/>
                <a:chOff x="6427800" y="5329080"/>
                <a:chExt cx="728640" cy="64116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6427800" y="5329080"/>
                  <a:ext cx="7286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711.73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6427800" y="5329080"/>
                  <a:ext cx="72864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7156800" y="5329080"/>
                <a:ext cx="689040" cy="641160"/>
                <a:chOff x="7156800" y="5329080"/>
                <a:chExt cx="689040" cy="64116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7156800" y="5329080"/>
                  <a:ext cx="6890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711.73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7156800" y="5329080"/>
                  <a:ext cx="68904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4" name=""/>
              <p:cNvGrpSpPr/>
              <p:nvPr/>
            </p:nvGrpSpPr>
            <p:grpSpPr>
              <a:xfrm>
                <a:off x="7846560" y="5329080"/>
                <a:ext cx="528840" cy="641160"/>
                <a:chOff x="7846560" y="5329080"/>
                <a:chExt cx="528840" cy="641160"/>
              </a:xfrm>
            </p:grpSpPr>
            <p:sp>
              <p:nvSpPr>
                <p:cNvPr id="1235" name=""/>
                <p:cNvSpPr/>
                <p:nvPr/>
              </p:nvSpPr>
              <p:spPr>
                <a:xfrm>
                  <a:off x="7846560" y="5329080"/>
                  <a:ext cx="5288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00,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7846560" y="5329080"/>
                  <a:ext cx="52884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37" name=""/>
            <p:cNvSpPr/>
            <p:nvPr/>
          </p:nvSpPr>
          <p:spPr>
            <a:xfrm>
              <a:off x="1523880" y="1752480"/>
              <a:ext cx="6857640" cy="4222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1600200" y="1066680"/>
            <a:ext cx="701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Programa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Arial"/>
              </a:rPr>
              <a:t>:  Conservación y Administración de Áreas Naturales Protegid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705-33FD-4DBF-9F0E-1C18FF456CA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/>
          <p:nvPr/>
        </p:nvSpPr>
        <p:spPr>
          <a:xfrm>
            <a:off x="1371600" y="685800"/>
            <a:ext cx="670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Programa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: Asistencia Sanitaria – ESTADO MAYOR GENERAL DEL EJÉRCIT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  <a:ea typeface="Arial"/>
              </a:rPr>
              <a:t>- en pesos y magnitudes físicas-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24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240" y="32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240" y="32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24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240" y="32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1600200" y="2286000"/>
            <a:ext cx="6840000" cy="2940120"/>
            <a:chOff x="1600200" y="2286000"/>
            <a:chExt cx="6840000" cy="2940120"/>
          </a:xfrm>
        </p:grpSpPr>
        <p:grpSp>
          <p:nvGrpSpPr>
            <p:cNvPr id="1246" name=""/>
            <p:cNvGrpSpPr/>
            <p:nvPr/>
          </p:nvGrpSpPr>
          <p:grpSpPr>
            <a:xfrm>
              <a:off x="1605240" y="2290680"/>
              <a:ext cx="6828480" cy="2930760"/>
              <a:chOff x="1605240" y="2290680"/>
              <a:chExt cx="6828480" cy="2930760"/>
            </a:xfrm>
          </p:grpSpPr>
          <p:grpSp>
            <p:nvGrpSpPr>
              <p:cNvPr id="1247" name=""/>
              <p:cNvGrpSpPr/>
              <p:nvPr/>
            </p:nvGrpSpPr>
            <p:grpSpPr>
              <a:xfrm>
                <a:off x="1605240" y="2290680"/>
                <a:ext cx="874800" cy="641520"/>
                <a:chOff x="1605240" y="2290680"/>
                <a:chExt cx="874800" cy="6415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1605240" y="2290680"/>
                  <a:ext cx="8748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rédito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605240" y="2290680"/>
                  <a:ext cx="87480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2480400" y="2290680"/>
                <a:ext cx="976680" cy="641520"/>
                <a:chOff x="2480400" y="2290680"/>
                <a:chExt cx="976680" cy="64152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2480400" y="2290680"/>
                  <a:ext cx="97668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Gasto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Devengado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2480400" y="2290680"/>
                  <a:ext cx="97668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3457440" y="2290680"/>
                <a:ext cx="360360" cy="641520"/>
                <a:chOff x="3457440" y="2290680"/>
                <a:chExt cx="360360" cy="64152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3457440" y="2290680"/>
                  <a:ext cx="3603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457440" y="2290680"/>
                  <a:ext cx="36036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3818520" y="2290680"/>
                <a:ext cx="1696320" cy="641520"/>
                <a:chOff x="3818520" y="2290680"/>
                <a:chExt cx="1696320" cy="6415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3818520" y="2290680"/>
                  <a:ext cx="16963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Tipo de Producción: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Servicios o Biene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3818520" y="2290680"/>
                  <a:ext cx="169632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9" name=""/>
              <p:cNvGrpSpPr/>
              <p:nvPr/>
            </p:nvGrpSpPr>
            <p:grpSpPr>
              <a:xfrm>
                <a:off x="5515560" y="2290680"/>
                <a:ext cx="1221120" cy="641520"/>
                <a:chOff x="5515560" y="2290680"/>
                <a:chExt cx="1221120" cy="641520"/>
              </a:xfrm>
            </p:grpSpPr>
            <p:sp>
              <p:nvSpPr>
                <p:cNvPr id="1260" name=""/>
                <p:cNvSpPr/>
                <p:nvPr/>
              </p:nvSpPr>
              <p:spPr>
                <a:xfrm>
                  <a:off x="5515560" y="2290680"/>
                  <a:ext cx="12211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Unidad de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dida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5515560" y="2290680"/>
                  <a:ext cx="122112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7400" y="2290680"/>
                <a:ext cx="603360" cy="641520"/>
                <a:chOff x="6737400" y="2290680"/>
                <a:chExt cx="603360" cy="64152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7400" y="2290680"/>
                  <a:ext cx="6033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37400" y="2290680"/>
                  <a:ext cx="60336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7341120" y="2290680"/>
                <a:ext cx="603000" cy="641520"/>
                <a:chOff x="7341120" y="2290680"/>
                <a:chExt cx="603000" cy="64152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7341120" y="2290680"/>
                  <a:ext cx="6030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ec.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7341120" y="2290680"/>
                  <a:ext cx="60300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8" name=""/>
              <p:cNvGrpSpPr/>
              <p:nvPr/>
            </p:nvGrpSpPr>
            <p:grpSpPr>
              <a:xfrm>
                <a:off x="7944840" y="2290680"/>
                <a:ext cx="488880" cy="641520"/>
                <a:chOff x="7944840" y="2290680"/>
                <a:chExt cx="488880" cy="64152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7944840" y="2290680"/>
                  <a:ext cx="48888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7944840" y="2290680"/>
                  <a:ext cx="48888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1" name=""/>
              <p:cNvGrpSpPr/>
              <p:nvPr/>
            </p:nvGrpSpPr>
            <p:grpSpPr>
              <a:xfrm>
                <a:off x="1605240" y="2932200"/>
                <a:ext cx="874800" cy="2289240"/>
                <a:chOff x="1605240" y="2932200"/>
                <a:chExt cx="874800" cy="228924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1605240" y="2932200"/>
                  <a:ext cx="874800" cy="22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84.326.95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1605240" y="2932200"/>
                  <a:ext cx="874800" cy="22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4" name=""/>
              <p:cNvGrpSpPr/>
              <p:nvPr/>
            </p:nvGrpSpPr>
            <p:grpSpPr>
              <a:xfrm>
                <a:off x="2480400" y="2932200"/>
                <a:ext cx="976680" cy="2289240"/>
                <a:chOff x="2480400" y="2932200"/>
                <a:chExt cx="976680" cy="228924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2480400" y="2932200"/>
                  <a:ext cx="976680" cy="22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84.054.101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480400" y="2932200"/>
                  <a:ext cx="976680" cy="22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3457440" y="2932200"/>
                <a:ext cx="360360" cy="2289240"/>
                <a:chOff x="3457440" y="2932200"/>
                <a:chExt cx="360360" cy="2289240"/>
              </a:xfrm>
            </p:grpSpPr>
            <p:sp>
              <p:nvSpPr>
                <p:cNvPr id="1278" name=""/>
                <p:cNvSpPr/>
                <p:nvPr/>
              </p:nvSpPr>
              <p:spPr>
                <a:xfrm>
                  <a:off x="3457440" y="2932200"/>
                  <a:ext cx="360360" cy="2289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9,7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3457440" y="2932200"/>
                  <a:ext cx="360360" cy="2289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0" name=""/>
              <p:cNvGrpSpPr/>
              <p:nvPr/>
            </p:nvGrpSpPr>
            <p:grpSpPr>
              <a:xfrm>
                <a:off x="3818520" y="2932200"/>
                <a:ext cx="1696320" cy="549360"/>
                <a:chOff x="3818520" y="2932200"/>
                <a:chExt cx="1696320" cy="54936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3818520" y="2932200"/>
                  <a:ext cx="16963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Atención de Pacientes Internado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3818520" y="2932200"/>
                  <a:ext cx="16963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3" name=""/>
              <p:cNvGrpSpPr/>
              <p:nvPr/>
            </p:nvGrpSpPr>
            <p:grpSpPr>
              <a:xfrm>
                <a:off x="5515560" y="2932200"/>
                <a:ext cx="1221120" cy="549360"/>
                <a:chOff x="5515560" y="2932200"/>
                <a:chExt cx="1221120" cy="549360"/>
              </a:xfrm>
            </p:grpSpPr>
            <p:sp>
              <p:nvSpPr>
                <p:cNvPr id="1284" name=""/>
                <p:cNvSpPr/>
                <p:nvPr/>
              </p:nvSpPr>
              <p:spPr>
                <a:xfrm>
                  <a:off x="5515560" y="2932200"/>
                  <a:ext cx="1221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greso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515560" y="2932200"/>
                  <a:ext cx="12211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6" name=""/>
              <p:cNvGrpSpPr/>
              <p:nvPr/>
            </p:nvGrpSpPr>
            <p:grpSpPr>
              <a:xfrm>
                <a:off x="6737400" y="2932200"/>
                <a:ext cx="603360" cy="549360"/>
                <a:chOff x="6737400" y="2932200"/>
                <a:chExt cx="603360" cy="54936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6737400" y="2932200"/>
                  <a:ext cx="603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4.2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6737400" y="2932200"/>
                  <a:ext cx="60336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9" name=""/>
              <p:cNvGrpSpPr/>
              <p:nvPr/>
            </p:nvGrpSpPr>
            <p:grpSpPr>
              <a:xfrm>
                <a:off x="7341120" y="2932200"/>
                <a:ext cx="603000" cy="549360"/>
                <a:chOff x="7341120" y="2932200"/>
                <a:chExt cx="603000" cy="54936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7341120" y="2932200"/>
                  <a:ext cx="60300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2.762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7341120" y="2932200"/>
                  <a:ext cx="60300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7944840" y="2932200"/>
                <a:ext cx="488880" cy="549360"/>
                <a:chOff x="7944840" y="2932200"/>
                <a:chExt cx="488880" cy="54936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7944840" y="2932200"/>
                  <a:ext cx="4888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89,9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7944840" y="2932200"/>
                  <a:ext cx="4888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5" name=""/>
              <p:cNvGrpSpPr/>
              <p:nvPr/>
            </p:nvGrpSpPr>
            <p:grpSpPr>
              <a:xfrm>
                <a:off x="3818520" y="3481560"/>
                <a:ext cx="1696320" cy="549000"/>
                <a:chOff x="3818520" y="3481560"/>
                <a:chExt cx="1696320" cy="549000"/>
              </a:xfrm>
            </p:grpSpPr>
            <p:sp>
              <p:nvSpPr>
                <p:cNvPr id="1296" name=""/>
                <p:cNvSpPr/>
                <p:nvPr/>
              </p:nvSpPr>
              <p:spPr>
                <a:xfrm>
                  <a:off x="3818520" y="3481560"/>
                  <a:ext cx="16963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Atención de Pacientes Ambulatorio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3818520" y="3481560"/>
                  <a:ext cx="16963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8" name=""/>
              <p:cNvGrpSpPr/>
              <p:nvPr/>
            </p:nvGrpSpPr>
            <p:grpSpPr>
              <a:xfrm>
                <a:off x="5515560" y="3481560"/>
                <a:ext cx="1221120" cy="549000"/>
                <a:chOff x="5515560" y="3481560"/>
                <a:chExt cx="1221120" cy="549000"/>
              </a:xfrm>
            </p:grpSpPr>
            <p:sp>
              <p:nvSpPr>
                <p:cNvPr id="1299" name=""/>
                <p:cNvSpPr/>
                <p:nvPr/>
              </p:nvSpPr>
              <p:spPr>
                <a:xfrm>
                  <a:off x="5515560" y="3481560"/>
                  <a:ext cx="12211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onsulta Médica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5515560" y="3481560"/>
                  <a:ext cx="122112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6737400" y="3481560"/>
                <a:ext cx="603360" cy="549000"/>
                <a:chOff x="6737400" y="3481560"/>
                <a:chExt cx="603360" cy="54900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6737400" y="3481560"/>
                  <a:ext cx="60336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665.000</a:t>
                  </a: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6737400" y="3481560"/>
                  <a:ext cx="60336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4" name=""/>
              <p:cNvGrpSpPr/>
              <p:nvPr/>
            </p:nvGrpSpPr>
            <p:grpSpPr>
              <a:xfrm>
                <a:off x="7341120" y="3481560"/>
                <a:ext cx="603000" cy="549000"/>
                <a:chOff x="7341120" y="3481560"/>
                <a:chExt cx="603000" cy="54900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7341120" y="3481560"/>
                  <a:ext cx="60300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632.388</a:t>
                  </a: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7341120" y="3481560"/>
                  <a:ext cx="60300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7" name=""/>
              <p:cNvGrpSpPr/>
              <p:nvPr/>
            </p:nvGrpSpPr>
            <p:grpSpPr>
              <a:xfrm>
                <a:off x="7944840" y="3481560"/>
                <a:ext cx="488880" cy="549000"/>
                <a:chOff x="7944840" y="3481560"/>
                <a:chExt cx="488880" cy="54900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7944840" y="3481560"/>
                  <a:ext cx="4888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5,1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7944840" y="3481560"/>
                  <a:ext cx="48888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0" name=""/>
              <p:cNvGrpSpPr/>
              <p:nvPr/>
            </p:nvGrpSpPr>
            <p:grpSpPr>
              <a:xfrm>
                <a:off x="3818520" y="4030560"/>
                <a:ext cx="1696320" cy="641520"/>
                <a:chOff x="3818520" y="4030560"/>
                <a:chExt cx="1696320" cy="64152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3818520" y="4030560"/>
                  <a:ext cx="16963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xámenes Médicos del Personal Militar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3818520" y="4030560"/>
                  <a:ext cx="169632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3" name=""/>
              <p:cNvGrpSpPr/>
              <p:nvPr/>
            </p:nvGrpSpPr>
            <p:grpSpPr>
              <a:xfrm>
                <a:off x="5515560" y="4030560"/>
                <a:ext cx="1221120" cy="641520"/>
                <a:chOff x="5515560" y="4030560"/>
                <a:chExt cx="1221120" cy="64152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5515560" y="4030560"/>
                  <a:ext cx="12211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Reconocimiento Médico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5515560" y="4030560"/>
                  <a:ext cx="122112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6" name=""/>
              <p:cNvGrpSpPr/>
              <p:nvPr/>
            </p:nvGrpSpPr>
            <p:grpSpPr>
              <a:xfrm>
                <a:off x="6737400" y="4030560"/>
                <a:ext cx="603360" cy="641520"/>
                <a:chOff x="6737400" y="4030560"/>
                <a:chExt cx="603360" cy="641520"/>
              </a:xfrm>
            </p:grpSpPr>
            <p:sp>
              <p:nvSpPr>
                <p:cNvPr id="1317" name=""/>
                <p:cNvSpPr/>
                <p:nvPr/>
              </p:nvSpPr>
              <p:spPr>
                <a:xfrm>
                  <a:off x="6737400" y="4030560"/>
                  <a:ext cx="6033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6.286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6737400" y="4030560"/>
                  <a:ext cx="60336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9" name=""/>
              <p:cNvGrpSpPr/>
              <p:nvPr/>
            </p:nvGrpSpPr>
            <p:grpSpPr>
              <a:xfrm>
                <a:off x="7341120" y="4030560"/>
                <a:ext cx="603000" cy="641520"/>
                <a:chOff x="7341120" y="4030560"/>
                <a:chExt cx="603000" cy="641520"/>
              </a:xfrm>
            </p:grpSpPr>
            <p:sp>
              <p:nvSpPr>
                <p:cNvPr id="1320" name=""/>
                <p:cNvSpPr/>
                <p:nvPr/>
              </p:nvSpPr>
              <p:spPr>
                <a:xfrm>
                  <a:off x="7341120" y="4030560"/>
                  <a:ext cx="6030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6.0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7341120" y="4030560"/>
                  <a:ext cx="60300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7944840" y="4030560"/>
                <a:ext cx="488880" cy="641520"/>
                <a:chOff x="7944840" y="4030560"/>
                <a:chExt cx="488880" cy="6415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7944840" y="4030560"/>
                  <a:ext cx="48888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8,2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7944840" y="4030560"/>
                  <a:ext cx="48888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3818520" y="4672080"/>
                <a:ext cx="1696320" cy="549360"/>
                <a:chOff x="3818520" y="4672080"/>
                <a:chExt cx="1696320" cy="54936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3818520" y="4672080"/>
                  <a:ext cx="16963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xámenes Médicos a Aspirante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3818520" y="4672080"/>
                  <a:ext cx="16963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5515560" y="4672080"/>
                <a:ext cx="1221120" cy="549360"/>
                <a:chOff x="5515560" y="4672080"/>
                <a:chExt cx="1221120" cy="54936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5515560" y="4672080"/>
                  <a:ext cx="1221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Reconocimiento Médico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515560" y="4672080"/>
                  <a:ext cx="122112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6737400" y="4672080"/>
                <a:ext cx="603360" cy="549360"/>
                <a:chOff x="6737400" y="4672080"/>
                <a:chExt cx="603360" cy="54936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6737400" y="4672080"/>
                  <a:ext cx="60336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8.5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6737400" y="4672080"/>
                  <a:ext cx="60336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7341120" y="4672080"/>
                <a:ext cx="603000" cy="549360"/>
                <a:chOff x="7341120" y="4672080"/>
                <a:chExt cx="603000" cy="54936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7341120" y="4672080"/>
                  <a:ext cx="60300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8.118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7341120" y="4672080"/>
                  <a:ext cx="60300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7" name=""/>
              <p:cNvGrpSpPr/>
              <p:nvPr/>
            </p:nvGrpSpPr>
            <p:grpSpPr>
              <a:xfrm>
                <a:off x="7944840" y="4672080"/>
                <a:ext cx="488880" cy="549360"/>
                <a:chOff x="7944840" y="4672080"/>
                <a:chExt cx="488880" cy="54936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7944840" y="4672080"/>
                  <a:ext cx="48888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5,5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7944840" y="4672080"/>
                  <a:ext cx="48888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40" name=""/>
            <p:cNvSpPr/>
            <p:nvPr/>
          </p:nvSpPr>
          <p:spPr>
            <a:xfrm>
              <a:off x="1600200" y="2286000"/>
              <a:ext cx="6840000" cy="2940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41" name=""/>
          <p:cNvSpPr/>
          <p:nvPr/>
        </p:nvSpPr>
        <p:spPr>
          <a:xfrm>
            <a:off x="3240" y="32511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3C1-5553-4D79-A420-0E5DA4985F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1600200" y="925560"/>
            <a:ext cx="6629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Programa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Arial"/>
              </a:rPr>
              <a:t>: Sanidad Naval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eaeaea"/>
                </a:solidFill>
                <a:latin typeface="Arial"/>
                <a:ea typeface="Arial"/>
              </a:rPr>
              <a:t>- en pesos y magnitudes físicas-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240" y="20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32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1676520" y="1752480"/>
            <a:ext cx="7086240" cy="3886200"/>
            <a:chOff x="1676520" y="1752480"/>
            <a:chExt cx="7086240" cy="3886200"/>
          </a:xfrm>
        </p:grpSpPr>
        <p:grpSp>
          <p:nvGrpSpPr>
            <p:cNvPr id="1346" name=""/>
            <p:cNvGrpSpPr/>
            <p:nvPr/>
          </p:nvGrpSpPr>
          <p:grpSpPr>
            <a:xfrm>
              <a:off x="1681920" y="1757160"/>
              <a:ext cx="7074360" cy="3876480"/>
              <a:chOff x="1681920" y="1757160"/>
              <a:chExt cx="7074360" cy="3876480"/>
            </a:xfrm>
          </p:grpSpPr>
          <p:grpSp>
            <p:nvGrpSpPr>
              <p:cNvPr id="1347" name=""/>
              <p:cNvGrpSpPr/>
              <p:nvPr/>
            </p:nvGrpSpPr>
            <p:grpSpPr>
              <a:xfrm>
                <a:off x="1681920" y="1757160"/>
                <a:ext cx="906120" cy="641160"/>
                <a:chOff x="1681920" y="1757160"/>
                <a:chExt cx="906120" cy="64116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1681920" y="1757160"/>
                  <a:ext cx="9061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rédito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1681920" y="1757160"/>
                  <a:ext cx="90612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2588400" y="1757160"/>
                <a:ext cx="1011600" cy="641160"/>
                <a:chOff x="2588400" y="1757160"/>
                <a:chExt cx="1011600" cy="64116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2588400" y="1757160"/>
                  <a:ext cx="101160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Gasto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Devengado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2588400" y="1757160"/>
                  <a:ext cx="101160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3600360" y="1757160"/>
                <a:ext cx="373320" cy="641160"/>
                <a:chOff x="3600360" y="1757160"/>
                <a:chExt cx="373320" cy="6411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3600360" y="1757160"/>
                  <a:ext cx="3733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3600360" y="1757160"/>
                  <a:ext cx="37332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6" name=""/>
              <p:cNvGrpSpPr/>
              <p:nvPr/>
            </p:nvGrpSpPr>
            <p:grpSpPr>
              <a:xfrm>
                <a:off x="3974400" y="1757160"/>
                <a:ext cx="1638720" cy="641160"/>
                <a:chOff x="3974400" y="1757160"/>
                <a:chExt cx="1638720" cy="641160"/>
              </a:xfrm>
            </p:grpSpPr>
            <p:sp>
              <p:nvSpPr>
                <p:cNvPr id="1357" name=""/>
                <p:cNvSpPr/>
                <p:nvPr/>
              </p:nvSpPr>
              <p:spPr>
                <a:xfrm>
                  <a:off x="3974400" y="1757160"/>
                  <a:ext cx="16387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Tipo de Producción: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Servicios o Biene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3974400" y="1757160"/>
                  <a:ext cx="163872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9" name=""/>
              <p:cNvGrpSpPr/>
              <p:nvPr/>
            </p:nvGrpSpPr>
            <p:grpSpPr>
              <a:xfrm>
                <a:off x="5613480" y="1757160"/>
                <a:ext cx="1252080" cy="641160"/>
                <a:chOff x="5613480" y="1757160"/>
                <a:chExt cx="1252080" cy="64116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5613480" y="1757160"/>
                  <a:ext cx="125208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Unidad de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dida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5613480" y="1757160"/>
                  <a:ext cx="125208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2" name=""/>
              <p:cNvGrpSpPr/>
              <p:nvPr/>
            </p:nvGrpSpPr>
            <p:grpSpPr>
              <a:xfrm>
                <a:off x="6865920" y="1757160"/>
                <a:ext cx="758160" cy="641160"/>
                <a:chOff x="6865920" y="1757160"/>
                <a:chExt cx="758160" cy="64116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6865920" y="1757160"/>
                  <a:ext cx="7581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6865920" y="1757160"/>
                  <a:ext cx="75816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5" name=""/>
              <p:cNvGrpSpPr/>
              <p:nvPr/>
            </p:nvGrpSpPr>
            <p:grpSpPr>
              <a:xfrm>
                <a:off x="7624800" y="1757160"/>
                <a:ext cx="624960" cy="641160"/>
                <a:chOff x="7624800" y="1757160"/>
                <a:chExt cx="624960" cy="64116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7624800" y="1757160"/>
                  <a:ext cx="6249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ec.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7624800" y="1757160"/>
                  <a:ext cx="62496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8250120" y="1757160"/>
                <a:ext cx="506160" cy="641160"/>
                <a:chOff x="8250120" y="1757160"/>
                <a:chExt cx="506160" cy="64116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8250120" y="1757160"/>
                  <a:ext cx="5061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1000"/>
                  </a:br>
                  <a:r>
                    <a:rPr b="1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8250120" y="1757160"/>
                  <a:ext cx="50616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1681920" y="2398320"/>
                <a:ext cx="906120" cy="3235320"/>
                <a:chOff x="1681920" y="2398320"/>
                <a:chExt cx="906120" cy="323532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1681920" y="2398320"/>
                  <a:ext cx="906120" cy="323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1.103.917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1681920" y="2398320"/>
                  <a:ext cx="906120" cy="323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2588400" y="2398320"/>
                <a:ext cx="1011600" cy="3235320"/>
                <a:chOff x="2588400" y="2398320"/>
                <a:chExt cx="1011600" cy="32353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2588400" y="2398320"/>
                  <a:ext cx="1011600" cy="323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1.080.691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2588400" y="2398320"/>
                  <a:ext cx="1011600" cy="323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7" name=""/>
              <p:cNvGrpSpPr/>
              <p:nvPr/>
            </p:nvGrpSpPr>
            <p:grpSpPr>
              <a:xfrm>
                <a:off x="3600360" y="2398320"/>
                <a:ext cx="373320" cy="3235320"/>
                <a:chOff x="3600360" y="2398320"/>
                <a:chExt cx="373320" cy="3235320"/>
              </a:xfrm>
            </p:grpSpPr>
            <p:sp>
              <p:nvSpPr>
                <p:cNvPr id="1378" name=""/>
                <p:cNvSpPr/>
                <p:nvPr/>
              </p:nvSpPr>
              <p:spPr>
                <a:xfrm>
                  <a:off x="3600360" y="2398320"/>
                  <a:ext cx="373320" cy="323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9,9</a:t>
                  </a: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3600360" y="2398320"/>
                  <a:ext cx="373320" cy="323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0" name=""/>
              <p:cNvGrpSpPr/>
              <p:nvPr/>
            </p:nvGrpSpPr>
            <p:grpSpPr>
              <a:xfrm>
                <a:off x="3974400" y="2398320"/>
                <a:ext cx="1638720" cy="669960"/>
                <a:chOff x="3974400" y="2398320"/>
                <a:chExt cx="1638720" cy="669960"/>
              </a:xfrm>
            </p:grpSpPr>
            <p:sp>
              <p:nvSpPr>
                <p:cNvPr id="1381" name=""/>
                <p:cNvSpPr/>
                <p:nvPr/>
              </p:nvSpPr>
              <p:spPr>
                <a:xfrm>
                  <a:off x="3974400" y="2398320"/>
                  <a:ext cx="163872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Atención de Pacientes Internado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3974400" y="2398320"/>
                  <a:ext cx="163872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3" name=""/>
              <p:cNvGrpSpPr/>
              <p:nvPr/>
            </p:nvGrpSpPr>
            <p:grpSpPr>
              <a:xfrm>
                <a:off x="5613480" y="2398320"/>
                <a:ext cx="1252080" cy="669960"/>
                <a:chOff x="5613480" y="2398320"/>
                <a:chExt cx="1252080" cy="669960"/>
              </a:xfrm>
            </p:grpSpPr>
            <p:sp>
              <p:nvSpPr>
                <p:cNvPr id="1384" name=""/>
                <p:cNvSpPr/>
                <p:nvPr/>
              </p:nvSpPr>
              <p:spPr>
                <a:xfrm>
                  <a:off x="5613480" y="2398320"/>
                  <a:ext cx="125208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greso</a:t>
                  </a:r>
                  <a:r>
                    <a:rPr b="0" lang="en-US" sz="1400" spc="-1" strike="noStrike">
                      <a:solidFill>
                        <a:srgbClr val="eaeaea"/>
                      </a:solidFill>
                      <a:latin typeface="Times New Roman"/>
                    </a:rPr>
                    <a:t> 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5613480" y="2398320"/>
                  <a:ext cx="125208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6865920" y="2398320"/>
                <a:ext cx="758160" cy="669960"/>
                <a:chOff x="6865920" y="2398320"/>
                <a:chExt cx="758160" cy="66996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6865920" y="2398320"/>
                  <a:ext cx="75816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1.0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865920" y="2398320"/>
                  <a:ext cx="7581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9" name=""/>
              <p:cNvGrpSpPr/>
              <p:nvPr/>
            </p:nvGrpSpPr>
            <p:grpSpPr>
              <a:xfrm>
                <a:off x="7624800" y="2398320"/>
                <a:ext cx="624960" cy="669960"/>
                <a:chOff x="7624800" y="2398320"/>
                <a:chExt cx="624960" cy="66996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7624800" y="2398320"/>
                  <a:ext cx="62496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1.325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7624800" y="2398320"/>
                  <a:ext cx="6249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2" name=""/>
              <p:cNvGrpSpPr/>
              <p:nvPr/>
            </p:nvGrpSpPr>
            <p:grpSpPr>
              <a:xfrm>
                <a:off x="8250120" y="2398320"/>
                <a:ext cx="506160" cy="669960"/>
                <a:chOff x="8250120" y="2398320"/>
                <a:chExt cx="506160" cy="66996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8250120" y="2398320"/>
                  <a:ext cx="506160" cy="66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01,5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8250120" y="2398320"/>
                  <a:ext cx="506160" cy="66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5" name=""/>
              <p:cNvGrpSpPr/>
              <p:nvPr/>
            </p:nvGrpSpPr>
            <p:grpSpPr>
              <a:xfrm>
                <a:off x="3974400" y="3068280"/>
                <a:ext cx="1638720" cy="641520"/>
                <a:chOff x="3974400" y="3068280"/>
                <a:chExt cx="1638720" cy="641520"/>
              </a:xfrm>
            </p:grpSpPr>
            <p:sp>
              <p:nvSpPr>
                <p:cNvPr id="1396" name=""/>
                <p:cNvSpPr/>
                <p:nvPr/>
              </p:nvSpPr>
              <p:spPr>
                <a:xfrm>
                  <a:off x="3974400" y="3068280"/>
                  <a:ext cx="16387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Atención de Pacientes Ambulatorio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3974400" y="3068280"/>
                  <a:ext cx="163872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5613480" y="3068280"/>
                <a:ext cx="1252080" cy="641520"/>
                <a:chOff x="5613480" y="3068280"/>
                <a:chExt cx="1252080" cy="64152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5613480" y="3068280"/>
                  <a:ext cx="125208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onsulta Médica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5613480" y="3068280"/>
                  <a:ext cx="125208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6865920" y="3068280"/>
                <a:ext cx="758160" cy="641520"/>
                <a:chOff x="6865920" y="3068280"/>
                <a:chExt cx="758160" cy="64152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6865920" y="3068280"/>
                  <a:ext cx="7581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610.0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6865920" y="3068280"/>
                  <a:ext cx="75816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7624800" y="3068280"/>
                <a:ext cx="624960" cy="641520"/>
                <a:chOff x="7624800" y="3068280"/>
                <a:chExt cx="624960" cy="64152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7624800" y="3068280"/>
                  <a:ext cx="6249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647.117</a:t>
                  </a: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624800" y="3068280"/>
                  <a:ext cx="62496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8250120" y="3068280"/>
                <a:ext cx="506160" cy="641520"/>
                <a:chOff x="8250120" y="3068280"/>
                <a:chExt cx="506160" cy="64152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8250120" y="3068280"/>
                  <a:ext cx="5061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06,1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8250120" y="3068280"/>
                  <a:ext cx="50616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3974400" y="3709800"/>
                <a:ext cx="1638720" cy="641160"/>
                <a:chOff x="3974400" y="3709800"/>
                <a:chExt cx="1638720" cy="64116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3974400" y="3709800"/>
                  <a:ext cx="16387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Inmunizaciones y Tratamientos Preventivos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3974400" y="3709800"/>
                  <a:ext cx="163872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3" name=""/>
              <p:cNvGrpSpPr/>
              <p:nvPr/>
            </p:nvGrpSpPr>
            <p:grpSpPr>
              <a:xfrm>
                <a:off x="5613480" y="3709800"/>
                <a:ext cx="1252080" cy="641160"/>
                <a:chOff x="5613480" y="3709800"/>
                <a:chExt cx="1252080" cy="641160"/>
              </a:xfrm>
            </p:grpSpPr>
            <p:sp>
              <p:nvSpPr>
                <p:cNvPr id="1414" name=""/>
                <p:cNvSpPr/>
                <p:nvPr/>
              </p:nvSpPr>
              <p:spPr>
                <a:xfrm>
                  <a:off x="5613480" y="3709800"/>
                  <a:ext cx="125208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Dosis Aplicada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5613480" y="3709800"/>
                  <a:ext cx="125208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6" name=""/>
              <p:cNvGrpSpPr/>
              <p:nvPr/>
            </p:nvGrpSpPr>
            <p:grpSpPr>
              <a:xfrm>
                <a:off x="6865920" y="3709800"/>
                <a:ext cx="758160" cy="641160"/>
                <a:chOff x="6865920" y="3709800"/>
                <a:chExt cx="758160" cy="64116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6865920" y="3709800"/>
                  <a:ext cx="7581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4.0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6865920" y="3709800"/>
                  <a:ext cx="75816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9" name=""/>
              <p:cNvGrpSpPr/>
              <p:nvPr/>
            </p:nvGrpSpPr>
            <p:grpSpPr>
              <a:xfrm>
                <a:off x="7624800" y="3709800"/>
                <a:ext cx="624960" cy="641160"/>
                <a:chOff x="7624800" y="3709800"/>
                <a:chExt cx="624960" cy="641160"/>
              </a:xfrm>
            </p:grpSpPr>
            <p:sp>
              <p:nvSpPr>
                <p:cNvPr id="1420" name=""/>
                <p:cNvSpPr/>
                <p:nvPr/>
              </p:nvSpPr>
              <p:spPr>
                <a:xfrm>
                  <a:off x="7624800" y="3709800"/>
                  <a:ext cx="6249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5.004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7624800" y="3709800"/>
                  <a:ext cx="62496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2" name=""/>
              <p:cNvGrpSpPr/>
              <p:nvPr/>
            </p:nvGrpSpPr>
            <p:grpSpPr>
              <a:xfrm>
                <a:off x="8250120" y="3709800"/>
                <a:ext cx="506160" cy="641160"/>
                <a:chOff x="8250120" y="3709800"/>
                <a:chExt cx="506160" cy="64116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8250120" y="3709800"/>
                  <a:ext cx="5061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07,2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8250120" y="3709800"/>
                  <a:ext cx="50616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3974400" y="4350960"/>
                <a:ext cx="1638720" cy="641520"/>
                <a:chOff x="3974400" y="4350960"/>
                <a:chExt cx="1638720" cy="64152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3974400" y="4350960"/>
                  <a:ext cx="16387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xámenes Médicos del Personal Civil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3974400" y="4350960"/>
                  <a:ext cx="163872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8" name=""/>
              <p:cNvGrpSpPr/>
              <p:nvPr/>
            </p:nvGrpSpPr>
            <p:grpSpPr>
              <a:xfrm>
                <a:off x="5613480" y="4350960"/>
                <a:ext cx="1252080" cy="641520"/>
                <a:chOff x="5613480" y="4350960"/>
                <a:chExt cx="1252080" cy="64152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5613480" y="4350960"/>
                  <a:ext cx="125208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Reconocimiento Médico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5613480" y="4350960"/>
                  <a:ext cx="125208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6865920" y="4350960"/>
                <a:ext cx="758160" cy="641520"/>
                <a:chOff x="6865920" y="4350960"/>
                <a:chExt cx="758160" cy="64152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6865920" y="4350960"/>
                  <a:ext cx="7581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7.0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6865920" y="4350960"/>
                  <a:ext cx="75816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7624800" y="4350960"/>
                <a:ext cx="624960" cy="641520"/>
                <a:chOff x="7624800" y="4350960"/>
                <a:chExt cx="624960" cy="64152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7624800" y="4350960"/>
                  <a:ext cx="6249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7.347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7624800" y="4350960"/>
                  <a:ext cx="62496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7" name=""/>
              <p:cNvGrpSpPr/>
              <p:nvPr/>
            </p:nvGrpSpPr>
            <p:grpSpPr>
              <a:xfrm>
                <a:off x="8250120" y="4350960"/>
                <a:ext cx="506160" cy="641520"/>
                <a:chOff x="8250120" y="4350960"/>
                <a:chExt cx="506160" cy="641520"/>
              </a:xfrm>
            </p:grpSpPr>
            <p:sp>
              <p:nvSpPr>
                <p:cNvPr id="1438" name=""/>
                <p:cNvSpPr/>
                <p:nvPr/>
              </p:nvSpPr>
              <p:spPr>
                <a:xfrm>
                  <a:off x="8250120" y="4350960"/>
                  <a:ext cx="5061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05,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8250120" y="4350960"/>
                  <a:ext cx="50616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0" name=""/>
              <p:cNvGrpSpPr/>
              <p:nvPr/>
            </p:nvGrpSpPr>
            <p:grpSpPr>
              <a:xfrm>
                <a:off x="3974400" y="4992480"/>
                <a:ext cx="1638720" cy="641160"/>
                <a:chOff x="3974400" y="4992480"/>
                <a:chExt cx="1638720" cy="641160"/>
              </a:xfrm>
            </p:grpSpPr>
            <p:sp>
              <p:nvSpPr>
                <p:cNvPr id="1441" name=""/>
                <p:cNvSpPr/>
                <p:nvPr/>
              </p:nvSpPr>
              <p:spPr>
                <a:xfrm>
                  <a:off x="3974400" y="4992480"/>
                  <a:ext cx="16387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xámenes Médicos del Personal Militar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3974400" y="4992480"/>
                  <a:ext cx="163872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3" name=""/>
              <p:cNvGrpSpPr/>
              <p:nvPr/>
            </p:nvGrpSpPr>
            <p:grpSpPr>
              <a:xfrm>
                <a:off x="5613480" y="4992480"/>
                <a:ext cx="1252080" cy="641160"/>
                <a:chOff x="5613480" y="4992480"/>
                <a:chExt cx="1252080" cy="64116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5613480" y="4992480"/>
                  <a:ext cx="125208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Reconocimiento Médico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5613480" y="4992480"/>
                  <a:ext cx="125208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6" name=""/>
              <p:cNvGrpSpPr/>
              <p:nvPr/>
            </p:nvGrpSpPr>
            <p:grpSpPr>
              <a:xfrm>
                <a:off x="6865920" y="4992480"/>
                <a:ext cx="758160" cy="641160"/>
                <a:chOff x="6865920" y="4992480"/>
                <a:chExt cx="758160" cy="641160"/>
              </a:xfrm>
            </p:grpSpPr>
            <p:sp>
              <p:nvSpPr>
                <p:cNvPr id="1447" name=""/>
                <p:cNvSpPr/>
                <p:nvPr/>
              </p:nvSpPr>
              <p:spPr>
                <a:xfrm>
                  <a:off x="6865920" y="4992480"/>
                  <a:ext cx="7581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1.800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6865920" y="4992480"/>
                  <a:ext cx="75816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9" name=""/>
              <p:cNvGrpSpPr/>
              <p:nvPr/>
            </p:nvGrpSpPr>
            <p:grpSpPr>
              <a:xfrm>
                <a:off x="7624800" y="4992480"/>
                <a:ext cx="624960" cy="641160"/>
                <a:chOff x="7624800" y="4992480"/>
                <a:chExt cx="624960" cy="641160"/>
              </a:xfrm>
            </p:grpSpPr>
            <p:sp>
              <p:nvSpPr>
                <p:cNvPr id="1450" name=""/>
                <p:cNvSpPr/>
                <p:nvPr/>
              </p:nvSpPr>
              <p:spPr>
                <a:xfrm>
                  <a:off x="7624800" y="4992480"/>
                  <a:ext cx="6249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3.397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7624800" y="4992480"/>
                  <a:ext cx="62496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2" name=""/>
              <p:cNvGrpSpPr/>
              <p:nvPr/>
            </p:nvGrpSpPr>
            <p:grpSpPr>
              <a:xfrm>
                <a:off x="8250120" y="4992480"/>
                <a:ext cx="506160" cy="641160"/>
                <a:chOff x="8250120" y="4992480"/>
                <a:chExt cx="506160" cy="641160"/>
              </a:xfrm>
            </p:grpSpPr>
            <p:sp>
              <p:nvSpPr>
                <p:cNvPr id="1453" name=""/>
                <p:cNvSpPr/>
                <p:nvPr/>
              </p:nvSpPr>
              <p:spPr>
                <a:xfrm>
                  <a:off x="8250120" y="4992480"/>
                  <a:ext cx="5061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13,5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8250120" y="4992480"/>
                  <a:ext cx="50616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5" name=""/>
            <p:cNvSpPr/>
            <p:nvPr/>
          </p:nvSpPr>
          <p:spPr>
            <a:xfrm>
              <a:off x="1676520" y="1752480"/>
              <a:ext cx="7086240" cy="3886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274E-1A22-4ED4-B2CE-1A90D035A1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/>
          <p:nvPr/>
        </p:nvSpPr>
        <p:spPr>
          <a:xfrm>
            <a:off x="1523880" y="1676520"/>
            <a:ext cx="6553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  <a:ea typeface="Arial"/>
              </a:rPr>
              <a:t>Instituto de Investigaciones Científicas y Técnicas de las Fuerzas Armadas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Programa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Arial"/>
              </a:rPr>
              <a:t>: Desarrollo Tecnológico para la Defensa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eaeaea"/>
                </a:solidFill>
                <a:latin typeface="Arial"/>
                <a:ea typeface="Arial"/>
              </a:rPr>
              <a:t>- en pesos y magnitudes físicas-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0" y="267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58" name=""/>
          <p:cNvGrpSpPr/>
          <p:nvPr/>
        </p:nvGrpSpPr>
        <p:grpSpPr>
          <a:xfrm>
            <a:off x="1531800" y="2674800"/>
            <a:ext cx="6078600" cy="1292400"/>
            <a:chOff x="1531800" y="2674800"/>
            <a:chExt cx="6078600" cy="1292400"/>
          </a:xfrm>
        </p:grpSpPr>
        <p:grpSp>
          <p:nvGrpSpPr>
            <p:cNvPr id="1459" name=""/>
            <p:cNvGrpSpPr/>
            <p:nvPr/>
          </p:nvGrpSpPr>
          <p:grpSpPr>
            <a:xfrm>
              <a:off x="1536480" y="2679840"/>
              <a:ext cx="6068880" cy="1282680"/>
              <a:chOff x="1536480" y="2679840"/>
              <a:chExt cx="6068880" cy="1282680"/>
            </a:xfrm>
          </p:grpSpPr>
          <p:grpSp>
            <p:nvGrpSpPr>
              <p:cNvPr id="1460" name=""/>
              <p:cNvGrpSpPr/>
              <p:nvPr/>
            </p:nvGrpSpPr>
            <p:grpSpPr>
              <a:xfrm>
                <a:off x="1536480" y="2679840"/>
                <a:ext cx="777960" cy="641160"/>
                <a:chOff x="1536480" y="2679840"/>
                <a:chExt cx="777960" cy="641160"/>
              </a:xfrm>
            </p:grpSpPr>
            <p:sp>
              <p:nvSpPr>
                <p:cNvPr id="1461" name=""/>
                <p:cNvSpPr/>
                <p:nvPr/>
              </p:nvSpPr>
              <p:spPr>
                <a:xfrm>
                  <a:off x="1536480" y="2679840"/>
                  <a:ext cx="7779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Crédito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1536480" y="2679840"/>
                  <a:ext cx="77796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3" name=""/>
              <p:cNvGrpSpPr/>
              <p:nvPr/>
            </p:nvGrpSpPr>
            <p:grpSpPr>
              <a:xfrm>
                <a:off x="2314440" y="2679840"/>
                <a:ext cx="868320" cy="641160"/>
                <a:chOff x="2314440" y="2679840"/>
                <a:chExt cx="868320" cy="64116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2314440" y="2679840"/>
                  <a:ext cx="8683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Gasto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Devengado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2314440" y="2679840"/>
                  <a:ext cx="86832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3182760" y="2679840"/>
                <a:ext cx="434880" cy="641160"/>
                <a:chOff x="3182760" y="2679840"/>
                <a:chExt cx="434880" cy="64116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3182760" y="2679840"/>
                  <a:ext cx="43488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3182760" y="2679840"/>
                  <a:ext cx="43488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3617640" y="2679840"/>
                <a:ext cx="1406520" cy="641160"/>
                <a:chOff x="3617640" y="2679840"/>
                <a:chExt cx="1406520" cy="64116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3617640" y="2679840"/>
                  <a:ext cx="140652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Tipo de Producción: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Servicios o Bienes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3617640" y="2679840"/>
                  <a:ext cx="140652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5024160" y="2679840"/>
                <a:ext cx="971640" cy="641160"/>
                <a:chOff x="5024160" y="2679840"/>
                <a:chExt cx="971640" cy="64116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5024160" y="2679840"/>
                  <a:ext cx="97164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Unidad de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dida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5024160" y="2679840"/>
                  <a:ext cx="97164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5995800" y="2679840"/>
                <a:ext cx="536400" cy="641160"/>
                <a:chOff x="5995800" y="2679840"/>
                <a:chExt cx="536400" cy="64116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5995800" y="2679840"/>
                  <a:ext cx="53640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Final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5995800" y="2679840"/>
                  <a:ext cx="53640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6532200" y="2679840"/>
                <a:ext cx="536760" cy="641160"/>
                <a:chOff x="6532200" y="2679840"/>
                <a:chExt cx="536760" cy="64116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6532200" y="2679840"/>
                  <a:ext cx="53676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Meta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ec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532200" y="2679840"/>
                  <a:ext cx="53676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7068960" y="2679840"/>
                <a:ext cx="536400" cy="641160"/>
                <a:chOff x="7068960" y="2679840"/>
                <a:chExt cx="536400" cy="64116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7068960" y="2679840"/>
                  <a:ext cx="536400" cy="64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%</a:t>
                  </a:r>
                  <a:br>
                    <a:rPr sz="600"/>
                  </a:br>
                  <a:r>
                    <a:rPr b="1" lang="en-US" sz="6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Ej.</a:t>
                  </a: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7068960" y="2679840"/>
                  <a:ext cx="536400" cy="641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1536480" y="3321000"/>
                <a:ext cx="777960" cy="641520"/>
                <a:chOff x="1536480" y="3321000"/>
                <a:chExt cx="777960" cy="6415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1536480" y="3321000"/>
                  <a:ext cx="7779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6.380.560</a:t>
                  </a: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1536480" y="3321000"/>
                  <a:ext cx="77796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2314440" y="3321000"/>
                <a:ext cx="868320" cy="641520"/>
                <a:chOff x="2314440" y="3321000"/>
                <a:chExt cx="868320" cy="64152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2314440" y="3321000"/>
                  <a:ext cx="8683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5.688.318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2314440" y="3321000"/>
                  <a:ext cx="86832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3182760" y="3321000"/>
                <a:ext cx="434880" cy="641520"/>
                <a:chOff x="3182760" y="3321000"/>
                <a:chExt cx="434880" cy="64152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3182760" y="3321000"/>
                  <a:ext cx="43488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95,8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3182760" y="3321000"/>
                  <a:ext cx="43488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3617640" y="3321000"/>
                <a:ext cx="1406520" cy="641520"/>
                <a:chOff x="3617640" y="3321000"/>
                <a:chExt cx="1406520" cy="64152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3617640" y="3321000"/>
                  <a:ext cx="14065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Investigaciones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3617640" y="3321000"/>
                  <a:ext cx="140652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5024160" y="3321000"/>
                <a:ext cx="971640" cy="641520"/>
                <a:chOff x="5024160" y="3321000"/>
                <a:chExt cx="971640" cy="64152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5024160" y="3321000"/>
                  <a:ext cx="9716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Investigación Realizada</a:t>
                  </a: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5024160" y="3321000"/>
                  <a:ext cx="97164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5995800" y="3321000"/>
                <a:ext cx="536400" cy="641520"/>
                <a:chOff x="5995800" y="3321000"/>
                <a:chExt cx="536400" cy="64152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5995800" y="3321000"/>
                  <a:ext cx="5364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5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5995800" y="3321000"/>
                  <a:ext cx="53640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6532200" y="3321000"/>
                <a:ext cx="536760" cy="641520"/>
                <a:chOff x="6532200" y="3321000"/>
                <a:chExt cx="536760" cy="64152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6532200" y="3321000"/>
                  <a:ext cx="5367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8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6532200" y="3321000"/>
                  <a:ext cx="53676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7068960" y="3321000"/>
                <a:ext cx="536400" cy="641520"/>
                <a:chOff x="7068960" y="3321000"/>
                <a:chExt cx="536400" cy="64152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7068960" y="3321000"/>
                  <a:ext cx="5364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72,0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068960" y="3321000"/>
                  <a:ext cx="536400" cy="641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8" name=""/>
            <p:cNvSpPr/>
            <p:nvPr/>
          </p:nvSpPr>
          <p:spPr>
            <a:xfrm>
              <a:off x="1531800" y="2674800"/>
              <a:ext cx="6078600" cy="1292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1523880" y="4267080"/>
            <a:ext cx="61722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Arial"/>
              </a:rPr>
              <a:t>De las investigaciones científico-tecnológicas de mayor relevancia y con financiamiento asegurado para el ejercicio 2004, 18 cumplieron con el 100% de lo programado, mientras que las 7 restantes tuvieron desvíos de diferente magnitud, lo que significó un desvío global del 8% en la programación, ya que el avance técnico alcanzado fue del 92%, a pesar de que visto desde el ángulo de investigación no terminadas representan el 28%. Estas investigaciones constituyen las informadas en el cuadro precedente.</a:t>
            </a:r>
            <a:br>
              <a:rPr sz="1000"/>
            </a:b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F42-A14A-4382-AF42-AF2BB3E80F3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servaciones general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125880" y="3201840"/>
            <a:ext cx="2739960" cy="17496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SISTEMA DE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EVALUACIÓN DE MET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143000" y="1600200"/>
            <a:ext cx="3048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ACTIVIDADES SIN INFORMACIÓN FINANCIE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No puede relacionarse la actividad con su insum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952880" y="198108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PRODUCCIÓN NO AGREGABL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No puede relacionarse insumo con product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172200" y="3505320"/>
            <a:ext cx="2666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PROGRAMAS  NO REPRESENTATIVOS DE LOS PROCESOS DE PRODUC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143000" y="5181480"/>
            <a:ext cx="3352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CRITERIOS DE IDENTIFICACION DE UNIDADES DE MEDIDA Y CUANTIFICACIÓN DE MET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495680" y="5257800"/>
            <a:ext cx="4191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Times New Roman"/>
              </a:rPr>
              <a:t>FALTA DE ANÁLISIS CRÍTIC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01B-0C51-49B5-BD3A-6B524069E2AC}" type="slidenum">
              <a:t>35</a:t>
            </a:fld>
          </a:p>
        </p:txBody>
      </p:sp>
    </p:spTree>
  </p:cSld>
  <p:transition>
    <p:fade thruBlk="true"/>
    <p:sndAc>
      <p:stSnd>
        <p:snd r:embed="rId1" name="type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ecomendacion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LANZAR EL SISTEMA: El sistema parece detenido, y en algún aspecto (publicación de los “Indicadores de la Administración Nacional) ha retrocedido, debiera relanzárselo revisando sus objetiv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VISAR LOS RECURSOS: Se ha sobre-expandido quizá debieran revisarse la suficiencia de los recursos como para poder operarlo eficientement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VOLUCRAR A LOS ORGANISMOS: Debe ser relevante para orientar la gestión de las jurisdicciones y entidad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D07-DE44-4E0D-AB1E-170685AC51F6}" type="slidenum">
              <a:t>36</a:t>
            </a:fld>
          </a:p>
        </p:txBody>
      </p:sp>
    </p:spTree>
  </p:cSld>
  <p:transition>
    <p:fade thruBlk="true"/>
    <p:sndAc>
      <p:stSnd>
        <p:snd r:embed="rId1" name="typ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clusion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 sistema de evaluación del cumplimiento de metas y objetivos, y el concepto de monitoreo por índices  debe entrar  urgentemente en la agenda de discusió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se a las observaciones se trata de un sistema valioso, cuyos logros deben preservars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 revisión del sistema debe comprender las limitaciones del marco teórico, los procedimientos administrativos y su control interno, la motivación de las unidades de organización responsables y nuevas definiciones de meta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DDB-5AFF-4C8E-B0DE-B9C2F2DDD0B9}" type="slidenum">
              <a:t>37</a:t>
            </a:fld>
          </a:p>
        </p:txBody>
      </p:sp>
    </p:spTree>
  </p:cSld>
  <p:transition>
    <p:fade thruBlk="true"/>
    <p:sndAc>
      <p:stSnd>
        <p:snd r:embed="rId1" name="type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clusion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l fuerte impulso inicial se ha detenido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 ley no ha reconocido las limitaciones del marco teórico del presupuesto por programas. Hay que incorporar otros criterio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s necesario trabajar urgentemente con los costos y no buscar respuestas que el presupuesto no puede da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uestros modelos mentales están contaminada por supuestos modelos de éxito o modas (el uso de indicadores en gobiernos subnacionales, la “Reinvención del Gobierno”, la experiencia de Nueva Zelandia, etc.)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139-CBDA-4A68-A10F-80E93E310902}" type="slidenum">
              <a:t>38</a:t>
            </a:fld>
          </a:p>
        </p:txBody>
      </p:sp>
    </p:spTree>
  </p:cSld>
  <p:transition>
    <p:fade thruBlk="true"/>
    <p:sndAc>
      <p:stSnd>
        <p:snd r:embed="rId1" name="type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Conclusion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  “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Hay algunos que se cansan en saber y averiguar cosas que después de sabidas y averiguadas no importan un ardite al entendimiento y a la memoria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                         </a:t>
            </a: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El Quijote (IIa, capítulo 2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712F-4284-4C31-90F5-E4AEC7033C14}" type="slidenum">
              <a:t>39</a:t>
            </a:fld>
          </a:p>
        </p:txBody>
      </p:sp>
    </p:spTree>
  </p:cSld>
  <p:transition>
    <p:fade thruBlk="true"/>
    <p:sndAc>
      <p:stSnd>
        <p:snd r:embed="rId1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Las tres E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CONOMÍA: Gastar meno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ICIENCIA: Gastar bi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ICACIA: Gastar sabiamen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9BFA-2135-42B2-BF73-14AECB8CAC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733920" y="1371600"/>
            <a:ext cx="1981080" cy="1371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EVALU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19320" y="1371600"/>
            <a:ext cx="2361960" cy="1295280"/>
          </a:xfrm>
          <a:prstGeom prst="rightArrow">
            <a:avLst>
              <a:gd name="adj1" fmla="val 50000"/>
              <a:gd name="adj2" fmla="val 45588"/>
            </a:avLst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SISTEM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1447920"/>
            <a:ext cx="2514600" cy="1218960"/>
          </a:xfrm>
          <a:prstGeom prst="leftArrow">
            <a:avLst>
              <a:gd name="adj1" fmla="val 50000"/>
              <a:gd name="adj2" fmla="val 51573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ACT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3048120"/>
            <a:ext cx="27432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upuesto por program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esupuesto Base Cer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Valor a cambio de diner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3124080"/>
            <a:ext cx="3657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ed de polític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ecursos organizaciona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Times New Roman"/>
              </a:rPr>
              <a:t>Criteri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712F-A11C-4370-BD75-FE80156F86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Relaciones básica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     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roduc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Productividad: Pr =   ---------------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                                         </a:t>
            </a:r>
            <a:r>
              <a:rPr b="0" lang="es-MX" sz="3200" spc="-1" strike="noStrike">
                <a:solidFill>
                  <a:srgbClr val="eaeaea"/>
                </a:solidFill>
                <a:latin typeface="Times New Roman"/>
              </a:rPr>
              <a:t>Insum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                                            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Insum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Insumo/producto: Ip = ---------------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                                          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Producció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9300-5E49-4F13-AC46-6755D5739489}" type="slidenum">
              <a:t>6</a:t>
            </a:fld>
          </a:p>
        </p:txBody>
      </p:sp>
    </p:spTree>
  </p:cSld>
  <p:transition>
    <p:fade thruBlk="true"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66"/>
                </a:solidFill>
                <a:latin typeface="Times New Roman"/>
              </a:rPr>
              <a:t>Indicado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nsu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Produc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Calid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esult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Impact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conomí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ficac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Eficienc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Sustentabilid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Times New Roman"/>
              </a:rPr>
              <a:t>Referencia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154-EED1-444A-9FB5-A20EDD1897A1}" type="slidenum">
              <a:t>7</a:t>
            </a:fld>
          </a:p>
        </p:txBody>
      </p:sp>
    </p:spTree>
  </p:cSld>
  <p:transition>
    <p:fade thruBlk="true"/>
    <p:sndAc>
      <p:stSnd>
        <p:snd r:embed="rId1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Times New Roman"/>
              </a:rPr>
              <a:t>Indicadores de la </a:t>
            </a:r>
            <a:br>
              <a:rPr sz="4400"/>
            </a:br>
            <a:r>
              <a:rPr b="0" lang="es-AR" sz="4400" spc="-1" strike="noStrike">
                <a:solidFill>
                  <a:srgbClr val="ffcc66"/>
                </a:solidFill>
                <a:latin typeface="Times New Roman"/>
              </a:rPr>
              <a:t>Administración Nacional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Se trata de una publicación de la Dirección de Evaluación Presupuestar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Los indicadores están ordenados por la clasificación presupuestaria por  finalidad y funció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Permite comparación interanual pues ofrece los resultados anualizad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Se objeta la pertinencia de determinados indicadores y su relevanc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La última disponible al público es la correspondiente a 1994 / 2002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2EB-2652-4480-9C40-1BA9C81D20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cc66"/>
                </a:solidFill>
                <a:latin typeface="Times New Roman"/>
              </a:rPr>
              <a:t>Ejemplo de indicador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Gasto del Sector Público Argentino en Educación en % del PBI”, “Cantidad de cuadernos provistos gratuitamente por año” (referencial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Gasto por hoja impresa en la Imprenta del Congreso”, “Número de empleados por senador” (eficienci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Porcentaje de alumnos beneficiados por el Programa Social Educativo respecto de la población estudiantil NBI de 5 a 14 años” (eficaci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Autofinanciamiento A.G.N.”, </a:t>
            </a:r>
            <a:r>
              <a:rPr b="0" lang="es-AR" sz="2400" spc="-1" strike="noStrike">
                <a:solidFill>
                  <a:srgbClr val="eaeaea"/>
                </a:solidFill>
                <a:latin typeface="Times New Roman"/>
              </a:rPr>
              <a:t>“Gasto promedio por cuaderno provisto” (economí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V Jornadas Nacionales de Profesionales en Ciencias Económicas del Sector Públic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6D23-BD5E-4E99-B0E7-BA786E88F4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22:29:33Z</dcterms:created>
  <dc:creator>Gustavo A. Macagno</dc:creator>
  <dc:description/>
  <dc:language>en-US</dc:language>
  <cp:lastModifiedBy>C.P.C.E.C.A.B.A.</cp:lastModifiedBy>
  <dcterms:modified xsi:type="dcterms:W3CDTF">2005-08-30T13:29:35Z</dcterms:modified>
  <cp:revision>86</cp:revision>
  <dc:subject/>
  <dc:title>El Sistema de  Control Interno  en la Ley 24.156</dc:title>
</cp:coreProperties>
</file>