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8BB-8352-4374-9F0B-A6B27887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EA0-5B98-4728-AECE-10723094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DC3-7884-4A77-92F6-37D52537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890-A124-43DE-AB4D-5B4D893E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8BB-B34E-471E-A7DD-69AE93E8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6FA-6125-4470-8943-C14AC73C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459-2198-43BB-8FFA-A9619DE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786-5506-4EC9-BCB4-5D942C58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1C8-D65E-46E9-A2F5-45E9F763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09C-72A4-4866-B41F-A5F5524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B9C-9DFB-4D8B-BF70-711C3E73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6B5-B36E-4A45-833C-46C5DF63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09B8-8101-4705-8EF8-A358CDB6BF9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447920"/>
            <a:ext cx="7238880" cy="34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APA ESTRATÉGICO Y SU VINC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 EL TABLERO DE COMAND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OS INDICADORES CL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IV Jornadas Nacionales de Profesionale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iencias Económicas del Sector Público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24 al 26 de Agosto de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13560" y="609588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utor Dr. Alejandro Peka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62480" y="4446720"/>
            <a:ext cx="2265120" cy="725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286000"/>
            <a:ext cx="2265480" cy="717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ORT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3294000"/>
            <a:ext cx="2265480" cy="725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917640"/>
            <a:ext cx="2265480" cy="1035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O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79760" y="5526000"/>
            <a:ext cx="2265480" cy="725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88080" y="4406760"/>
            <a:ext cx="2265480" cy="7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54960" y="2246400"/>
            <a:ext cx="226512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54960" y="3254400"/>
            <a:ext cx="226512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54960" y="878040"/>
            <a:ext cx="226512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O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5486400"/>
            <a:ext cx="226512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65040" y="163440"/>
            <a:ext cx="66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ERSPECTIVAS DE ANÁLISIS APLICABLES AL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8240" y="1285920"/>
            <a:ext cx="718920" cy="360360"/>
          </a:xfrm>
          <a:custGeom>
            <a:avLst/>
            <a:gdLst>
              <a:gd name="textAreaLeft" fmla="*/ 89640 w 718920"/>
              <a:gd name="textAreaRight" fmla="*/ 629280 w 718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5678640"/>
            <a:ext cx="718920" cy="360360"/>
          </a:xfrm>
          <a:custGeom>
            <a:avLst/>
            <a:gdLst>
              <a:gd name="textAreaLeft" fmla="*/ 89640 w 718920"/>
              <a:gd name="textAreaRight" fmla="*/ 629280 w 718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4597560"/>
            <a:ext cx="718920" cy="360360"/>
          </a:xfrm>
          <a:custGeom>
            <a:avLst/>
            <a:gdLst>
              <a:gd name="textAreaLeft" fmla="*/ 89640 w 718920"/>
              <a:gd name="textAreaRight" fmla="*/ 629280 w 718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3446640"/>
            <a:ext cx="718920" cy="360360"/>
          </a:xfrm>
          <a:custGeom>
            <a:avLst/>
            <a:gdLst>
              <a:gd name="textAreaLeft" fmla="*/ 89640 w 718920"/>
              <a:gd name="textAreaRight" fmla="*/ 629280 w 718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2438280"/>
            <a:ext cx="718920" cy="360360"/>
          </a:xfrm>
          <a:custGeom>
            <a:avLst/>
            <a:gdLst>
              <a:gd name="textAreaLeft" fmla="*/ 89640 w 718920"/>
              <a:gd name="textAreaRight" fmla="*/ 629280 w 718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419720"/>
            <a:ext cx="2328840" cy="69372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352680"/>
            <a:ext cx="23288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SP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NANC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523880"/>
            <a:ext cx="2328840" cy="693720"/>
          </a:xfrm>
          <a:prstGeom prst="rect">
            <a:avLst/>
          </a:prstGeom>
          <a:solidFill>
            <a:srgbClr val="cce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SP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562720"/>
            <a:ext cx="2328840" cy="69372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PRENDIZAJE Y 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5729400"/>
            <a:ext cx="719280" cy="360360"/>
          </a:xfrm>
          <a:custGeom>
            <a:avLst/>
            <a:gdLst>
              <a:gd name="textAreaLeft" fmla="*/ 89640 w 719280"/>
              <a:gd name="textAreaRight" fmla="*/ 629640 w 719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4648320"/>
            <a:ext cx="719280" cy="360360"/>
          </a:xfrm>
          <a:custGeom>
            <a:avLst/>
            <a:gdLst>
              <a:gd name="textAreaLeft" fmla="*/ 89640 w 719280"/>
              <a:gd name="textAreaRight" fmla="*/ 629640 w 719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497400"/>
            <a:ext cx="719280" cy="360360"/>
          </a:xfrm>
          <a:custGeom>
            <a:avLst/>
            <a:gdLst>
              <a:gd name="textAreaLeft" fmla="*/ 89640 w 719280"/>
              <a:gd name="textAreaRight" fmla="*/ 629640 w 719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700000">
            <a:off x="2639520" y="2160360"/>
            <a:ext cx="719280" cy="360360"/>
          </a:xfrm>
          <a:custGeom>
            <a:avLst/>
            <a:gdLst>
              <a:gd name="textAreaLeft" fmla="*/ 89640 w 719280"/>
              <a:gd name="textAreaRight" fmla="*/ 629640 w 719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900000">
            <a:off x="2590920" y="1371240"/>
            <a:ext cx="718920" cy="360360"/>
          </a:xfrm>
          <a:custGeom>
            <a:avLst/>
            <a:gdLst>
              <a:gd name="textAreaLeft" fmla="*/ 89640 w 718920"/>
              <a:gd name="textAreaRight" fmla="*/ 629280 w 718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52280"/>
            <a:ext cx="8136000" cy="39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UNAS DIFERENCIAS CUANDO EL “ESTADO” ES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4247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que pagan tributos no reciben explícitamente el bien o el servicio en cuest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que reciben el bien o el servicio en cuestión no siempre lo asocian al costo incurr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en tributos, tasas y contribuciones que no se identifican con aplicaciones concr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bienes y servicios brindan satisfacciones colectivas y no a individuos en forma particu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se puede rechazar “clientes” o “discontinuar” productos. Se debe garantizar la continuidad y la regularidad, como un tratamiento de igual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ponderación de valor estará más cercana a la calidad de satisfacción que a la productividad y a la efic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33920" y="152280"/>
            <a:ext cx="20574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mover actos de gobierno basados en proyectos y l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048120"/>
            <a:ext cx="24382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mover proyectos y obtener recursos presupues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4267080"/>
            <a:ext cx="2362320" cy="11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jecutar planes estratégicos de obras, servicios y regulación de tránsito y urbanís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4267080"/>
            <a:ext cx="182880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mpactar y difundir proyectos y planes de 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23080" y="152280"/>
            <a:ext cx="201600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rantizar legalidad en los procesos de compra y contrat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1600200"/>
            <a:ext cx="28954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timizar y transparentar las compras y contrataciones de proveedores y contrat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4267080"/>
            <a:ext cx="160020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rantizar la disponibilidad de bienes y de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495680"/>
            <a:ext cx="106668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jerc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715000"/>
            <a:ext cx="280368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ilizar y optimizar los procedimientos administrativos de compras y contrat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867280"/>
            <a:ext cx="22194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nerar equipos de trabajo eficientes y motiv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714640" y="5486040"/>
            <a:ext cx="1219320" cy="22860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886200" y="5486400"/>
            <a:ext cx="1244520" cy="38088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8305920" y="1371600"/>
            <a:ext cx="304560" cy="289548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2590920"/>
            <a:ext cx="761760" cy="167616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1143000"/>
            <a:ext cx="0" cy="190512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181480" y="1143000"/>
            <a:ext cx="0" cy="190512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809880"/>
            <a:ext cx="228600" cy="457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362320" y="4800600"/>
            <a:ext cx="45720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4724280"/>
            <a:ext cx="279360" cy="180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6248520"/>
            <a:ext cx="583920" cy="144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886200" y="4800600"/>
            <a:ext cx="466560" cy="144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33920" y="152280"/>
            <a:ext cx="20574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mover actos de gobierno basados en proyectos y l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3048120"/>
            <a:ext cx="24382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mover proyectos y obtener recursos presupues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267080"/>
            <a:ext cx="2362320" cy="11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jecutar planes estratégicos de obras, servicios y regulación de tránsito y urbanís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267080"/>
            <a:ext cx="182880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mpactar y difundir proyectos y planes de 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23080" y="152280"/>
            <a:ext cx="201600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rantizar legalidad en los procesos de compra y contrat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600200"/>
            <a:ext cx="28954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timizar y transparentar las compras y contrataciones de proveedores y contrat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4267080"/>
            <a:ext cx="160020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rantizar la disponibilidad de bienes y de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4495680"/>
            <a:ext cx="106668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jerc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5715000"/>
            <a:ext cx="280368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ilizar y optimizar los procedimientos administrativos de compras y contrat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5867280"/>
            <a:ext cx="22194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nerar equipos de trabajo eficientes y motiv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714640" y="5486040"/>
            <a:ext cx="1219320" cy="22860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86200" y="5486400"/>
            <a:ext cx="1244520" cy="38088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305920" y="1371600"/>
            <a:ext cx="304560" cy="289548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2590920"/>
            <a:ext cx="761760" cy="167616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1143000"/>
            <a:ext cx="0" cy="190512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181480" y="1143000"/>
            <a:ext cx="0" cy="190512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809880"/>
            <a:ext cx="228600" cy="457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362320" y="4800600"/>
            <a:ext cx="45720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4724280"/>
            <a:ext cx="279360" cy="180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6248520"/>
            <a:ext cx="583920" cy="144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86200" y="4800600"/>
            <a:ext cx="466560" cy="144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1447920"/>
            <a:ext cx="22096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Promover actos de gobierno basados en proyectos y l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2590920"/>
            <a:ext cx="220824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Promover proyectos y obtener recursos presupues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1447920"/>
            <a:ext cx="327672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Ejecutar eficientemente los planes estratégicos de obras, servicios, regulación de tránsito y urbanís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62440" y="4292640"/>
            <a:ext cx="327636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arantizar legalidad en los procesos de compra y contrat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429000"/>
            <a:ext cx="327672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Optimizar y transparentar las compras y contrataciones de proveedores y contrat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2590920"/>
            <a:ext cx="327672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arantizar la disponibilidad de bienes y de servicios con recursos propios o aje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447920"/>
            <a:ext cx="221004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Ejercer Control interno, Control de gestión y Rendición de cu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28600"/>
            <a:ext cx="2514600" cy="990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LANIFICAR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MOVER A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 GOBI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28600"/>
            <a:ext cx="2514600" cy="990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JECU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CIONE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UL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228600"/>
            <a:ext cx="2514600" cy="990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181480"/>
            <a:ext cx="7925040" cy="38124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5" y="0"/>
                </a:lnTo>
                <a:lnTo>
                  <a:pt x="21600" y="10800"/>
                </a:lnTo>
                <a:lnTo>
                  <a:pt x="204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fusión de proyectos, planes y ejecu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8040" y="5735520"/>
            <a:ext cx="7924680" cy="914400"/>
          </a:xfrm>
          <a:custGeom>
            <a:avLst/>
            <a:gdLst>
              <a:gd name="textAreaLeft" fmla="*/ 0 w 7924680"/>
              <a:gd name="textAreaRight" fmla="*/ 7925040 w 7924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10" y="0"/>
                </a:lnTo>
                <a:lnTo>
                  <a:pt x="21600" y="10800"/>
                </a:lnTo>
                <a:lnTo>
                  <a:pt x="20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enerar equipos de trabajo eficientes y motiv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gilizar y optimizar los procedimientos administrativo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ras y contrat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533520"/>
            <a:ext cx="2514600" cy="9903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LANIFICAR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MOVER A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 GOBI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533520"/>
            <a:ext cx="2514600" cy="9903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JECU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CIONE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UL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33520"/>
            <a:ext cx="2514600" cy="9903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895480"/>
            <a:ext cx="7924680" cy="381240"/>
          </a:xfrm>
          <a:custGeom>
            <a:avLst/>
            <a:gdLst>
              <a:gd name="textAreaLeft" fmla="*/ 0 w 7924680"/>
              <a:gd name="textAreaRight" fmla="*/ 7925040 w 79246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10" y="0"/>
                </a:lnTo>
                <a:lnTo>
                  <a:pt x="21600" y="10800"/>
                </a:lnTo>
                <a:lnTo>
                  <a:pt x="204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fusión de proyectos, planes y ejecu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4114800"/>
            <a:ext cx="7925040" cy="18288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5" y="0"/>
                </a:lnTo>
                <a:lnTo>
                  <a:pt x="21600" y="10800"/>
                </a:lnTo>
                <a:lnTo>
                  <a:pt x="204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milia de puestos de trabajo estratégicos y grado de aline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estos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arrera administ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fesionales independ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ultura-Liderazgo-Alineamiento-Trabajo en 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828800"/>
            <a:ext cx="8001000" cy="685800"/>
          </a:xfrm>
          <a:custGeom>
            <a:avLst/>
            <a:gdLst>
              <a:gd name="textAreaLeft" fmla="*/ 0 w 8001000"/>
              <a:gd name="textAreaRight" fmla="*/ 8001360 w 8001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51" y="0"/>
                </a:lnTo>
                <a:lnTo>
                  <a:pt x="21600" y="10800"/>
                </a:lnTo>
                <a:lnTo>
                  <a:pt x="201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ciones estratég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304920"/>
            <a:ext cx="28954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LEMEN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STRATEGIA P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GENERAR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200000">
            <a:off x="2362320" y="457200"/>
            <a:ext cx="1774800" cy="10843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4609464"/>
                <a:lnTo>
                  <a:pt x="11061" y="3"/>
                </a:lnTo>
                <a:arcTo wR="10800" hR="10800" stAng="-5317034" swAng="4609464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1219320"/>
            <a:ext cx="28954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LEMEN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UN TABLER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M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2209680"/>
            <a:ext cx="28954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VINCULAR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DICADORE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2000000">
            <a:off x="532800" y="990360"/>
            <a:ext cx="1855800" cy="880920"/>
          </a:xfrm>
          <a:custGeom>
            <a:avLst/>
            <a:gdLst>
              <a:gd name="textAreaLeft" fmla="*/ 0 w 1855800"/>
              <a:gd name="textAreaRight" fmla="*/ 1856160 w 185580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3908942"/>
                <a:lnTo>
                  <a:pt x="13240" y="279"/>
                </a:lnTo>
                <a:arcTo wR="10800" hR="10800" stAng="-4616512" swAng="3908942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200000">
            <a:off x="3200400" y="1447920"/>
            <a:ext cx="1774800" cy="10843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4609464"/>
                <a:lnTo>
                  <a:pt x="11061" y="3"/>
                </a:lnTo>
                <a:arcTo wR="10800" hR="10800" stAng="-5317034" swAng="4609464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2000000">
            <a:off x="1371240" y="1981080"/>
            <a:ext cx="1855800" cy="881280"/>
          </a:xfrm>
          <a:custGeom>
            <a:avLst/>
            <a:gdLst>
              <a:gd name="textAreaLeft" fmla="*/ 0 w 1855800"/>
              <a:gd name="textAreaRight" fmla="*/ 1856160 w 185580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3908942"/>
                <a:lnTo>
                  <a:pt x="13240" y="279"/>
                </a:lnTo>
                <a:arcTo wR="10800" hR="10800" stAng="-4616512" swAng="3908942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04920"/>
            <a:ext cx="3619800" cy="1310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AMILIA DE PUESTOS DE TRABAJ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ALINEACIÓN CON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IMPORTANCIA ESTRATÉ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3429000"/>
            <a:ext cx="3353040" cy="1371600"/>
          </a:xfrm>
          <a:prstGeom prst="rect">
            <a:avLst/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UY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Y POCO ALINEA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800600"/>
            <a:ext cx="335304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CO ALINEAD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CO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4800600"/>
            <a:ext cx="3352680" cy="1371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UY ALINEAD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CO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3429000"/>
            <a:ext cx="3352680" cy="13716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UY ALINEAD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UY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3429000"/>
            <a:ext cx="1224000" cy="2736720"/>
          </a:xfrm>
          <a:prstGeom prst="upArrow">
            <a:avLst>
              <a:gd name="adj1" fmla="val 42417"/>
              <a:gd name="adj2" fmla="val 5589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186840" y="4856040"/>
            <a:ext cx="164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ESTRATÉ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4228560" y="2933280"/>
            <a:ext cx="838440" cy="6705720"/>
          </a:xfrm>
          <a:prstGeom prst="upArrow">
            <a:avLst>
              <a:gd name="adj1" fmla="val 29546"/>
              <a:gd name="adj2" fmla="val 58021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75200" y="6095880"/>
            <a:ext cx="29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ALINEACIÓN CON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95280" y="3429000"/>
            <a:ext cx="3353040" cy="1371600"/>
          </a:xfrm>
          <a:prstGeom prst="rect">
            <a:avLst/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CO ALINEADAS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LTO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4800600"/>
            <a:ext cx="335304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CO ALINEADAS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JO 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4800600"/>
            <a:ext cx="3352680" cy="1371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UY ALINEADAS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JO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3429000"/>
            <a:ext cx="3352680" cy="13716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UY ALINEADAS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TO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04920"/>
            <a:ext cx="28954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LEMEN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STRATEGIA P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GENERAR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200000">
            <a:off x="2362320" y="457200"/>
            <a:ext cx="1774800" cy="10843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4609464"/>
                <a:lnTo>
                  <a:pt x="11061" y="3"/>
                </a:lnTo>
                <a:arcTo wR="10800" hR="10800" stAng="-5317034" swAng="4609464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1219320"/>
            <a:ext cx="28954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LEMEN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UN TABLER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M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2209680"/>
            <a:ext cx="28954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VINCULAR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DICADORE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2000000">
            <a:off x="532800" y="990360"/>
            <a:ext cx="1855800" cy="880920"/>
          </a:xfrm>
          <a:custGeom>
            <a:avLst/>
            <a:gdLst>
              <a:gd name="textAreaLeft" fmla="*/ 0 w 1855800"/>
              <a:gd name="textAreaRight" fmla="*/ 1856160 w 185580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3908942"/>
                <a:lnTo>
                  <a:pt x="13240" y="279"/>
                </a:lnTo>
                <a:arcTo wR="10800" hR="10800" stAng="-4616512" swAng="3908942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200000">
            <a:off x="3200400" y="1447920"/>
            <a:ext cx="1774800" cy="10843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4609464"/>
                <a:lnTo>
                  <a:pt x="11061" y="3"/>
                </a:lnTo>
                <a:arcTo wR="10800" hR="10800" stAng="-5317034" swAng="4609464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2000000">
            <a:off x="1371240" y="1981080"/>
            <a:ext cx="1855800" cy="881280"/>
          </a:xfrm>
          <a:custGeom>
            <a:avLst/>
            <a:gdLst>
              <a:gd name="textAreaLeft" fmla="*/ 0 w 1855800"/>
              <a:gd name="textAreaRight" fmla="*/ 1856160 w 185580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3908942"/>
                <a:lnTo>
                  <a:pt x="13240" y="279"/>
                </a:lnTo>
                <a:arcTo wR="10800" hR="10800" stAng="-4616512" swAng="3908942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304920"/>
            <a:ext cx="3619800" cy="15541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AMILIA DE PUESTOS DE TRABAJ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ALINEACIÓN CON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POTENCIAL DE CRECIMIENTO </a:t>
            </a:r>
            <a:r>
              <a:rPr b="1" lang="es-ES" sz="1600" spc="-1" strike="noStrike">
                <a:solidFill>
                  <a:srgbClr val="3333cc"/>
                </a:solidFill>
                <a:latin typeface="Verdana"/>
              </a:rPr>
              <a:t>HUM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429000"/>
            <a:ext cx="990720" cy="2736720"/>
          </a:xfrm>
          <a:prstGeom prst="upArrow">
            <a:avLst>
              <a:gd name="adj1" fmla="val 42306"/>
              <a:gd name="adj2" fmla="val 52229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-64080" y="475308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POTENCIALHUM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4038120" y="2742840"/>
            <a:ext cx="838440" cy="7086600"/>
          </a:xfrm>
          <a:prstGeom prst="upArrow">
            <a:avLst>
              <a:gd name="adj1" fmla="val 29546"/>
              <a:gd name="adj2" fmla="val 6131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75200" y="6095880"/>
            <a:ext cx="29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ALINEACIÓN CON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733920" y="152280"/>
            <a:ext cx="20574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mover actos de gobierno basados en proyectos y l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24382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mover proyectos y obtener recursos presupues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4267080"/>
            <a:ext cx="2362320" cy="11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jecutar planes estratégicos de obras, servicios y regulación de tránsito y urbanís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4267080"/>
            <a:ext cx="182880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mpactar y difundir proyectos y planes de 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23080" y="152280"/>
            <a:ext cx="201600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rantizar legalidad en los procesos de compra y contrat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1600200"/>
            <a:ext cx="28954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timizar y transparentar las compras y contrataciones de proveedores y contrat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10280" y="4267080"/>
            <a:ext cx="160020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rantizar la disponibilidad de bienes y de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495680"/>
            <a:ext cx="106668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jerc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5715000"/>
            <a:ext cx="280368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ilizar y optimizar los procedimientos administrativos de compras y contrat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5867280"/>
            <a:ext cx="22194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nerar equipos de trabajo eficientes y motiv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5714640" y="5486040"/>
            <a:ext cx="1219320" cy="22860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886200" y="5486400"/>
            <a:ext cx="1244520" cy="38088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305920" y="1371600"/>
            <a:ext cx="304560" cy="289548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2590920"/>
            <a:ext cx="761760" cy="167616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1143000"/>
            <a:ext cx="0" cy="190512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181480" y="1143000"/>
            <a:ext cx="0" cy="190512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09880"/>
            <a:ext cx="228600" cy="457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362320" y="4800600"/>
            <a:ext cx="45720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4724280"/>
            <a:ext cx="279360" cy="180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6248520"/>
            <a:ext cx="583920" cy="144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886200" y="4800600"/>
            <a:ext cx="466560" cy="1440"/>
          </a:xfrm>
          <a:prstGeom prst="line">
            <a:avLst/>
          </a:prstGeom>
          <a:ln w="507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79280" y="189000"/>
          <a:ext cx="8839440" cy="6408720"/>
        </p:xfrm>
        <a:graphic>
          <a:graphicData uri="http://schemas.openxmlformats.org/drawingml/2006/table">
            <a:tbl>
              <a:tblPr/>
              <a:tblGrid>
                <a:gridCol w="4114800"/>
                <a:gridCol w="1600200"/>
                <a:gridCol w="1524240"/>
                <a:gridCol w="16002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re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Secre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ción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, planes de infraestructura y 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04920" y="990720"/>
          <a:ext cx="8458200" cy="4686120"/>
        </p:xfrm>
        <a:graphic>
          <a:graphicData uri="http://schemas.openxmlformats.org/drawingml/2006/table">
            <a:tbl>
              <a:tblPr/>
              <a:tblGrid>
                <a:gridCol w="2286000"/>
                <a:gridCol w="2057400"/>
                <a:gridCol w="1939680"/>
                <a:gridCol w="21751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S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Ú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RT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ción de la forma de medir el grado de éxito alcanz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a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canz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tificación del objetivo a cumpl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ciativas Estratég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ones a implementar ante determinados sucesos o ev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upuesto Asign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rsos financieros destinados por el presupue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uc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 de causa o actuación vinculados al indicador princip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244680"/>
                <a:gridCol w="1252800"/>
                <a:gridCol w="1106280"/>
                <a:gridCol w="1128960"/>
                <a:gridCol w="1224000"/>
                <a:gridCol w="11872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a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canz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ratég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upuesto Asign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uct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1-A2-A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1-B2-B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1-C2-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1-D2-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1-E2-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1-F2-F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1-G2-G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1-H2-H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 y planes de infraestruc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1-I2-I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1-J2-J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5076720" y="2060640"/>
            <a:ext cx="3311640" cy="2808360"/>
          </a:xfrm>
          <a:prstGeom prst="flowChartDocument">
            <a:avLst/>
          </a:prstGeom>
          <a:solidFill>
            <a:srgbClr val="ff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213372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iodi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onsable de informar y de gest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dad de med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ente de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79280" y="189000"/>
          <a:ext cx="8812440" cy="6363720"/>
        </p:xfrm>
        <a:graphic>
          <a:graphicData uri="http://schemas.openxmlformats.org/drawingml/2006/table">
            <a:tbl>
              <a:tblPr/>
              <a:tblGrid>
                <a:gridCol w="3402000"/>
                <a:gridCol w="541044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, planes de infraestructura y 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 flipV="1">
            <a:off x="3657600" y="837720"/>
            <a:ext cx="5181480" cy="4391280"/>
          </a:xfrm>
          <a:prstGeom prst="wedgeEllipseCallout">
            <a:avLst>
              <a:gd name="adj1" fmla="val -50490"/>
              <a:gd name="adj2" fmla="val 50430"/>
            </a:avLst>
          </a:prstGeom>
          <a:solidFill>
            <a:srgbClr val="ccffff"/>
          </a:solidFill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1219320"/>
            <a:ext cx="41148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cesidades futuras, actuales y pe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empo dedicado a Identificación, Desarrollo, Lanzamiento y Segui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úmero de proyectos Lanzados, Alcanzados, Postergados y Abort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ursos afectados vs. Complej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dos de avance (Gantt – Speed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nderación prioridades Alta, Media y Ba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fectos en Corto, Medio y Largo Pl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79280" y="189000"/>
          <a:ext cx="8812440" cy="6363720"/>
        </p:xfrm>
        <a:graphic>
          <a:graphicData uri="http://schemas.openxmlformats.org/drawingml/2006/table">
            <a:tbl>
              <a:tblPr/>
              <a:tblGrid>
                <a:gridCol w="3402000"/>
                <a:gridCol w="541044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, planes de infraestructura y 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 flipV="1">
            <a:off x="3657600" y="684720"/>
            <a:ext cx="5181480" cy="4614840"/>
          </a:xfrm>
          <a:prstGeom prst="wedgeEllipseCallout">
            <a:avLst>
              <a:gd name="adj1" fmla="val -57203"/>
              <a:gd name="adj2" fmla="val 36032"/>
            </a:avLst>
          </a:prstGeom>
          <a:solidFill>
            <a:srgbClr val="ccffff"/>
          </a:solidFill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1219320"/>
            <a:ext cx="3962520" cy="27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joras propuestas y mejoras implement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lidad de las propue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nking de áreas generado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úmero de proyectos Lanzados, Alcanzados, Postergados y Abort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dos de avance (Gantt - Speed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nderación prioridades Alta, Media y Ba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fectos en Corto, Medio y Largo Pl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89000"/>
          <a:ext cx="8812440" cy="6363720"/>
        </p:xfrm>
        <a:graphic>
          <a:graphicData uri="http://schemas.openxmlformats.org/drawingml/2006/table">
            <a:tbl>
              <a:tblPr/>
              <a:tblGrid>
                <a:gridCol w="3402000"/>
                <a:gridCol w="541044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, planes de infraestructura y 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 flipV="1">
            <a:off x="3733920" y="1371240"/>
            <a:ext cx="5181480" cy="2286000"/>
          </a:xfrm>
          <a:prstGeom prst="wedgeEllipseCallout">
            <a:avLst>
              <a:gd name="adj1" fmla="val -55425"/>
              <a:gd name="adj2" fmla="val 28611"/>
            </a:avLst>
          </a:prstGeom>
          <a:solidFill>
            <a:srgbClr val="ffffcc"/>
          </a:solidFill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56000" y="1700280"/>
            <a:ext cx="403884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iones o No Obje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iones salvadas o solucionadas vs. Complej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umplimiento de plazos vinculadas a prioridades alta, media y ba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179280" y="189000"/>
          <a:ext cx="8812440" cy="6363720"/>
        </p:xfrm>
        <a:graphic>
          <a:graphicData uri="http://schemas.openxmlformats.org/drawingml/2006/table">
            <a:tbl>
              <a:tblPr/>
              <a:tblGrid>
                <a:gridCol w="3402000"/>
                <a:gridCol w="541044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, planes de infraestructura y 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 flipV="1">
            <a:off x="3657600" y="2437920"/>
            <a:ext cx="5181480" cy="2819520"/>
          </a:xfrm>
          <a:prstGeom prst="wedgeEllipseCallout">
            <a:avLst>
              <a:gd name="adj1" fmla="val -55731"/>
              <a:gd name="adj2" fmla="val 48587"/>
            </a:avLst>
          </a:prstGeom>
          <a:solidFill>
            <a:srgbClr val="ffffcc"/>
          </a:solidFill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40360" y="2781360"/>
            <a:ext cx="42670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ntidad de proveedores calificados, activos, cumplid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ención de proveedores cumpli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iclos de contratación vs. Complej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ntidad de pliegos vendidos, ofertas recibi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ntidad de licitaciones desier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79280" y="189000"/>
          <a:ext cx="8812440" cy="6363720"/>
        </p:xfrm>
        <a:graphic>
          <a:graphicData uri="http://schemas.openxmlformats.org/drawingml/2006/table">
            <a:tbl>
              <a:tblPr/>
              <a:tblGrid>
                <a:gridCol w="3402000"/>
                <a:gridCol w="541044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, planes de infraestructura y 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 flipV="1">
            <a:off x="3733920" y="2514240"/>
            <a:ext cx="5181480" cy="2819520"/>
          </a:xfrm>
          <a:prstGeom prst="wedgeEllipseCallout">
            <a:avLst>
              <a:gd name="adj1" fmla="val -56314"/>
              <a:gd name="adj2" fmla="val 26009"/>
            </a:avLst>
          </a:prstGeom>
          <a:solidFill>
            <a:srgbClr val="ffffcc"/>
          </a:solidFill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852640"/>
            <a:ext cx="3726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cadores para cada progra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ormación por excepción sobre atrasos de procesos operativos como inicio y fin de obra, desvíos financieros por ajus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alimentación por relaciones con la comunidad, Encue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jecución unidades físic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79280" y="189000"/>
          <a:ext cx="8812440" cy="6363720"/>
        </p:xfrm>
        <a:graphic>
          <a:graphicData uri="http://schemas.openxmlformats.org/drawingml/2006/table">
            <a:tbl>
              <a:tblPr/>
              <a:tblGrid>
                <a:gridCol w="3402000"/>
                <a:gridCol w="541044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, planes de infraestructura y 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 flipV="1">
            <a:off x="3657600" y="2437920"/>
            <a:ext cx="5334120" cy="3438720"/>
          </a:xfrm>
          <a:prstGeom prst="wedgeEllipseCallout">
            <a:avLst>
              <a:gd name="adj1" fmla="val -58546"/>
              <a:gd name="adj2" fmla="val 16018"/>
            </a:avLst>
          </a:prstGeom>
          <a:solidFill>
            <a:srgbClr val="ffffcc"/>
          </a:solidFill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2895480"/>
            <a:ext cx="4267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iclos de contratación, Cantidad de licitaciones desiertas vs. Contrataciones Direc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esupuesto oficiales vs. Desiertas o No admis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osición y época del año para DNU y 137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moras y prioridades alta, media y ba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179280" y="189000"/>
          <a:ext cx="8812440" cy="6363720"/>
        </p:xfrm>
        <a:graphic>
          <a:graphicData uri="http://schemas.openxmlformats.org/drawingml/2006/table">
            <a:tbl>
              <a:tblPr/>
              <a:tblGrid>
                <a:gridCol w="3402000"/>
                <a:gridCol w="541044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, planes de infraestructura y 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 flipV="1">
            <a:off x="3657600" y="1828440"/>
            <a:ext cx="5181480" cy="2819520"/>
          </a:xfrm>
          <a:prstGeom prst="wedgeEllipseCallout">
            <a:avLst>
              <a:gd name="adj1" fmla="val -54842"/>
              <a:gd name="adj2" fmla="val -39472"/>
            </a:avLst>
          </a:prstGeom>
          <a:solidFill>
            <a:srgbClr val="ffffcc"/>
          </a:solidFill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84720" y="2421000"/>
            <a:ext cx="41148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cadores de RRHH sobre importancia, alineación y pot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cuestas, acciones y ev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ueva medición de los resultados alcanz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79280" y="189000"/>
          <a:ext cx="8812440" cy="6363720"/>
        </p:xfrm>
        <a:graphic>
          <a:graphicData uri="http://schemas.openxmlformats.org/drawingml/2006/table">
            <a:tbl>
              <a:tblPr/>
              <a:tblGrid>
                <a:gridCol w="3402000"/>
                <a:gridCol w="541044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, planes de infraestructura y 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 flipV="1">
            <a:off x="3657600" y="3352680"/>
            <a:ext cx="5181480" cy="2362320"/>
          </a:xfrm>
          <a:prstGeom prst="wedgeEllipseCallout">
            <a:avLst>
              <a:gd name="adj1" fmla="val -58518"/>
              <a:gd name="adj2" fmla="val -26615"/>
            </a:avLst>
          </a:prstGeom>
          <a:solidFill>
            <a:srgbClr val="ccffcc"/>
          </a:solidFill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3716280"/>
            <a:ext cx="35211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sas de errores y objeciones detectadas en auditorías e implementadas con éxi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sa de mejoras implementadas a partir del relevamiento y la preven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179280" y="189000"/>
          <a:ext cx="8812440" cy="6363720"/>
        </p:xfrm>
        <a:graphic>
          <a:graphicData uri="http://schemas.openxmlformats.org/drawingml/2006/table">
            <a:tbl>
              <a:tblPr/>
              <a:tblGrid>
                <a:gridCol w="3402000"/>
                <a:gridCol w="541044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, planes de infraestructura y 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 flipV="1">
            <a:off x="3657600" y="3656880"/>
            <a:ext cx="5181480" cy="2508120"/>
          </a:xfrm>
          <a:prstGeom prst="wedgeEllipseCallout">
            <a:avLst>
              <a:gd name="adj1" fmla="val -58578"/>
              <a:gd name="adj2" fmla="val -32217"/>
            </a:avLst>
          </a:prstGeom>
          <a:solidFill>
            <a:srgbClr val="ccffcc"/>
          </a:solidFill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962520"/>
            <a:ext cx="39625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cuestas de opinión pública enfocada a temas específic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sicionamiento, Medios utilizados vs. Efecto alcanz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minución de los reclamos y quej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cuestas ínter jurisdic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179280" y="189000"/>
          <a:ext cx="8812440" cy="6363720"/>
        </p:xfrm>
        <a:graphic>
          <a:graphicData uri="http://schemas.openxmlformats.org/drawingml/2006/table">
            <a:tbl>
              <a:tblPr/>
              <a:tblGrid>
                <a:gridCol w="3402000"/>
                <a:gridCol w="541044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actos de gobierno basados en proyectos y le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proyectos y obtener recursos presupues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egalidad en los procesos de compra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r y transparentar las compras y contrataciones de proveedores y contrat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r eficientemente los planes estratégicos de obras, servicios y regulación de tránsito y urban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izar la disponibilidad de bienes y de servicios con recursos propios o aj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lizar y optimizar los procedimientos administrativos de compras y contra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rcer Control interno, Control de gestión y 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usión de proyectos, planes de infraestructura y 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r equipos de trabajo eficientes y mot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 flipV="1">
            <a:off x="3733920" y="3352680"/>
            <a:ext cx="5181480" cy="2819520"/>
          </a:xfrm>
          <a:prstGeom prst="wedgeEllipseCallout">
            <a:avLst>
              <a:gd name="adj1" fmla="val -60481"/>
              <a:gd name="adj2" fmla="val -54504"/>
            </a:avLst>
          </a:prstGeom>
          <a:solidFill>
            <a:srgbClr val="ffffcc"/>
          </a:solidFill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789360"/>
            <a:ext cx="411480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ventario de familia de puestos estratégicos y “tasa” de disponibi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cuestas, acciones y ev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ueva medición de los resultados alcanz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ursos disponibles por búsquedas intern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427200" y="2714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máfo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95800" y="2062080"/>
            <a:ext cx="399960" cy="3621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09560" y="3228840"/>
            <a:ext cx="400320" cy="36216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71960" y="2090880"/>
            <a:ext cx="400320" cy="36180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48480" y="4195800"/>
            <a:ext cx="399960" cy="36180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48480" y="3247920"/>
            <a:ext cx="399960" cy="3621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25000" y="2062080"/>
            <a:ext cx="399960" cy="3621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25000" y="3228840"/>
            <a:ext cx="399960" cy="3621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81120" y="2071800"/>
            <a:ext cx="399960" cy="36180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48480" y="2081160"/>
            <a:ext cx="399960" cy="3621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48480" y="4962600"/>
            <a:ext cx="399960" cy="36180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185840"/>
          <a:ext cx="8381880" cy="4486320"/>
        </p:xfrm>
        <a:graphic>
          <a:graphicData uri="http://schemas.openxmlformats.org/drawingml/2006/table">
            <a:tbl>
              <a:tblPr/>
              <a:tblGrid>
                <a:gridCol w="1244520"/>
                <a:gridCol w="432000"/>
                <a:gridCol w="1244520"/>
                <a:gridCol w="431640"/>
                <a:gridCol w="1244880"/>
                <a:gridCol w="431640"/>
                <a:gridCol w="1244520"/>
                <a:gridCol w="432000"/>
                <a:gridCol w="1244520"/>
                <a:gridCol w="431640"/>
              </a:tblGrid>
              <a:tr h="455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RUPOS DE INTERÉS POLÍ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MUN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ESUPUESTO FINANCI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CESOS INTER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RENDIZAJE Y CRE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ver actos de gobierno basados en proyectos y leye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ptimizar y transparentar las compras y contrataciones de proveedores y contrat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ver proyectos y obtener recursos presupuestario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jecutar eficientemente los planes estratégicos de obras, servicios y regulación de tránsito y urban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gilizar y optimizar los procedimientos administrativos de compras y contrat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arantizar legalidad en los procesos de compra y contrat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arantizar la disponibilidad de bienes y de servicios con recursos propios o aje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r equipos de trabajo eficientes y motiv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jercer Control interno, Control de gestión y Rendición de cue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fusión de proyectos, planes de infraestructura y ejecu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90720" y="1447920"/>
            <a:ext cx="723888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IV Jornadas Nacionales de Profesionale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iencias Económicas del Sector Público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24 al 26 de Agosto de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Fin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Muchas gracias a los asistentes y felicitaciones a las autor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de las IV Jorn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5360" y="4724280"/>
            <a:ext cx="32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TRAPR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NER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1517000">
            <a:off x="1620000" y="3885840"/>
            <a:ext cx="2806920" cy="129528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37" y="14453"/>
                </a:moveTo>
                <a:arcTo wR="-9864" hR="-9864" stAng="9495862" swAng="-4641676"/>
                <a:lnTo>
                  <a:pt x="9092" y="136"/>
                </a:lnTo>
                <a:arcTo wR="10800" hR="10800" stAng="-5945814" swAng="4641676"/>
                <a:lnTo>
                  <a:pt x="23340" y="5801"/>
                </a:lnTo>
                <a:lnTo>
                  <a:pt x="21571" y="9917"/>
                </a:lnTo>
                <a:lnTo>
                  <a:pt x="17455" y="81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800000">
            <a:off x="4668480" y="1752480"/>
            <a:ext cx="3095640" cy="129564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1637" y="14453"/>
                </a:moveTo>
                <a:arcTo wR="-9864" hR="-9864" stAng="9495862" swAng="-3273198"/>
                <a:lnTo>
                  <a:pt x="13360" y="308"/>
                </a:lnTo>
                <a:arcTo wR="10800" hR="10800" stAng="-4577336" swAng="3273198"/>
                <a:lnTo>
                  <a:pt x="23340" y="5801"/>
                </a:lnTo>
                <a:lnTo>
                  <a:pt x="21571" y="9917"/>
                </a:lnTo>
                <a:lnTo>
                  <a:pt x="17455" y="81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717480" y="2960280"/>
            <a:ext cx="2949480" cy="1295280"/>
          </a:xfrm>
          <a:custGeom>
            <a:avLst/>
            <a:gdLst>
              <a:gd name="textAreaLeft" fmla="*/ 0 w 2949480"/>
              <a:gd name="textAreaRight" fmla="*/ 2949840 w 29494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303" y="13845"/>
                </a:moveTo>
                <a:arcTo wR="-9973" hR="-9973" stAng="9733363" swAng="-3537676"/>
                <a:lnTo>
                  <a:pt x="13277" y="288"/>
                </a:lnTo>
                <a:arcTo wR="10800" hR="10800" stAng="-4604313" swAng="3537676"/>
                <a:lnTo>
                  <a:pt x="23655" y="6678"/>
                </a:lnTo>
                <a:lnTo>
                  <a:pt x="21641" y="10594"/>
                </a:lnTo>
                <a:lnTo>
                  <a:pt x="17726" y="85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6600000">
            <a:off x="5348880" y="3129480"/>
            <a:ext cx="2662200" cy="1584360"/>
          </a:xfrm>
          <a:custGeom>
            <a:avLst/>
            <a:gdLst>
              <a:gd name="textAreaLeft" fmla="*/ 0 w 2662200"/>
              <a:gd name="textAreaRight" fmla="*/ 2662200 w 26622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1637" y="14453"/>
                </a:moveTo>
                <a:arcTo wR="-9864" hR="-9864" stAng="9495862" swAng="-4574901"/>
                <a:lnTo>
                  <a:pt x="9300" y="105"/>
                </a:lnTo>
                <a:arcTo wR="10800" hR="10800" stAng="-5879039" swAng="4574901"/>
                <a:lnTo>
                  <a:pt x="23340" y="5801"/>
                </a:lnTo>
                <a:lnTo>
                  <a:pt x="21571" y="9917"/>
                </a:lnTo>
                <a:lnTo>
                  <a:pt x="17455" y="81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4000" y="431640"/>
            <a:ext cx="5866920" cy="703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ROCESO DE SATISFACCIÓN DE 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NTRE PARTES PRI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960" y="3352680"/>
            <a:ext cx="28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FERTA DE BI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Y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67680" y="3124080"/>
            <a:ext cx="32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MANDA DE BI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Y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2440" y="1828800"/>
            <a:ext cx="407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ST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 ENTREGA DEL B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5720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MANDA DE BIENES, SERVICIOS y 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3520" y="4289400"/>
            <a:ext cx="219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TISF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58000" y="2631960"/>
            <a:ext cx="176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CIS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06160" y="2489040"/>
            <a:ext cx="207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PLIC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5080" y="5729400"/>
            <a:ext cx="186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1160800">
            <a:off x="2565360" y="2006280"/>
            <a:ext cx="2806920" cy="129528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37" y="14453"/>
                </a:moveTo>
                <a:arcTo wR="-9864" hR="-9864" stAng="9495862" swAng="-8234516"/>
                <a:lnTo>
                  <a:pt x="719" y="6926"/>
                </a:lnTo>
                <a:arcTo wR="10800" hR="10800" stAng="-9538653" swAng="8234516"/>
                <a:lnTo>
                  <a:pt x="23340" y="5801"/>
                </a:lnTo>
                <a:lnTo>
                  <a:pt x="21571" y="9917"/>
                </a:lnTo>
                <a:lnTo>
                  <a:pt x="17455" y="81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1517000">
            <a:off x="2133360" y="4876560"/>
            <a:ext cx="2806560" cy="1295280"/>
          </a:xfrm>
          <a:custGeom>
            <a:avLst/>
            <a:gdLst>
              <a:gd name="textAreaLeft" fmla="*/ 0 w 2806560"/>
              <a:gd name="textAreaRight" fmla="*/ 2806920 w 2806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37" y="14453"/>
                </a:moveTo>
                <a:arcTo wR="-9864" hR="-9864" stAng="9495862" swAng="-4641676"/>
                <a:lnTo>
                  <a:pt x="9092" y="136"/>
                </a:lnTo>
                <a:arcTo wR="10800" hR="10800" stAng="-5945814" swAng="4641676"/>
                <a:lnTo>
                  <a:pt x="23340" y="5801"/>
                </a:lnTo>
                <a:lnTo>
                  <a:pt x="21571" y="9917"/>
                </a:lnTo>
                <a:lnTo>
                  <a:pt x="17455" y="81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26200">
            <a:off x="4419360" y="2819520"/>
            <a:ext cx="3095640" cy="129528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37" y="14453"/>
                </a:moveTo>
                <a:arcTo wR="-9864" hR="-9864" stAng="9495862" swAng="-3273198"/>
                <a:lnTo>
                  <a:pt x="13360" y="308"/>
                </a:lnTo>
                <a:arcTo wR="10800" hR="10800" stAng="-4577336" swAng="3273198"/>
                <a:lnTo>
                  <a:pt x="23340" y="5801"/>
                </a:lnTo>
                <a:lnTo>
                  <a:pt x="21571" y="9917"/>
                </a:lnTo>
                <a:lnTo>
                  <a:pt x="17455" y="81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5153000">
            <a:off x="923400" y="4276800"/>
            <a:ext cx="2949840" cy="1295280"/>
          </a:xfrm>
          <a:custGeom>
            <a:avLst/>
            <a:gdLst>
              <a:gd name="textAreaLeft" fmla="*/ 0 w 2949840"/>
              <a:gd name="textAreaRight" fmla="*/ 2950200 w 29498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303" y="14297"/>
                </a:moveTo>
                <a:arcTo wR="-10120" hR="-10120" stAng="9587112" swAng="-2603431"/>
                <a:lnTo>
                  <a:pt x="15601" y="1126"/>
                </a:lnTo>
                <a:arcTo wR="10800" hR="10800" stAng="-3816319" swAng="2603431"/>
                <a:lnTo>
                  <a:pt x="23468" y="6135"/>
                </a:lnTo>
                <a:lnTo>
                  <a:pt x="21666" y="10038"/>
                </a:lnTo>
                <a:lnTo>
                  <a:pt x="17763" y="823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6600000">
            <a:off x="5023440" y="3891240"/>
            <a:ext cx="2662200" cy="1584360"/>
          </a:xfrm>
          <a:custGeom>
            <a:avLst/>
            <a:gdLst>
              <a:gd name="textAreaLeft" fmla="*/ 0 w 2662200"/>
              <a:gd name="textAreaRight" fmla="*/ 2662200 w 26622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1637" y="14453"/>
                </a:moveTo>
                <a:arcTo wR="-9864" hR="-9864" stAng="9495862" swAng="-3732466"/>
                <a:lnTo>
                  <a:pt x="11940" y="60"/>
                </a:lnTo>
                <a:arcTo wR="10800" hR="10800" stAng="-5036603" swAng="3732466"/>
                <a:lnTo>
                  <a:pt x="23340" y="5801"/>
                </a:lnTo>
                <a:lnTo>
                  <a:pt x="21571" y="9917"/>
                </a:lnTo>
                <a:lnTo>
                  <a:pt x="17455" y="81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922200">
            <a:off x="1097280" y="4000680"/>
            <a:ext cx="1297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Verdana"/>
              </a:rPr>
              <a:t>DEM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0797800">
            <a:off x="6389640" y="3276720"/>
            <a:ext cx="1297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Verdana"/>
              </a:rPr>
              <a:t>DEM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408400">
            <a:off x="3034080" y="1907280"/>
            <a:ext cx="1297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Verdana"/>
              </a:rPr>
              <a:t>DEM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920" y="404640"/>
            <a:ext cx="5866920" cy="703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ROCESO DE SATISFACCIÓN DE 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UANDO EL “ESTADO” ES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30120" y="3733920"/>
            <a:ext cx="134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A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2600000">
            <a:off x="4267080" y="4876560"/>
            <a:ext cx="2949840" cy="1295280"/>
          </a:xfrm>
          <a:custGeom>
            <a:avLst/>
            <a:gdLst>
              <a:gd name="textAreaLeft" fmla="*/ 0 w 2949840"/>
              <a:gd name="textAreaRight" fmla="*/ 2950200 w 29498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350" y="13475"/>
                </a:moveTo>
                <a:arcTo wR="-9821" hR="-9821" stAng="9851689" swAng="-2868008"/>
                <a:lnTo>
                  <a:pt x="15601" y="1126"/>
                </a:lnTo>
                <a:arcTo wR="10800" hR="10800" stAng="-3816319" swAng="2868008"/>
                <a:lnTo>
                  <a:pt x="23790" y="7123"/>
                </a:lnTo>
                <a:lnTo>
                  <a:pt x="21589" y="11061"/>
                </a:lnTo>
                <a:lnTo>
                  <a:pt x="17652" y="88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500000">
            <a:off x="3401640" y="3831840"/>
            <a:ext cx="2949480" cy="1219320"/>
          </a:xfrm>
          <a:custGeom>
            <a:avLst/>
            <a:gdLst>
              <a:gd name="textAreaLeft" fmla="*/ 0 w 2949480"/>
              <a:gd name="textAreaRight" fmla="*/ 2949840 w 29494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962" y="12379"/>
                </a:moveTo>
                <a:arcTo wR="-9964" hR="-9964" stAng="10252961" swAng="-3269280"/>
                <a:lnTo>
                  <a:pt x="15601" y="1126"/>
                </a:lnTo>
                <a:arcTo wR="10800" hR="10800" stAng="-3816319" swAng="3269280"/>
                <a:lnTo>
                  <a:pt x="24129" y="8661"/>
                </a:lnTo>
                <a:lnTo>
                  <a:pt x="21545" y="12234"/>
                </a:lnTo>
                <a:lnTo>
                  <a:pt x="17972" y="964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768240"/>
            <a:ext cx="289584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SIÓN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ARTICIÓN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RAS Y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133720"/>
            <a:ext cx="335268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PALDO POLÍTICO PARA PROGRAMAS PRESUPUES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2209680"/>
            <a:ext cx="312408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CESIDADES BÁSICAS DE VECINOS Y COMU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276720"/>
            <a:ext cx="327636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TISFACER CONDICIONES DE COMPETITIVIDA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JORAR CAPACIDAD DE EJEC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952880"/>
            <a:ext cx="327636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RBITRAR RRH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IOS Y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RCEROS GENERANDO UNA ESTRUCTURA 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517000">
            <a:off x="1676520" y="2819160"/>
            <a:ext cx="2590560" cy="129528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5002345"/>
                <a:lnTo>
                  <a:pt x="9828" y="44"/>
                </a:lnTo>
                <a:arcTo wR="10800" hR="10800" stAng="-5709915" swAng="5002345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9552600">
            <a:off x="4799880" y="2742840"/>
            <a:ext cx="2806560" cy="1655640"/>
          </a:xfrm>
          <a:custGeom>
            <a:avLst/>
            <a:gdLst>
              <a:gd name="textAreaLeft" fmla="*/ 360 w 2806560"/>
              <a:gd name="textAreaRight" fmla="*/ 2807280 w 280656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2260" y="14874"/>
                </a:moveTo>
                <a:arcTo wR="-9462" hR="-9462" stAng="9269950" swAng="-3963636"/>
                <a:lnTo>
                  <a:pt x="10506" y="4"/>
                </a:lnTo>
                <a:arcTo wR="10800" hR="10800" stAng="-5493686" swAng="3963636"/>
                <a:lnTo>
                  <a:pt x="22985" y="4988"/>
                </a:lnTo>
                <a:lnTo>
                  <a:pt x="21394" y="9479"/>
                </a:lnTo>
                <a:lnTo>
                  <a:pt x="16903" y="78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8081600">
            <a:off x="875880" y="1561680"/>
            <a:ext cx="2590920" cy="129564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5285737"/>
                <a:lnTo>
                  <a:pt x="8945" y="160"/>
                </a:lnTo>
                <a:arcTo wR="10800" hR="10800" stAng="-5993307" swAng="5285737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4000800">
            <a:off x="5215680" y="1566000"/>
            <a:ext cx="2806560" cy="1655280"/>
          </a:xfrm>
          <a:custGeom>
            <a:avLst/>
            <a:gdLst>
              <a:gd name="textAreaLeft" fmla="*/ 360 w 2806560"/>
              <a:gd name="textAreaRight" fmla="*/ 2807280 w 2806560"/>
              <a:gd name="textAreaTop" fmla="*/ 0 h 1655280"/>
              <a:gd name="textAreaBottom" fmla="*/ 1655640 h 1655280"/>
            </a:gdLst>
            <a:ahLst/>
            <a:rect l="textAreaLeft" t="textAreaTop" r="textAreaRight" b="textAreaBottom"/>
            <a:pathLst>
              <a:path w="21600" h="21600">
                <a:moveTo>
                  <a:pt x="2260" y="14874"/>
                </a:moveTo>
                <a:arcTo wR="-9462" hR="-9462" stAng="9269950" swAng="-3984951"/>
                <a:lnTo>
                  <a:pt x="10439" y="6"/>
                </a:lnTo>
                <a:arcTo wR="10800" hR="10800" stAng="-5515001" swAng="3984951"/>
                <a:lnTo>
                  <a:pt x="22985" y="4988"/>
                </a:lnTo>
                <a:lnTo>
                  <a:pt x="21394" y="9479"/>
                </a:lnTo>
                <a:lnTo>
                  <a:pt x="16903" y="78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rot="6815400">
            <a:off x="4528800" y="4994640"/>
            <a:ext cx="2806920" cy="1655640"/>
          </a:xfrm>
          <a:custGeom>
            <a:avLst/>
            <a:gdLst>
              <a:gd name="textAreaLeft" fmla="*/ -360 w 2806920"/>
              <a:gd name="textAreaRight" fmla="*/ 2806920 w 280692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2260" y="14874"/>
                </a:moveTo>
                <a:arcTo wR="-9462" hR="-9462" stAng="9269950" swAng="-4415763"/>
                <a:lnTo>
                  <a:pt x="9092" y="136"/>
                </a:lnTo>
                <a:arcTo wR="10800" hR="10800" stAng="-5945814" swAng="4415763"/>
                <a:lnTo>
                  <a:pt x="22985" y="4988"/>
                </a:lnTo>
                <a:lnTo>
                  <a:pt x="21394" y="9479"/>
                </a:lnTo>
                <a:lnTo>
                  <a:pt x="16903" y="78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4659200">
            <a:off x="2018880" y="5142600"/>
            <a:ext cx="2590920" cy="129564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5238244"/>
                <a:lnTo>
                  <a:pt x="9092" y="136"/>
                </a:lnTo>
                <a:arcTo wR="10800" hR="10800" stAng="-5945814" swAng="5238244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10800" y="177840"/>
            <a:ext cx="5529960" cy="3373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ESTRATEGIA BASADA EN LA “GENERACIÓN DE VALO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9880" y="2997360"/>
            <a:ext cx="251928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OPE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5105520"/>
            <a:ext cx="25002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ORT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6400" y="1844640"/>
            <a:ext cx="251928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762120"/>
            <a:ext cx="238752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GRUP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INTER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O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7160" y="4076640"/>
            <a:ext cx="251928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1700280"/>
            <a:ext cx="432000" cy="3384360"/>
          </a:xfrm>
          <a:custGeom>
            <a:avLst/>
            <a:gdLst>
              <a:gd name="textAreaLeft" fmla="*/ 0 w 432000"/>
              <a:gd name="textAreaRight" fmla="*/ 155880 w 43200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2514600"/>
            <a:ext cx="3672000" cy="1981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GENERAR “VAL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BIENES, SERVICIO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EG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rot="6815400">
            <a:off x="5520240" y="4626360"/>
            <a:ext cx="2806920" cy="1656000"/>
          </a:xfrm>
          <a:custGeom>
            <a:avLst/>
            <a:gdLst>
              <a:gd name="textAreaLeft" fmla="*/ -360 w 2806920"/>
              <a:gd name="textAreaRight" fmla="*/ 2806920 w 280692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21600" h="21600">
                <a:moveTo>
                  <a:pt x="2260" y="14874"/>
                </a:moveTo>
                <a:arcTo wR="-9462" hR="-9462" stAng="9269950" swAng="-3908204"/>
                <a:lnTo>
                  <a:pt x="10680" y="1"/>
                </a:lnTo>
                <a:arcTo wR="10800" hR="10800" stAng="-5438254" swAng="3908204"/>
                <a:lnTo>
                  <a:pt x="22985" y="4988"/>
                </a:lnTo>
                <a:lnTo>
                  <a:pt x="21394" y="9479"/>
                </a:lnTo>
                <a:lnTo>
                  <a:pt x="16903" y="78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3840000">
            <a:off x="5753160" y="876240"/>
            <a:ext cx="2590920" cy="12952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5238244"/>
                <a:lnTo>
                  <a:pt x="9092" y="136"/>
                </a:lnTo>
                <a:arcTo wR="10800" hR="10800" stAng="-5945814" swAng="5238244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609480"/>
            <a:ext cx="367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ENER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100000">
            <a:off x="3352680" y="1219320"/>
            <a:ext cx="2590920" cy="12952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5238244"/>
                <a:lnTo>
                  <a:pt x="9092" y="136"/>
                </a:lnTo>
                <a:arcTo wR="10800" hR="10800" stAng="-5945814" swAng="5238244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590920"/>
            <a:ext cx="3672000" cy="165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TABL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4572000"/>
            <a:ext cx="367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INCULAR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DICADORE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100000">
            <a:off x="4724280" y="2971800"/>
            <a:ext cx="2590920" cy="12952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5238244"/>
                <a:lnTo>
                  <a:pt x="9092" y="136"/>
                </a:lnTo>
                <a:arcTo wR="10800" hR="10800" stAng="-5945814" swAng="5238244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2000000">
            <a:off x="3352320" y="4114440"/>
            <a:ext cx="2590920" cy="12952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5238244"/>
                <a:lnTo>
                  <a:pt x="9092" y="136"/>
                </a:lnTo>
                <a:arcTo wR="10800" hR="10800" stAng="-5945814" swAng="5238244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2000000">
            <a:off x="1142640" y="1828440"/>
            <a:ext cx="2590920" cy="12952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848" y="12669"/>
                </a:moveTo>
                <a:arcTo wR="-9145" hR="-9145" stAng="10092430" swAng="-5238244"/>
                <a:lnTo>
                  <a:pt x="9092" y="136"/>
                </a:lnTo>
                <a:arcTo wR="10800" hR="10800" stAng="-5945814" swAng="5238244"/>
                <a:lnTo>
                  <a:pt x="24015" y="8041"/>
                </a:lnTo>
                <a:lnTo>
                  <a:pt x="21283" y="12215"/>
                </a:lnTo>
                <a:lnTo>
                  <a:pt x="17109" y="948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57200"/>
            <a:ext cx="2857680" cy="3373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ROCESO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00360" y="3989520"/>
            <a:ext cx="3801960" cy="831600"/>
          </a:xfrm>
          <a:prstGeom prst="rect">
            <a:avLst/>
          </a:prstGeom>
          <a:solidFill>
            <a:srgbClr val="cce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1828800"/>
            <a:ext cx="3802320" cy="822240"/>
          </a:xfrm>
          <a:prstGeom prst="rect">
            <a:avLst/>
          </a:prstGeom>
          <a:solidFill>
            <a:srgbClr val="cce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INANC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895480"/>
            <a:ext cx="3802320" cy="831960"/>
          </a:xfrm>
          <a:prstGeom prst="rect">
            <a:avLst/>
          </a:prstGeom>
          <a:solidFill>
            <a:srgbClr val="cce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17640" y="5068800"/>
            <a:ext cx="3802320" cy="831960"/>
          </a:xfrm>
          <a:prstGeom prst="rect">
            <a:avLst/>
          </a:prstGeom>
          <a:solidFill>
            <a:srgbClr val="cce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RENDIZAJE Y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7840" y="660240"/>
            <a:ext cx="51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ERSPECTIVAS TRADICIONALES DEL B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N LA ACTIVIDAD PRIV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20:09:42Z</dcterms:created>
  <dc:creator>PEKAREK</dc:creator>
  <dc:description/>
  <dc:language>en-US</dc:language>
  <cp:lastModifiedBy>C.P.C.E.C.A.B.A.</cp:lastModifiedBy>
  <dcterms:modified xsi:type="dcterms:W3CDTF">2005-08-30T13:17:26Z</dcterms:modified>
  <cp:revision>408</cp:revision>
  <dc:subject/>
  <dc:title>Presentación de PowerPoint</dc:title>
</cp:coreProperties>
</file>