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ARPEGIO.WAV" ContentType="audio/x-wav"/>
  <Override PartName="/ppt/media/LATIGO.WAV" ContentType="audio/x-wav"/>
  <Override PartName="/ppt/media/CLIC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C3D-F46E-4024-9483-692F61F4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04B-1E53-441F-9AA7-E680F7E2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868-DE9E-4CC2-8EE6-F30F50D9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40A-42EB-4647-B3F8-B17181F9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814A-4D76-40D5-A3F4-5BE0AA19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EA81-1566-42AB-8A19-3B944B5D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3D82-EEFE-41E0-9C65-581DB872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41CE-6617-4ADD-8CA8-3AB260DA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EE16-629D-48A6-B5E2-94313425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0998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A49A-486B-44A7-A579-ACA390AB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E211-4F15-479F-9D84-B99B617E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4976-B082-44D8-84B3-E35599A5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82EC-35C6-4D64-A97E-18E2C148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6D9B-A18E-4A57-A579-7CDB1614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A4F3-4CB6-46D5-8DB9-60D6CC63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4B8F-6D61-4985-A357-FD20E85C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D895-372C-4F7E-A061-59CD8D39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1E8-BA2A-400D-8042-63399918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3E4-F508-4178-B77B-D338199A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FE3-4F8E-46A9-8274-33C1AECF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0998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DD2-FBC0-496C-A4AD-20ABE534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E7C1-AAEF-438C-B329-F3C3CB30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DD8-9522-43D9-8932-8E1A227B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F97-3553-47DB-B400-42E9CA92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756E-EA79-4529-8227-ADEE3772641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30EE-82A2-4442-A955-58551C2B085A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PEGIO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ff"/>
                </a:solidFill>
                <a:latin typeface="Impact"/>
              </a:rPr>
              <a:t>IV JORNADAS NACIONALES</a:t>
            </a:r>
            <a:r>
              <a:rPr b="0" lang="es-ES_tradnl" sz="40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000"/>
            </a:br>
            <a:r>
              <a:rPr b="0" lang="es-ES_tradnl" sz="3600" spc="-1" strike="noStrike">
                <a:solidFill>
                  <a:srgbClr val="ff00ff"/>
                </a:solidFill>
                <a:latin typeface="Impact"/>
              </a:rPr>
              <a:t>DE</a:t>
            </a:r>
            <a:r>
              <a:rPr b="0" lang="es-ES_tradnl" sz="40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s-ES_tradnl" sz="3600" spc="-1" strike="noStrike">
                <a:solidFill>
                  <a:srgbClr val="ff00ff"/>
                </a:solidFill>
                <a:latin typeface="Impact"/>
              </a:rPr>
              <a:t>PROFESIONALES DEL SECTOR PUBLICO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Impact"/>
              </a:rPr>
              <a:t>Ciudad Autónoma de Buenos Aires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Impact"/>
              </a:rPr>
              <a:t>24 al 26 de Agosto de 2005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ff"/>
                </a:solidFill>
                <a:latin typeface="Impact"/>
              </a:rPr>
              <a:t>RELEVAMIENTO SOBRE MATRICULACIÓN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¿Para desarrollar la activada en el S.P. es obligatorio estar matriculado?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¿La matriculación </a:t>
            </a:r>
            <a:r>
              <a:rPr b="0" lang="es-AR" sz="2800" spc="-1" strike="noStrike">
                <a:solidFill>
                  <a:srgbClr val="660066"/>
                </a:solidFill>
                <a:latin typeface="Impact"/>
              </a:rPr>
              <a:t>tiene alguna </a:t>
            </a: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 otra obligación?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¿Existe matrícula diferencial?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Carencia de obligación a la matriculación de los profesionales actuantes en el S.P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En caso de ser obligatorio ausencia de cumplimiento o falta de contralor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La matricula en algunos casos implica otras obligaciones (jubilación DSS)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Las normas o actos administrativos  de designación de profesionales no exige la matriculació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randomBa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00ff"/>
                </a:solidFill>
                <a:latin typeface="Impact"/>
              </a:rPr>
              <a:t>TEMA AL CUAL NO SE LE HA PRESTADO LA DEBIDA ATENCIÓN TANTO A NIVEL NACIONAL, PROVINCIAL Y MUNICIPAL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p:transition>
    <p:randomBar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00ff"/>
                </a:solidFill>
                <a:latin typeface="Impact"/>
              </a:rPr>
              <a:t>La matriculación garantiza el seguimiento,  defensa y control  de los profesionale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p:transition>
    <p:randomBa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523880" y="1395360"/>
          <a:ext cx="60976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76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3880" y="1395360"/>
          <a:ext cx="6097680" cy="40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395360"/>
                    <a:ext cx="60976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519200" y="1390680"/>
          <a:ext cx="6107040" cy="407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19200" y="1390680"/>
                    <a:ext cx="610704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411200" y="1181160"/>
          <a:ext cx="739008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11200" y="1181160"/>
                    <a:ext cx="73900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ff"/>
                </a:solidFill>
                <a:latin typeface="Impact"/>
              </a:rPr>
              <a:t>CONSEJOS PROFESIONALES EN CIENCIAS ECONOMICA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ORDENAMIENTO PROFESIONA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COMBATEN EL EJERCICIO ILEGAL DE LA PROFES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APLICAN PRINCIPIOS DE ETICA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DENFENSA, SEGUIMIENTO Y CONTROL DEL ACCIONAR PROFESIONA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ff"/>
                </a:solidFill>
                <a:latin typeface="Impact"/>
              </a:rPr>
              <a:t>PROPUESTA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Matricula diferencial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Normas para que los aportes y contribuciones optativamente puedan transferirse a los DSS y Cajas de Jubilació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Adicional por título implique matriculació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Fortalecimiento de las relaciones entre los entes gubernamentales y los CPCE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Registro de los profesionales del S.P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randomBa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00ff"/>
                </a:solidFill>
                <a:latin typeface="Impact"/>
              </a:rPr>
              <a:t>JERARQUIZAR A LOS PROFESIONALES DEL SECTOR PUBLICO, ES JERARQUIZAR AL SECTOR PUBLICO TODO</a:t>
            </a:r>
            <a:br>
              <a:rPr sz="4400"/>
            </a:br>
            <a:r>
              <a:rPr b="0" lang="es-ES_tradnl" sz="4400" spc="-1" strike="noStrike">
                <a:solidFill>
                  <a:srgbClr val="ff00ff"/>
                </a:solidFill>
                <a:latin typeface="Impact"/>
              </a:rPr>
              <a:t>HACE AL FORTALECIMIENTO DEL ESTADO Y SUS INSTITUCIONES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randomBa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00ff"/>
                </a:solidFill>
                <a:latin typeface="Tahoma"/>
              </a:rPr>
              <a:t>REVALORIZAR Y FORTALECER AL PROFESIONAL DEL SECTOR PUBLICO A TRAVES DE LOS CONSEJOS Y COLEGIOS PROFESIONALE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p:transition>
    <p:randomBa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ff"/>
                </a:solidFill>
                <a:latin typeface="Impact"/>
              </a:rPr>
              <a:t>Generar espacios de estudio e investigación</a:t>
            </a:r>
            <a:br>
              <a:rPr sz="3200"/>
            </a:br>
            <a:r>
              <a:rPr b="0" lang="es-ES_tradnl" sz="3200" spc="-1" strike="noStrike">
                <a:solidFill>
                  <a:srgbClr val="ff00ff"/>
                </a:solidFill>
                <a:latin typeface="Impact"/>
              </a:rPr>
              <a:t>en los C.P.C.E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Insertar en forma activa a los profesionales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Promover  la constitución de comisione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Difundir conocimientos, ideas, debates que contribuyan a la integració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Propiciar encuentros que faciliten la capacitación e intercambio de experiencia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Difundir los valores de responsabilidad social y ética pública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randomBa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Auxiliar a organismos estatale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Actuar como instrumento de difusión, aplicación y adecuación de técnicas de administración financiera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Estimular la interacción entre el nivel político y técnico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Impact"/>
              </a:rPr>
              <a:t>Concientizar de la importancia del estudio de técnicas de Administración Financiera  dentro de las carreras de grado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randomBa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ff"/>
                </a:solidFill>
                <a:latin typeface="Impact"/>
              </a:rPr>
              <a:t>1º Jornadas Nacionales de Profesionales</a:t>
            </a:r>
            <a:br>
              <a:rPr sz="3200"/>
            </a:br>
            <a:r>
              <a:rPr b="0" lang="es-ES_tradnl" sz="3200" spc="-1" strike="noStrike">
                <a:solidFill>
                  <a:srgbClr val="ff00ff"/>
                </a:solidFill>
                <a:latin typeface="Impact"/>
              </a:rPr>
              <a:t> del Sector Público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ff00ff"/>
                </a:solidFill>
                <a:latin typeface="Impact"/>
              </a:rPr>
              <a:t>ROSARIO 2002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“</a:t>
            </a: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Jerarquizar la profesión al servicio de la gestión pública”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randomBar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ff"/>
                </a:solidFill>
                <a:latin typeface="Impact"/>
              </a:rPr>
              <a:t>2º Jornadas Nacionales de Profesionales</a:t>
            </a:r>
            <a:br>
              <a:rPr sz="3200"/>
            </a:br>
            <a:r>
              <a:rPr b="0" lang="es-ES_tradnl" sz="3200" spc="-1" strike="noStrike">
                <a:solidFill>
                  <a:srgbClr val="ff00ff"/>
                </a:solidFill>
                <a:latin typeface="Impact"/>
              </a:rPr>
              <a:t> del Sector Público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ff00ff"/>
                </a:solidFill>
                <a:latin typeface="Impact"/>
              </a:rPr>
              <a:t>NEUQUEN   2003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“</a:t>
            </a: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Nuestro talento y compromiso en acción”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randomBa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ff"/>
                </a:solidFill>
                <a:latin typeface="Impact"/>
              </a:rPr>
              <a:t>3º Jornadas Nacionales de Profesionales</a:t>
            </a:r>
            <a:br>
              <a:rPr sz="3200"/>
            </a:br>
            <a:r>
              <a:rPr b="0" lang="es-ES_tradnl" sz="3200" spc="-1" strike="noStrike">
                <a:solidFill>
                  <a:srgbClr val="ff00ff"/>
                </a:solidFill>
                <a:latin typeface="Impact"/>
              </a:rPr>
              <a:t> del Sector Público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ff00ff"/>
                </a:solidFill>
                <a:latin typeface="Impact"/>
              </a:rPr>
              <a:t>RESISTENCIA   2004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“</a:t>
            </a: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Hacia una nueva función pública”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ff"/>
                </a:solidFill>
                <a:latin typeface="Impact"/>
              </a:rPr>
              <a:t>4º Jornadas Nacionales de Profesionales</a:t>
            </a:r>
            <a:br>
              <a:rPr sz="3200"/>
            </a:br>
            <a:r>
              <a:rPr b="0" lang="es-ES_tradnl" sz="3200" spc="-1" strike="noStrike">
                <a:solidFill>
                  <a:srgbClr val="ff00ff"/>
                </a:solidFill>
                <a:latin typeface="Impact"/>
              </a:rPr>
              <a:t> del Sector Público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ff00ff"/>
                </a:solidFill>
                <a:latin typeface="Impact"/>
              </a:rPr>
              <a:t>C.A.B.A. 2005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“</a:t>
            </a: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Por una gestión profesional del    Sector Público”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ff"/>
                </a:solidFill>
                <a:latin typeface="Impact"/>
              </a:rPr>
              <a:t>COMISION NACIONAL DE SECTOR PUBLICO </a:t>
            </a:r>
            <a:endParaRPr b="0" lang="en-US" sz="3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Formación de los profesionales en Ciencias Económica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Capacitación profesiona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Impact"/>
              </a:rPr>
              <a:t>Ejercicio de la profesión en el Sector Público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22:14:41Z</dcterms:created>
  <dc:creator>María del Carmen</dc:creator>
  <dc:description/>
  <dc:language>en-US</dc:language>
  <cp:lastModifiedBy>C.P.C.E.C.A.B.A.</cp:lastModifiedBy>
  <dcterms:modified xsi:type="dcterms:W3CDTF">2005-08-30T13:27:38Z</dcterms:modified>
  <cp:revision>12</cp:revision>
  <dc:subject/>
  <dc:title>JERARQUIZACIÓN PROFESIONAL</dc:title>
</cp:coreProperties>
</file>