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BF89-E76A-48D7-8A30-4995E0D64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2314-8C4B-4644-AFA6-A76A69EA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F34BF-7589-43BF-B73B-FC11A23F1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8A30-40C6-496B-86AA-2A816044E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06A7C-E62B-46B7-BA3D-562E78677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F2999-612F-4C9B-929C-8930933AB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92464-C52E-4097-BB3F-679C6F929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08840-AD18-45B8-9907-298F0D1B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BF420-3313-42EF-9921-A0F54A8EC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8C9A-7474-4522-9439-C56187948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B0A64-5ECD-4E0F-BD64-31EBCC9FE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7995-AFB8-493E-AE7B-E8E4F5EB7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06B13-5CA4-45C2-9B47-AE830746D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071CA-B3CA-440F-8DB9-3241521F2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CB6F9-72CA-4A09-8384-8D5DFCA8F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28435-2B14-4AE4-93A0-6AA7FE903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AA960-96D5-4EED-AC53-AEFBD4103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D388-B9CD-4E19-B0AF-353AE7B3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96F9-992F-4202-B238-ABE963E9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5663-5B96-4434-B82A-6DED8FC6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56BE-7911-4843-8938-FAD6893D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3535-7770-49FD-9036-94B2C29A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800F-473B-48B1-BE08-29692ED4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C773-E60B-4483-B9E2-F11BB33CC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0C5C-A53C-45FF-A821-FBB1DF00973C}" type="slidenum">
              <a:rPr b="1" lang="es-A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E92D-A9AE-4E75-A6DB-3E1D3502B9DF}" type="slidenum">
              <a:rPr b="1" lang="es-A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ISION SECTOR PUBLICO</a:t>
            </a:r>
            <a:endParaRPr b="1" lang="en-US" sz="3600" spc="-1" strike="noStrike">
              <a:solidFill>
                <a:srgbClr val="006666"/>
              </a:solidFill>
              <a:latin typeface="Arial"/>
            </a:endParaRPr>
          </a:p>
        </p:txBody>
      </p:sp>
      <p:graphicFrame>
        <p:nvGraphicFramePr>
          <p:cNvPr id="95" name=""/>
          <p:cNvGraphicFramePr/>
          <p:nvPr/>
        </p:nvGraphicFramePr>
        <p:xfrm>
          <a:off x="2916360" y="2349360"/>
          <a:ext cx="4116240" cy="4149720"/>
        </p:xfrm>
        <a:graphic>
          <a:graphicData uri="http://schemas.openxmlformats.org/presentationml/2006/ole">
            <p:oleObj r:id="rId1" spid="">
              <p:embed/>
              <p:pic>
                <p:nvPicPr>
                  <p:cNvPr id="96" name="" descr=""/>
                  <p:cNvPicPr/>
                  <p:nvPr/>
                </p:nvPicPr>
                <p:blipFill>
                  <a:blip r:embed="rId2"/>
                  <a:stretch/>
                </p:blipFill>
                <p:spPr>
                  <a:xfrm>
                    <a:off x="2916360" y="2349360"/>
                    <a:ext cx="4116240" cy="41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3366"/>
                </a:solidFill>
                <a:latin typeface="Arial"/>
              </a:rPr>
              <a:t>CREACION DE LA COMISION</a:t>
            </a:r>
            <a:r>
              <a:rPr b="1" lang="en-US" sz="3200" spc="-1" strike="noStrike">
                <a:solidFill>
                  <a:srgbClr val="006666"/>
                </a:solidFill>
                <a:latin typeface="Arial"/>
              </a:rPr>
              <a:t>	</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O COMENZAM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ARTIR DE QUE EVENT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IENES CONFORMARON EL GRUP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3366"/>
                </a:solidFill>
                <a:latin typeface="Arial"/>
              </a:rPr>
              <a:t>OBJETIVOS</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Insertar en forma activa a los profesionales actuantes en el Sector Publico.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Comprometer a los profesionales del Sector al análisis y discusión de temas técnicos con el propósito de lograr la excelencia en el ejercicio de la profesión.</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Propiciar eventos que aporten capacitación y experiencia para contribuir a la jerarquización del profesional.</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Actuar como medio de difusión, aplicación y adecuación de las nuevas técnicas de administración financiera en el sector públic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9360">
            <a:solidFill>
              <a:srgbClr val="003366"/>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3366"/>
                </a:solidFill>
                <a:latin typeface="Arial"/>
              </a:rPr>
              <a:t>ACTIVIDADES DE LA </a:t>
            </a:r>
            <a:r>
              <a:rPr b="1" lang="en-US"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COMISION</a:t>
            </a:r>
            <a:endParaRPr b="1" lang="en-US" sz="3200" spc="-1" strike="noStrike">
              <a:solidFill>
                <a:srgbClr val="006666"/>
              </a:solidFill>
              <a:latin typeface="Arial"/>
            </a:endParaRPr>
          </a:p>
        </p:txBody>
      </p:sp>
      <p:sp>
        <p:nvSpPr>
          <p:cNvPr id="102" name="PlaceHolder 2"/>
          <p:cNvSpPr>
            <a:spLocks noGrp="1"/>
          </p:cNvSpPr>
          <p:nvPr>
            <p:ph/>
          </p:nvPr>
        </p:nvSpPr>
        <p:spPr>
          <a:xfrm>
            <a:off x="468360" y="2421000"/>
            <a:ext cx="82296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UNIONES QUINCENALES CON ELABORACION DE ACT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ITACION A DISTINTOS ORGANISMOS PUBLICOS A PARTICIPAR DE LAS REUN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ISIS DE TEMAS DE INTERES PARA REALIZAR CAPACITACION.</a:t>
            </a: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NTINUACION</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MADO DE CONFERENCIAS CON EXPOSITORES DE NIVEL NACIONAL E INTERNACION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MADO DE CHARLAS DEBATE CON PROFESIONALES DEL MED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IZAR E IMPULSAR LA DECLARACION DE INTERES PROVINCIAL DE DISTINTOS EVENTO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0" lang="en-US" sz="3200" spc="-1" strike="noStrike">
                <a:solidFill>
                  <a:srgbClr val="003366"/>
                </a:solidFill>
                <a:latin typeface="Arial"/>
              </a:rPr>
              <a:t>VINCULACION CON OTRAS </a:t>
            </a:r>
            <a:r>
              <a:rPr b="0" lang="en-US" sz="3200" spc="-1" strike="noStrike">
                <a:solidFill>
                  <a:srgbClr val="003366"/>
                </a:solidFill>
                <a:latin typeface="Arial"/>
              </a:rPr>
              <a:t>	</a:t>
            </a:r>
            <a:r>
              <a:rPr b="0" lang="en-US" sz="3200" spc="-1" strike="noStrike">
                <a:solidFill>
                  <a:srgbClr val="003366"/>
                </a:solidFill>
                <a:latin typeface="Arial"/>
              </a:rPr>
              <a:t>INSTITUCIONES</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CULTAD DE CIENCIAS ECONOMICAS DE LA UNL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ISTERIO DE ECONOMIA DE LA PROVINCIA DE LA PAMP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IOR TRIBUNAL DE JUSTI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NICIPALIDAD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NCLUSIONE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En la Administración Pública existen profesionales  que tienen conocimientos que no saben que tienen. Su  experiencia  laboral ha ido enriqueciendo su bagaje de conocimiento pero él los ignora porque nadie le ha pedido que lo use.(Fernando Lenardó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Este  es  el  medio  mediante  el  cual  crearemos espacios de participación, coordinando esfuerzos, experiencias y  talentos para el tratamiento de temas comunes, por una profesión comprometida con la ética, la capacitación y la excelenc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42:37Z</dcterms:created>
  <dc:creator>..</dc:creator>
  <dc:description/>
  <dc:language>en-US</dc:language>
  <cp:lastModifiedBy>C.P.C.E.C.A.B.A.</cp:lastModifiedBy>
  <cp:lastPrinted>2005-08-25T16:47:41Z</cp:lastPrinted>
  <dcterms:modified xsi:type="dcterms:W3CDTF">2005-08-30T13:25:10Z</dcterms:modified>
  <cp:revision>6</cp:revision>
  <dc:subject/>
  <dc:title>CONSEJO PROFESIONAL DE CIENCIAS ECONOMICAS DE LA PROVINCIA DE LA PAMPA</dc:title>
</cp:coreProperties>
</file>