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DAC9-E069-437D-B6F6-D0B9A776B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BF5F-B592-4879-9913-8816D7C1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1BE6-4B34-40B7-8587-BE5DECECC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1547-3FAE-4B25-AE3B-83C7D45B8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42DF-2860-4683-83F4-F4E7CD5A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230A-8847-4BF7-BEA3-6FBA82EE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4C7F-7A10-4EE9-B76A-579A467F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F514-6656-4DF3-8A72-DF969B1D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A0E0-44D0-4774-A394-CAD0C976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1502-9FA7-4245-B10C-BB02C0B3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7EA1-5156-420B-B2A7-AAE7DDBD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7D5C-ADC7-4C36-B0CA-631C5B83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0832-593A-4212-86C0-E251A597158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657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i="1" lang="en-US" sz="4400" spc="-1" strike="noStrike">
                <a:solidFill>
                  <a:srgbClr val="000000"/>
                </a:solidFill>
                <a:latin typeface="Lucida Sans"/>
              </a:rPr>
              <a:t>E</a:t>
            </a:r>
            <a:r>
              <a:rPr b="1" i="1" lang="en-US" sz="4800" spc="-1" strike="noStrike">
                <a:solidFill>
                  <a:srgbClr val="000000"/>
                </a:solidFill>
                <a:latin typeface="Lucida Console"/>
              </a:rPr>
              <a:t>L SUBSIDIO</a:t>
            </a:r>
            <a:r>
              <a:rPr b="1" i="1" lang="en-US" sz="4800" spc="-1" strike="noStrike">
                <a:solidFill>
                  <a:srgbClr val="000000"/>
                </a:solidFill>
                <a:latin typeface="Lucida Sans Unicode"/>
              </a:rPr>
              <a:t>”:</a:t>
            </a:r>
            <a:r>
              <a:rPr b="1" i="1" lang="en-US" sz="4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Lucida Sans Unicode"/>
              </a:rPr>
              <a:t>de la PLANIFICACIÓN a la</a:t>
            </a: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Lucida Sans Unicode"/>
              </a:rPr>
              <a:t> RENDICIÓN DE CUE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4648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ras. L.A. Ana M. Falini y Liliana M. Gallar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INFORME FINAL Y 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RENDICIÓN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DE CUEN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INFORME TÉCNICO FIN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SULTADOS OFICIA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NDICIÓN DE CUENTAS DOCUMENTA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JUSTIFICACIÓN DE LOS DESV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ESTADÍSTICA DE LOS RESULT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STADO DE INICIO COMPARADO CON LOS RESULT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INFORMES FINALES REGISTRADOS, CLASIFICADOS Y CATALOG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NRIQUECIMIENTO DEL ORGANISMO Y DE LA SOCIEDA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REACIÓN DE V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NTROL DE GESTIÓN Y EJECUCIÓN DE PROYECTOS RA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SULTADOS ÓPTIMOS Y DE RENDICIÓN DE CUENTAS EN TIEMPO Y FOR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USTENTABILIDAD DEL SISTEMA DE SUBSID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¿QUÉ SON LOS SUBSIDIO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s subsidios son aportes monetarios que realizan instituciones oficiales o fundaciones a particulares, empresas o entidades no gubernamentales, con el propósito siempre de ejecutar algún proyecto que resulte de interés para la sociedad  o la entidad otorgante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s dinero que no se devuel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GUNOS SUBSIDIOS VIG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LTU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TITU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 DE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A DISCAPACI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A INVESTIGACIONES CIENTIF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A PY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A CUBRIR NECESIDADES INSATISFECH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2057400"/>
          </a:xfrm>
          <a:prstGeom prst="rect">
            <a:avLst/>
          </a:prstGeom>
          <a:solidFill>
            <a:srgbClr val="c0c0c0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¿QUIÉNES SON LOS RECEPTORES DE SUBSIDIO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ITUCIONES NO GUBERNAMENTA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OCIACIONES CIVI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UPOS DE INVESTIG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UL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1981440"/>
          </a:xfrm>
          <a:prstGeom prst="rect">
            <a:avLst/>
          </a:prstGeom>
          <a:solidFill>
            <a:srgbClr val="c0c0c0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SOS A SEGUIR PARA LA OBTENCIÓN DE UN SUBSID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SENTACIÓN DEL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CUMENTACIÓN COMPLEMENTARIA (PRESUPUESTO DE GAS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MA DE CONTR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ADEUDAR RENDICIONES DE CU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JECUTAR, ALCANZAR O AL MENOS INTENTAR LOGRAR LOS OBJETIVOS ESPECIFICOS ENUNCIADOS EN LA PROPUES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ONDOS OTORGADOS POR :  ORGANISMOS NACIONALES CON FONDO DEL PRESUPUESTO Y SUPRANACIONALES COMO EL BANCO MUNDIAL Y EL B.I.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OBJETIVO DE LOS SUBSID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NECESIDAD DE PLANIFI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GUIA DE TRABAJO DURANTE LA EJEC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VIDENCIA ANTICIPADAMENTE LA VIABILIDAD Y PREVISIBILIDAD DE   RESULTADOS POSI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LANTEA ESCEN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STRATEGIAS DE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OTRAS ALTERN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PLANTEO DE REQUISI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SONA HABIL, LEGALMENTE CONSTITUIDA Y RECONOCIDA POR LOS ORGANISMOS DE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UPUES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GERIR EL DISEÑO, LA PREPARACIÓN, LA EVALU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USTIFICAR LA PROPUE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L SOLICITANTE DEBERÍA PRESENTAR UN DETALLE D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201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ITUACIÓN ACTUAL EN LA QUE SE ENCUENT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HORIZONTE DE PLANE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TAPAS Y METAS INTERMEDI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ESCRIPCIÓN DE METAS INTERMED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ESCRIPCIÓN DE RECURSOS HUMANOS Y MATER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RONOGRAMA DE PAGO DE CADA ETAPA CON MONTO DE DESEMBOL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0T03:13:11Z</dcterms:created>
  <dc:creator>Liliana Gallardo</dc:creator>
  <dc:description/>
  <dc:language>en-US</dc:language>
  <cp:lastModifiedBy>C.P.C.E.C.A.B.A.</cp:lastModifiedBy>
  <dcterms:modified xsi:type="dcterms:W3CDTF">2005-08-30T13:23:03Z</dcterms:modified>
  <cp:revision>22</cp:revision>
  <dc:subject/>
  <dc:title>ESTRATEGIAS DE MARKETING</dc:title>
</cp:coreProperties>
</file>