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288588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9347-8F4E-4BDB-AF60-A020205E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316160" y="409572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805-A518-4B86-8473-A188E394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9672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16160" y="409572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796720" y="409572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09E-F4A3-4204-9855-16D819E8E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72480" y="19461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28800" y="19461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316160" y="4095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272480" y="4095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7228800" y="4095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D8E-C21A-4CAA-839E-12CA6361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BD3E-FE5F-4168-A512-035EB551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16160" y="194616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FAC3-14E0-4FC8-98E6-48F6E240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D9DA-2EB3-4D7E-9887-FAFB45A7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96720" y="194616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CCA4-7907-4BD8-819D-991A3586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5280-AB04-49BB-ADF6-AF09CC51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28556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E285-5C20-45F5-8709-42E63C1A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96720" y="194616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16160" y="409572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DD7D-66BA-45AE-AF4C-A7C1D2BD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316160" y="194616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FCA6-0223-421C-A853-F8EDAE17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79672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796720" y="409572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2762-9F43-4B94-B678-5AFC3003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79672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16160" y="409572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BC23-C898-4953-ADC2-05A6E82C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16160" y="409572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3FDB-FFEA-44C9-849D-97010A8F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79672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16160" y="409572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796720" y="409572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8B6C-FDBF-49E5-9C0A-9AFBA1CB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72480" y="19461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228800" y="194616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16160" y="4095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272480" y="4095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7228800" y="40957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0F77-A4E8-4C9F-BCF2-14CBE30F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FAB3-BC06-4019-A717-E11DBD34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94616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447-F9EC-4DC5-A079-58E111BB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DC2-99BD-4537-BF5B-94070D05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8556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A3C3-9B3C-45C0-9837-161E234B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94616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316160" y="409572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84B-5770-4649-A859-708BA5D7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426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9672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796720" y="409572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EC7-792C-4896-8405-471DE79B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1616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96720" y="1946160"/>
            <a:ext cx="42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16160" y="4095720"/>
            <a:ext cx="8743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073-0731-4CA9-84D1-84823041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21840" cy="6854760"/>
            <a:chOff x="0" y="0"/>
            <a:chExt cx="122184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22184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85680" y="162000"/>
              <a:ext cx="171000" cy="6553080"/>
              <a:chOff x="85680" y="162000"/>
              <a:chExt cx="17100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85680" y="1754280"/>
                <a:ext cx="17100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5680" y="198432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5680" y="2211480"/>
                <a:ext cx="17100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680" y="244152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5680" y="2671920"/>
                <a:ext cx="17100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5680" y="289872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5680" y="312912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5680" y="335772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5680" y="358632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5680" y="3814920"/>
                <a:ext cx="17100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5680" y="4044960"/>
                <a:ext cx="17100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680" y="427356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680" y="450216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680" y="473076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5680" y="495936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680" y="5189400"/>
                <a:ext cx="17100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5680" y="541656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5680" y="5646600"/>
                <a:ext cx="17100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680" y="5877000"/>
                <a:ext cx="17100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5680" y="610380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5680" y="633420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5680" y="656100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5680" y="16200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5680" y="39060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680" y="620640"/>
                <a:ext cx="17100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5680" y="849240"/>
                <a:ext cx="17100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5680" y="1077840"/>
                <a:ext cx="17100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5680" y="130644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5680" y="1536840"/>
                <a:ext cx="17100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28556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402876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886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10EA-F9FF-4A37-93F9-A8002344E66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316160" y="1946160"/>
            <a:ext cx="87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221840" cy="6854760"/>
            <a:chOff x="0" y="0"/>
            <a:chExt cx="122184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22184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85680" y="163440"/>
              <a:ext cx="171000" cy="6550200"/>
              <a:chOff x="85680" y="163440"/>
              <a:chExt cx="17100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85680" y="1754280"/>
                <a:ext cx="17100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5680" y="198432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5680" y="2211480"/>
                <a:ext cx="17100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5680" y="244152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5680" y="2671920"/>
                <a:ext cx="17100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5680" y="289872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5680" y="312912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680" y="3359160"/>
                <a:ext cx="17100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5680" y="358632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5680" y="381636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5680" y="4046400"/>
                <a:ext cx="17100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5680" y="4272120"/>
                <a:ext cx="17100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85680" y="450216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5680" y="4729320"/>
                <a:ext cx="17100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5680" y="495936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5680" y="5189400"/>
                <a:ext cx="17100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5680" y="541656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5680" y="564660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5680" y="5877000"/>
                <a:ext cx="17100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5680" y="610380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5680" y="633420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680" y="6562800"/>
                <a:ext cx="17100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5680" y="163440"/>
                <a:ext cx="17100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5680" y="390600"/>
                <a:ext cx="17100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5680" y="620640"/>
                <a:ext cx="17100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5680" y="849240"/>
                <a:ext cx="17100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5680" y="107640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680" y="1306440"/>
                <a:ext cx="17100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5680" y="1536840"/>
                <a:ext cx="17100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5560" y="22856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28556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402876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8865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E29A-6081-44B9-9143-50E6A25CA41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8744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ACCESO LABORAL Y RECONOCIMIENTO PROFESIONAL:</a:t>
            </a:r>
            <a:br>
              <a:rPr sz="4400"/>
            </a:b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 ¿FICCION O REALIDAD?</a:t>
            </a:r>
            <a:br>
              <a:rPr sz="4400"/>
            </a:br>
            <a:br>
              <a:rPr sz="4400"/>
            </a:b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[el caso del Ministerio de Economía y Producción]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Miguel A. Elen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09720" y="5181480"/>
            <a:ext cx="48769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DISTRIBUCION DEL PERSON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16160" y="1946160"/>
          <a:ext cx="8743320" cy="4114800"/>
        </p:xfrm>
        <a:graphic>
          <a:graphicData uri="http://schemas.openxmlformats.org/drawingml/2006/table">
            <a:tbl>
              <a:tblPr/>
              <a:tblGrid>
                <a:gridCol w="2914200"/>
                <a:gridCol w="2914560"/>
                <a:gridCol w="291456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E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0  -- 1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STANTIV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 APOY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7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INDICES DE PROFESIONALIZACION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316160" y="1557360"/>
          <a:ext cx="8743680" cy="5021280"/>
        </p:xfrm>
        <a:graphic>
          <a:graphicData uri="http://schemas.openxmlformats.org/drawingml/2006/table">
            <a:tbl>
              <a:tblPr/>
              <a:tblGrid>
                <a:gridCol w="2914560"/>
                <a:gridCol w="2914560"/>
                <a:gridCol w="2914560"/>
              </a:tblGrid>
              <a:tr h="81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E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0/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STANTIV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+ 53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IONES 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OY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+ 50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ISTER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85560" y="-316440"/>
            <a:ext cx="87440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INDICES DE PROFESIONALIZACION</a:t>
            </a:r>
            <a:br>
              <a:rPr sz="3600"/>
            </a:b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EN CIENCIAS ECONOMIC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16160" y="1557360"/>
          <a:ext cx="8743680" cy="4991040"/>
        </p:xfrm>
        <a:graphic>
          <a:graphicData uri="http://schemas.openxmlformats.org/drawingml/2006/table">
            <a:tbl>
              <a:tblPr/>
              <a:tblGrid>
                <a:gridCol w="2914560"/>
                <a:gridCol w="2914560"/>
                <a:gridCol w="291456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E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0/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ION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STANTIV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+ 29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IONES 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OY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+ 75 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ISTER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ffff"/>
                </a:solidFill>
                <a:latin typeface="Times New Roman"/>
              </a:rPr>
              <a:t>DISTRIBUCION POR COMPETENCIAS PROFESIONALES ESPECIFIC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316160" y="1946160"/>
          <a:ext cx="8743680" cy="4372200"/>
        </p:xfrm>
        <a:graphic>
          <a:graphicData uri="http://schemas.openxmlformats.org/drawingml/2006/table">
            <a:tbl>
              <a:tblPr/>
              <a:tblGrid>
                <a:gridCol w="2914560"/>
                <a:gridCol w="2914560"/>
                <a:gridCol w="2914560"/>
              </a:tblGrid>
              <a:tr h="13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ETENCI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90  - 19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ABLE  / ADMINISTR.  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tr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NOMIA  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ERCIO  /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tr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s-AR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55320" y="549000"/>
            <a:ext cx="874404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PASANTIAS 2005</a:t>
            </a:r>
            <a:br>
              <a:rPr sz="4400"/>
            </a:b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58960" y="2060280"/>
            <a:ext cx="6081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2,9 Pasantes en Cs. Ec. cada 1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fesionales en Ciencias Económ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320" y="1844640"/>
            <a:ext cx="2586240" cy="936720"/>
          </a:xfrm>
          <a:custGeom>
            <a:avLst/>
            <a:gdLst>
              <a:gd name="textAreaLeft" fmla="*/ 0 w 2586240"/>
              <a:gd name="textAreaRight" fmla="*/ 2586600 w 25862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1" y="0"/>
                </a:lnTo>
                <a:lnTo>
                  <a:pt x="21600" y="10800"/>
                </a:lnTo>
                <a:lnTo>
                  <a:pt x="188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rebuchet MS"/>
              </a:rPr>
              <a:t>Re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rebuchet MS"/>
              </a:rPr>
              <a:t>Pasant./ Prof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292640"/>
            <a:ext cx="2585880" cy="936720"/>
          </a:xfrm>
          <a:custGeom>
            <a:avLst/>
            <a:gdLst>
              <a:gd name="textAreaLeft" fmla="*/ 0 w 2585880"/>
              <a:gd name="textAreaRight" fmla="*/ 2586240 w 25858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1" y="0"/>
                </a:lnTo>
                <a:lnTo>
                  <a:pt x="21600" y="10800"/>
                </a:lnTo>
                <a:lnTo>
                  <a:pt x="188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rebuchet MS"/>
              </a:rPr>
              <a:t>Ante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rebuchet MS"/>
              </a:rPr>
              <a:t>como  Pas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59320" y="4221000"/>
            <a:ext cx="6727680" cy="15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51 % de los Profesionales  en Cs. Ec. contratados para Acciones Sustan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 contratos menores a $ 1.5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82600" y="1989000"/>
            <a:ext cx="84027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Trabajo efectivamente realizado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Responsabilidades asignad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Remuneraciones percibid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Relación con jefes y compañero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Posibilidades de capacitac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Horizonte de su carrera profesion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55680" y="0"/>
            <a:ext cx="882972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82600" y="0"/>
            <a:ext cx="8640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ffff"/>
                </a:solidFill>
                <a:latin typeface="Times New Roman"/>
              </a:rPr>
              <a:t>RECONOCIMIENTO PROFESIONAL</a:t>
            </a: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EXPECTATIVAS PERSONALES  vs</a:t>
            </a:r>
            <a:r>
              <a:rPr b="0" lang="es-MX" sz="4000" spc="-1" strike="noStrike">
                <a:solidFill>
                  <a:srgbClr val="00ff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82600" y="1989000"/>
            <a:ext cx="84027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Agotamiento emocion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Desarrollo de conductas negativas, cínicas o insensib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Evaluación negativa del trabajo propio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55680" y="0"/>
            <a:ext cx="882972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82600" y="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ffff"/>
                </a:solidFill>
                <a:latin typeface="Times New Roman"/>
              </a:rPr>
              <a:t>SINDROME DEL “BURN OUT”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82600" y="1989000"/>
            <a:ext cx="84027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Incorporar en el SINAPA un Agrupamiento Profesional con un plan de carrera y una estructura propia de remuneracion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Desarrollar programas preventivos del síndrome del “burn out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Desarrollar programas continuos de capacitación y actualización profesion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55680" y="0"/>
            <a:ext cx="882972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2600" y="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ffff"/>
                </a:solidFill>
                <a:latin typeface="Times New Roman"/>
              </a:rPr>
              <a:t>RECOMENDACIONE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8744040" cy="598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NO SE NECESITA UN ESTADO CHICO SINO UN ESTADO INTELIGENTE”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[José Alberto Bonifacio]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09720" y="5181480"/>
            <a:ext cx="48769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8744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FIN DE LA GUERRA FRIA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NUEVO ORDEN MUNDIAL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REVOLUCION TECNOLOGICA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GLOBALIZAC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409720" y="5181480"/>
            <a:ext cx="48769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82600" y="1268280"/>
            <a:ext cx="8402760" cy="53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Cambios en la política económic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Cambios en la política internacional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Cambios en el rol y reforma del Estado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55680" y="0"/>
            <a:ext cx="882972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2600" y="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ARGENTINA DECADA DEL ´90 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82600" y="1989000"/>
            <a:ext cx="840276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1° Etapa: Fines de los ´80 -1994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2° Etapa: 1995 - 1998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imes New Roman"/>
              </a:rPr>
              <a:t>3° Etapa: 1999 – 2005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55680" y="0"/>
            <a:ext cx="882972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2600" y="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CAMBIOS EN LAS RELACIONES LABORALES EN LA A.P.N.A.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82600" y="1989000"/>
            <a:ext cx="840276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PRIVATIZACIONES</a:t>
            </a:r>
            <a:br>
              <a:rPr sz="3600"/>
            </a:b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RETROS VOLUNTARIOS</a:t>
            </a:r>
            <a:br>
              <a:rPr sz="3600"/>
            </a:b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JUBILACIONES ANTICIPADAS</a:t>
            </a:r>
            <a:br>
              <a:rPr sz="3600"/>
            </a:b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TERCERIZACION DE SERVIC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55680" y="0"/>
            <a:ext cx="882972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82600" y="0"/>
            <a:ext cx="864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1° ETAPA (hasta 1994)</a:t>
            </a:r>
            <a:br>
              <a:rPr sz="4400"/>
            </a:br>
            <a:br>
              <a:rPr sz="4400"/>
            </a:br>
            <a:r>
              <a:rPr b="0" lang="es-MX" sz="4000" spc="-1" strike="noStrike">
                <a:solidFill>
                  <a:srgbClr val="00ffff"/>
                </a:solidFill>
                <a:latin typeface="Times New Roman"/>
              </a:rPr>
              <a:t>Flexibilización Numérica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82600" y="1989000"/>
            <a:ext cx="840276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REDEFINICION DE ESTRUCTURAS</a:t>
            </a:r>
            <a:br>
              <a:rPr sz="3600"/>
            </a:b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VIGENCIA DEL SINAPA</a:t>
            </a:r>
            <a:br>
              <a:rPr sz="3600"/>
            </a:b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PRIMERAS FUNCIONES EJECUTIV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CONCURSOS DE CARG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55680" y="0"/>
            <a:ext cx="882972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82600" y="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1° ETAPA (hasta 1994)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Flexibilización Funcional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82600" y="1989000"/>
            <a:ext cx="840276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CONTRATOS Dto. N° 92/9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CONTRATOS DE PROYECTOS CON FINANCIAMIENTO COMPARTIDO CON  ORGANISMOS INTERNACION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PASANTES UNIVERSITAR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55680" y="0"/>
            <a:ext cx="882972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2600" y="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2° ETAPA (1995 -1998)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82600" y="1989000"/>
            <a:ext cx="84027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Primer Convenio Colec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Ley Marco de Regulación del E.P.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Nuevo régimen de Pasantí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Congelamiento de vac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Contratos Dto. 1184/0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24"/>
              </a:spcBef>
              <a:spcAft>
                <a:spcPts val="224"/>
              </a:spcAft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ffff"/>
                </a:solidFill>
                <a:latin typeface="Times New Roman"/>
              </a:rPr>
              <a:t>Contratos de Empleo Publico (Res. 48/02 y Dto. 707/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55680" y="0"/>
            <a:ext cx="882972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82600" y="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ffff"/>
                </a:solidFill>
                <a:latin typeface="Times New Roman"/>
              </a:rPr>
              <a:t>3° ETAPA (desde 1999):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8556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MINISTERIO DE ECONOMIA Y PRODUCC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55680" y="2060640"/>
            <a:ext cx="65134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Finanz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Haci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lítica Económ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ercio, Industria, Py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gricultura, Ganadería, Pes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828800"/>
            <a:ext cx="2228760" cy="838080"/>
          </a:xfrm>
          <a:custGeom>
            <a:avLst/>
            <a:gdLst>
              <a:gd name="textAreaLeft" fmla="*/ 0 w 2228760"/>
              <a:gd name="textAreaRight" fmla="*/ 2229120 w 2228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1" y="0"/>
                </a:lnTo>
                <a:lnTo>
                  <a:pt x="21600" y="10800"/>
                </a:lnTo>
                <a:lnTo>
                  <a:pt x="188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rebuchet MS"/>
              </a:rPr>
              <a:t>Are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rebuchet MS"/>
              </a:rPr>
              <a:t>Sustan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5029200"/>
            <a:ext cx="2228760" cy="838080"/>
          </a:xfrm>
          <a:custGeom>
            <a:avLst/>
            <a:gdLst>
              <a:gd name="textAreaLeft" fmla="*/ 0 w 2228760"/>
              <a:gd name="textAreaRight" fmla="*/ 2229120 w 22287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31" y="0"/>
                </a:lnTo>
                <a:lnTo>
                  <a:pt x="21600" y="10800"/>
                </a:lnTo>
                <a:lnTo>
                  <a:pt x="188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rebuchet MS"/>
              </a:rPr>
              <a:t>Are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rebuchet MS"/>
              </a:rPr>
              <a:t>de Apoy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71960" y="5181480"/>
            <a:ext cx="6686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egal y Administra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7T20:43:02Z</dcterms:created>
  <dc:creator>-</dc:creator>
  <dc:description/>
  <dc:language>en-US</dc:language>
  <cp:lastModifiedBy>C.P.C.E.C.A.B.A.</cp:lastModifiedBy>
  <cp:lastPrinted>2004-11-08T13:42:54Z</cp:lastPrinted>
  <dcterms:modified xsi:type="dcterms:W3CDTF">2005-08-30T13:22:21Z</dcterms:modified>
  <cp:revision>102</cp:revision>
  <dc:subject/>
  <dc:title>EVALUACION PROYECTO</dc:title>
</cp:coreProperties>
</file>