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46888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C915-FEEA-4A06-87FE-47AA617B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A51-E1CC-4ADE-AFCE-62893C7E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00B9-BA98-4DA8-8EEF-419C37CA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6DB-11B4-4CD8-89D8-DE3FE077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675-12FA-485F-870B-74508978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7517-034B-4D26-B648-E656EB50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64B-CFEF-4441-9A43-DA8CF18D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8E0-4F2F-4365-ACE6-17AF9405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54C0-0D27-4405-97A2-2D60D291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F65-A0BC-4B45-83F8-30492FB0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CC43-F07D-4AE5-8779-6AFC1E9E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CB2C-16F1-4275-B4E0-BF983252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04C1-BD3E-48D9-9FC9-5DE71AF4DD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85760" y="1143000"/>
            <a:ext cx="8058240" cy="5430960"/>
          </a:xfrm>
          <a:prstGeom prst="rect">
            <a:avLst/>
          </a:prstGeom>
          <a:solidFill>
            <a:srgbClr val="005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079640" y="1143000"/>
            <a:ext cx="8057880" cy="0"/>
          </a:xfrm>
          <a:prstGeom prst="line">
            <a:avLst/>
          </a:prstGeom>
          <a:ln w="9360">
            <a:solidFill>
              <a:srgbClr val="8cfc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50760" y="127080"/>
            <a:ext cx="952560" cy="110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28520"/>
            <a:ext cx="9144000" cy="6858000"/>
          </a:xfrm>
          <a:prstGeom prst="rect">
            <a:avLst/>
          </a:prstGeom>
          <a:solidFill>
            <a:srgbClr val="004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419112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Unidad de Auditoria Inter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9672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dministración Nacional de la Segurida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654840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RGENTINA, AGOST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1080" y="3429000"/>
            <a:ext cx="8058240" cy="0"/>
          </a:xfrm>
          <a:prstGeom prst="line">
            <a:avLst/>
          </a:prstGeom>
          <a:ln w="9360">
            <a:solidFill>
              <a:srgbClr val="8cfc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81080" y="6477120"/>
            <a:ext cx="8058240" cy="0"/>
          </a:xfrm>
          <a:prstGeom prst="line">
            <a:avLst/>
          </a:prstGeom>
          <a:ln w="9360">
            <a:solidFill>
              <a:srgbClr val="8cfc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2963880"/>
            <a:ext cx="1266840" cy="38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62080" y="1717560"/>
            <a:ext cx="109224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52560" y="237960"/>
            <a:ext cx="5997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</a:rPr>
              <a:t>Universo de Recomenaciones emitidas por la U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00240"/>
            <a:ext cx="9144000" cy="5657760"/>
          </a:xfrm>
          <a:prstGeom prst="rect">
            <a:avLst/>
          </a:prstGeom>
          <a:solidFill>
            <a:srgbClr val="004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90680" y="1359000"/>
          <a:ext cx="732456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359000"/>
                    <a:ext cx="732456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372040" y="1201680"/>
            <a:ext cx="46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Universo de 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05000" y="293688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Perio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43920" y="5776920"/>
            <a:ext cx="1699920" cy="819000"/>
          </a:xfrm>
          <a:prstGeom prst="rect">
            <a:avLst/>
          </a:prstGeom>
          <a:solidFill>
            <a:srgbClr val="004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Act Dic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0760" y="6297480"/>
            <a:ext cx="4054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</a:rPr>
              <a:t>4485 Recomend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00240"/>
            <a:ext cx="9144000" cy="5657760"/>
          </a:xfrm>
          <a:prstGeom prst="rect">
            <a:avLst/>
          </a:prstGeom>
          <a:solidFill>
            <a:srgbClr val="004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7320" y="1192320"/>
          <a:ext cx="9347040" cy="55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1192320"/>
                    <a:ext cx="9347040" cy="55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902200" y="4292640"/>
            <a:ext cx="164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34% Implement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72760" y="1981080"/>
            <a:ext cx="136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4% En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9600" y="26463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36% Pend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0040" y="4621320"/>
            <a:ext cx="133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3% Sin vig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02880" y="487980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3% Transfe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66040" y="33336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Total de Recomendaciones por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75480" y="6059520"/>
            <a:ext cx="2016360" cy="798480"/>
          </a:xfrm>
          <a:prstGeom prst="rect">
            <a:avLst/>
          </a:prstGeom>
          <a:solidFill>
            <a:srgbClr val="004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92240" y="469800"/>
            <a:ext cx="788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</a:rPr>
              <a:t>Recomendaciones analizadas por est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004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00280" y="1162080"/>
          <a:ext cx="5600520" cy="33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1162080"/>
                    <a:ext cx="560052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4788000" y="3892680"/>
            <a:ext cx="2514600" cy="1390680"/>
          </a:xfrm>
          <a:prstGeom prst="rect">
            <a:avLst/>
          </a:prstGeom>
          <a:solidFill>
            <a:srgbClr val="004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33840" y="3009960"/>
          <a:ext cx="5600880" cy="33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33840" y="3009960"/>
                    <a:ext cx="560088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8636040" y="5492880"/>
            <a:ext cx="1619280" cy="1352520"/>
          </a:xfrm>
          <a:prstGeom prst="rect">
            <a:avLst/>
          </a:prstGeom>
          <a:solidFill>
            <a:srgbClr val="004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83520" y="6581880"/>
            <a:ext cx="960480" cy="276120"/>
          </a:xfrm>
          <a:prstGeom prst="rect">
            <a:avLst/>
          </a:prstGeom>
          <a:solidFill>
            <a:srgbClr val="004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Act Dic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1120" y="3301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07960" y="2241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51160" y="15447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70480" y="19368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91320" y="52308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53040" y="47656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89440" y="35463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70840" y="3692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1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162080"/>
            <a:ext cx="9144000" cy="5695920"/>
          </a:xfrm>
          <a:prstGeom prst="rect">
            <a:avLst/>
          </a:prstGeom>
          <a:solidFill>
            <a:srgbClr val="004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31760" y="431640"/>
            <a:ext cx="811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</a:rPr>
              <a:t>Recomendaciones analizadas por estado. (Cont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-385920" y="1379520"/>
          <a:ext cx="466884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5920" y="1379520"/>
                    <a:ext cx="46688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656160" y="3614760"/>
            <a:ext cx="812520" cy="803160"/>
          </a:xfrm>
          <a:prstGeom prst="rect">
            <a:avLst/>
          </a:prstGeom>
          <a:solidFill>
            <a:srgbClr val="004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39920" y="3559320"/>
            <a:ext cx="1073160" cy="787320"/>
          </a:xfrm>
          <a:prstGeom prst="rect">
            <a:avLst/>
          </a:prstGeom>
          <a:solidFill>
            <a:srgbClr val="004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32240" y="2293920"/>
          <a:ext cx="4728960" cy="275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32240" y="2293920"/>
                    <a:ext cx="472896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108840" y="4483080"/>
            <a:ext cx="1073160" cy="787320"/>
          </a:xfrm>
          <a:prstGeom prst="rect">
            <a:avLst/>
          </a:prstGeom>
          <a:solidFill>
            <a:srgbClr val="004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19720" y="3662280"/>
          <a:ext cx="4681440" cy="275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19720" y="3662280"/>
                    <a:ext cx="468144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8877240" y="5869080"/>
            <a:ext cx="1189080" cy="787320"/>
          </a:xfrm>
          <a:prstGeom prst="rect">
            <a:avLst/>
          </a:prstGeom>
          <a:solidFill>
            <a:srgbClr val="004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55080" y="6539040"/>
            <a:ext cx="960480" cy="276120"/>
          </a:xfrm>
          <a:prstGeom prst="rect">
            <a:avLst/>
          </a:prstGeom>
          <a:solidFill>
            <a:srgbClr val="004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Act Dic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5840" y="30988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83000" y="26337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2040" y="19368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3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63680" y="17622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3320" y="370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4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8160" y="36036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1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5600" y="28335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43360" y="2602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29680" y="49244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43720" y="53593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56240" y="40528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57400" y="431496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31760" y="431640"/>
            <a:ext cx="81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Evolución de estados implementados y pen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162080"/>
            <a:ext cx="9144000" cy="5695920"/>
          </a:xfrm>
          <a:prstGeom prst="rect">
            <a:avLst/>
          </a:prstGeom>
          <a:solidFill>
            <a:srgbClr val="004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70040" y="1309680"/>
            <a:ext cx="8173800" cy="5343480"/>
            <a:chOff x="770040" y="1309680"/>
            <a:chExt cx="8173800" cy="5343480"/>
          </a:xfrm>
        </p:grpSpPr>
        <p:graphicFrame>
          <p:nvGraphicFramePr>
            <p:cNvPr id="115" name=""/>
            <p:cNvGraphicFramePr/>
            <p:nvPr/>
          </p:nvGraphicFramePr>
          <p:xfrm>
            <a:off x="770040" y="1309680"/>
            <a:ext cx="8113680" cy="507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0040" y="1309680"/>
                      <a:ext cx="8113680" cy="507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7" name=""/>
            <p:cNvSpPr/>
            <p:nvPr/>
          </p:nvSpPr>
          <p:spPr>
            <a:xfrm>
              <a:off x="6738840" y="5835600"/>
              <a:ext cx="2205000" cy="817560"/>
            </a:xfrm>
            <a:prstGeom prst="rect">
              <a:avLst/>
            </a:prstGeom>
            <a:solidFill>
              <a:srgbClr val="004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8155080" y="6524640"/>
            <a:ext cx="960480" cy="276120"/>
          </a:xfrm>
          <a:prstGeom prst="rect">
            <a:avLst/>
          </a:prstGeom>
          <a:solidFill>
            <a:srgbClr val="004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Act Dic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31760" y="431640"/>
            <a:ext cx="81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Comparación de universos por ac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162080"/>
            <a:ext cx="9144000" cy="5695920"/>
          </a:xfrm>
          <a:prstGeom prst="rect">
            <a:avLst/>
          </a:prstGeom>
          <a:solidFill>
            <a:srgbClr val="004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70040" y="1309680"/>
            <a:ext cx="8173800" cy="5343480"/>
            <a:chOff x="770040" y="1309680"/>
            <a:chExt cx="8173800" cy="5343480"/>
          </a:xfrm>
        </p:grpSpPr>
        <p:graphicFrame>
          <p:nvGraphicFramePr>
            <p:cNvPr id="122" name=""/>
            <p:cNvGraphicFramePr/>
            <p:nvPr/>
          </p:nvGraphicFramePr>
          <p:xfrm>
            <a:off x="770040" y="1309680"/>
            <a:ext cx="8113680" cy="507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0040" y="1309680"/>
                      <a:ext cx="8113680" cy="507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6738840" y="5835600"/>
              <a:ext cx="2205000" cy="817560"/>
            </a:xfrm>
            <a:prstGeom prst="rect">
              <a:avLst/>
            </a:prstGeom>
            <a:solidFill>
              <a:srgbClr val="004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162080"/>
            <a:ext cx="9144000" cy="5695920"/>
          </a:xfrm>
          <a:prstGeom prst="rect">
            <a:avLst/>
          </a:prstGeom>
          <a:solidFill>
            <a:srgbClr val="004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73160" y="379440"/>
            <a:ext cx="8070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Resolución DEA Nº1129/04, 2 de Noviembre de 20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600200"/>
            <a:ext cx="13716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333399"/>
                </a:solidFill>
                <a:latin typeface="Arial"/>
              </a:rPr>
              <a:t>U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90800" y="20574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63920" y="1371600"/>
            <a:ext cx="706320" cy="1523880"/>
          </a:xfrm>
          <a:custGeom>
            <a:avLst/>
            <a:gdLst>
              <a:gd name="textAreaLeft" fmla="*/ 94320 w 706320"/>
              <a:gd name="textAreaRight" fmla="*/ 612000 w 70632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777777"/>
              </a:gs>
              <a:gs pos="100000">
                <a:srgbClr val="c0c0c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3340080" y="1218960"/>
            <a:ext cx="706320" cy="1523880"/>
          </a:xfrm>
          <a:custGeom>
            <a:avLst/>
            <a:gdLst>
              <a:gd name="textAreaLeft" fmla="*/ 94320 w 706320"/>
              <a:gd name="textAreaRight" fmla="*/ 612000 w 70632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162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96040" y="186516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tr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720" y="1611360"/>
            <a:ext cx="20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5720" y="2278080"/>
            <a:ext cx="31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4482 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 flipV="1">
            <a:off x="4138200" y="1809360"/>
            <a:ext cx="1615320" cy="254880"/>
          </a:xfrm>
          <a:prstGeom prst="bentConnector3">
            <a:avLst>
              <a:gd name="adj1" fmla="val 49933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endCxn id="133" idx="1"/>
          </p:cNvCxnSpPr>
          <p:nvPr/>
        </p:nvCxnSpPr>
        <p:spPr>
          <a:xfrm>
            <a:off x="4325400" y="2063880"/>
            <a:ext cx="1391040" cy="413280"/>
          </a:xfrm>
          <a:prstGeom prst="bentConnector3">
            <a:avLst>
              <a:gd name="adj1" fmla="val 44861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4338720" y="3200400"/>
            <a:ext cx="990360" cy="457200"/>
          </a:xfrm>
          <a:prstGeom prst="rect">
            <a:avLst/>
          </a:prstGeom>
          <a:gradFill rotWithShape="0">
            <a:gsLst>
              <a:gs pos="0">
                <a:srgbClr val="e6fede"/>
              </a:gs>
              <a:gs pos="100000">
                <a:srgbClr val="66ff33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Norm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56160" y="3200400"/>
            <a:ext cx="1143000" cy="457200"/>
          </a:xfrm>
          <a:prstGeom prst="rect">
            <a:avLst/>
          </a:prstGeom>
          <a:gradFill rotWithShape="0">
            <a:gsLst>
              <a:gs pos="0">
                <a:srgbClr val="e6fede"/>
              </a:gs>
              <a:gs pos="100000">
                <a:srgbClr val="66ff33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Tecn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26240" y="3200400"/>
            <a:ext cx="1066680" cy="457200"/>
          </a:xfrm>
          <a:prstGeom prst="rect">
            <a:avLst/>
          </a:prstGeom>
          <a:gradFill rotWithShape="0">
            <a:gsLst>
              <a:gs pos="0">
                <a:srgbClr val="e6fede"/>
              </a:gs>
              <a:gs pos="100000">
                <a:srgbClr val="66ff33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Opera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20000" y="3200400"/>
            <a:ext cx="1066680" cy="457200"/>
          </a:xfrm>
          <a:prstGeom prst="rect">
            <a:avLst/>
          </a:prstGeom>
          <a:gradFill rotWithShape="0">
            <a:gsLst>
              <a:gs pos="0">
                <a:srgbClr val="e6fede"/>
              </a:gs>
              <a:gs pos="100000">
                <a:srgbClr val="66ff33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Admin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/>
          <p:nvPr/>
        </p:nvCxnSpPr>
        <p:spPr>
          <a:xfrm flipH="1" rot="16200000">
            <a:off x="6844320" y="2857320"/>
            <a:ext cx="526320" cy="160920"/>
          </a:xfrm>
          <a:prstGeom prst="bentConnector3">
            <a:avLst>
              <a:gd name="adj1" fmla="val 49828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1" name=""/>
          <p:cNvCxnSpPr/>
          <p:nvPr/>
        </p:nvCxnSpPr>
        <p:spPr>
          <a:xfrm flipH="1" rot="16200000">
            <a:off x="7441200" y="2246040"/>
            <a:ext cx="525960" cy="1354680"/>
          </a:xfrm>
          <a:prstGeom prst="bentConnector3">
            <a:avLst>
              <a:gd name="adj1" fmla="val 49794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2" name=""/>
          <p:cNvCxnSpPr/>
          <p:nvPr/>
        </p:nvCxnSpPr>
        <p:spPr>
          <a:xfrm rot="5400000">
            <a:off x="6228360" y="2401560"/>
            <a:ext cx="526320" cy="1072440"/>
          </a:xfrm>
          <a:prstGeom prst="bentConnector3">
            <a:avLst>
              <a:gd name="adj1" fmla="val 49828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"/>
          <p:cNvCxnSpPr/>
          <p:nvPr/>
        </p:nvCxnSpPr>
        <p:spPr>
          <a:xfrm rot="5400000">
            <a:off x="5631480" y="1805040"/>
            <a:ext cx="526320" cy="2265840"/>
          </a:xfrm>
          <a:prstGeom prst="bentConnector3">
            <a:avLst>
              <a:gd name="adj1" fmla="val 49828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638680" y="4191120"/>
            <a:ext cx="289584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30 Temas Ge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3581280"/>
            <a:ext cx="1981080" cy="990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cfcfc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DEA Nº 1129/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5486400"/>
            <a:ext cx="3276720" cy="838080"/>
          </a:xfrm>
          <a:prstGeom prst="rect">
            <a:avLst/>
          </a:prstGeom>
          <a:gradFill rotWithShape="0">
            <a:gsLst>
              <a:gs pos="0">
                <a:srgbClr val="e6fede"/>
              </a:gs>
              <a:gs pos="100000">
                <a:srgbClr val="66ff33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Interacción Gerencial con Coordinación U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27" idx="4"/>
            <a:endCxn id="145" idx="0"/>
          </p:cNvCxnSpPr>
          <p:nvPr/>
        </p:nvCxnSpPr>
        <p:spPr>
          <a:xfrm>
            <a:off x="1218960" y="2514240"/>
            <a:ext cx="1080" cy="10674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5" idx="3"/>
            <a:endCxn id="144" idx="2"/>
          </p:cNvCxnSpPr>
          <p:nvPr/>
        </p:nvCxnSpPr>
        <p:spPr>
          <a:xfrm>
            <a:off x="2209320" y="4076640"/>
            <a:ext cx="3429720" cy="496080"/>
          </a:xfrm>
          <a:prstGeom prst="bentConnector3">
            <a:avLst>
              <a:gd name="adj1" fmla="val 5000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4" idx="4"/>
            <a:endCxn id="146" idx="0"/>
          </p:cNvCxnSpPr>
          <p:nvPr/>
        </p:nvCxnSpPr>
        <p:spPr>
          <a:xfrm flipH="1">
            <a:off x="6133680" y="4952880"/>
            <a:ext cx="953280" cy="5342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162080"/>
            <a:ext cx="9144000" cy="5695920"/>
          </a:xfrm>
          <a:prstGeom prst="rect">
            <a:avLst/>
          </a:prstGeom>
          <a:solidFill>
            <a:srgbClr val="004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2480" y="385920"/>
            <a:ext cx="842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Resolución SIGEN Nº114/04, 9 de Noviembre de 20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5040" y="1270080"/>
            <a:ext cx="2400120" cy="819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Arial"/>
              </a:rPr>
              <a:t>UAI-AN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7560" y="5629320"/>
            <a:ext cx="2000160" cy="666720"/>
          </a:xfrm>
          <a:prstGeom prst="rect">
            <a:avLst/>
          </a:prstGeom>
          <a:gradFill rotWithShape="0">
            <a:gsLst>
              <a:gs pos="0">
                <a:srgbClr val="d7feca"/>
              </a:gs>
              <a:gs pos="100000">
                <a:srgbClr val="66ff33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CRONOGR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72160" y="5667480"/>
            <a:ext cx="1866960" cy="666720"/>
          </a:xfrm>
          <a:prstGeom prst="rect">
            <a:avLst/>
          </a:prstGeom>
          <a:gradFill rotWithShape="0">
            <a:gsLst>
              <a:gs pos="0">
                <a:srgbClr val="e6fede"/>
              </a:gs>
              <a:gs pos="100000">
                <a:srgbClr val="66ff33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ROCEDIMEI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6" idx="2"/>
            <a:endCxn id="153" idx="0"/>
          </p:cNvCxnSpPr>
          <p:nvPr/>
        </p:nvCxnSpPr>
        <p:spPr>
          <a:xfrm rot="5400000">
            <a:off x="3021840" y="3813120"/>
            <a:ext cx="882000" cy="2751840"/>
          </a:xfrm>
          <a:prstGeom prst="bentConnector3">
            <a:avLst>
              <a:gd name="adj1" fmla="val 49897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3362400" y="2004840"/>
            <a:ext cx="2952720" cy="838440"/>
          </a:xfrm>
          <a:prstGeom prst="rect">
            <a:avLst/>
          </a:prstGeom>
          <a:gradFill rotWithShape="0">
            <a:gsLst>
              <a:gs pos="0">
                <a:srgbClr val="cdfebd"/>
              </a:gs>
              <a:gs pos="100000">
                <a:srgbClr val="66ff33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dentificación de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ma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2" idx="4"/>
            <a:endCxn id="157" idx="1"/>
          </p:cNvCxnSpPr>
          <p:nvPr/>
        </p:nvCxnSpPr>
        <p:spPr>
          <a:xfrm>
            <a:off x="1835280" y="2088720"/>
            <a:ext cx="1527840" cy="3358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7" idx="2"/>
            <a:endCxn id="156" idx="0"/>
          </p:cNvCxnSpPr>
          <p:nvPr/>
        </p:nvCxnSpPr>
        <p:spPr>
          <a:xfrm>
            <a:off x="4838400" y="2842920"/>
            <a:ext cx="1080" cy="400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6583320" y="1255680"/>
            <a:ext cx="2400480" cy="819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Arial"/>
              </a:rPr>
              <a:t>SI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60" idx="4"/>
          </p:cNvCxnSpPr>
          <p:nvPr/>
        </p:nvCxnSpPr>
        <p:spPr>
          <a:xfrm flipH="1">
            <a:off x="6501960" y="2074680"/>
            <a:ext cx="1281600" cy="306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3029040" y="3243240"/>
            <a:ext cx="3619440" cy="1504800"/>
          </a:xfrm>
          <a:prstGeom prst="flowChartDecision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UAI-ANSE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las Ger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nvoluc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19680" y="5614920"/>
            <a:ext cx="1866600" cy="695520"/>
          </a:xfrm>
          <a:prstGeom prst="rect">
            <a:avLst/>
          </a:prstGeom>
          <a:gradFill rotWithShape="0">
            <a:gsLst>
              <a:gs pos="0">
                <a:srgbClr val="eafee4"/>
              </a:gs>
              <a:gs pos="100000">
                <a:srgbClr val="66ff33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RESPONS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6" idx="2"/>
            <a:endCxn id="154" idx="0"/>
          </p:cNvCxnSpPr>
          <p:nvPr/>
        </p:nvCxnSpPr>
        <p:spPr>
          <a:xfrm flipH="1" rot="16200000">
            <a:off x="5712480" y="3874320"/>
            <a:ext cx="920160" cy="2667240"/>
          </a:xfrm>
          <a:prstGeom prst="bentConnector3">
            <a:avLst>
              <a:gd name="adj1" fmla="val 49902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6" idx="2"/>
            <a:endCxn id="162" idx="0"/>
          </p:cNvCxnSpPr>
          <p:nvPr/>
        </p:nvCxnSpPr>
        <p:spPr>
          <a:xfrm>
            <a:off x="4838760" y="4748040"/>
            <a:ext cx="15120" cy="867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23:08:14Z</dcterms:created>
  <dc:creator/>
  <dc:description/>
  <dc:language>en-US</dc:language>
  <cp:lastModifiedBy>C.P.C.E.C.A.B.A.</cp:lastModifiedBy>
  <cp:lastPrinted>2002-04-11T16:54:38Z</cp:lastPrinted>
  <dcterms:modified xsi:type="dcterms:W3CDTF">2005-08-30T13:37:33Z</dcterms:modified>
  <cp:revision>256</cp:revision>
  <dc:subject/>
  <dc:title>ANSES - PRESENTACION</dc:title>
</cp:coreProperties>
</file>