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13000" y="622440"/>
            <a:ext cx="5229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lbertus Extra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lbertus Extra Bold"/>
              </a:rPr>
              <a:t>DIAGNÓ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98800" y="3246480"/>
            <a:ext cx="1842840" cy="344520"/>
          </a:xfrm>
          <a:prstGeom prst="roundRect">
            <a:avLst>
              <a:gd name="adj" fmla="val 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6800" y="4491000"/>
            <a:ext cx="2207520" cy="138996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      UE       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462640" y="2876400"/>
            <a:ext cx="2914560" cy="795600"/>
            <a:chOff x="5462640" y="2876400"/>
            <a:chExt cx="2914560" cy="795600"/>
          </a:xfrm>
        </p:grpSpPr>
        <p:sp>
          <p:nvSpPr>
            <p:cNvPr id="46" name=""/>
            <p:cNvSpPr/>
            <p:nvPr/>
          </p:nvSpPr>
          <p:spPr>
            <a:xfrm>
              <a:off x="5462640" y="2876400"/>
              <a:ext cx="2914560" cy="795600"/>
            </a:xfrm>
            <a:prstGeom prst="roundRect">
              <a:avLst>
                <a:gd name="adj" fmla="val 199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62640" y="2926440"/>
              <a:ext cx="29145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MULACION 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UPUE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997680" y="4510080"/>
            <a:ext cx="2855880" cy="835200"/>
            <a:chOff x="6997680" y="4510080"/>
            <a:chExt cx="2855880" cy="835200"/>
          </a:xfrm>
        </p:grpSpPr>
        <p:sp>
          <p:nvSpPr>
            <p:cNvPr id="49" name=""/>
            <p:cNvSpPr/>
            <p:nvPr/>
          </p:nvSpPr>
          <p:spPr>
            <a:xfrm>
              <a:off x="6997680" y="4510080"/>
              <a:ext cx="2855880" cy="835200"/>
            </a:xfrm>
            <a:prstGeom prst="roundRect">
              <a:avLst>
                <a:gd name="adj" fmla="val 19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7680" y="4579920"/>
              <a:ext cx="28558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JECUCION 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UPUE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830920" y="6278400"/>
            <a:ext cx="3206880" cy="835200"/>
            <a:chOff x="5830920" y="6278400"/>
            <a:chExt cx="3206880" cy="835200"/>
          </a:xfrm>
        </p:grpSpPr>
        <p:sp>
          <p:nvSpPr>
            <p:cNvPr id="52" name=""/>
            <p:cNvSpPr/>
            <p:nvPr/>
          </p:nvSpPr>
          <p:spPr>
            <a:xfrm>
              <a:off x="5830920" y="6278400"/>
              <a:ext cx="3206880" cy="835200"/>
            </a:xfrm>
            <a:prstGeom prst="roundRect">
              <a:avLst>
                <a:gd name="adj" fmla="val 19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30920" y="6348240"/>
              <a:ext cx="32068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EGA DE BIEN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SERVIC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 flipV="1">
            <a:off x="4821120" y="3905280"/>
            <a:ext cx="525600" cy="528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13800" y="3906720"/>
            <a:ext cx="174600" cy="389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948080" y="5637240"/>
            <a:ext cx="217800" cy="40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878360" y="6276600"/>
            <a:ext cx="488880" cy="469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90800" y="1944720"/>
            <a:ext cx="318960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RGAN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36880" y="611280"/>
            <a:ext cx="442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lbertus Extra Bold"/>
              </a:rPr>
              <a:t>DIAGNÓ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68560" y="4606920"/>
            <a:ext cx="2681640" cy="639720"/>
            <a:chOff x="3868560" y="4606920"/>
            <a:chExt cx="2681640" cy="639720"/>
          </a:xfrm>
        </p:grpSpPr>
        <p:sp>
          <p:nvSpPr>
            <p:cNvPr id="61" name=""/>
            <p:cNvSpPr/>
            <p:nvPr/>
          </p:nvSpPr>
          <p:spPr>
            <a:xfrm>
              <a:off x="3868560" y="4606920"/>
              <a:ext cx="2681640" cy="6397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65280" y="4753440"/>
              <a:ext cx="1887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ganis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709640" y="2994120"/>
            <a:ext cx="7231320" cy="435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7200" y="2100240"/>
            <a:ext cx="4665600" cy="864360"/>
          </a:xfrm>
          <a:prstGeom prst="roundRect">
            <a:avLst>
              <a:gd name="adj" fmla="val 3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iudadanía en general: contro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a calidad de los servic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09640" y="3692520"/>
            <a:ext cx="1260360" cy="865080"/>
          </a:xfrm>
          <a:prstGeom prst="roundRect">
            <a:avLst>
              <a:gd name="adj" fmla="val 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ri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48480" y="5578560"/>
            <a:ext cx="1509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453360" y="5443560"/>
            <a:ext cx="1806480" cy="582480"/>
            <a:chOff x="6453360" y="5443560"/>
            <a:chExt cx="1806480" cy="582480"/>
          </a:xfrm>
        </p:grpSpPr>
        <p:sp>
          <p:nvSpPr>
            <p:cNvPr id="68" name=""/>
            <p:cNvSpPr/>
            <p:nvPr/>
          </p:nvSpPr>
          <p:spPr>
            <a:xfrm>
              <a:off x="6453360" y="5443560"/>
              <a:ext cx="1806480" cy="582480"/>
            </a:xfrm>
            <a:prstGeom prst="roundRect">
              <a:avLst>
                <a:gd name="adj" fmla="val 269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53360" y="5560920"/>
              <a:ext cx="1806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454800" y="5443560"/>
            <a:ext cx="1806480" cy="582480"/>
            <a:chOff x="6454800" y="5443560"/>
            <a:chExt cx="1806480" cy="582480"/>
          </a:xfrm>
        </p:grpSpPr>
        <p:sp>
          <p:nvSpPr>
            <p:cNvPr id="71" name=""/>
            <p:cNvSpPr/>
            <p:nvPr/>
          </p:nvSpPr>
          <p:spPr>
            <a:xfrm>
              <a:off x="6454800" y="5443560"/>
              <a:ext cx="1806480" cy="582480"/>
            </a:xfrm>
            <a:prstGeom prst="roundRect">
              <a:avLst>
                <a:gd name="adj" fmla="val 269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54800" y="5560920"/>
              <a:ext cx="1806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375240" y="5443560"/>
            <a:ext cx="1886040" cy="582480"/>
            <a:chOff x="6375240" y="5443560"/>
            <a:chExt cx="1886040" cy="582480"/>
          </a:xfrm>
        </p:grpSpPr>
        <p:sp>
          <p:nvSpPr>
            <p:cNvPr id="74" name=""/>
            <p:cNvSpPr/>
            <p:nvPr/>
          </p:nvSpPr>
          <p:spPr>
            <a:xfrm>
              <a:off x="6375240" y="5443560"/>
              <a:ext cx="1886040" cy="582480"/>
            </a:xfrm>
            <a:prstGeom prst="roundRect">
              <a:avLst>
                <a:gd name="adj" fmla="val 269"/>
              </a:avLst>
            </a:prstGeom>
            <a:gradFill rotWithShape="0">
              <a:gsLst>
                <a:gs pos="0">
                  <a:srgbClr val="e6ff00"/>
                </a:gs>
                <a:gs pos="100000">
                  <a:srgbClr val="ff33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76680" y="5560920"/>
              <a:ext cx="1884240" cy="347760"/>
            </a:xfrm>
            <a:prstGeom prst="rect">
              <a:avLst/>
            </a:prstGeom>
            <a:gradFill rotWithShape="0">
              <a:gsLst>
                <a:gs pos="0">
                  <a:srgbClr val="e6ff00"/>
                </a:gs>
                <a:gs pos="100000">
                  <a:srgbClr val="ff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flipH="1" flipV="1">
            <a:off x="3612960" y="3904920"/>
            <a:ext cx="469800" cy="62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240600" y="3944520"/>
            <a:ext cx="4078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781520" y="6280200"/>
            <a:ext cx="1886040" cy="582480"/>
            <a:chOff x="4781520" y="6280200"/>
            <a:chExt cx="1886040" cy="582480"/>
          </a:xfrm>
        </p:grpSpPr>
        <p:sp>
          <p:nvSpPr>
            <p:cNvPr id="79" name=""/>
            <p:cNvSpPr/>
            <p:nvPr/>
          </p:nvSpPr>
          <p:spPr>
            <a:xfrm>
              <a:off x="4781520" y="6280200"/>
              <a:ext cx="1886040" cy="582480"/>
            </a:xfrm>
            <a:prstGeom prst="roundRect">
              <a:avLst>
                <a:gd name="adj" fmla="val 269"/>
              </a:avLst>
            </a:prstGeom>
            <a:gradFill rotWithShape="0">
              <a:gsLst>
                <a:gs pos="0">
                  <a:srgbClr val="e6ff00"/>
                </a:gs>
                <a:gs pos="100000">
                  <a:srgbClr val="ff33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82600" y="6397560"/>
              <a:ext cx="1884600" cy="347760"/>
            </a:xfrm>
            <a:prstGeom prst="rect">
              <a:avLst/>
            </a:prstGeom>
            <a:gradFill rotWithShape="0">
              <a:gsLst>
                <a:gs pos="0">
                  <a:srgbClr val="e6ff00"/>
                </a:gs>
                <a:gs pos="100000">
                  <a:srgbClr val="ff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flipV="1">
            <a:off x="5365800" y="5442120"/>
            <a:ext cx="1440" cy="566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810040" y="5479560"/>
            <a:ext cx="177480" cy="50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533520"/>
            <a:ext cx="100774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lbertus Extra Bold"/>
              </a:rPr>
              <a:t>PROCESOS INTERNOS DE LA ORGANIZAC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lbertus Extra Bold"/>
              </a:rPr>
              <a:t>ETAPA DE FORMULAC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89080" y="3017880"/>
            <a:ext cx="1798200" cy="92196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Ejecu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4920" y="5273640"/>
            <a:ext cx="2898720" cy="92196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1960" y="4243320"/>
            <a:ext cx="144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5320" y="3894120"/>
            <a:ext cx="2361960" cy="1379880"/>
          </a:xfrm>
          <a:prstGeom prst="roundRect">
            <a:avLst>
              <a:gd name="adj" fmla="val 1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Unive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0" y="3505320"/>
            <a:ext cx="1728000" cy="2320200"/>
          </a:xfrm>
          <a:custGeom>
            <a:avLst/>
            <a:gdLst>
              <a:gd name="textAreaLeft" fmla="*/ 360 w 1728000"/>
              <a:gd name="textAreaRight" fmla="*/ 1727640 w 1728000"/>
              <a:gd name="textAreaTop" fmla="*/ 360 h 2320200"/>
              <a:gd name="textAreaBottom" fmla="*/ 2319840 h 2320200"/>
            </a:gdLst>
            <a:ahLst/>
            <a:rect l="textAreaLeft" t="textAreaTop" r="textAreaRight" b="textAreaBottom"/>
            <a:pathLst>
              <a:path w="21600" h="29001">
                <a:moveTo>
                  <a:pt x="19" y="0"/>
                </a:moveTo>
                <a:arcTo wR="19" hR="19" stAng="16200000" swAng="-5400000"/>
                <a:lnTo>
                  <a:pt x="0" y="28982"/>
                </a:lnTo>
                <a:arcTo wR="19" hR="19" stAng="10800000" swAng="-5400000"/>
                <a:lnTo>
                  <a:pt x="21581" y="29001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Comp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048120" y="4572000"/>
            <a:ext cx="609480" cy="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89800" y="461340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7640" y="457200"/>
            <a:ext cx="943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lbertus Extra Bold"/>
              </a:rPr>
              <a:t>PROCESOS INTERNOS DE LA ORGANIZAC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lbertus Extra Bold"/>
              </a:rPr>
              <a:t>ETAPA DE EJECUC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287440"/>
            <a:ext cx="19555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Ejecu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7840" y="4154400"/>
            <a:ext cx="32083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Requerimientos de bienes y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7360" y="3557520"/>
            <a:ext cx="1440" cy="54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191120"/>
            <a:ext cx="28479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Dispara procedimient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27560" y="4199040"/>
            <a:ext cx="2898000" cy="1379160"/>
          </a:xfrm>
          <a:prstGeom prst="roundRect">
            <a:avLst>
              <a:gd name="adj" fmla="val 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lbertus Extra Bold"/>
              </a:rPr>
              <a:t>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lbertus Extra Bold"/>
              </a:rPr>
              <a:t>operativ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lbertus Extra Bold"/>
              </a:rPr>
              <a:t>Contra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75760" y="777960"/>
            <a:ext cx="7897320" cy="579960"/>
          </a:xfrm>
          <a:prstGeom prst="roundRect">
            <a:avLst>
              <a:gd name="adj" fmla="val 2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lbertus Extra Bold"/>
              </a:rPr>
              <a:t>Nuevas tecnologías informát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74640" y="2760840"/>
            <a:ext cx="6708600" cy="92196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Sistemas administrados por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Oficina Nacional de Contra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79360" y="4379760"/>
            <a:ext cx="7153560" cy="377280"/>
          </a:xfrm>
          <a:prstGeom prst="roundRect">
            <a:avLst>
              <a:gd name="adj" fmla="val 41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lbertus Extra Bold"/>
              </a:rPr>
              <a:t>Sistema de identificacion de Bienes y Servici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21040" y="5181480"/>
            <a:ext cx="74674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lbertus Extra Bold"/>
              </a:rPr>
              <a:t>Sistema de información de Provee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60640" y="6056280"/>
            <a:ext cx="74674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lbertus Extra Bold"/>
              </a:rPr>
              <a:t>Sistema de Transparen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0160" y="649440"/>
            <a:ext cx="806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lbertus Extra Bold"/>
              </a:rPr>
              <a:t>Nuevas tecnologías informát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62280" y="2701800"/>
            <a:ext cx="3889080" cy="4640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Principales venta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962520"/>
            <a:ext cx="8064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Amplia difusión de actos ejecu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4648320"/>
            <a:ext cx="61642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Descarga del pliego via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5334120"/>
            <a:ext cx="61642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Mail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6095880"/>
            <a:ext cx="61642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Mayor participacion de provee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49200" y="649440"/>
            <a:ext cx="7923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lbertus Extra Bold"/>
              </a:rPr>
              <a:t>Nuevos sistemas en la prác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89240" y="2071800"/>
            <a:ext cx="6163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Mayor cantidad de of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Sistema de información de Provee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34240" y="4218120"/>
            <a:ext cx="7964280" cy="2409480"/>
          </a:xfrm>
          <a:prstGeom prst="roundRect">
            <a:avLst>
              <a:gd name="adj" fmla="val 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lbertus Extra Bold"/>
              </a:rPr>
              <a:t>Dentro la organiz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lbertus Extra Bold"/>
              </a:rPr>
              <a:t>Requerimientos incorrectos y/o extemporán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lbertus Extra Bold"/>
              </a:rPr>
              <a:t>Insuficiente conocimiento de los 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lbertus Extra Bold"/>
              </a:rPr>
              <a:t>de formulación y ejecución presupues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7480" y="719280"/>
            <a:ext cx="4613040" cy="579960"/>
          </a:xfrm>
          <a:prstGeom prst="roundRect">
            <a:avLst>
              <a:gd name="adj" fmla="val 2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lbertus Extra Bold"/>
              </a:rPr>
              <a:t>Solución propues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01000" y="3284640"/>
            <a:ext cx="7246440" cy="115272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lbertus Extra Bold"/>
              </a:rPr>
              <a:t>Intensificar la capacitación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lbertus Extra Bold"/>
              </a:rPr>
              <a:t>todos los actores involucr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9:11:42Z</dcterms:created>
  <dc:creator>Congresos y Eventos</dc:creator>
  <dc:description/>
  <dc:language>en-US</dc:language>
  <cp:lastModifiedBy>C.P.C.E.C.A.B.A.</cp:lastModifiedBy>
  <dcterms:modified xsi:type="dcterms:W3CDTF">2005-08-30T13:20:50Z</dcterms:modified>
  <cp:revision>1</cp:revision>
  <dc:subject/>
  <dc:title>Sin título de diapositiva</dc:title>
</cp:coreProperties>
</file>