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CFFBB-7F87-45DE-9DC5-7E9042548FD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Facilitar esa interpretación, </a:t>
            </a:r>
            <a:r>
              <a:rPr b="1" lang="es-ES_tradnl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or la incorporación de técnicas mejores para elaborar la información respecto del empleo de los medios, es nuestra responsabilidad.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5172-4CF3-4E58-81E9-4AC3C5C2C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2CC9-D1C1-42DC-B44E-A430E67CF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1A56-8BED-4556-8187-879C253A2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3566-D20E-4C63-9A0D-D3D60093F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6261-BEE1-4555-B10C-FB3514BA7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FFC6-B487-496A-9E73-158C40F7F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1099-4393-410C-A0AF-BED34F101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7FB5-D496-4F8E-B5EB-423F3E763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420B-0989-4E5D-B8EA-7CB1CACB3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3CDF-C79B-4210-A6CB-7A134F85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0134-4C38-449E-B2B7-DBB3F20FA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43C2-67F6-455A-9E2A-9A05CC722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93A7B-4231-4CA2-8C0E-4116DF4A6DC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CLARIDAD  Y COMPRENSIBILIDAD EN LAS CUENTAS PÚBLICAS.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RESUPUESTO PUBLICO Y CONTABILIDAD GUBERNAMENT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s-ES_tradnl" sz="4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II - Propuestas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  <a:ea typeface="Arial"/>
              </a:rPr>
              <a:t>Persisti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 en la producción y divulgación de información presupuestaria y contable de los entes del Sector Público 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  <a:ea typeface="Arial"/>
              </a:rPr>
              <a:t>en form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 clara, simple y comprensible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Cuál sería la información razonablemente clara y comprensi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Entes y cuadro de gastos y recursos.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Entes y cuadro de la situación financiera (pagado o cobrado o a pagar y a cobrar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Guía o ayud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Oficina de reclamos o de consul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formación de gastos por ent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Cuál sería la información que cada ente debiera exponer, la siguiente: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Monto Presupuestad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o, rubro o ítem (a nivel agregado, por ej. Gastos en personal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  <a:ea typeface="Arial"/>
              </a:rPr>
              <a:t>,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onto invertido o utilizad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reve explicación de los desvíos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La cifra de la inversión corresponde </a:t>
            </a:r>
            <a:r>
              <a:rPr b="1" i="1" lang="es-ES_tradnl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 la devengad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eriodicidad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formación de recursos por ent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Monto estimado de recaudación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Concepto, rubro o ítem (a nivel agregado, por ej. Impuestos, tasas,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  <a:ea typeface="Arial"/>
              </a:rPr>
              <a:t>....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onto recaudado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reve explicación de los desvíos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a cifra de lo recaudado corresponde a la devenga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ivel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de desagregación de la información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ción no abunda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848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s-AR" sz="4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C</a:t>
            </a:r>
            <a:r>
              <a:rPr b="0" lang="es-ES" sz="4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uadro </a:t>
            </a:r>
            <a:r>
              <a:rPr b="0" lang="es-AR" sz="4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de </a:t>
            </a:r>
            <a:r>
              <a:rPr b="0" lang="es-ES" sz="4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relaci</a:t>
            </a:r>
            <a:r>
              <a:rPr b="0" lang="es-AR" sz="4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ó</a:t>
            </a:r>
            <a:r>
              <a:rPr b="0" lang="es-ES" sz="4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n</a:t>
            </a:r>
            <a:br>
              <a:rPr sz="4000"/>
            </a:br>
            <a:r>
              <a:rPr b="0" i="1" lang="es-ES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De la inversión y los recursos devengados con las cuentas de la contabilidad que informen si se encuentran pagados o cobrados o si se adeudan o se encuentran pendientes de cobr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II – Propuestas. (Cont.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jetivos 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e los sistemas presupuestario y contable a debati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ormativas que faciliten los registros de las transacciones, las respectivas imputaciones, el adecuado archivo de la documentación y la emisión de los estados de ejecución presupuestaria y contables claros y comprensib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ES_tradnl" sz="4000" spc="-1" strike="noStrike">
                <a:solidFill>
                  <a:srgbClr val="000000"/>
                </a:solidFill>
                <a:latin typeface="Arial"/>
                <a:ea typeface="Arial"/>
              </a:rPr>
              <a:t>IV- </a:t>
            </a:r>
            <a:r>
              <a:rPr b="1" lang="es-ES_tradnl" sz="4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nclusió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l desarrollo de un sistema de transparencia de las transacciones del Sector Público debe tender a conseguir que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ualquier ente estatal emita información presupuestaria y estados contables comprensibles para la mayoría de los ciudadanos, evitando un lenguaje tan específico que en definitiva resulte esotérico y haga utópica la toma de decisiones por los usuarios de esa inform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 u="sng">
                <a:solidFill>
                  <a:srgbClr val="000000"/>
                </a:solidFill>
                <a:uFillTx/>
                <a:latin typeface="Arial"/>
              </a:rPr>
              <a:t>IV- Conclusión. (Cont.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Los funcionarios públicos políticos y de planta profesional-técnica-administrativa, en aras de la transparencia, deben conseguir que las rendiciones de cuentas de los entes del sector público sean claras, comprensibles y creíbles, propendiendo con ello a la toma de decisiones, por parte de los gobernantes justas, equitativas y solidarias en beneficio de los gobern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  <a:ea typeface="Arial"/>
              </a:rPr>
              <a:t>Deseos fi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 u="sng">
                <a:solidFill>
                  <a:srgbClr val="000000"/>
                </a:solidFill>
                <a:uFillTx/>
                <a:latin typeface="Arial"/>
              </a:rPr>
              <a:t>IND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I – </a:t>
            </a:r>
            <a:r>
              <a:rPr b="0" lang="es-AR" sz="3200" spc="-1" strike="noStrike" u="sng">
                <a:solidFill>
                  <a:srgbClr val="000000"/>
                </a:solidFill>
                <a:uFillTx/>
                <a:latin typeface="Arial"/>
              </a:rPr>
              <a:t>Intro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II –</a:t>
            </a:r>
            <a:r>
              <a:rPr b="0" lang="es-AR" sz="3200" spc="-1" strike="noStrike" u="sng">
                <a:solidFill>
                  <a:srgbClr val="000000"/>
                </a:solidFill>
                <a:uFillTx/>
                <a:latin typeface="Arial"/>
              </a:rPr>
              <a:t> Observaciones a destacar que surgen de trabajos efectuados sobre el tema y Objetivos de los sistemas presupuestario y de contabilidad gubernament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 u="sng">
                <a:solidFill>
                  <a:srgbClr val="000000"/>
                </a:solidFill>
                <a:uFillTx/>
                <a:latin typeface="Arial"/>
              </a:rPr>
              <a:t>III – Propues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 u="sng">
                <a:solidFill>
                  <a:srgbClr val="000000"/>
                </a:solidFill>
                <a:uFillTx/>
                <a:latin typeface="Arial"/>
              </a:rPr>
              <a:t>IV - Conclus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ES_tradnl" sz="40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I - Introducción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os gobernantes deben dar cuenta de sus ac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xiste en general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esinterés y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escreimiento 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obre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a información de los gobiernos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n este trabajo </a:t>
            </a: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se priorizan concepto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por sobre los términos técnicos establecidos en las normas legales y profesionales vigentes en la mater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 u="sng">
                <a:solidFill>
                  <a:srgbClr val="000000"/>
                </a:solidFill>
                <a:uFillTx/>
                <a:latin typeface="Arial"/>
              </a:rPr>
              <a:t>I. Introducción (cont.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El Presupuesto Público y la Contabilidad en el Sector Público son sistemas con identidad propia y distintos fines. Ninguno de ellos puede prevalecer sobre el ot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Definiciones de Presupuesto y de Contabi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Registraciones presupuestar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Semejanzas o no con el Sector Priv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I – Observaciones a destacar que surgen de trabajos efectuados sobre el tema y Objetivos de los sistemas presupuestario y de contabilidad gubernamental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240" y="3428640"/>
            <a:ext cx="8915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  <a:ea typeface="Arial"/>
              </a:rPr>
              <a:t>Comentarios del Dr. Licciardo sobre  el trabajo: 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“Sistema Integral sobre Contabilidad Gubernamental”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AR" sz="36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uesto de cincuenta o sesenta años atrás.... los legisladores y el país estaban bastante mejor informado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 u="sng">
                <a:solidFill>
                  <a:srgbClr val="000000"/>
                </a:solidFill>
                <a:uFillTx/>
                <a:latin typeface="Arial"/>
              </a:rPr>
              <a:t>II. Observaciones.....(cont.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Hay que distinguir entre la información..... y la que debe suministrarse  </a:t>
            </a:r>
            <a:r>
              <a:rPr b="1" lang="es-ES_tradn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de modo comprensible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,  para uso de la opinión públic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Burocracia técnica”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 u="sng">
                <a:solidFill>
                  <a:srgbClr val="000000"/>
                </a:solidFill>
                <a:uFillTx/>
                <a:latin typeface="Arial"/>
              </a:rPr>
              <a:t>II. Observaciones.....(cont.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La gravedad </a:t>
            </a:r>
            <a:r>
              <a:rPr b="0" i="1" lang="es-ES_tradnl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 la “rendición de cuentas”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debe pesar como expresión de acierto o desacierto en la interpretación de las demandas de la comunidad social y las exigencias del desarrollo. Facilitar esa interpretación, </a:t>
            </a:r>
            <a:r>
              <a:rPr b="0" i="1" lang="es-ES_tradnl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or la incorporación de técnicas mejores para elaborar la información respecto del empleo de los medios, es nuestra responsabilidad.”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 u="sng">
                <a:solidFill>
                  <a:srgbClr val="000000"/>
                </a:solidFill>
                <a:uFillTx/>
                <a:latin typeface="Arial"/>
              </a:rPr>
              <a:t>II. Observaciones...(cont.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dificultoso encontrar publicaciones de los Gobiernos que a manera de los estados contables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............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Existen excep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Relevamiento de inform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 u="sng">
                <a:solidFill>
                  <a:srgbClr val="000000"/>
                </a:solidFill>
                <a:uFillTx/>
                <a:latin typeface="Arial"/>
              </a:rPr>
              <a:t>II. Observaciones.. y Objetivos..(cont.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1532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l Presupuesto deberá contener toda la información de lo que cada Gobierno planeó contratar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a Contabilidad a través de la emisión de los estados contables básicos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.....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imilar comportamiento al señalado precedentemente, deberá observarse con el cálculo de los recursos y su ejecució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Qué se mostrará en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a </a:t>
            </a:r>
            <a:r>
              <a:rPr b="0" i="1" lang="es-ES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cuenta de inversión</a:t>
            </a:r>
            <a:r>
              <a:rPr b="0" i="1" lang="es-A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8T18:22:04Z</dcterms:created>
  <dc:creator>BCRA</dc:creator>
  <dc:description/>
  <dc:language>en-US</dc:language>
  <cp:lastModifiedBy>C.P.C.E.C.A.B.A.</cp:lastModifiedBy>
  <dcterms:modified xsi:type="dcterms:W3CDTF">2005-08-30T13:19:46Z</dcterms:modified>
  <cp:revision>36</cp:revision>
  <dc:subject/>
  <dc:title>CLARIDAD  Y COMPRENSIBILIDAD EN LAS CUENTAS PÚBLICAS. </dc:title>
</cp:coreProperties>
</file>